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13.png" ContentType="image/png"/>
  <Override PartName="/ppt/media/image37.gif" ContentType="image/gif"/>
  <Override PartName="/ppt/media/image42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18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1.png" ContentType="image/png"/>
  <Override PartName="/ppt/media/image4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4.gif" ContentType="image/gif"/>
  <Override PartName="/ppt/media/image33.jpeg" ContentType="image/jpe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ECF-403E-40D2-B14D-5EFD2948D1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63B-FEDC-468B-8253-735496B61B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934-0E96-425C-9A43-C626FC52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151-661F-421D-8908-2F09C31C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35C-9BEE-427C-A1D0-315FFFEC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26D-A7B2-42B6-B5BF-21946615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5DA-BBF7-4263-9A8E-77D6F60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5D8-1BEC-4C25-9565-0BF229E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EFC-624D-4CA3-8EAC-E29D5A8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535-9BF0-40A6-9D7F-4863BF0F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5C1-FB4E-450F-B91E-ABC6440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C4F-D5E8-4497-A6F1-14A9583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370-51BD-44A6-A3C9-3DB16F2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0D0-6FFC-462D-BDC5-1D69344A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1B1-C2C2-4B21-8C0D-B9EE47DA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68440" y="620640"/>
            <a:ext cx="458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041480" y="404640"/>
            <a:ext cx="1185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猴王出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9" descr=""/>
          <p:cNvPicPr/>
          <p:nvPr/>
        </p:nvPicPr>
        <p:blipFill>
          <a:blip r:embed="rId2"/>
          <a:stretch/>
        </p:blipFill>
        <p:spPr>
          <a:xfrm>
            <a:off x="1592280" y="5749920"/>
            <a:ext cx="657396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966480" y="5300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果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花果山"/>
          <p:cNvPicPr/>
          <p:nvPr/>
        </p:nvPicPr>
        <p:blipFill>
          <a:blip r:embed="rId2"/>
          <a:stretch/>
        </p:blipFill>
        <p:spPr>
          <a:xfrm>
            <a:off x="2556000" y="2421000"/>
            <a:ext cx="38098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099680" y="58053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瀑 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瀑布（2）"/>
          <p:cNvPicPr/>
          <p:nvPr/>
        </p:nvPicPr>
        <p:blipFill>
          <a:blip r:embed="rId2"/>
          <a:stretch/>
        </p:blipFill>
        <p:spPr>
          <a:xfrm>
            <a:off x="1332000" y="2133720"/>
            <a:ext cx="2170080" cy="32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瀑布（1）"/>
          <p:cNvPicPr/>
          <p:nvPr/>
        </p:nvPicPr>
        <p:blipFill>
          <a:blip r:embed="rId3"/>
          <a:stretch/>
        </p:blipFill>
        <p:spPr>
          <a:xfrm>
            <a:off x="4068720" y="2133720"/>
            <a:ext cx="43164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268360" y="1916280"/>
            <a:ext cx="424836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读一读，扫清文字障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97964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03"/>
          <p:cNvPicPr/>
          <p:nvPr/>
        </p:nvPicPr>
        <p:blipFill>
          <a:blip r:embed="rId2"/>
          <a:stretch/>
        </p:blipFill>
        <p:spPr>
          <a:xfrm>
            <a:off x="1716120" y="2060640"/>
            <a:ext cx="48096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908000" y="327168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suì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3528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獐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419640" y="3284640"/>
            <a:ext cx="10792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zhān</a:t>
            </a: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148360" y="3645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猕猴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148360" y="3284640"/>
            <a:ext cx="576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mí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588000" y="3573360"/>
            <a:ext cx="936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人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32720" y="3213000"/>
            <a:ext cx="9349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yuá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124000" y="480996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顽皮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050920" y="4495680"/>
            <a:ext cx="1008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wá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492360" y="480996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窍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3710160" y="444960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qiào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148360" y="4869000"/>
            <a:ext cx="863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镌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5005440" y="4508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juān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659640" y="4869000"/>
            <a:ext cx="16574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抓耳挠腮</a:t>
            </a:r>
            <a:r>
              <a:rPr b="1" lang="zh-CN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7237440" y="4508640"/>
            <a:ext cx="9349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náo</a:t>
            </a:r>
            <a:r>
              <a:rPr b="1" lang="en-US" sz="2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47640" y="2948040"/>
            <a:ext cx="85327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圆：文中指仙石的周长，即围一圈的长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通：文中指仙石有了灵气，通了人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窍：石头边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喜不自胜：欢喜得自己不能控制。形容非常高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瞑目：闭上眼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造地设：自然形成又合乎理想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40000" y="1628640"/>
            <a:ext cx="1871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06"/>
          <p:cNvPicPr/>
          <p:nvPr/>
        </p:nvPicPr>
        <p:blipFill>
          <a:blip r:embed="rId2"/>
          <a:stretch/>
        </p:blipFill>
        <p:spPr>
          <a:xfrm>
            <a:off x="1476360" y="1700280"/>
            <a:ext cx="49356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242892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，不知其可：孔子名言。信：信用；其：那；可：可以，行。一个人如果没有信用，不知道他怎么去做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违：伏在地上，朝上礼拜，没有违抗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齿：按年龄长幼来排列顺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耳挠腮：乱抓耳朵和腮帮子。形容焦急、忙乱或苦闷得无计可施的样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倦神疲：太累了而全身无力，精神不好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340000" y="1628640"/>
            <a:ext cx="1871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词语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6"/>
          <p:cNvPicPr/>
          <p:nvPr/>
        </p:nvPicPr>
        <p:blipFill>
          <a:blip r:embed="rId2"/>
          <a:stretch/>
        </p:blipFill>
        <p:spPr>
          <a:xfrm>
            <a:off x="1692360" y="1773360"/>
            <a:ext cx="49356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755640" y="1844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边读边想，石猴是从哪儿来的？谈谈你对石猴的最初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87280" y="1484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海外有一国土，名曰傲来国。  国近大海，海中有一座名山，唤为花果山。那座山正当顶上，有一块仙石，其石有三丈六尺五寸高，有二丈四尺围圆。四面更无树木遮阴，左右倒有芝兰相衬。盖自开辟以来，每受天真地秀，日精月华，感之既久，遂有灵通之意。内育仙胞，一日迸裂，产一石卵，似圆球样大。因见风，化作一个石猴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0" y="0"/>
            <a:ext cx="9143280" cy="6884280"/>
            <a:chOff x="0" y="0"/>
            <a:chExt cx="9143280" cy="6884280"/>
          </a:xfrm>
        </p:grpSpPr>
        <p:pic>
          <p:nvPicPr>
            <p:cNvPr id="114" name="Picture 5" descr="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1"/>
            <p:cNvPicPr/>
            <p:nvPr/>
          </p:nvPicPr>
          <p:blipFill>
            <a:blip r:embed="rId2"/>
            <a:stretch/>
          </p:blipFill>
          <p:spPr>
            <a:xfrm>
              <a:off x="3366000" y="5700600"/>
              <a:ext cx="2117520" cy="89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WordArt 7"/>
            <p:cNvSpPr txBox="1"/>
            <p:nvPr/>
          </p:nvSpPr>
          <p:spPr>
            <a:xfrm>
              <a:off x="3366000" y="5356800"/>
              <a:ext cx="2444760" cy="109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仙石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newsflash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 rot="5400000">
            <a:off x="4714560" y="278136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石猴出世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2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3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65"/>
          <p:cNvGrpSpPr/>
          <p:nvPr/>
        </p:nvGrpSpPr>
        <p:grpSpPr>
          <a:xfrm>
            <a:off x="0" y="0"/>
            <a:ext cx="9179640" cy="6857280"/>
            <a:chOff x="0" y="0"/>
            <a:chExt cx="9179640" cy="6857280"/>
          </a:xfrm>
        </p:grpSpPr>
        <p:pic>
          <p:nvPicPr>
            <p:cNvPr id="120" name="Picture 66" descr="xy0006"/>
            <p:cNvPicPr/>
            <p:nvPr/>
          </p:nvPicPr>
          <p:blipFill>
            <a:blip r:embed="rId1"/>
            <a:stretch/>
          </p:blipFill>
          <p:spPr>
            <a:xfrm>
              <a:off x="0" y="3355920"/>
              <a:ext cx="3962520" cy="34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7" descr="xy0007"/>
            <p:cNvPicPr/>
            <p:nvPr/>
          </p:nvPicPr>
          <p:blipFill>
            <a:blip r:embed="rId2"/>
            <a:stretch/>
          </p:blipFill>
          <p:spPr>
            <a:xfrm>
              <a:off x="4385880" y="0"/>
              <a:ext cx="479376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8" descr="xy0006"/>
            <p:cNvPicPr/>
            <p:nvPr/>
          </p:nvPicPr>
          <p:blipFill>
            <a:blip r:embed="rId3"/>
            <a:stretch/>
          </p:blipFill>
          <p:spPr>
            <a:xfrm>
              <a:off x="3706560" y="2516040"/>
              <a:ext cx="5451840" cy="43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9" descr="xy0007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797000" cy="35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0" descr="xy0007"/>
            <p:cNvPicPr/>
            <p:nvPr/>
          </p:nvPicPr>
          <p:blipFill>
            <a:blip r:embed="rId5"/>
            <a:stretch/>
          </p:blipFill>
          <p:spPr>
            <a:xfrm>
              <a:off x="927360" y="199080"/>
              <a:ext cx="1177920" cy="12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71" descr="xy0007"/>
            <p:cNvPicPr/>
            <p:nvPr/>
          </p:nvPicPr>
          <p:blipFill>
            <a:blip r:embed="rId6"/>
            <a:stretch/>
          </p:blipFill>
          <p:spPr>
            <a:xfrm>
              <a:off x="5558040" y="0"/>
              <a:ext cx="101160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2" descr="xy0006"/>
            <p:cNvPicPr/>
            <p:nvPr/>
          </p:nvPicPr>
          <p:blipFill>
            <a:blip r:embed="rId7"/>
            <a:stretch/>
          </p:blipFill>
          <p:spPr>
            <a:xfrm>
              <a:off x="5896440" y="5129280"/>
              <a:ext cx="101160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3" descr="xy0006"/>
            <p:cNvPicPr/>
            <p:nvPr/>
          </p:nvPicPr>
          <p:blipFill>
            <a:blip r:embed="rId8"/>
            <a:stretch/>
          </p:blipFill>
          <p:spPr>
            <a:xfrm>
              <a:off x="7243200" y="2481120"/>
              <a:ext cx="81288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4" descr="xy0006"/>
            <p:cNvPicPr/>
            <p:nvPr/>
          </p:nvPicPr>
          <p:blipFill>
            <a:blip r:embed="rId9"/>
            <a:stretch/>
          </p:blipFill>
          <p:spPr>
            <a:xfrm>
              <a:off x="8001720" y="2481120"/>
              <a:ext cx="114804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5" descr="xy0006"/>
            <p:cNvPicPr/>
            <p:nvPr/>
          </p:nvPicPr>
          <p:blipFill>
            <a:blip r:embed="rId10"/>
            <a:stretch/>
          </p:blipFill>
          <p:spPr>
            <a:xfrm>
              <a:off x="504000" y="5229360"/>
              <a:ext cx="84312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7"/>
          <p:cNvSpPr/>
          <p:nvPr/>
        </p:nvSpPr>
        <p:spPr>
          <a:xfrm>
            <a:off x="0" y="404640"/>
            <a:ext cx="91440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那猴在山中，却会行走跳跃，食草木，饮涧泉，采山花，觅树果；与狼虫为伴，虎豹为群，獐鹿为友，猕猿为亲；夜宿石崖之下，朝游峰洞之中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6"/>
          <p:cNvSpPr/>
          <p:nvPr/>
        </p:nvSpPr>
        <p:spPr>
          <a:xfrm>
            <a:off x="1547640" y="2924280"/>
            <a:ext cx="6913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7"/>
          <p:cNvSpPr/>
          <p:nvPr/>
        </p:nvSpPr>
        <p:spPr>
          <a:xfrm>
            <a:off x="179280" y="37893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8"/>
          <p:cNvSpPr/>
          <p:nvPr/>
        </p:nvSpPr>
        <p:spPr>
          <a:xfrm>
            <a:off x="4356000" y="3789360"/>
            <a:ext cx="4537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9"/>
          <p:cNvSpPr/>
          <p:nvPr/>
        </p:nvSpPr>
        <p:spPr>
          <a:xfrm>
            <a:off x="250920" y="4581360"/>
            <a:ext cx="878508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0"/>
          <p:cNvSpPr/>
          <p:nvPr/>
        </p:nvSpPr>
        <p:spPr>
          <a:xfrm>
            <a:off x="179280" y="5445000"/>
            <a:ext cx="1008000" cy="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1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59280" y="2276640"/>
            <a:ext cx="572436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吴承恩，明代小说家。字汝忠，号射阳山人，怀安山阳（江苏淮安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QQ截图未命名"/>
          <p:cNvPicPr/>
          <p:nvPr/>
        </p:nvPicPr>
        <p:blipFill>
          <a:blip r:embed="rId1"/>
          <a:stretch/>
        </p:blipFill>
        <p:spPr>
          <a:xfrm>
            <a:off x="0" y="1197000"/>
            <a:ext cx="3276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8000" y="1787400"/>
            <a:ext cx="8964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连呼了三声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忽见丛杂中跳出一个石猴，应声高叫道：“我进去！我进去”他瞑目蹲身，将身一纵，径跳入瀑布泉中，忽睁睛抬头观看，那里边却无水无波，明明朗朗的一架桥梁。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rId1" action="ppaction://hlinksldjump"/>
          </p:cNvPr>
          <p:cNvSpPr/>
          <p:nvPr/>
        </p:nvSpPr>
        <p:spPr>
          <a:xfrm>
            <a:off x="838836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6433" y="10800"/>
                </a:moveTo>
                <a:lnTo>
                  <a:pt x="5928" y="17806"/>
                </a:lnTo>
                <a:lnTo>
                  <a:pt x="5928" y="3794"/>
                </a:lnTo>
                <a:close/>
              </a:path>
              <a:path fill="darken" w="25868" h="21600">
                <a:moveTo>
                  <a:pt x="18278" y="3794"/>
                </a:moveTo>
                <a:lnTo>
                  <a:pt x="18278" y="17806"/>
                </a:lnTo>
                <a:lnTo>
                  <a:pt x="19941" y="17806"/>
                </a:lnTo>
                <a:lnTo>
                  <a:pt x="1994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571920" y="5572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7030a0"/>
                </a:solidFill>
                <a:uFillTx/>
                <a:latin typeface="Arial"/>
                <a:ea typeface="方正姚体"/>
              </a:rPr>
              <a:t>勇敢顽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左右箭头 5"/>
          <p:cNvSpPr/>
          <p:nvPr/>
        </p:nvSpPr>
        <p:spPr>
          <a:xfrm>
            <a:off x="428760" y="0"/>
            <a:ext cx="6215040" cy="164304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03ed0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</a:rPr>
              <a:t>品词析句，感悟人物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石猴笑道：“这股水乃是桥下冲贯石窍，倒挂下来遮蔽门户的。桥边有花有树，乃是一座石房。房内有石锅、石灶、石碗、石盆、石床、石凳。中间一块石碣上，镶着‘花果山福地，水帘洞洞天’。真个是我们安身之处。里面且是宽阔，容得千百口老小。我们都进去住，也省得受老天之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9"/>
          <p:cNvGrpSpPr/>
          <p:nvPr/>
        </p:nvGrpSpPr>
        <p:grpSpPr>
          <a:xfrm>
            <a:off x="1908000" y="3068640"/>
            <a:ext cx="5976720" cy="3789360"/>
            <a:chOff x="1908000" y="3068640"/>
            <a:chExt cx="5976720" cy="3789360"/>
          </a:xfrm>
        </p:grpSpPr>
        <p:pic>
          <p:nvPicPr>
            <p:cNvPr id="142" name="Picture 20" descr="xy0005"/>
            <p:cNvPicPr/>
            <p:nvPr/>
          </p:nvPicPr>
          <p:blipFill>
            <a:blip r:embed="rId1"/>
            <a:stretch/>
          </p:blipFill>
          <p:spPr>
            <a:xfrm>
              <a:off x="1908000" y="3068640"/>
              <a:ext cx="5976720" cy="376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1" descr="xy0005"/>
            <p:cNvPicPr/>
            <p:nvPr/>
          </p:nvPicPr>
          <p:blipFill>
            <a:blip r:embed="rId2"/>
            <a:stretch/>
          </p:blipFill>
          <p:spPr>
            <a:xfrm>
              <a:off x="1908000" y="3068640"/>
              <a:ext cx="982800" cy="19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2" descr="xy0004"/>
            <p:cNvPicPr/>
            <p:nvPr/>
          </p:nvPicPr>
          <p:blipFill>
            <a:blip r:embed="rId3"/>
            <a:stretch/>
          </p:blipFill>
          <p:spPr>
            <a:xfrm>
              <a:off x="4707360" y="3068640"/>
              <a:ext cx="3154320" cy="378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AutoShape 23">
            <a:hlinkClick r:id="rId4" action="ppaction://hlinksldjump"/>
          </p:cNvPr>
          <p:cNvSpPr/>
          <p:nvPr/>
        </p:nvSpPr>
        <p:spPr>
          <a:xfrm>
            <a:off x="8604360" y="6381720"/>
            <a:ext cx="468360" cy="360360"/>
          </a:xfrm>
          <a:custGeom>
            <a:avLst/>
            <a:gdLst>
              <a:gd name="textAreaLeft" fmla="*/ 23040 w 468360"/>
              <a:gd name="textAreaRight" fmla="*/ 445320 w 4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8067" h="21600">
                <a:moveTo>
                  <a:pt x="0" y="0"/>
                </a:moveTo>
                <a:lnTo>
                  <a:pt x="28067" y="0"/>
                </a:lnTo>
                <a:lnTo>
                  <a:pt x="28067" y="21600"/>
                </a:lnTo>
                <a:lnTo>
                  <a:pt x="0" y="21600"/>
                </a:lnTo>
                <a:close/>
              </a:path>
              <a:path fill="lightenLess" w="28067" h="21600">
                <a:moveTo>
                  <a:pt x="0" y="0"/>
                </a:moveTo>
                <a:lnTo>
                  <a:pt x="28067" y="0"/>
                </a:lnTo>
                <a:lnTo>
                  <a:pt x="26667" y="1400"/>
                </a:lnTo>
                <a:lnTo>
                  <a:pt x="1400" y="1400"/>
                </a:lnTo>
                <a:close/>
              </a:path>
              <a:path fill="darken" w="28067" h="21600">
                <a:moveTo>
                  <a:pt x="28067" y="0"/>
                </a:moveTo>
                <a:lnTo>
                  <a:pt x="28067" y="21600"/>
                </a:lnTo>
                <a:lnTo>
                  <a:pt x="26667" y="20200"/>
                </a:lnTo>
                <a:lnTo>
                  <a:pt x="26667" y="1400"/>
                </a:lnTo>
                <a:close/>
              </a:path>
              <a:path fill="darkenLess" w="28067" h="21600">
                <a:moveTo>
                  <a:pt x="2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7" y="20200"/>
                </a:lnTo>
                <a:close/>
              </a:path>
              <a:path fill="lighten" w="2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7" h="21600">
                <a:moveTo>
                  <a:pt x="17532" y="10800"/>
                </a:moveTo>
                <a:lnTo>
                  <a:pt x="7027" y="17806"/>
                </a:lnTo>
                <a:lnTo>
                  <a:pt x="7027" y="3794"/>
                </a:lnTo>
                <a:close/>
              </a:path>
              <a:path fill="darken" w="28067" h="21600">
                <a:moveTo>
                  <a:pt x="19378" y="3794"/>
                </a:moveTo>
                <a:lnTo>
                  <a:pt x="19378" y="17806"/>
                </a:lnTo>
                <a:lnTo>
                  <a:pt x="21040" y="17806"/>
                </a:lnTo>
                <a:lnTo>
                  <a:pt x="2104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-44640" y="3645000"/>
            <a:ext cx="1521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无私无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50920" y="2133720"/>
            <a:ext cx="87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石猴端坐上面道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:“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列位呵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‘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人而无信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不知其可’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你们才说有本事进得来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出得去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不伤身体者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就拜他为王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我如今进来有出去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出去又进来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寻了这一个洞天与列位安眠稳睡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各享成家之福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何不拜我为王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?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>
            <a:hlinkClick r:id="rId1" action="ppaction://hlinksldjump"/>
          </p:cNvPr>
          <p:cNvSpPr/>
          <p:nvPr/>
        </p:nvSpPr>
        <p:spPr>
          <a:xfrm>
            <a:off x="838836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7026" y="10800"/>
                </a:moveTo>
                <a:lnTo>
                  <a:pt x="6521" y="17806"/>
                </a:lnTo>
                <a:lnTo>
                  <a:pt x="6521" y="3794"/>
                </a:lnTo>
                <a:close/>
              </a:path>
              <a:path fill="darken" w="27054" h="21600">
                <a:moveTo>
                  <a:pt x="18871" y="3794"/>
                </a:moveTo>
                <a:lnTo>
                  <a:pt x="18871" y="17806"/>
                </a:lnTo>
                <a:lnTo>
                  <a:pt x="20533" y="17806"/>
                </a:lnTo>
                <a:lnTo>
                  <a:pt x="205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55640" y="62064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石猴成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猴王出世插图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44360" y="54936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用自己的话写一写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石猴是怎样成为”美猴王“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图片1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矩形 2"/>
          <p:cNvSpPr/>
          <p:nvPr/>
        </p:nvSpPr>
        <p:spPr>
          <a:xfrm>
            <a:off x="1722240" y="14288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世界需要拥有孙悟空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2256840" y="26431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七十二变          适应社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图片1"/>
          <p:cNvPicPr/>
          <p:nvPr/>
        </p:nvPicPr>
        <p:blipFill>
          <a:blip r:embed="rId2"/>
          <a:stretch/>
        </p:blipFill>
        <p:spPr>
          <a:xfrm>
            <a:off x="-500040" y="0"/>
            <a:ext cx="10010880" cy="7508880"/>
          </a:xfrm>
          <a:prstGeom prst="rect">
            <a:avLst/>
          </a:prstGeom>
          <a:ln w="0">
            <a:noFill/>
          </a:ln>
        </p:spPr>
      </p:pic>
      <p:sp>
        <p:nvSpPr>
          <p:cNvPr id="156" name="矩形 5"/>
          <p:cNvSpPr/>
          <p:nvPr/>
        </p:nvSpPr>
        <p:spPr>
          <a:xfrm>
            <a:off x="2008080" y="15717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世界需要拥有孙悟空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2313720" y="2643120"/>
            <a:ext cx="39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七十二变          适应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2385000" y="3571920"/>
            <a:ext cx="39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火眼金睛          明辨是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2581560" y="4429080"/>
            <a:ext cx="40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金箍棒             能屈能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图片3"/>
          <p:cNvPicPr/>
          <p:nvPr/>
        </p:nvPicPr>
        <p:blipFill>
          <a:blip r:embed="rId1"/>
          <a:stretch/>
        </p:blipFill>
        <p:spPr>
          <a:xfrm>
            <a:off x="571680" y="285840"/>
            <a:ext cx="7943760" cy="588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妙笔生花"/>
          <p:cNvPicPr/>
          <p:nvPr/>
        </p:nvPicPr>
        <p:blipFill>
          <a:blip r:embed="rId2"/>
          <a:stretch/>
        </p:blipFill>
        <p:spPr>
          <a:xfrm>
            <a:off x="395280" y="0"/>
            <a:ext cx="230364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钢笔"/>
          <p:cNvPicPr/>
          <p:nvPr/>
        </p:nvPicPr>
        <p:blipFill>
          <a:blip r:embed="rId3"/>
          <a:stretch/>
        </p:blipFill>
        <p:spPr>
          <a:xfrm>
            <a:off x="324000" y="1700280"/>
            <a:ext cx="1152360" cy="452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3-415"/>
          <p:cNvPicPr/>
          <p:nvPr/>
        </p:nvPicPr>
        <p:blipFill>
          <a:blip r:embed="rId4"/>
          <a:stretch/>
        </p:blipFill>
        <p:spPr>
          <a:xfrm>
            <a:off x="4859280" y="3524400"/>
            <a:ext cx="2752920" cy="3144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1428840" y="157176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把下面两个片断多读几遍，用自己喜欢的符号画出描写动作的词语，体会这样写的好处，然后写一个同学们劳动或活动的片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1571760" y="157176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他瞑目蹲身，将身一纵，径跳入瀑布中，忽睁睛抬头观看，那里边却无水无波，明明朗朗一架桥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714680" y="1500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图片3"/>
          <p:cNvPicPr/>
          <p:nvPr/>
        </p:nvPicPr>
        <p:blipFill>
          <a:blip r:embed="rId1"/>
          <a:stretch/>
        </p:blipFill>
        <p:spPr>
          <a:xfrm>
            <a:off x="571680" y="285840"/>
            <a:ext cx="7943760" cy="588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妙笔生花"/>
          <p:cNvPicPr/>
          <p:nvPr/>
        </p:nvPicPr>
        <p:blipFill>
          <a:blip r:embed="rId2"/>
          <a:stretch/>
        </p:blipFill>
        <p:spPr>
          <a:xfrm>
            <a:off x="395280" y="0"/>
            <a:ext cx="2303640" cy="1689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476360" y="198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钢笔"/>
          <p:cNvPicPr/>
          <p:nvPr/>
        </p:nvPicPr>
        <p:blipFill>
          <a:blip r:embed="rId3"/>
          <a:stretch/>
        </p:blipFill>
        <p:spPr>
          <a:xfrm>
            <a:off x="324000" y="1700280"/>
            <a:ext cx="1152360" cy="452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3-415"/>
          <p:cNvPicPr/>
          <p:nvPr/>
        </p:nvPicPr>
        <p:blipFill>
          <a:blip r:embed="rId4"/>
          <a:stretch/>
        </p:blipFill>
        <p:spPr>
          <a:xfrm>
            <a:off x="4859280" y="3524400"/>
            <a:ext cx="2752920" cy="314460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1428840" y="157176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那些猴有胆大的，都跳进去了；胆小的，一个个伸头缩颈，抓耳挠腮，大声叫喊，缠一会，也都进去了，一个个抢盆夺碗，占灶争床，搬过来，移过去，正是猴性顽劣，直搬得力倦身疲方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16000" y="1628640"/>
            <a:ext cx="6985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说一说孙悟空由石猴变成美猴王的过程，孙悟空给你留下怎样的印象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插图"/>
          <p:cNvPicPr/>
          <p:nvPr/>
        </p:nvPicPr>
        <p:blipFill>
          <a:blip r:embed="rId1"/>
          <a:stretch/>
        </p:blipFill>
        <p:spPr>
          <a:xfrm>
            <a:off x="1332000" y="2924280"/>
            <a:ext cx="655308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1692360" y="0"/>
            <a:ext cx="5689440" cy="3500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6699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猴王出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87280" y="3502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出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62728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一块仙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14836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迸裂产石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16000" y="486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成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627280" y="422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探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435640" y="414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我进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627280" y="5518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称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219640" y="5373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随我进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340000" y="436572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76360" y="1773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那猴在山中，却会行走跳跃，食草木，饮涧泉，采山花，   觅树果；与狼虫为伴，虎豹为群，獐鹿为友，猕猿为亲；夜宿石崖之下，朝游峰洞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324000" y="333360"/>
            <a:ext cx="47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品读片段 揣摩妙点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549360" y="1052640"/>
            <a:ext cx="8494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吴承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汝忠，号射阳居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吴承恩小时候勤奋好学，一目十行，过目成诵。他精于绘画，擅长书法，爱好填词度曲，对围棋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精通，还喜欢收藏名人的书画法帖。他除勤奋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外，特别喜欢搜奇猎怪，爱看神仙鬼怪，狐妖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精之类的书籍。这对他创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着重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42920" y="1125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食草木，饮涧泉，采山花，觅树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97164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与狼虫为伴，虎豹成群，獐鹿为友，猕猿为亲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971640" y="3429000"/>
            <a:ext cx="68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夜宿石崖之下，朝游峰洞之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71640" y="1773360"/>
            <a:ext cx="72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连呼了三声，忽见丛杂中跳出一个石猴，应声高叫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我进去！我进去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他瞑目蹲身，将身一纵，径跳入瀑布泉中，忽睁睛抬头观看，那里边却无水无波，明明朗朗的一架桥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628640"/>
            <a:ext cx="7272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喜不自胜，忽抽身往外便走，复瞑目蹲身，跳出水外，打了两个呵呵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大造化！大造化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众猴把它围住，问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里面怎么样？水有多深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没水！没水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原来是一座铁板桥。桥那边是天造地设的家当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9640" y="3141720"/>
            <a:ext cx="8136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石猴端坐上面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列位呵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人而无信，不知其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。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16000" y="1052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石猴却又瞑目蹲身，往里一跳，叫道：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</a:rPr>
              <a:t>都随我进来！进来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332000" y="229068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你认为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西游记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原著中还有哪些好的表达方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朗读或背诵精彩句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3"/>
          <p:cNvSpPr txBox="1"/>
          <p:nvPr/>
        </p:nvSpPr>
        <p:spPr>
          <a:xfrm>
            <a:off x="539640" y="907920"/>
            <a:ext cx="360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提升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971640" y="620640"/>
            <a:ext cx="2520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我的收获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42920" y="206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读经典，不仅要读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写什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，更要思考作者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怎么写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71640" y="3933720"/>
            <a:ext cx="770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Garamond"/>
              </a:rPr>
              <a:t>愿同学们一生与经典相伴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39640" y="17002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本文选自我国古代杰出的长篇神话小说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西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记</a:t>
            </a:r>
            <a:r>
              <a:rPr b="1" lang="en-US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，作者是明代的吴承恩。小说主要讲述了唐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师徒四人历尽千辛万苦到西天取经的故事，主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物有唐僧、孙悟空、猪八戒、沙和尚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914400" y="882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琥珀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11280" y="1125360"/>
            <a:ext cx="81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他瞑目蹲身，将身一纵，径跳入瀑布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忽睁睛抬头观看，那里边却无水无波，明明朗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的一架桥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19280" y="2997360"/>
            <a:ext cx="81738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句写石猴入洞的情景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瞑、蹲、纵、跳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等一系列的动作描写出了石猴的机智、灵巧、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捷、勇敢的特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24000" y="1484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而无信，不知其可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孔子名言。信：信用；其：那；可：可以，行。一个人如果没有信用，不知道他怎么去做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齿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按年龄长幼来排列顺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抓耳挠腮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乱抓耳朵和腮帮子。形容焦急、忙乱或苦闷得无计可施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倦神疲：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太累了而全身无力，精神不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16000" y="1413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外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24000" y="2349360"/>
            <a:ext cx="939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展语文活动，把自己从书中读到或电影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视剧中看到的西游记故事，讲给大家听。课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积极地读西游记原著，适时举行一次讲西游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故事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49360" y="1052640"/>
            <a:ext cx="8512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影响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岁左右，他写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前十几回，后来因故中断了多年，直到晚年辞官离任回到故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才得以最后完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创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835280" y="2060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68360" y="141300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却又瞑目蹲身，往里一跳，叫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都随我进来！进来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石猴端坐上面道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列位呵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Garamond"/>
              </a:rPr>
              <a:t>人而无信，不知其可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。你们才说有本事进得来，出得去，不伤身体者，就拜他为王。我如今进来又出去，出去又进来，寻了这一个洞天与列位安眠稳睡，各享成家之福，何不拜我为王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684360" y="2325600"/>
            <a:ext cx="824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面更无树木遮阴，左右倒有芝兰相衬。盖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辟以来，每受天真地秀，日精月华，感之既久，遂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通之意。内育仙胞，一日迸裂，产一石卵，似圆球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。因见风，化作一个石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258920" y="4089240"/>
            <a:ext cx="6985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段写出了石猴的出生环境及经过。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神奇的仙境宝地</a:t>
            </a: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!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石猴不比其他众猴，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块饱受日月精华的顽石瞬间迸裂而生的。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后文写孙悟空的神通广大、降妖伏魔埋下了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笔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684360" y="2421000"/>
            <a:ext cx="8137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猴在山中，却会行走跳跃，食草木，饮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，采山花，觅树果；与狼虫为伴，虎豹为群，獐鹿为友，猕猿为亲；夜宿石崖之下，朝游峰洞之中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971640" y="4149720"/>
            <a:ext cx="75610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段作者写了石猴日常生活的多个方面。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言精练，寥寥几笔就勾勒出一个在林间自由自在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快活逍遥、亲和友善而又顽皮可爱的小石猴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008000" y="2422440"/>
            <a:ext cx="81723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瞑目蹲身，将身一纵，径跳入瀑布泉中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睁睛抬头观看，那里边却无水无波，明明朗朗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架桥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116000" y="4294080"/>
            <a:ext cx="756144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一句写石猴入洞的情景，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瞑、蹲、纵、跳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等一系列的动作描写出了石猴的机智、灵巧、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捷、勇敢的特点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611280" y="2205000"/>
            <a:ext cx="8172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猴端坐上面道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位呵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，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其可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才说有本事进得来，出得去，不伤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者，就拜他为王。我如今进来又出去，出去又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寻了这一个洞天与列位安眠稳睡，各享成家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，何不拜我为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猴听说，即拱伏无违。一个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齿排班，朝上礼拜，都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岁大王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258920" y="4724280"/>
            <a:ext cx="70581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石猴的话可以看出他的聪明、机敏、爽朗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坦率；看出他做事有心计，是天生做首领、头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材料。这石猴因穿越水帘洞的壮举赢得群猴的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仰、崇拜，最终被拥戴为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76360" y="155736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116000" y="1628640"/>
            <a:ext cx="6985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孙悟空由石猴变成美猴王的过程，孙悟空给你留下怎样的印象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插图"/>
          <p:cNvPicPr/>
          <p:nvPr/>
        </p:nvPicPr>
        <p:blipFill>
          <a:blip r:embed="rId2"/>
          <a:stretch/>
        </p:blipFill>
        <p:spPr>
          <a:xfrm>
            <a:off x="2556000" y="2997360"/>
            <a:ext cx="3456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a7"/>
          <p:cNvPicPr/>
          <p:nvPr/>
        </p:nvPicPr>
        <p:blipFill>
          <a:blip r:embed="rId2"/>
          <a:stretch/>
        </p:blipFill>
        <p:spPr>
          <a:xfrm>
            <a:off x="1116000" y="1557360"/>
            <a:ext cx="1224000" cy="101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21600" y="1914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进名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258920" y="2637000"/>
            <a:ext cx="74167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的四个主要人物是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知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一些有意思的故事，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___________________________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1116000" y="5794200"/>
            <a:ext cx="54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3006000" y="1914480"/>
            <a:ext cx="8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显身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2549520"/>
            <a:ext cx="741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拱伏无（  ）   各抒己（  ）   兴国（  ）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（  ）近人  （  ）里如一    酸甜（  ）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盛气（  ）人   千（  ）一发   身（  ）其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01"/>
          <p:cNvPicPr/>
          <p:nvPr/>
        </p:nvPicPr>
        <p:blipFill>
          <a:blip r:embed="rId2"/>
          <a:stretch/>
        </p:blipFill>
        <p:spPr>
          <a:xfrm>
            <a:off x="1900080" y="1989000"/>
            <a:ext cx="368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4DE8-6654-4B7D-BED1-C4AA429599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49360" y="981000"/>
            <a:ext cx="84265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部中国古典神魔小说，为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大名著” 之一。书中讲述唐朝玄奘法师西天取经的故事，表现了惩恶扬善的古老主题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书一百回，从大的结构上看，可分成三个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回至第七回是第一部分，主要写了孙悟空出世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拜师、大闹天宫，这是全书最精彩的章节，热闹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凡，孙悟空上天入地好一顿折腾，将他的反抗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511200" y="934920"/>
            <a:ext cx="8593200" cy="4871880"/>
            <a:chOff x="511200" y="934920"/>
            <a:chExt cx="8593200" cy="4871880"/>
          </a:xfrm>
        </p:grpSpPr>
        <p:sp>
          <p:nvSpPr>
            <p:cNvPr id="62" name="Rectangle 3"/>
            <p:cNvSpPr/>
            <p:nvPr/>
          </p:nvSpPr>
          <p:spPr>
            <a:xfrm>
              <a:off x="511200" y="934920"/>
              <a:ext cx="8593200" cy="48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表现得淋漓尽致。第八回至第十二回是第二部分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要写了唐僧的出身及取经的缘由。第十三回至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一回是第三部分，主要写唐僧西天取经，路上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收了孙悟空、猪八戒、沙和尚三个徒弟，并历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九九八十一难，终于取到了真经，修成了正果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游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向人们展示了一个绚丽多彩的神魔世界，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们无不在作者丰富而大胆的艺术想象面前惊叹不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7740720" y="3873600"/>
              <a:ext cx="11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5" descr="22-3"/>
          <p:cNvPicPr/>
          <p:nvPr/>
        </p:nvPicPr>
        <p:blipFill>
          <a:blip r:embed="rId1"/>
          <a:stretch/>
        </p:blipFill>
        <p:spPr>
          <a:xfrm>
            <a:off x="6300720" y="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0"/>
          <p:cNvSpPr/>
          <p:nvPr/>
        </p:nvSpPr>
        <p:spPr>
          <a:xfrm>
            <a:off x="1158840" y="4653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900000" y="1052640"/>
            <a:ext cx="770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我知道</a:t>
            </a: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里的四个主要人物是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808080"/>
                </a:solidFill>
                <a:latin typeface="宋体"/>
              </a:rPr>
              <a:t>________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图片1u"/>
          <p:cNvPicPr/>
          <p:nvPr/>
        </p:nvPicPr>
        <p:blipFill>
          <a:blip r:embed="rId1"/>
          <a:stretch/>
        </p:blipFill>
        <p:spPr>
          <a:xfrm>
            <a:off x="179280" y="260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63e802fb9656d2b1f3089a6"/>
          <p:cNvPicPr/>
          <p:nvPr/>
        </p:nvPicPr>
        <p:blipFill>
          <a:blip r:embed="rId2"/>
          <a:stretch/>
        </p:blipFill>
        <p:spPr>
          <a:xfrm>
            <a:off x="-181080" y="2924280"/>
            <a:ext cx="2049480" cy="218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01300000167306121316239133011_s"/>
          <p:cNvPicPr/>
          <p:nvPr/>
        </p:nvPicPr>
        <p:blipFill>
          <a:blip r:embed="rId3"/>
          <a:stretch/>
        </p:blipFill>
        <p:spPr>
          <a:xfrm>
            <a:off x="1979640" y="2924280"/>
            <a:ext cx="223200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57e99945b7cc006d31b707c"/>
          <p:cNvPicPr/>
          <p:nvPr/>
        </p:nvPicPr>
        <p:blipFill>
          <a:blip r:embed="rId4"/>
          <a:stretch/>
        </p:blipFill>
        <p:spPr>
          <a:xfrm>
            <a:off x="4427640" y="2924280"/>
            <a:ext cx="2449440" cy="21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xin_1307050114381872583534"/>
          <p:cNvPicPr/>
          <p:nvPr/>
        </p:nvPicPr>
        <p:blipFill>
          <a:blip r:embed="rId5"/>
          <a:stretch/>
        </p:blipFill>
        <p:spPr>
          <a:xfrm>
            <a:off x="7020000" y="2924280"/>
            <a:ext cx="23032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703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还知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游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一些有意思的故事，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_______________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089307"/>
          <p:cNvPicPr/>
          <p:nvPr/>
        </p:nvPicPr>
        <p:blipFill>
          <a:blip r:embed="rId1"/>
          <a:stretch/>
        </p:blipFill>
        <p:spPr>
          <a:xfrm>
            <a:off x="539640" y="2133720"/>
            <a:ext cx="3302280" cy="4209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6382192cabd6b617359bf798"/>
          <p:cNvPicPr/>
          <p:nvPr/>
        </p:nvPicPr>
        <p:blipFill>
          <a:blip r:embed="rId2"/>
          <a:stretch/>
        </p:blipFill>
        <p:spPr>
          <a:xfrm>
            <a:off x="4356000" y="2997360"/>
            <a:ext cx="4272120" cy="28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26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阅读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14400" y="2133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本课节选自我国古典小说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西游记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第一回，作者是明代的吴承恩。读课文，看看石猴是哪来的，又是怎样成为猴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     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把不懂的地方画下来，跟同学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06:53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31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