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9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7.png" ContentType="image/pn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5DE3-D599-4DBC-82BC-33295D714AEC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3974-9DBA-45C0-B8E9-0BEB2F4605FD}" type="slidenum">
              <a:rPr b="1" lang="zh-CN" sz="1200" spc="-1" strike="noStrike">
                <a:solidFill>
                  <a:srgbClr val="80008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563-2395-430C-AF38-C235391B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9D4-5487-4C5F-9089-31885931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6D3-F792-4FAA-A189-A4DB140F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37E-9C93-44B7-B2AB-0210EF0B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728-D60A-4718-996D-02A51AA8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D91-A316-4EB4-A6AC-DF964EAF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40D-6AE4-4DAB-98D8-F8580D41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89B-F8F0-4824-9637-D6B8F351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EDC-AB33-435D-BF24-79E87D32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9A9-7A77-498A-AD79-0E6D5E6D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18E-2683-4407-8507-2F0288C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F59-1264-4877-9063-DB98CAB6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CB2D-41FC-47A4-8834-6D5FCADA5F6C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82d76632d2584dc1d1a2d38f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8677440" y="6421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0" name="WordArt 5" descr=""/>
          <p:cNvPicPr/>
          <p:nvPr/>
        </p:nvPicPr>
        <p:blipFill>
          <a:blip r:embed="rId2"/>
          <a:stretch/>
        </p:blipFill>
        <p:spPr>
          <a:xfrm>
            <a:off x="898560" y="1305000"/>
            <a:ext cx="5767200" cy="2197080"/>
          </a:xfrm>
          <a:prstGeom prst="rect">
            <a:avLst/>
          </a:prstGeom>
          <a:ln w="0">
            <a:noFill/>
          </a:ln>
        </p:spPr>
      </p:pic>
      <p:sp>
        <p:nvSpPr>
          <p:cNvPr id="51" name="矩形 5"/>
          <p:cNvSpPr/>
          <p:nvPr/>
        </p:nvSpPr>
        <p:spPr>
          <a:xfrm>
            <a:off x="1791000" y="5648400"/>
            <a:ext cx="5562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0051018195601909"/>
          <p:cNvPicPr/>
          <p:nvPr/>
        </p:nvPicPr>
        <p:blipFill>
          <a:blip r:embed="rId1"/>
          <a:stretch/>
        </p:blipFill>
        <p:spPr>
          <a:xfrm>
            <a:off x="360360" y="333360"/>
            <a:ext cx="8783640" cy="6315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476360" y="1700280"/>
            <a:ext cx="702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从哪里来？在文中的地基自然段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怎么成为猴王的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默读第一段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:   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看看石猴是哪来的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找出你喜欢的句子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从中可以看出石猴的什么特点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58920" y="1989000"/>
            <a:ext cx="87850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海外有一国土，名曰傲来国。  国近大海，海中有一座名山，唤为花果山。那座山正当顶上，有一块仙石，其石有三丈六尺五寸高，有二丈四尺围圆。四面更无树木遮阴，左右倒有芝兰相衬。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  <a:hlinkClick r:id="rId1" action="ppaction://hlinksldjump"/>
              </a:rPr>
              <a:t>盖自开辟以来，每受天真地秀，日精月华，感之既久，遂有灵通之意。内育仙胞，一日迸裂，产一石卵，似圆球样大。因见风，化作一个石猴。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  <a:hlinkClick r:id="rId2" action="ppaction://hlinksldjump"/>
              </a:rPr>
              <a:t>那猴在山中，却会行走跳跃，食草木，饮涧泉，采山花，觅树果；与狼虫为伴，虎豹为群，獐鹿为友，猕猿为亲；夜宿石崖之下，朝游峰洞之中。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3280" cy="6884280"/>
            <a:chOff x="0" y="0"/>
            <a:chExt cx="9143280" cy="6884280"/>
          </a:xfrm>
        </p:grpSpPr>
        <p:pic>
          <p:nvPicPr>
            <p:cNvPr id="103" name="Picture 5" descr="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68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" descr="1"/>
            <p:cNvPicPr/>
            <p:nvPr/>
          </p:nvPicPr>
          <p:blipFill>
            <a:blip r:embed="rId2"/>
            <a:stretch/>
          </p:blipFill>
          <p:spPr>
            <a:xfrm>
              <a:off x="3366000" y="5700600"/>
              <a:ext cx="2117520" cy="89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WordArt 7"/>
            <p:cNvSpPr txBox="1"/>
            <p:nvPr/>
          </p:nvSpPr>
          <p:spPr>
            <a:xfrm>
              <a:off x="3366000" y="5356800"/>
              <a:ext cx="2444760" cy="109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buClr>
                  <a:srgbClr val="800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8000"/>
                      </a:srgbClr>
                    </a:outerShdw>
                  </a:effectLst>
                  <a:latin typeface="宋体"/>
                </a:rPr>
                <a:t>仙石</a:t>
              </a:r>
              <a:endParaRPr b="1" lang="en-US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0051018195601909"/>
          <p:cNvPicPr/>
          <p:nvPr/>
        </p:nvPicPr>
        <p:blipFill>
          <a:blip r:embed="rId1"/>
          <a:stretch/>
        </p:blipFill>
        <p:spPr>
          <a:xfrm>
            <a:off x="755640" y="542880"/>
            <a:ext cx="8783640" cy="63151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76360" y="2349360"/>
            <a:ext cx="83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从哪里来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怎么成为猴王的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08" name="12.MPG" descr=""/>
          <p:cNvPicPr/>
          <p:nvPr/>
        </p:nvPicPr>
        <p:blipFill>
          <a:blip r:embed="rId2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564000" y="5589720"/>
            <a:ext cx="2376360" cy="579240"/>
          </a:xfrm>
          <a:prstGeom prst="rect">
            <a:avLst/>
          </a:prstGeom>
          <a:solidFill>
            <a:srgbClr val="6a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1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 rot="5400000">
            <a:off x="4714560" y="278136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石猴出世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2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5364500_184005022320_2"/>
          <p:cNvPicPr/>
          <p:nvPr/>
        </p:nvPicPr>
        <p:blipFill>
          <a:blip r:embed="rId1"/>
          <a:stretch/>
        </p:blipFill>
        <p:spPr>
          <a:xfrm>
            <a:off x="0" y="-2689200"/>
            <a:ext cx="9144000" cy="975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小学语文(记叙文）03"/>
          <p:cNvPicPr/>
          <p:nvPr/>
        </p:nvPicPr>
        <p:blipFill>
          <a:blip r:embed="rId2"/>
          <a:stretch/>
        </p:blipFill>
        <p:spPr>
          <a:xfrm>
            <a:off x="1116000" y="54936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4"/>
          <p:cNvSpPr/>
          <p:nvPr/>
        </p:nvSpPr>
        <p:spPr>
          <a:xfrm>
            <a:off x="1476360" y="119700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品 析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971640" y="1916280"/>
            <a:ext cx="770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      </a:t>
            </a:r>
            <a:r>
              <a:rPr b="1" lang="zh-CN" sz="26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四面更无树木遮阴，左右倒有芝兰相衬。盖自开辟以来，每受天真地秀，日精月华，感之既久，遂有灵通之意。内育仙胞，一日迸裂，产一石卵，似圆球样大。因见风，化作一个石猴。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6" name="Text Box 58"/>
          <p:cNvSpPr/>
          <p:nvPr/>
        </p:nvSpPr>
        <p:spPr>
          <a:xfrm>
            <a:off x="971640" y="4005360"/>
            <a:ext cx="684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       </a:t>
            </a:r>
            <a:r>
              <a:rPr b="1" lang="zh-CN" sz="26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这一段写出了石猴的出生环境及经过。好一个神奇的仙境宝地</a:t>
            </a:r>
            <a:r>
              <a:rPr b="1" lang="en-US" sz="26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!</a:t>
            </a:r>
            <a:r>
              <a:rPr b="1" lang="zh-CN" sz="26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石猴不比其他众猴，是一块饱受日月精华的顽石瞬间迸裂而生的。为后文写孙悟空的神通广大、降妖伏魔埋下了伏笔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1692360" y="0"/>
            <a:ext cx="5689440" cy="35002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669900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猴王出世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187280" y="3502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出世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62728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一块仙石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48360" y="342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迸裂产石猴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116000" y="486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成王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627280" y="4221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探洞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435640" y="4149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我进去！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627280" y="5518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称王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219640" y="5373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随我进来！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340000" y="436572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51018195601909"/>
          <p:cNvPicPr/>
          <p:nvPr/>
        </p:nvPicPr>
        <p:blipFill>
          <a:blip r:embed="rId1"/>
          <a:stretch/>
        </p:blipFill>
        <p:spPr>
          <a:xfrm>
            <a:off x="0" y="128520"/>
            <a:ext cx="9360000" cy="6729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826920" y="1341360"/>
            <a:ext cx="8317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   </a:t>
            </a:r>
            <a:r>
              <a:rPr b="1" lang="zh-CN" sz="6600" spc="-1" strike="noStrike">
                <a:solidFill>
                  <a:srgbClr val="800080"/>
                </a:solidFill>
                <a:latin typeface="楷体_GB2312"/>
              </a:rPr>
              <a:t>石猴怎么成为猴王的？</a:t>
            </a:r>
            <a:endParaRPr b="1" lang="en-US" sz="6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3143160" y="13572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eff"/>
                </a:solidFill>
                <a:latin typeface="楷体_GB2312"/>
              </a:rPr>
              <a:t>我知道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7b4fb77e4e849b0c0cd7daf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357200" y="2928960"/>
            <a:ext cx="105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971640" y="1400040"/>
            <a:ext cx="7215120" cy="2043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石猴能别猴之所不能，敢为群猴之先，能率领群猴是石猴能成为美猴王的原因。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79640" cy="6857280"/>
            <a:chOff x="0" y="0"/>
            <a:chExt cx="9179640" cy="6857280"/>
          </a:xfrm>
        </p:grpSpPr>
        <p:pic>
          <p:nvPicPr>
            <p:cNvPr id="134" name="Picture 66" descr="xy0006"/>
            <p:cNvPicPr/>
            <p:nvPr/>
          </p:nvPicPr>
          <p:blipFill>
            <a:blip r:embed="rId1"/>
            <a:stretch/>
          </p:blipFill>
          <p:spPr>
            <a:xfrm>
              <a:off x="0" y="3355920"/>
              <a:ext cx="3963240" cy="34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67" descr="xy0007"/>
            <p:cNvPicPr/>
            <p:nvPr/>
          </p:nvPicPr>
          <p:blipFill>
            <a:blip r:embed="rId2"/>
            <a:stretch/>
          </p:blipFill>
          <p:spPr>
            <a:xfrm>
              <a:off x="4385880" y="0"/>
              <a:ext cx="4793760" cy="26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8" descr="xy0006"/>
            <p:cNvPicPr/>
            <p:nvPr/>
          </p:nvPicPr>
          <p:blipFill>
            <a:blip r:embed="rId3"/>
            <a:stretch/>
          </p:blipFill>
          <p:spPr>
            <a:xfrm>
              <a:off x="3706560" y="2516040"/>
              <a:ext cx="5451840" cy="43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9" descr="xy0007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797000" cy="35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70" descr="xy0007"/>
            <p:cNvPicPr/>
            <p:nvPr/>
          </p:nvPicPr>
          <p:blipFill>
            <a:blip r:embed="rId5"/>
            <a:stretch/>
          </p:blipFill>
          <p:spPr>
            <a:xfrm>
              <a:off x="927360" y="199080"/>
              <a:ext cx="117792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71" descr="xy0007"/>
            <p:cNvPicPr/>
            <p:nvPr/>
          </p:nvPicPr>
          <p:blipFill>
            <a:blip r:embed="rId6"/>
            <a:stretch/>
          </p:blipFill>
          <p:spPr>
            <a:xfrm>
              <a:off x="5558040" y="0"/>
              <a:ext cx="101160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72" descr="xy0006"/>
            <p:cNvPicPr/>
            <p:nvPr/>
          </p:nvPicPr>
          <p:blipFill>
            <a:blip r:embed="rId7"/>
            <a:stretch/>
          </p:blipFill>
          <p:spPr>
            <a:xfrm>
              <a:off x="5896440" y="5129280"/>
              <a:ext cx="101160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3" descr="xy0006"/>
            <p:cNvPicPr/>
            <p:nvPr/>
          </p:nvPicPr>
          <p:blipFill>
            <a:blip r:embed="rId8"/>
            <a:stretch/>
          </p:blipFill>
          <p:spPr>
            <a:xfrm>
              <a:off x="7243920" y="2481120"/>
              <a:ext cx="81216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4" descr="xy0006"/>
            <p:cNvPicPr/>
            <p:nvPr/>
          </p:nvPicPr>
          <p:blipFill>
            <a:blip r:embed="rId9"/>
            <a:stretch/>
          </p:blipFill>
          <p:spPr>
            <a:xfrm>
              <a:off x="8001720" y="2481120"/>
              <a:ext cx="114804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75" descr="xy0006"/>
            <p:cNvPicPr/>
            <p:nvPr/>
          </p:nvPicPr>
          <p:blipFill>
            <a:blip r:embed="rId10"/>
            <a:stretch/>
          </p:blipFill>
          <p:spPr>
            <a:xfrm>
              <a:off x="504000" y="5229360"/>
              <a:ext cx="84312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 Box 17"/>
          <p:cNvSpPr/>
          <p:nvPr/>
        </p:nvSpPr>
        <p:spPr>
          <a:xfrm>
            <a:off x="0" y="404640"/>
            <a:ext cx="9144000" cy="177228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那猴在山中，却会行走跳跃，食草木，饮涧泉，采山花，觅树果；与狼虫为伴，虎豹为群，獐鹿为友，猕猿为亲；夜宿石崖之下，朝游峰洞之中。</a:t>
            </a:r>
            <a:endParaRPr b="1" lang="en-US" sz="5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5" name="Line 76"/>
          <p:cNvSpPr/>
          <p:nvPr/>
        </p:nvSpPr>
        <p:spPr>
          <a:xfrm>
            <a:off x="1547640" y="2924280"/>
            <a:ext cx="6913800" cy="0"/>
          </a:xfrm>
          <a:prstGeom prst="line">
            <a:avLst/>
          </a:prstGeom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6" name="Line 77"/>
          <p:cNvSpPr/>
          <p:nvPr/>
        </p:nvSpPr>
        <p:spPr>
          <a:xfrm>
            <a:off x="179280" y="3789360"/>
            <a:ext cx="3672000" cy="0"/>
          </a:xfrm>
          <a:prstGeom prst="line">
            <a:avLst/>
          </a:prstGeom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7" name="Line 78"/>
          <p:cNvSpPr/>
          <p:nvPr/>
        </p:nvSpPr>
        <p:spPr>
          <a:xfrm>
            <a:off x="4356000" y="3789360"/>
            <a:ext cx="453708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8" name="Line 79"/>
          <p:cNvSpPr/>
          <p:nvPr/>
        </p:nvSpPr>
        <p:spPr>
          <a:xfrm>
            <a:off x="250920" y="4581360"/>
            <a:ext cx="878508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49" name="Line 80"/>
          <p:cNvSpPr/>
          <p:nvPr/>
        </p:nvSpPr>
        <p:spPr>
          <a:xfrm>
            <a:off x="179280" y="5445000"/>
            <a:ext cx="100800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>
    <p:pull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20056312159279(2)"/>
          <p:cNvPicPr/>
          <p:nvPr/>
        </p:nvPicPr>
        <p:blipFill>
          <a:blip r:embed="rId1"/>
          <a:stretch/>
        </p:blipFill>
        <p:spPr>
          <a:xfrm>
            <a:off x="-609480" y="-176040"/>
            <a:ext cx="10150200" cy="728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播放西游记主题曲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敢问路在何方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1197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  <a:ea typeface="华文琥珀"/>
              </a:rPr>
              <a:t>       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黑体"/>
              </a:rPr>
              <a:t>那猴在山中，却会行走跳跃，食草木，饮涧泉，采山花，觅树果；与狼虫为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伴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黑体"/>
              </a:rPr>
              <a:t>，虎豹为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群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黑体"/>
              </a:rPr>
              <a:t>，獐鹿为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友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黑体"/>
              </a:rPr>
              <a:t>，猕猿为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亲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黑体"/>
              </a:rPr>
              <a:t>夜宿石崖之下，朝游峰洞之中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1" name="AutoShape 3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2700360" y="33336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精彩句子欣赏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572000" y="3860640"/>
            <a:ext cx="4572000" cy="1152720"/>
          </a:xfrm>
          <a:prstGeom prst="wedgeEllipseCallout">
            <a:avLst>
              <a:gd name="adj1" fmla="val -26805"/>
              <a:gd name="adj2" fmla="val 69972"/>
            </a:avLst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楷体_GB2312"/>
                <a:ea typeface="黑体"/>
              </a:rPr>
              <a:t>请找出其中的动词。这一段写了石猴什么生活情景？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0" y="4724280"/>
            <a:ext cx="5219640" cy="1873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楷体_GB2312"/>
                <a:ea typeface="黑体"/>
              </a:rPr>
              <a:t>这一段写了石猴的</a:t>
            </a: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黑体"/>
              </a:rPr>
              <a:t>日常生活</a:t>
            </a:r>
            <a:r>
              <a:rPr b="1" lang="zh-CN" sz="1800" spc="-1" strike="noStrike">
                <a:solidFill>
                  <a:srgbClr val="800080"/>
                </a:solidFill>
                <a:latin typeface="楷体_GB2312"/>
                <a:ea typeface="黑体"/>
              </a:rPr>
              <a:t>多个方面，如：吃喝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  <a:p>
            <a:pPr algn="ctr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楷体_GB2312"/>
                <a:ea typeface="黑体"/>
              </a:rPr>
              <a:t>朋友、住宿、游玩。勾勒出一个</a:t>
            </a:r>
            <a:r>
              <a:rPr b="1" lang="zh-CN" sz="1800" spc="-1" strike="noStrike">
                <a:solidFill>
                  <a:srgbClr val="cc3300"/>
                </a:solidFill>
                <a:latin typeface="楷体_GB2312"/>
                <a:ea typeface="黑体"/>
              </a:rPr>
              <a:t>自由自在</a:t>
            </a:r>
            <a:r>
              <a:rPr b="1" lang="zh-CN" sz="1800" spc="-1" strike="noStrike">
                <a:solidFill>
                  <a:srgbClr val="800080"/>
                </a:solidFill>
                <a:latin typeface="楷体_GB2312"/>
                <a:ea typeface="黑体"/>
              </a:rPr>
              <a:t>、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楷体_GB2312"/>
                <a:ea typeface="黑体"/>
              </a:rPr>
              <a:t>快活逍遥</a:t>
            </a:r>
            <a:r>
              <a:rPr b="1" lang="zh-CN" sz="1800" spc="-1" strike="noStrike">
                <a:solidFill>
                  <a:srgbClr val="800080"/>
                </a:solidFill>
                <a:latin typeface="楷体_GB2312"/>
                <a:ea typeface="黑体"/>
              </a:rPr>
              <a:t>、</a:t>
            </a:r>
            <a:r>
              <a:rPr b="1" lang="zh-CN" sz="1800" spc="-1" strike="noStrike">
                <a:solidFill>
                  <a:srgbClr val="cc3300"/>
                </a:solidFill>
                <a:latin typeface="楷体_GB2312"/>
                <a:ea typeface="黑体"/>
              </a:rPr>
              <a:t>亲友和善</a:t>
            </a:r>
            <a:r>
              <a:rPr b="1" lang="zh-CN" sz="1800" spc="-1" strike="noStrike">
                <a:solidFill>
                  <a:srgbClr val="800080"/>
                </a:solidFill>
                <a:latin typeface="楷体_GB2312"/>
                <a:ea typeface="黑体"/>
              </a:rPr>
              <a:t>而又</a:t>
            </a:r>
            <a:r>
              <a:rPr b="1" lang="zh-CN" sz="1800" spc="-1" strike="noStrike">
                <a:solidFill>
                  <a:srgbClr val="cc3300"/>
                </a:solidFill>
                <a:latin typeface="楷体_GB2312"/>
                <a:ea typeface="黑体"/>
              </a:rPr>
              <a:t>顽皮可爱</a:t>
            </a:r>
            <a:r>
              <a:rPr b="1" lang="zh-CN" sz="1800" spc="-1" strike="noStrike">
                <a:solidFill>
                  <a:srgbClr val="800080"/>
                </a:solidFill>
                <a:latin typeface="楷体_GB2312"/>
                <a:ea typeface="黑体"/>
              </a:rPr>
              <a:t>的小石猴。</a:t>
            </a:r>
            <a:endParaRPr b="1" lang="en-US" sz="1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812000" y="1341360"/>
            <a:ext cx="36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黑体"/>
              </a:rPr>
              <a:t>食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187280" y="191628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黑体"/>
              </a:rPr>
              <a:t>饮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203640" y="1916280"/>
            <a:ext cx="43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黑体"/>
              </a:rPr>
              <a:t>采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091120" y="1844640"/>
            <a:ext cx="6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黑体"/>
              </a:rPr>
              <a:t>觅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20051018195643398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619280" y="2708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黑体"/>
              </a:rPr>
              <a:t>      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258920" y="1197000"/>
            <a:ext cx="698508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那石猴在山中，却会行走跳跃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食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草木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饮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涧泉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采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山花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觅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树果；与狼虫为伴，虎豹为群，獐鹿为友，猕猿为亲；夜宿石崖之下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，朝游峰洞之中。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62" name="命运.Wma" descr=""/>
          <p:cNvPicPr/>
          <p:nvPr/>
        </p:nvPicPr>
        <p:blipFill>
          <a:blip r:embed="rId2"/>
          <a:stretch/>
        </p:blipFill>
        <p:spPr>
          <a:xfrm>
            <a:off x="774072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243565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20051018195643398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1619280" y="2708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黑体"/>
              </a:rPr>
              <a:t>      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258920" y="119700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那石猴在山中，却会行走跳跃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食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草木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饮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涧泉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采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山花，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</a:rPr>
              <a:t>觅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树果；与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</a:rPr>
              <a:t>狼虫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为伴，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</a:rPr>
              <a:t>虎豹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为群，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</a:rPr>
              <a:t>獐鹿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为友，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</a:rPr>
              <a:t>猕猿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为亲；夜宿石崖之下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，朝游峰洞之中。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166" name="命运.Wma" descr=""/>
          <p:cNvPicPr/>
          <p:nvPr/>
        </p:nvPicPr>
        <p:blipFill>
          <a:blip r:embed="rId2"/>
          <a:stretch/>
        </p:blipFill>
        <p:spPr>
          <a:xfrm>
            <a:off x="774072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43565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72312d95963212933fa1c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87280" y="69228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900000" y="1916280"/>
            <a:ext cx="7634520" cy="5889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楷体_GB2312"/>
              </a:rPr>
              <a:t>       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那猴在山中，却会行走跳跃，食草木，饮涧泉，采山花，觅树果；与狼虫为伴，虎豹为群，獐鹿为友，猕猿为亲；夜宿石崖之下，朝游峰洞之中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900000" y="4365720"/>
            <a:ext cx="7704360" cy="15789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这一段作者写了石猴日常生活的多个方面。语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言精练，寥寥几笔就勾勒出一个在林间自由自在、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</a:rPr>
              <a:t>快活逍遥、亲和友善而又顽皮可爱的小石猴。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476360" y="126828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800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品 析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41300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他瞑目蹲身，将身一纵，径跳入瀑布泉中，忽睁睛抬头观看，那里边却无水无波，明明朗朗的一架桥梁。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2124000" y="2967120"/>
            <a:ext cx="6840720" cy="1225440"/>
          </a:xfrm>
          <a:prstGeom prst="wedgeRectCallout">
            <a:avLst>
              <a:gd name="adj1" fmla="val 62092"/>
              <a:gd name="adj2" fmla="val 19814"/>
            </a:avLst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黑体"/>
              </a:rPr>
              <a:t>作者用了哪些动词？这一句写了什么情景？写出了石猴的什么特点？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4653000"/>
            <a:ext cx="6048360" cy="17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这一句写了石猴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进洞探水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的情况。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这些动词写了石猴的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机智、灵巧、敏捷、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勇敢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的特点。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268360" y="335772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700360" y="3500280"/>
            <a:ext cx="43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596360" y="429264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971640" y="14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黑体"/>
              </a:rPr>
              <a:t>瞑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763640" y="14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黑体"/>
              </a:rPr>
              <a:t>蹲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211640" y="1409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黑体"/>
              </a:rPr>
              <a:t>纵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435640" y="14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黑体"/>
              </a:rPr>
              <a:t>跳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95280" y="18900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阅读第二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），找出石猴进洞的精彩句子。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95280" y="188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  <a:ea typeface="黑体"/>
              </a:rPr>
              <a:t>思考：石猴进洞看到了什么？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84360" y="2349360"/>
            <a:ext cx="4824360" cy="1656000"/>
          </a:xfrm>
          <a:prstGeom prst="cloudCallout">
            <a:avLst>
              <a:gd name="adj1" fmla="val -56777"/>
              <a:gd name="adj2" fmla="val 78861"/>
            </a:avLst>
          </a:prstGeom>
          <a:solidFill>
            <a:srgbClr val="00cc99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黑体"/>
              </a:rPr>
              <a:t>这一段写了什么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79280" y="1268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黑体"/>
              </a:rPr>
              <a:t>铁桥、石碣、石屋、石桌、石椅、石凳、石碗。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24000" y="4724280"/>
            <a:ext cx="85406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pull dir="r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908261542f9398ead4f0636ed"/>
          <p:cNvPicPr/>
          <p:nvPr/>
        </p:nvPicPr>
        <p:blipFill>
          <a:blip r:embed="rId1"/>
          <a:stretch/>
        </p:blipFill>
        <p:spPr>
          <a:xfrm>
            <a:off x="-2265480" y="-888840"/>
            <a:ext cx="13713120" cy="8569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900000" y="112536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宋体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连呼了三声，忽见丛杂中跳出一个石猴，应声高叫道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Garamond"/>
                <a:ea typeface="宋体"/>
              </a:rPr>
              <a:t>我进去！我进去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他瞑目蹲身，将身一纵，径跳入瀑布泉中，忽睁睛抬头观看，那里边却无水无波，明明朗朗的一架桥梁。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0908261542f9398ead4f0636ed"/>
          <p:cNvPicPr/>
          <p:nvPr/>
        </p:nvPicPr>
        <p:blipFill>
          <a:blip r:embed="rId1"/>
          <a:stretch/>
        </p:blipFill>
        <p:spPr>
          <a:xfrm>
            <a:off x="-2265480" y="-888840"/>
            <a:ext cx="13713120" cy="8569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971640" y="907920"/>
            <a:ext cx="72723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石猴喜不自胜，忽抽身往外便走，复瞑目蹲身，跳出水外，打了两个呵呵道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Garamond"/>
                <a:ea typeface="宋体"/>
              </a:rPr>
              <a:t>大造化！大造化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众猴把它围住，问道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里面怎么样？水有多深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石猴道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Garamond"/>
                <a:ea typeface="宋体"/>
              </a:rPr>
              <a:t>没水！没水！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原来是一座铁板桥。桥那边是天造地设的家当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0908261542f9398ead4f0636ed"/>
          <p:cNvPicPr/>
          <p:nvPr/>
        </p:nvPicPr>
        <p:blipFill>
          <a:blip r:embed="rId1"/>
          <a:stretch/>
        </p:blipFill>
        <p:spPr>
          <a:xfrm>
            <a:off x="-2265480" y="-888840"/>
            <a:ext cx="13713120" cy="8569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684360" y="2738520"/>
            <a:ext cx="81356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石猴端坐上面道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列位呵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‘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宋体"/>
              </a:rPr>
              <a:t>人而无信，不知其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’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。你们才说有本事进得来，出得去，不伤身体者，就拜他为王。我如今进来又出去，出去又进来，寻了这一个洞天与列位安眠稳睡，各享成家之福，何不拜我为王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116000" y="1052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宋体"/>
              </a:rPr>
              <a:t>石猴却又瞑目蹲身，往里一跳，叫道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宋体"/>
              </a:rPr>
              <a:t>都随我进来！进来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24000" y="907560"/>
            <a:ext cx="85406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石猴端坐上面说：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列位啊，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黑体"/>
              </a:rPr>
              <a:t>’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人而无信，不知其可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  <a:ea typeface="黑体"/>
              </a:rPr>
              <a:t>’</a:t>
            </a:r>
            <a:r>
              <a:rPr b="0" lang="en-US" sz="2800" spc="-1" strike="noStrike">
                <a:solidFill>
                  <a:srgbClr val="80008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你们才说有本事进得来，出得去，不伤身体者，就拜他为王。我如今进来又出去，出去又进来，寻了这一个洞天与列位安眠稳睡，各享成家之福，何不拜我为王？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众猴听说，即拱伏无违。一个个序齿排班，朝上礼拜，都称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千岁大王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 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WordArt 3"/>
          <p:cNvSpPr txBox="1"/>
          <p:nvPr/>
        </p:nvSpPr>
        <p:spPr>
          <a:xfrm rot="5400000">
            <a:off x="526680" y="3873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思考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1332000" y="3500280"/>
            <a:ext cx="2376360" cy="2305080"/>
          </a:xfrm>
          <a:prstGeom prst="cloudCallout">
            <a:avLst>
              <a:gd name="adj1" fmla="val -43384"/>
              <a:gd name="adj2" fmla="val 65634"/>
            </a:avLst>
          </a:prstGeom>
          <a:solidFill>
            <a:srgbClr val="00cc99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黑体"/>
              </a:rPr>
              <a:t>从这句话可以看出石猴的什么特点？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3708360" y="3429000"/>
            <a:ext cx="5327640" cy="342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楷体_GB2312"/>
                <a:ea typeface="黑体"/>
              </a:rPr>
              <a:t>众猴只顾好奇，早把誓言忘了。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楷体_GB2312"/>
                <a:ea typeface="黑体"/>
              </a:rPr>
              <a:t>而石猴却很清醒，提出要讲信用。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楷体_GB2312"/>
                <a:ea typeface="黑体"/>
              </a:rPr>
              <a:t>从此可以看出石猴的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黑体"/>
              </a:rPr>
              <a:t>聪明、机敏、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黑体"/>
              </a:rPr>
              <a:t>爽朗、坦率</a:t>
            </a:r>
            <a:r>
              <a:rPr b="1" lang="zh-CN" sz="2000" spc="-1" strike="noStrike">
                <a:solidFill>
                  <a:srgbClr val="800080"/>
                </a:solidFill>
                <a:latin typeface="楷体_GB2312"/>
                <a:ea typeface="黑体"/>
              </a:rPr>
              <a:t>；看出他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黑体"/>
              </a:rPr>
              <a:t>做事有心计，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黑体"/>
              </a:rPr>
              <a:t>是天生作首领、头目的材料</a:t>
            </a:r>
            <a:r>
              <a:rPr b="1" lang="zh-CN" sz="2000" spc="-1" strike="noStrike">
                <a:solidFill>
                  <a:srgbClr val="800080"/>
                </a:solidFill>
                <a:latin typeface="楷体_GB2312"/>
                <a:ea typeface="黑体"/>
              </a:rPr>
              <a:t>。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pull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866259687845416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43164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作者简介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059280" y="2133720"/>
            <a:ext cx="3241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吴承恩，明代小说家。字汝忠，号射阳山人，怀安山阳（江苏淮安）人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8" name="Picture 5" descr="QQ截图未命名"/>
          <p:cNvPicPr/>
          <p:nvPr/>
        </p:nvPicPr>
        <p:blipFill>
          <a:blip r:embed="rId2"/>
          <a:stretch/>
        </p:blipFill>
        <p:spPr>
          <a:xfrm>
            <a:off x="0" y="1197000"/>
            <a:ext cx="3276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2700360" y="1052640"/>
            <a:ext cx="2303280" cy="1054080"/>
            <a:chOff x="2700360" y="1052640"/>
            <a:chExt cx="2303280" cy="1054080"/>
          </a:xfrm>
        </p:grpSpPr>
        <p:sp>
          <p:nvSpPr>
            <p:cNvPr id="199" name="AutoShape 3"/>
            <p:cNvSpPr/>
            <p:nvPr/>
          </p:nvSpPr>
          <p:spPr>
            <a:xfrm>
              <a:off x="2820600" y="1052640"/>
              <a:ext cx="2181600" cy="1054080"/>
            </a:xfrm>
            <a:prstGeom prst="cloudCallout">
              <a:avLst>
                <a:gd name="adj1" fmla="val -61643"/>
                <a:gd name="adj2" fmla="val 130305"/>
              </a:avLst>
            </a:prstGeom>
            <a:solidFill>
              <a:srgbClr val="0000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800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200" name="Rectangle 4"/>
            <p:cNvSpPr/>
            <p:nvPr/>
          </p:nvSpPr>
          <p:spPr>
            <a:xfrm>
              <a:off x="2700360" y="1137600"/>
              <a:ext cx="230328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ff"/>
                  </a:solidFill>
                  <a:latin typeface="Times New Roman"/>
                  <a:ea typeface="黑体"/>
                </a:rPr>
                <a:t>①</a:t>
              </a:r>
              <a:r>
                <a:rPr b="0" lang="zh-CN" sz="3200" spc="-1" strike="noStrike">
                  <a:solidFill>
                    <a:srgbClr val="66ffff"/>
                  </a:solidFill>
                  <a:latin typeface="Times New Roman"/>
                  <a:ea typeface="黑体"/>
                </a:rPr>
                <a:t>出世</a:t>
              </a: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201" name="Rectangle 5"/>
          <p:cNvSpPr/>
          <p:nvPr/>
        </p:nvSpPr>
        <p:spPr>
          <a:xfrm>
            <a:off x="7308720" y="333360"/>
            <a:ext cx="12956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黑体"/>
              </a:rPr>
              <a:t>活泼可爱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黑体"/>
              </a:rPr>
              <a:t>敢作敢为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grpSp>
        <p:nvGrpSpPr>
          <p:cNvPr id="202" name="Group 6"/>
          <p:cNvGrpSpPr/>
          <p:nvPr/>
        </p:nvGrpSpPr>
        <p:grpSpPr>
          <a:xfrm>
            <a:off x="3635280" y="2349360"/>
            <a:ext cx="3095640" cy="1727280"/>
            <a:chOff x="3635280" y="2349360"/>
            <a:chExt cx="3095640" cy="1727280"/>
          </a:xfrm>
        </p:grpSpPr>
        <p:sp>
          <p:nvSpPr>
            <p:cNvPr id="203" name="AutoShape 7"/>
            <p:cNvSpPr/>
            <p:nvPr/>
          </p:nvSpPr>
          <p:spPr>
            <a:xfrm>
              <a:off x="3635280" y="2349360"/>
              <a:ext cx="3095640" cy="1727280"/>
            </a:xfrm>
            <a:prstGeom prst="irregularSeal2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800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3708360" y="2636640"/>
              <a:ext cx="261468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ff"/>
                  </a:solidFill>
                  <a:latin typeface="Times New Roman"/>
                  <a:ea typeface="华文行楷"/>
                </a:rPr>
                <a:t>②</a:t>
              </a:r>
              <a:r>
                <a:rPr b="0" lang="zh-CN" sz="3200" spc="-1" strike="noStrike">
                  <a:solidFill>
                    <a:srgbClr val="66ffff"/>
                  </a:solidFill>
                  <a:latin typeface="Times New Roman"/>
                  <a:ea typeface="黑体"/>
                </a:rPr>
                <a:t>探洞</a:t>
              </a: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3203640" y="4941720"/>
            <a:ext cx="2759040" cy="1484640"/>
            <a:chOff x="3203640" y="4941720"/>
            <a:chExt cx="2759040" cy="1484640"/>
          </a:xfrm>
        </p:grpSpPr>
        <p:sp>
          <p:nvSpPr>
            <p:cNvPr id="206" name="AutoShape 10"/>
            <p:cNvSpPr/>
            <p:nvPr/>
          </p:nvSpPr>
          <p:spPr>
            <a:xfrm flipV="1">
              <a:off x="3203640" y="4941720"/>
              <a:ext cx="2519280" cy="1484640"/>
            </a:xfrm>
            <a:prstGeom prst="cloudCallout">
              <a:avLst>
                <a:gd name="adj1" fmla="val -69597"/>
                <a:gd name="adj2" fmla="val 83754"/>
              </a:avLst>
            </a:prstGeom>
            <a:solidFill>
              <a:srgbClr val="0000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buClr>
                  <a:srgbClr val="800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3348000" y="5263920"/>
              <a:ext cx="261468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③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称王</a:t>
              </a: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208" name="WordArt 12"/>
          <p:cNvSpPr txBox="1"/>
          <p:nvPr/>
        </p:nvSpPr>
        <p:spPr>
          <a:xfrm>
            <a:off x="468360" y="2637000"/>
            <a:ext cx="216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方正舒体"/>
              </a:rPr>
              <a:t>猴王</a:t>
            </a:r>
            <a:endParaRPr b="1" lang="en-US" sz="3200" spc="1" strike="noStrike">
              <a:ln w="12600">
                <a:solidFill>
                  <a:srgbClr val="b2b2b2"/>
                </a:solidFill>
                <a:round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09" name="AutoShape 13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0" y="11592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黑体"/>
              </a:rPr>
              <a:t>课文是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黑体"/>
              </a:rPr>
              <a:t>顺序写的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黑体"/>
              </a:rPr>
              <a:t> 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1258920" y="44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黑体"/>
              </a:rPr>
              <a:t>事情发展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pull dir="ru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703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还知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西游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里一些有意思的故事，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___________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13" name="Picture 3" descr="1089307"/>
          <p:cNvPicPr/>
          <p:nvPr/>
        </p:nvPicPr>
        <p:blipFill>
          <a:blip r:embed="rId1"/>
          <a:stretch/>
        </p:blipFill>
        <p:spPr>
          <a:xfrm>
            <a:off x="539640" y="2133720"/>
            <a:ext cx="330228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6382192cabd6b617359bf798"/>
          <p:cNvPicPr/>
          <p:nvPr/>
        </p:nvPicPr>
        <p:blipFill>
          <a:blip r:embed="rId2"/>
          <a:stretch/>
        </p:blipFill>
        <p:spPr>
          <a:xfrm>
            <a:off x="4356000" y="2997360"/>
            <a:ext cx="4272120" cy="2884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  <a:ea typeface="黑体"/>
              </a:rPr>
              <a:t>大闹天宫、三打白骨精、火焰山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88920" y="5551560"/>
            <a:ext cx="98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更多免费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PPT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板尽在：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http://www.eeppt.com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20056121540159246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3006000" y="191448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一显身手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116000" y="3429000"/>
            <a:ext cx="741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拱伏无（  ）   各抒己（  ）   兴国（  ）邦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平（  ）近人  （  ）里如一    酸甜（  ）口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盛气（  ）人   千（  ）一发   身（  ）其境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221" name="Picture 7" descr="01"/>
          <p:cNvPicPr/>
          <p:nvPr/>
        </p:nvPicPr>
        <p:blipFill>
          <a:blip r:embed="rId3"/>
          <a:stretch/>
        </p:blipFill>
        <p:spPr>
          <a:xfrm>
            <a:off x="1900080" y="1989000"/>
            <a:ext cx="368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2010725141251277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"/>
          <p:cNvSpPr/>
          <p:nvPr/>
        </p:nvSpPr>
        <p:spPr>
          <a:xfrm>
            <a:off x="2843280" y="0"/>
            <a:ext cx="38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课外拓展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0" y="98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Adobe 楷体 Std R"/>
              </a:rPr>
              <a:t>开展语文活动，把自己从书中读到或电影和电视剧中看到的西游记故事，讲给大家听。课外积极地读西游记原著，准备在适当时候咱们举行一次讲西游记的故事比赛。 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25" name="AutoShape 5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blinds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47AA-5E3B-4C87-97F0-B333BA5BDF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00000" y="1052640"/>
            <a:ext cx="7704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我知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里的四个主要人物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</a:rPr>
              <a:t>   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0" name="Picture 3" descr="图片1u"/>
          <p:cNvPicPr/>
          <p:nvPr/>
        </p:nvPicPr>
        <p:blipFill>
          <a:blip r:embed="rId1"/>
          <a:stretch/>
        </p:blipFill>
        <p:spPr>
          <a:xfrm>
            <a:off x="179280" y="260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63e802fb9656d2b1f3089a6"/>
          <p:cNvPicPr/>
          <p:nvPr/>
        </p:nvPicPr>
        <p:blipFill>
          <a:blip r:embed="rId2"/>
          <a:stretch/>
        </p:blipFill>
        <p:spPr>
          <a:xfrm>
            <a:off x="-177840" y="2924280"/>
            <a:ext cx="2046240" cy="218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01300000167306121316239133011_s"/>
          <p:cNvPicPr/>
          <p:nvPr/>
        </p:nvPicPr>
        <p:blipFill>
          <a:blip r:embed="rId3"/>
          <a:stretch/>
        </p:blipFill>
        <p:spPr>
          <a:xfrm>
            <a:off x="1979640" y="2924280"/>
            <a:ext cx="223200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57e99945b7cc006d31b707c"/>
          <p:cNvPicPr/>
          <p:nvPr/>
        </p:nvPicPr>
        <p:blipFill>
          <a:blip r:embed="rId4"/>
          <a:stretch/>
        </p:blipFill>
        <p:spPr>
          <a:xfrm>
            <a:off x="4427640" y="2924280"/>
            <a:ext cx="2449440" cy="21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xin_1307050114381872583534"/>
          <p:cNvPicPr/>
          <p:nvPr/>
        </p:nvPicPr>
        <p:blipFill>
          <a:blip r:embed="rId5"/>
          <a:stretch/>
        </p:blipFill>
        <p:spPr>
          <a:xfrm>
            <a:off x="7020000" y="2924280"/>
            <a:ext cx="23032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5"/>
          <p:cNvSpPr/>
          <p:nvPr/>
        </p:nvSpPr>
        <p:spPr>
          <a:xfrm>
            <a:off x="1635120" y="14320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66" name="Picture 7" descr="20056312159279(2)"/>
          <p:cNvPicPr/>
          <p:nvPr/>
        </p:nvPicPr>
        <p:blipFill>
          <a:blip r:embed="rId1"/>
          <a:stretch/>
        </p:blipFill>
        <p:spPr>
          <a:xfrm>
            <a:off x="-609480" y="-176040"/>
            <a:ext cx="10150200" cy="7289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826920" y="20606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dobe 楷体 Std R"/>
                <a:ea typeface="Adobe 楷体 Std R"/>
              </a:rPr>
              <a:t>       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本课</a:t>
            </a:r>
            <a:r>
              <a:rPr b="0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猴王出世</a:t>
            </a:r>
            <a:r>
              <a:rPr b="0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节选自我国古典小说《西游记》第一回，作者是明代的吴承恩。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课文叙述了石猴成为猴王的一段经历。读课文，看看</a:t>
            </a:r>
            <a:r>
              <a:rPr b="1" lang="zh-CN" sz="3200" spc="-1" strike="noStrike">
                <a:solidFill>
                  <a:srgbClr val="800080"/>
                </a:solidFill>
                <a:latin typeface="Adobe 楷体 Std R"/>
                <a:ea typeface="Adobe 楷体 Std R"/>
              </a:rPr>
              <a:t>石猴是哪来的，又是怎样成为猴王的。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把不懂的地方画下来，跟同学、老师讨论。把你喜欢的语句多读几遍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.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68" name="横卷形 5"/>
          <p:cNvSpPr/>
          <p:nvPr/>
        </p:nvSpPr>
        <p:spPr>
          <a:xfrm>
            <a:off x="1143000" y="928800"/>
            <a:ext cx="2571840" cy="1033200"/>
          </a:xfrm>
          <a:prstGeom prst="horizontalScroll">
            <a:avLst>
              <a:gd name="adj" fmla="val 12500"/>
            </a:avLst>
          </a:prstGeom>
          <a:solidFill>
            <a:srgbClr val="fca2e4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dobe 楷体 Std R"/>
              </a:rPr>
              <a:t>阅读提示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51018195601909"/>
          <p:cNvPicPr/>
          <p:nvPr/>
        </p:nvPicPr>
        <p:blipFill>
          <a:blip r:embed="rId1"/>
          <a:stretch/>
        </p:blipFill>
        <p:spPr>
          <a:xfrm>
            <a:off x="360360" y="542880"/>
            <a:ext cx="8783640" cy="6315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0" y="2349360"/>
            <a:ext cx="831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</a:rPr>
              <a:t> 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从哪里来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石猴怎么成为猴王的？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811300115024155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05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340000" y="1474920"/>
            <a:ext cx="33829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认一认，读一读： </a:t>
            </a:r>
            <a:endParaRPr b="1" lang="en-US" sz="3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428840" y="2987640"/>
            <a:ext cx="1149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道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75" name="Picture 5" descr="03"/>
          <p:cNvPicPr/>
          <p:nvPr/>
        </p:nvPicPr>
        <p:blipFill>
          <a:blip r:embed="rId3"/>
          <a:stretch/>
        </p:blipFill>
        <p:spPr>
          <a:xfrm>
            <a:off x="1763640" y="1619280"/>
            <a:ext cx="480960" cy="720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403280" y="2482920"/>
            <a:ext cx="105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uì</a:t>
            </a: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500280" y="3059280"/>
            <a:ext cx="1070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獐</a:t>
            </a:r>
            <a:r>
              <a:rPr b="1" lang="zh-CN" sz="2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419640" y="2627280"/>
            <a:ext cx="1141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zhāng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000760" y="3059280"/>
            <a:ext cx="1357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猕猴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5075280" y="2556000"/>
            <a:ext cx="647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í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588000" y="2987640"/>
            <a:ext cx="1143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</a:rPr>
              <a:t>人猿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948360" y="2482920"/>
            <a:ext cx="1078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yuán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1714680" y="4344840"/>
            <a:ext cx="1285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皮</a:t>
            </a:r>
            <a:r>
              <a:rPr b="1" lang="zh-CN" sz="40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1714680" y="3987720"/>
            <a:ext cx="1008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wán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419640" y="4427640"/>
            <a:ext cx="1143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石窍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780000" y="399564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qiào</a:t>
            </a: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5219640" y="4282920"/>
            <a:ext cx="863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</a:rPr>
              <a:t>镌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5219640" y="406728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juān</a:t>
            </a:r>
            <a:r>
              <a:rPr b="1" lang="en-US" sz="26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72160" y="4416480"/>
            <a:ext cx="2000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抓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</a:rPr>
              <a:t>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腮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7380360" y="3995640"/>
            <a:ext cx="934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áo</a:t>
            </a:r>
            <a:r>
              <a:rPr b="1" lang="en-US" sz="3200" spc="-1" strike="noStrike">
                <a:solidFill>
                  <a:srgbClr val="80008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0051018195643398"/>
          <p:cNvPicPr/>
          <p:nvPr/>
        </p:nvPicPr>
        <p:blipFill>
          <a:blip r:embed="rId1"/>
          <a:stretch/>
        </p:blipFill>
        <p:spPr>
          <a:xfrm>
            <a:off x="-393840" y="-441360"/>
            <a:ext cx="10079280" cy="7299360"/>
          </a:xfrm>
          <a:prstGeom prst="rect">
            <a:avLst/>
          </a:prstGeom>
          <a:ln w="0">
            <a:noFill/>
          </a:ln>
        </p:spPr>
      </p:pic>
      <p:pic>
        <p:nvPicPr>
          <p:cNvPr id="92" name="命运.Wma" descr=""/>
          <p:cNvPicPr/>
          <p:nvPr/>
        </p:nvPicPr>
        <p:blipFill>
          <a:blip r:embed="rId2"/>
          <a:stretch/>
        </p:blipFill>
        <p:spPr>
          <a:xfrm>
            <a:off x="7740720" y="4797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1547640" y="1341360"/>
            <a:ext cx="7056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我会读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灵通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迸裂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避暑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楷书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造化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当家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顽劣    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天造地设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伸头缩颈</a:t>
            </a:r>
            <a:r>
              <a:rPr b="1" lang="en-US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</a:t>
            </a:r>
            <a:endParaRPr b="1" lang="en-US" sz="4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抓耳挠腮   明明朗朗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edge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4356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51018195643398"/>
          <p:cNvPicPr/>
          <p:nvPr/>
        </p:nvPicPr>
        <p:blipFill>
          <a:blip r:embed="rId1"/>
          <a:stretch/>
        </p:blipFill>
        <p:spPr>
          <a:xfrm>
            <a:off x="-177840" y="-128520"/>
            <a:ext cx="10006200" cy="7246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619280" y="2708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楷体_GB2312"/>
                <a:ea typeface="黑体"/>
              </a:rPr>
              <a:t>      </a:t>
            </a:r>
            <a:endParaRPr b="1" lang="en-US" sz="4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547640" y="1197000"/>
            <a:ext cx="72741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瞑目蹲身      伸头缩颈 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抓耳挠腮      喜不自胜 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日精月华      力倦神疲 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滚瓜涌溅      拖男挈女</a:t>
            </a:r>
            <a:endParaRPr b="1" lang="en-US" sz="44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97" name="命运.Wma" descr=""/>
          <p:cNvPicPr/>
          <p:nvPr/>
        </p:nvPicPr>
        <p:blipFill>
          <a:blip r:embed="rId2"/>
          <a:stretch/>
        </p:blipFill>
        <p:spPr>
          <a:xfrm>
            <a:off x="774072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4356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2:02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20Z</dcterms:modified>
  <cp:revision>9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