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2EA36-55D7-45D7-BBBC-AA8ECF50061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B62E9-54E1-4C4B-9B6F-CF1DA95458D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7879-58C9-47A6-B783-EB0219333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8AEF-8E90-4DF2-BF0F-4EADADDFC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673E-22B1-4484-B1E4-DB68D2DA9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D4AD-A023-42E9-9E28-62FCE73A3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F6DA-304E-4C02-94B6-E3B9C4A21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8269-7C1E-4A8B-8C78-B14FF43AA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E708-24D3-4500-8C54-7B8D9A495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B9E0-B603-49D9-BE97-042F1A561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4903-1354-40E5-974D-F2648F1D7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B143-D6DB-4E92-960C-0EAD2BF64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4182-05ED-4DEE-8B61-98262DBF1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C085-3821-4B42-BA11-7EEE48CA9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CD140-8A78-491B-B12C-866D613162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5"/>
          <p:cNvSpPr txBox="1"/>
          <p:nvPr/>
        </p:nvSpPr>
        <p:spPr>
          <a:xfrm>
            <a:off x="1873080" y="2409840"/>
            <a:ext cx="561672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c00000"/>
                </a:solidFill>
                <a:latin typeface="华文新魏"/>
              </a:rPr>
              <a:t>回味山梨</a:t>
            </a:r>
            <a:endParaRPr b="1" lang="en-US" sz="1800" spc="-1" strike="noStrike">
              <a:ln w="0">
                <a:noFill/>
              </a:ln>
              <a:solidFill>
                <a:srgbClr val="c00000"/>
              </a:solidFill>
              <a:latin typeface="华文新魏"/>
              <a:ea typeface="华文新魏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1854720" y="5805360"/>
            <a:ext cx="57218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  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创设情境"/>
          <p:cNvPicPr/>
          <p:nvPr/>
        </p:nvPicPr>
        <p:blipFill>
          <a:blip r:embed="rId1"/>
          <a:stretch/>
        </p:blipFill>
        <p:spPr>
          <a:xfrm>
            <a:off x="468360" y="404640"/>
            <a:ext cx="2158920" cy="592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yclyl_41530_%E5%B1%B1%E6%A2%A81"/>
          <p:cNvPicPr/>
          <p:nvPr/>
        </p:nvPicPr>
        <p:blipFill>
          <a:blip r:embed="rId2"/>
          <a:stretch/>
        </p:blipFill>
        <p:spPr>
          <a:xfrm>
            <a:off x="1692360" y="1413000"/>
            <a:ext cx="568944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1258920" y="105264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Arial"/>
                <a:ea typeface="楷体_GB2312"/>
              </a:rPr>
              <a:t>学习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684360" y="1916280"/>
            <a:ext cx="7920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．能正确、流利、有感情地朗读课文，理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课文内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2. </a:t>
            </a:r>
            <a:r>
              <a:rPr b="1" lang="zh-CN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联系课文内容，体会课文含义深刻的语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．了解山梨的特点，感受作者在字里行间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达的对家乡的热爱之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3669120" y="2997000"/>
            <a:ext cx="3893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故乡的山梨有什么特点？具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是怎样写的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复件 小女孩"/>
          <p:cNvPicPr/>
          <p:nvPr/>
        </p:nvPicPr>
        <p:blipFill>
          <a:blip r:embed="rId1"/>
          <a:stretch/>
        </p:blipFill>
        <p:spPr>
          <a:xfrm>
            <a:off x="684360" y="2205000"/>
            <a:ext cx="1966680" cy="32799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复件 初读感知"/>
          <p:cNvPicPr/>
          <p:nvPr/>
        </p:nvPicPr>
        <p:blipFill>
          <a:blip r:embed="rId2"/>
          <a:stretch/>
        </p:blipFill>
        <p:spPr>
          <a:xfrm>
            <a:off x="2843280" y="1844640"/>
            <a:ext cx="207972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2484360" y="2924280"/>
            <a:ext cx="5977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        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  <a:ea typeface="楷体_GB2312"/>
              </a:rPr>
              <a:t>作者仅仅是回味山梨的酸味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  <a:ea typeface="楷体_GB2312"/>
              </a:rPr>
              <a:t>结合课文内容说说你的理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复件 细读感悟"/>
          <p:cNvPicPr/>
          <p:nvPr/>
        </p:nvPicPr>
        <p:blipFill>
          <a:blip r:embed="rId1"/>
          <a:stretch/>
        </p:blipFill>
        <p:spPr>
          <a:xfrm>
            <a:off x="2195640" y="1557360"/>
            <a:ext cx="1944720" cy="520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复件 小女孩"/>
          <p:cNvPicPr/>
          <p:nvPr/>
        </p:nvPicPr>
        <p:blipFill>
          <a:blip r:embed="rId2"/>
          <a:stretch/>
        </p:blipFill>
        <p:spPr>
          <a:xfrm>
            <a:off x="468360" y="2276640"/>
            <a:ext cx="1967040" cy="32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7"/>
          <p:cNvSpPr/>
          <p:nvPr/>
        </p:nvSpPr>
        <p:spPr>
          <a:xfrm>
            <a:off x="1004760" y="2708280"/>
            <a:ext cx="733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3906720" y="306792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你也有过课文中的感受吗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复件 小女孩"/>
          <p:cNvPicPr/>
          <p:nvPr/>
        </p:nvPicPr>
        <p:blipFill>
          <a:blip r:embed="rId1"/>
          <a:stretch/>
        </p:blipFill>
        <p:spPr>
          <a:xfrm>
            <a:off x="755640" y="2421000"/>
            <a:ext cx="1967040" cy="3279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复件 拓展学习"/>
          <p:cNvPicPr/>
          <p:nvPr/>
        </p:nvPicPr>
        <p:blipFill>
          <a:blip r:embed="rId2"/>
          <a:stretch/>
        </p:blipFill>
        <p:spPr>
          <a:xfrm>
            <a:off x="2340000" y="1413000"/>
            <a:ext cx="216072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4"/>
          <p:cNvSpPr/>
          <p:nvPr/>
        </p:nvSpPr>
        <p:spPr>
          <a:xfrm>
            <a:off x="1938240" y="1916640"/>
            <a:ext cx="4319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回味山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山梨      留恋故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                </a:t>
            </a:r>
            <a:r>
              <a:rPr b="1" lang="zh-CN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外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不能忘怀      肉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                 </a:t>
            </a:r>
            <a:r>
              <a:rPr b="1" lang="zh-CN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味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爱         更爱故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复件 拓展学习"/>
          <p:cNvPicPr/>
          <p:nvPr/>
        </p:nvPicPr>
        <p:blipFill>
          <a:blip r:embed="rId1"/>
          <a:stretch/>
        </p:blipFill>
        <p:spPr>
          <a:xfrm>
            <a:off x="1258920" y="1052640"/>
            <a:ext cx="2160720" cy="533160"/>
          </a:xfrm>
          <a:prstGeom prst="rect">
            <a:avLst/>
          </a:prstGeom>
          <a:ln w="0">
            <a:noFill/>
          </a:ln>
        </p:spPr>
      </p:pic>
      <p:sp>
        <p:nvSpPr>
          <p:cNvPr id="66" name="文本框 1"/>
          <p:cNvSpPr/>
          <p:nvPr/>
        </p:nvSpPr>
        <p:spPr>
          <a:xfrm>
            <a:off x="2259000" y="5557680"/>
            <a:ext cx="528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复件 拓展学习"/>
          <p:cNvPicPr/>
          <p:nvPr/>
        </p:nvPicPr>
        <p:blipFill>
          <a:blip r:embed="rId1"/>
          <a:stretch/>
        </p:blipFill>
        <p:spPr>
          <a:xfrm>
            <a:off x="1332000" y="981000"/>
            <a:ext cx="2160360" cy="5335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2195640" y="191628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Arial"/>
                <a:ea typeface="楷体_GB2312"/>
              </a:rPr>
              <a:t>作业布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2195640" y="3141720"/>
            <a:ext cx="40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  <a:ea typeface="楷体_GB2312"/>
              </a:rPr>
              <a:t>抄写本课生字、新词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D7382-1C07-470D-835B-543F267AEF8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8T09:43:44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41:05Z</dcterms:modified>
  <cp:revision>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