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21.jpeg" ContentType="image/jpeg"/>
  <Override PartName="/ppt/media/chimes.wav" ContentType="audio/x-wav"/>
  <Override PartName="/ppt/media/image17.gif" ContentType="image/gif"/>
  <Override PartName="/ppt/media/image2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9.jpeg" ContentType="image/jpeg"/>
  <Override PartName="/ppt/media/image1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15.gif" ContentType="image/gif"/>
  <Override PartName="/ppt/media/image36.png" ContentType="image/png"/>
  <Override PartName="/ppt/media/image43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20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hammer.wav" ContentType="audio/x-wav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F5C8-1127-4EA1-AB70-C9310C9C6A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3F51-EAE6-4093-8383-097686F0BF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249-6848-48AB-A320-4C612AB2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C4B-99A4-45FB-A4DC-69C12668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650-4B78-4C8C-908A-A3918B15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06D-F3A3-43CC-8BA2-3FCDE92E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658-857A-49F5-8BEA-490F9338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551-4075-4C40-9D97-A5F473DA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10E-2F54-456F-93EF-F000BE8D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EF5-142A-4820-8EF0-8B068089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CFE-934C-474A-AB8B-CD8100C1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3CD-47B6-47EA-9C40-9E66BE30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225-BEA2-466F-9581-7DB4BB1A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9AA-3377-4776-9195-3B0D6D34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A283-6F6D-4348-9F8A-089F76B16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cn.alibaba.com/athena/sampledetail/yurunncp-10307509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60522091449499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438560" y="1341360"/>
            <a:ext cx="6325200" cy="1557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* </a:t>
            </a: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槐乡的孩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477440" y="5732640"/>
            <a:ext cx="6248160" cy="5630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b_A8ECE86E7C6BAEE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50920" y="189000"/>
            <a:ext cx="103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āo     rǎn     d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ā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花苞　染料　耷拉　塞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ì       lǚ   chuī  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à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觅食　缕缕炊烟　   飘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矩形 6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6602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logo63323965112297125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1190880" y="520200"/>
            <a:ext cx="6136920" cy="421236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槐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  花</a:t>
            </a:r>
            <a:r>
              <a:rPr b="0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苞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耷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   染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黎明  </a:t>
            </a:r>
            <a:r>
              <a:rPr b="0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槐米  觅食   </a:t>
            </a:r>
            <a:r>
              <a:rPr b="0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塞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般    磨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簇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风飘动     惹人注意  入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缕</a:t>
            </a:r>
            <a:r>
              <a:rPr b="0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缕炊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  满载而归 月落柳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643480" y="5084640"/>
            <a:ext cx="35334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了花苞   米粒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2005070216052441"/>
          <p:cNvPicPr/>
          <p:nvPr/>
        </p:nvPicPr>
        <p:blipFill>
          <a:blip r:embed="rId1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"/>
          <p:cNvSpPr/>
          <p:nvPr/>
        </p:nvSpPr>
        <p:spPr>
          <a:xfrm>
            <a:off x="1979640" y="4365720"/>
            <a:ext cx="5832360" cy="1511280"/>
          </a:xfrm>
          <a:prstGeom prst="cloudCallout">
            <a:avLst>
              <a:gd name="adj1" fmla="val -49291"/>
              <a:gd name="adj2" fmla="val 8151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这是什么意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84360" y="814320"/>
            <a:ext cx="2232000" cy="3263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4140360" y="333360"/>
            <a:ext cx="2952720" cy="1236600"/>
            <a:chOff x="4140360" y="333360"/>
            <a:chExt cx="2952720" cy="1236600"/>
          </a:xfrm>
        </p:grpSpPr>
        <p:pic>
          <p:nvPicPr>
            <p:cNvPr id="79" name="Picture 5" descr="3"/>
            <p:cNvPicPr/>
            <p:nvPr/>
          </p:nvPicPr>
          <p:blipFill>
            <a:blip r:embed="rId2"/>
            <a:stretch/>
          </p:blipFill>
          <p:spPr>
            <a:xfrm>
              <a:off x="4140360" y="333360"/>
              <a:ext cx="10810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6"/>
            <p:cNvSpPr/>
            <p:nvPr/>
          </p:nvSpPr>
          <p:spPr>
            <a:xfrm>
              <a:off x="5364360" y="692280"/>
              <a:ext cx="17287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66ff"/>
                  </a:solidFill>
                  <a:latin typeface="Times New Roman"/>
                  <a:ea typeface="华文琥珀"/>
                </a:rPr>
                <a:t>我来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7"/>
          <p:cNvSpPr/>
          <p:nvPr/>
        </p:nvSpPr>
        <p:spPr>
          <a:xfrm>
            <a:off x="3311640" y="1773360"/>
            <a:ext cx="5832360" cy="1511280"/>
          </a:xfrm>
          <a:prstGeom prst="cloudCallout">
            <a:avLst>
              <a:gd name="adj1" fmla="val -49291"/>
              <a:gd name="adj2" fmla="val 8151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这种符号表示是略读课文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020848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0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62880" y="-243000"/>
            <a:ext cx="1581120" cy="15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187280" y="1303200"/>
          <a:ext cx="7620120" cy="365904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精读课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略读课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没有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没有导读提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导读提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课文后面有思考练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课文后面没有思考练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2000">
    <p:newsflash/>
    <p:sndAc>
      <p:stSnd>
        <p:snd r:embed="rId3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020848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0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01080" y="476280"/>
            <a:ext cx="1581120" cy="1581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900000" y="765000"/>
            <a:ext cx="7775640" cy="2168640"/>
          </a:xfrm>
          <a:prstGeom prst="rect">
            <a:avLst/>
          </a:prstGeom>
          <a:solidFill>
            <a:srgbClr val="a7c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略读课文学习方法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先读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导读提示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幼圆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，了解学习要求，然后自己去略读、思考、质疑、发表见解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newsflash/>
    <p:sndAc>
      <p:stSnd>
        <p:snd r:embed="rId3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971640" y="1409760"/>
            <a:ext cx="75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让我们一起走进槐乡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了解一下槐乡的孩子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005070216052441"/>
          <p:cNvPicPr/>
          <p:nvPr/>
        </p:nvPicPr>
        <p:blipFill>
          <a:blip r:embed="rId1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250920" y="33336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槐乡的孩子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从小就和槐树结成了伴。槐乡的孩子离不开槐树，就像海边的娃娃离不开大海，山里的孩子离不开石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槐树"/>
          <p:cNvPicPr/>
          <p:nvPr/>
        </p:nvPicPr>
        <p:blipFill>
          <a:blip r:embed="rId2"/>
          <a:stretch/>
        </p:blipFill>
        <p:spPr>
          <a:xfrm>
            <a:off x="4186080" y="0"/>
            <a:ext cx="4957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2005070216052441"/>
          <p:cNvPicPr/>
          <p:nvPr/>
        </p:nvPicPr>
        <p:blipFill>
          <a:blip r:embed="rId1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108000" y="260280"/>
            <a:ext cx="399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槐乡的孩子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ff3399"/>
                </a:solidFill>
                <a:uFillTx/>
                <a:latin typeface="Times New Roman"/>
              </a:rPr>
              <a:t>从小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就和槐树结成了伴。槐乡的孩子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离不开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槐树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就像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海边的娃娃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离不开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大海，山里的孩子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离不开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石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槐树"/>
          <p:cNvPicPr/>
          <p:nvPr/>
        </p:nvPicPr>
        <p:blipFill>
          <a:blip r:embed="rId2"/>
          <a:stretch/>
        </p:blipFill>
        <p:spPr>
          <a:xfrm>
            <a:off x="4186080" y="0"/>
            <a:ext cx="4957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12720" y="981000"/>
            <a:ext cx="54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槐乡的孩子"/>
          <p:cNvPicPr/>
          <p:nvPr/>
        </p:nvPicPr>
        <p:blipFill>
          <a:blip r:embed="rId1"/>
          <a:stretch/>
        </p:blipFill>
        <p:spPr>
          <a:xfrm>
            <a:off x="6972480" y="0"/>
            <a:ext cx="21715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187280" y="90792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63400" y="112536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交流：槐乡的孩子有什么样的快乐？找到相关的句子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槐乡的孩子"/>
          <p:cNvPicPr/>
          <p:nvPr/>
        </p:nvPicPr>
        <p:blipFill>
          <a:blip r:embed="rId1"/>
          <a:stretch/>
        </p:blipFill>
        <p:spPr>
          <a:xfrm>
            <a:off x="6972480" y="0"/>
            <a:ext cx="21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179280" y="1871640"/>
            <a:ext cx="835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槐乡的孩子是         的孩子。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4524480" y="2611440"/>
            <a:ext cx="1582560" cy="0"/>
          </a:xfrm>
          <a:prstGeom prst="line">
            <a:avLst/>
          </a:prstGeom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2005070216052441"/>
          <p:cNvPicPr/>
          <p:nvPr/>
        </p:nvPicPr>
        <p:blipFill>
          <a:blip r:embed="rId1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5076720" y="232164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槐树，落叶乔木，叶子羽状，花淡黄色，结荚果，圆筒形。花和果实可以制黄色染料。花、果实以及根上的皮都可以入中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00bcdb95f170953006130"/>
          <p:cNvPicPr/>
          <p:nvPr/>
        </p:nvPicPr>
        <p:blipFill>
          <a:blip r:embed="rId2"/>
          <a:stretch/>
        </p:blipFill>
        <p:spPr>
          <a:xfrm>
            <a:off x="0" y="1440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1"/>
          <p:cNvSpPr/>
          <p:nvPr/>
        </p:nvSpPr>
        <p:spPr>
          <a:xfrm>
            <a:off x="1327320" y="58770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4000" y="162864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课文中的哪些地方写到了槐乡孩子的勤劳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槐乡的孩子"/>
          <p:cNvPicPr/>
          <p:nvPr/>
        </p:nvPicPr>
        <p:blipFill>
          <a:blip r:embed="rId1"/>
          <a:stretch/>
        </p:blipFill>
        <p:spPr>
          <a:xfrm>
            <a:off x="6972480" y="0"/>
            <a:ext cx="21715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932120" y="309600"/>
            <a:ext cx="540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勤劳的槐乡孩子是不向爸爸妈妈伸手要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他们上学的钱是用槐米换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927440" y="1550880"/>
            <a:ext cx="540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槐乡的孩子是不怕热，他们背着水葫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带着干粮，没等云雀开口歌唱黎明，就已经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小山上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867840" y="3303720"/>
            <a:ext cx="131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男孩常常是爬到树上，用长长的钩刀一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又一下地削着槐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239200" y="449568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簇簇槐米落下来了。女孩有的弯腰捡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条辫子像蜻蜓的翅膀，上下飞舞着；有的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篮里塞着槐米，头一点一点的像觅食的小鸭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1180800"/>
          </a:xfrm>
          <a:prstGeom prst="rect">
            <a:avLst/>
          </a:prstGeom>
          <a:solidFill>
            <a:srgbClr val="ffff00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勤劳的槐乡孩子不向爸爸妈妈伸手要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，他们上学的钱是用槐米换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9640" y="4581360"/>
            <a:ext cx="4032360" cy="1068840"/>
          </a:xfrm>
          <a:prstGeom prst="rect">
            <a:avLst/>
          </a:prstGeom>
          <a:solidFill>
            <a:srgbClr val="bbe0e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你读懂了什么？想对他们说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2411280" y="2349360"/>
            <a:ext cx="6732720" cy="1760760"/>
          </a:xfrm>
          <a:prstGeom prst="wedgeRoundRectCallout">
            <a:avLst>
              <a:gd name="adj1" fmla="val -47666"/>
              <a:gd name="adj2" fmla="val -7245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槐乡的孩子真勤劳啊！用自己的劳动来赚钱，不让爸爸妈妈操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2058840"/>
            <a:ext cx="6553080" cy="26654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八月，天多热。鸡热得耷拉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翅膀，狗热得吐出舌头，蝉热得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知如何是好，在树上不停地叫着“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，知了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4211640" y="2638440"/>
            <a:ext cx="142920" cy="1429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1692360" y="3213000"/>
            <a:ext cx="142920" cy="1429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4932360" y="3213000"/>
            <a:ext cx="142920" cy="1429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446800" y="1774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5050"/>
                </a:solidFill>
                <a:latin typeface="Arial"/>
              </a:rPr>
              <a:t>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854440" y="24224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5050"/>
                </a:solidFill>
                <a:latin typeface="Arial"/>
              </a:rPr>
              <a:t>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826920" y="256536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050"/>
                </a:solidFill>
                <a:latin typeface="Arial"/>
              </a:rPr>
              <a:t>﹏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140360" y="2492280"/>
            <a:ext cx="182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050"/>
                </a:solidFill>
                <a:latin typeface="Arial"/>
              </a:rPr>
              <a:t>﹏</a:t>
            </a:r>
            <a:r>
              <a:rPr b="0" lang="en-US" sz="6000" spc="-1" strike="noStrike">
                <a:solidFill>
                  <a:srgbClr val="ff505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50920" y="4869000"/>
            <a:ext cx="3671640" cy="9471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写了什么？它们怎样？说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619200"/>
            <a:ext cx="6553440" cy="26654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八月，天多热。鸡热得耷拉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翅膀，狗热得吐出舌头，蝉热得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知如何是好，在树上不停地叫着“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，知了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4140360" y="1198440"/>
            <a:ext cx="142560" cy="1429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1620720" y="1773360"/>
            <a:ext cx="142920" cy="1429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4861080" y="1773360"/>
            <a:ext cx="142560" cy="1429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375520" y="334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5050"/>
                </a:solidFill>
                <a:latin typeface="Arial"/>
              </a:rPr>
              <a:t>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783160" y="982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5050"/>
                </a:solidFill>
                <a:latin typeface="Arial"/>
              </a:rPr>
              <a:t>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55640" y="112536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050"/>
                </a:solidFill>
                <a:latin typeface="Arial"/>
              </a:rPr>
              <a:t>﹏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4068720" y="1052640"/>
            <a:ext cx="182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050"/>
                </a:solidFill>
                <a:latin typeface="Arial"/>
              </a:rPr>
              <a:t>﹏</a:t>
            </a:r>
            <a:r>
              <a:rPr b="0" lang="en-US" sz="6000" spc="-1" strike="noStrike">
                <a:solidFill>
                  <a:srgbClr val="ff505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24000" y="3979800"/>
            <a:ext cx="6769080" cy="5814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鸡、狗、蝉来体现天气热，感受到槐乡孩子并不是真不怕热，而是勤劳带给它们快乐，把热都给忘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槐乡的孩子可不怕热，他们背着水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芦，带着干粮，没等云雀开口歌唱黎明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已经爬到小山上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804000" y="981000"/>
            <a:ext cx="144360" cy="144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1187280" y="1700280"/>
            <a:ext cx="144720" cy="144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7236000" y="981000"/>
            <a:ext cx="144360" cy="144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1619280" y="1700280"/>
            <a:ext cx="144360" cy="144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7"/>
          <p:cNvSpPr/>
          <p:nvPr/>
        </p:nvSpPr>
        <p:spPr>
          <a:xfrm>
            <a:off x="1187280" y="2349360"/>
            <a:ext cx="144720" cy="1447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395280" y="5877000"/>
            <a:ext cx="5400720" cy="5814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你觉得槐乡的孩子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4211640" y="234936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读读，画出表示动作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6609240" y="3645000"/>
            <a:ext cx="16426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他们真是又勤劳又爱劳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276720" y="1700280"/>
            <a:ext cx="4608360" cy="0"/>
          </a:xfrm>
          <a:prstGeom prst="line">
            <a:avLst/>
          </a:prstGeom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0" y="3645000"/>
            <a:ext cx="5689440" cy="1584360"/>
          </a:xfrm>
          <a:prstGeom prst="wedgeRoundRectCallout">
            <a:avLst>
              <a:gd name="adj1" fmla="val -48662"/>
              <a:gd name="adj2" fmla="val -51000"/>
              <a:gd name="adj3" fmla="val 16667"/>
            </a:avLst>
          </a:prstGeom>
          <a:solidFill>
            <a:srgbClr val="fdfda1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从这里我读懂了时间还很早，可槐乡的孩子已经出来劳动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254760" y="2924280"/>
            <a:ext cx="4548600" cy="459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云雀都没有开口歌唱黎明”，从这里你懂得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6697800" cy="3313080"/>
          </a:xfrm>
          <a:prstGeom prst="rect">
            <a:avLst/>
          </a:prstGeom>
          <a:solidFill>
            <a:srgbClr val="ccec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孩常常是爬到树上，用长长的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刀一下又一下地削着槐米。一簇簇槐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落下来了。女孩有的弯腰捡着，两条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像蜻蜓的翅膀，上下飞舞着；有的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蓝里塞着槐米，头一点一点的，像觅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小鸭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2050920" y="1844640"/>
            <a:ext cx="4321440" cy="0"/>
          </a:xfrm>
          <a:prstGeom prst="line">
            <a:avLst/>
          </a:prstGeom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250920" y="2349360"/>
            <a:ext cx="6049800" cy="0"/>
          </a:xfrm>
          <a:prstGeom prst="line">
            <a:avLst/>
          </a:prstGeom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24000" y="2851200"/>
            <a:ext cx="5903640" cy="1440"/>
          </a:xfrm>
          <a:prstGeom prst="line">
            <a:avLst/>
          </a:prstGeom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250920" y="3355920"/>
            <a:ext cx="1830240" cy="1800"/>
          </a:xfrm>
          <a:prstGeom prst="line">
            <a:avLst/>
          </a:prstGeom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95280" y="4941720"/>
            <a:ext cx="4681440" cy="459720"/>
          </a:xfrm>
          <a:prstGeom prst="rect">
            <a:avLst/>
          </a:prstGeom>
          <a:solidFill>
            <a:srgbClr val="bbe0e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这是什么句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把什么比作什么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50920" y="3789360"/>
            <a:ext cx="6049800" cy="520560"/>
          </a:xfrm>
          <a:prstGeom prst="rect">
            <a:avLst/>
          </a:prstGeom>
          <a:solidFill>
            <a:srgbClr val="bbe0e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他们是怎么样割槐花的？请画出有关的句子读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390240"/>
            <a:ext cx="8229600" cy="2592360"/>
          </a:xfrm>
          <a:prstGeom prst="rect">
            <a:avLst/>
          </a:prstGeom>
          <a:solidFill>
            <a:srgbClr val="ccec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八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槐树打了花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花苞米粒般大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散发着淡淡的清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仔细闻是闻不到的。小槐米藏在槐树丛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轻地随风飘动。它们一点儿也不惹人注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却是槐乡孩子的宝贝。槐米，可以入药，还能做染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2698920" y="893880"/>
            <a:ext cx="5832360" cy="0"/>
          </a:xfrm>
          <a:prstGeom prst="line">
            <a:avLst/>
          </a:prstGeom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898560" y="1398600"/>
            <a:ext cx="7058160" cy="0"/>
          </a:xfrm>
          <a:prstGeom prst="line">
            <a:avLst/>
          </a:prstGeom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971640" y="1901880"/>
            <a:ext cx="6551640" cy="0"/>
          </a:xfrm>
          <a:prstGeom prst="line">
            <a:avLst/>
          </a:prstGeom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564000" y="24782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﹏﹏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6012000" y="240660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﹏﹏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503280" y="4076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槐树什么时候开花？那花苞什么样的？文中又把槐花叫什么？槐米有什么用处？请画出有关句子读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WordArt 15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22129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9" descr="1302362216.jpg"/>
          <p:cNvPicPr/>
          <p:nvPr/>
        </p:nvPicPr>
        <p:blipFill>
          <a:blip r:embed="rId1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227640" y="0"/>
            <a:ext cx="29163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八月，槐树打了花苞，那花苞米粒般大小，散发着淡淡的清香，不仔细闻是闻不到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145614842125698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5975280" y="404640"/>
            <a:ext cx="316872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槐米藏在槐树丛中，轻轻地随风飘动。他们一点也不引人注意，却是槐乡孩子的宝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4G45KF6E4ED39572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658800" y="333360"/>
            <a:ext cx="14000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槐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0" y="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槐米是槐树的花蕾，称“槐花”或“槐米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槐米"/>
          <p:cNvPicPr/>
          <p:nvPr/>
        </p:nvPicPr>
        <p:blipFill>
          <a:blip r:embed="rId1"/>
          <a:stretch/>
        </p:blipFill>
        <p:spPr>
          <a:xfrm>
            <a:off x="0" y="1828800"/>
            <a:ext cx="5029200" cy="5029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10307509"/>
          <p:cNvPicPr/>
          <p:nvPr/>
        </p:nvPicPr>
        <p:blipFill>
          <a:blip r:embed="rId2"/>
          <a:stretch/>
        </p:blipFill>
        <p:spPr>
          <a:xfrm>
            <a:off x="4284720" y="69228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槐米2"/>
          <p:cNvPicPr/>
          <p:nvPr/>
        </p:nvPicPr>
        <p:blipFill>
          <a:blip r:embed="rId3"/>
          <a:stretch/>
        </p:blipFill>
        <p:spPr>
          <a:xfrm>
            <a:off x="5060880" y="3284640"/>
            <a:ext cx="40831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7" descr="2097551526449475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8" descr="20090420_01415f2a57a248a789f0t60YmLSTN3u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4"/>
          <p:cNvPicPr/>
          <p:nvPr/>
        </p:nvPicPr>
        <p:blipFill>
          <a:blip r:embed="rId1"/>
          <a:stretch/>
        </p:blipFill>
        <p:spPr>
          <a:xfrm>
            <a:off x="0" y="-414360"/>
            <a:ext cx="9325080" cy="7272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1915920"/>
            <a:ext cx="9325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当缕缕炊烟从村中升起的时候，孩子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满载而归，田野里飘荡着他们快乐的歌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14836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你又想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003640" y="450864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没有劳动就没有收获 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_A8ECE86E7C6BAEE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95280" y="1989000"/>
            <a:ext cx="835344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槐乡孩子的篮子里满载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满载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满载着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788000" cy="5400720"/>
          </a:xfrm>
          <a:prstGeom prst="rect">
            <a:avLst/>
          </a:prstGeom>
          <a:solidFill>
            <a:srgbClr val="ccecff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落柳梢，劳累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的孩子们带着甜蜜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微笑进入梦乡。孩子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小床下放着磨好的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钩刀、蓝子。明天，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是晴天，孩子们又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投入到火热的劳动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51280" y="4724280"/>
            <a:ext cx="398520" cy="1540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327640" y="1197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又”字说明什么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b_A8ECE86E7C6BAEE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258920" y="148428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0920" y="1989000"/>
            <a:ext cx="875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落柳梢，劳累了一天的孩子们带着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甜蜜的微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入梦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68360" y="40766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他们在梦里梦见了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　　　　　　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5832360" cy="1513080"/>
          </a:xfrm>
          <a:prstGeom prst="rect">
            <a:avLst/>
          </a:prstGeom>
          <a:solidFill>
            <a:srgbClr val="ccecff">
              <a:alpha val="90000"/>
            </a:srgbClr>
          </a:solidFill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读了课文，我们认识了槐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认识了槐乡的孩子，那么你有些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么感受呢？请小组讨论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427640" y="2708280"/>
            <a:ext cx="4535280" cy="459720"/>
          </a:xfrm>
          <a:prstGeom prst="rect">
            <a:avLst/>
          </a:prstGeom>
          <a:solidFill>
            <a:srgbClr val="cce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劳动就没有收获，没有劳动就不能享受，同学们，让我们也像槐乡的孩子一样热爱劳动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_A8ECE86E7C6BAEE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95280" y="14842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劳动是快乐与幸福的源泉，只有付出艰辛地劳动，才能得到丰厚的回报。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尹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同学们，让我们也像槐乡的孩子一样去品尝劳动的快乐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6" descr="1056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矩形 7" descr=""/>
          <p:cNvPicPr/>
          <p:nvPr/>
        </p:nvPicPr>
        <p:blipFill>
          <a:blip r:embed="rId2"/>
          <a:stretch/>
        </p:blipFill>
        <p:spPr>
          <a:xfrm>
            <a:off x="611280" y="1206360"/>
            <a:ext cx="81072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598e009f308e52e6b60fb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234440" y="549360"/>
            <a:ext cx="1826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槐树果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2" descr="001cf00f02530ef0ef62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矩形 6" descr=""/>
          <p:cNvPicPr/>
          <p:nvPr/>
        </p:nvPicPr>
        <p:blipFill>
          <a:blip r:embed="rId2"/>
          <a:stretch/>
        </p:blipFill>
        <p:spPr>
          <a:xfrm>
            <a:off x="6192720" y="49320"/>
            <a:ext cx="3011760" cy="116352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" descr="2012033010044318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矩形 7" descr=""/>
          <p:cNvPicPr/>
          <p:nvPr/>
        </p:nvPicPr>
        <p:blipFill>
          <a:blip r:embed="rId4"/>
          <a:stretch/>
        </p:blipFill>
        <p:spPr>
          <a:xfrm>
            <a:off x="4522680" y="487440"/>
            <a:ext cx="3640320" cy="19573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" descr="2010050413305868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矩形 8" descr=""/>
          <p:cNvPicPr/>
          <p:nvPr/>
        </p:nvPicPr>
        <p:blipFill>
          <a:blip r:embed="rId6"/>
          <a:stretch/>
        </p:blipFill>
        <p:spPr>
          <a:xfrm>
            <a:off x="-281160" y="19080"/>
            <a:ext cx="4329360" cy="28702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5" descr="18285279qu2ak2e6ekfh6a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矩形 9" descr=""/>
          <p:cNvPicPr/>
          <p:nvPr/>
        </p:nvPicPr>
        <p:blipFill>
          <a:blip r:embed="rId8"/>
          <a:stretch/>
        </p:blipFill>
        <p:spPr>
          <a:xfrm>
            <a:off x="4359240" y="-195120"/>
            <a:ext cx="51753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8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395280" y="404640"/>
            <a:ext cx="41767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槐米染料：以槐树含苞欲放的花，即槐米为原料，利用生物技术提取而成的天然着色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用途：天然黄色染料，用于纺织品的染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槐米"/>
          <p:cNvPicPr/>
          <p:nvPr/>
        </p:nvPicPr>
        <p:blipFill>
          <a:blip r:embed="rId1"/>
          <a:stretch/>
        </p:blipFill>
        <p:spPr>
          <a:xfrm>
            <a:off x="4827600" y="333360"/>
            <a:ext cx="431640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槐花11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槐花糕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7047360" y="15238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cc33"/>
                </a:solidFill>
                <a:latin typeface="Times New Roman"/>
              </a:rPr>
              <a:t>槐花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75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75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75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75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槐花小晶蛋"/>
          <p:cNvPicPr/>
          <p:nvPr/>
        </p:nvPicPr>
        <p:blipFill>
          <a:blip r:embed="rId1"/>
          <a:srcRect l="0" t="0" r="-196" b="0"/>
          <a:stretch/>
        </p:blipFill>
        <p:spPr>
          <a:xfrm>
            <a:off x="2700360" y="765000"/>
            <a:ext cx="5178240" cy="5400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046160" y="547200"/>
            <a:ext cx="1003320" cy="47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cc33"/>
                </a:solidFill>
                <a:latin typeface="Times New Roman"/>
              </a:rPr>
              <a:t>槐花小晶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2005070216052441"/>
          <p:cNvPicPr/>
          <p:nvPr/>
        </p:nvPicPr>
        <p:blipFill>
          <a:blip r:embed="rId1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2233440" y="440640"/>
            <a:ext cx="4764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片槐树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中国台湾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纪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是全世界最美的一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珍奇，最宝贵的一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又是最使人伤心，最使人流泪的一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薄薄的，干的，浅灰黄色的槐树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忘了是在江南，江北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在哪一个城市，哪一个园子里捡来的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夹在一册古老的诗集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年来，竟没有些微的损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蝉翼般轻轻滑落的槐树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看时，还沾着些故国的泥土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国呦，要到何年何月何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能让我再回到你的怀抱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享受一个世界上最愉快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飘着淡淡的槐花香的季节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0225-96BF-43C4-85AA-57F91E32F8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"/>
          <p:cNvSpPr/>
          <p:nvPr/>
        </p:nvSpPr>
        <p:spPr>
          <a:xfrm>
            <a:off x="3276720" y="2421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1175854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99864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槐树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62_1"/>
          <p:cNvPicPr/>
          <p:nvPr/>
        </p:nvPicPr>
        <p:blipFill>
          <a:blip r:embed="rId1"/>
          <a:stretch/>
        </p:blipFill>
        <p:spPr>
          <a:xfrm>
            <a:off x="611280" y="0"/>
            <a:ext cx="2903400" cy="4653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754000" y="541656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槐米：槐树的花蕾称“槐花”或“槐米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03075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83664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050918035036311"/>
          <p:cNvPicPr/>
          <p:nvPr/>
        </p:nvPicPr>
        <p:blipFill>
          <a:blip r:embed="rId1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3"/>
          <p:cNvSpPr/>
          <p:nvPr/>
        </p:nvSpPr>
        <p:spPr>
          <a:xfrm>
            <a:off x="3851280" y="836640"/>
            <a:ext cx="5292720" cy="3456000"/>
          </a:xfrm>
          <a:prstGeom prst="cloudCallout">
            <a:avLst>
              <a:gd name="adj1" fmla="val -58546"/>
              <a:gd name="adj2" fmla="val 5950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叫槐花，人们又常称我为“槐米”。我的花和果实可以入药，还可以做染料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007051711253854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43368755069a0ef88475ecfec5ad309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7:50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2:03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