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AA08-D587-4A9D-88F6-8DB2443E44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F7AA-7F6F-4682-9057-57C6DA8971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591-1A5D-4AB2-894C-23434F87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E9F-1CDA-4563-8119-617EE2B8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C2E-B6C3-4142-AB32-5277CDA9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71C-3973-4BBF-8D87-256E0E00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80A-AEE1-4D97-9580-A1F1467F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3ED-FE91-41B7-80F1-DA51AB08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146-DFE4-48B6-8BF1-4ADBE182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2C0-D3EB-4AEB-87E7-123DC778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A10-A0F0-496E-9C1F-BC085E57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820-3759-403C-A8ED-DF54BD4B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E5E-E305-4F22-A512-064181B5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43A-3F51-4159-9706-E1281852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82B7-5318-4AED-896F-05AB5B43E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914400"/>
            <a:ext cx="6953400" cy="53276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 rot="5400000">
            <a:off x="5567040" y="2982960"/>
            <a:ext cx="4533840" cy="1193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3333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行楷"/>
              </a:rPr>
              <a:t>后羿射日</a:t>
            </a:r>
            <a:endParaRPr b="1" lang="en-US" sz="1800" spc="1" strike="noStrike">
              <a:ln w="12600">
                <a:solidFill>
                  <a:srgbClr val="ffcc00"/>
                </a:solidFill>
                <a:round/>
              </a:ln>
              <a:solidFill>
                <a:srgbClr val="3333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2010960" y="62420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457200" y="19051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让我们带着读祖先的崇敬之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再来读一读课文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FFED-DFF3-4A82-8C43-D408E96DCF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后羿射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逮至尧之时，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十日并出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，焦禾稼，杀草木，而民无所食。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猰貐（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yáyǔ)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、凿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(záo)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齿、九婴、大风、封豨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(xī)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、修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皆为民害。尧乃使羿诛凿齿于畴华之野，杀九婴于凶水之上，缴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(zhuó,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射杀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大风于青丘之泽，上射十日而下杀猰貐，断修蛇于洞庭，禽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（捕捉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封豨于桑林。万民皆喜，置尧以为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译文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6765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到了尧统治的时候，有十个太阳一同出来。灼热的阳光晒焦了庄稼，花草树木干死，老百姓连吃的东西都没有。猰貐、凿齿、九婴、大风、封豨、修蛇都来祸害人民。于是尧派后羿去为民除害，到南方泽地荒野去诛杀凿齿，在北方的凶水杀灭九婴，在东方的大泽青丘，用系着丝绳的箭来射大风，射十个太阳（射下来九个），接着又杀死猰貐，在洞庭湖砍断修蛇，在中原一带桑林擒获封豨。后羿把那些灾害一一清除。民众都非常开心，并推举尧为皇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Arial"/>
              </a:rPr>
              <a:t>羿与后羿是否为一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</a:rPr>
              <a:t>在神话中，羿是一位与自然展开斗争的开疆辟土的英雄。射日只是他的诸多英雄业绩之一，而射日的原因则是‘十日并出、焦禾稼、杀草木，而民无所食”。这是由母系社会进人父系社会的英雄神话。它反映的是人与自然的斗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266688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地被太阳烤得发了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庄稼晒枯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水蒸干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们只好躲进山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步也不敢迈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>
            <a:hlinkClick r:id="" action="ppaction://hlinkshowjump?jump=firs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71"/>
                </a:moveTo>
                <a:lnTo>
                  <a:pt x="13376" y="8582"/>
                </a:ln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lnTo>
                  <a:pt x="17763" y="12934"/>
                </a:lnTo>
                <a:lnTo>
                  <a:pt x="16109" y="12934"/>
                </a:lnTo>
                <a:lnTo>
                  <a:pt x="16109" y="20123"/>
                </a:lnTo>
                <a:lnTo>
                  <a:pt x="5491" y="20123"/>
                </a:lnTo>
                <a:lnTo>
                  <a:pt x="5491" y="12934"/>
                </a:lnTo>
                <a:lnTo>
                  <a:pt x="3837" y="12934"/>
                </a:lnTo>
                <a:close/>
              </a:path>
              <a:path fill="darkenLess" w="21600" h="25868">
                <a:moveTo>
                  <a:pt x="13376" y="8582"/>
                </a:move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close/>
              </a:path>
              <a:path fill="darkenLess" w="21600" h="25868">
                <a:moveTo>
                  <a:pt x="9877" y="16433"/>
                </a:moveTo>
                <a:lnTo>
                  <a:pt x="11723" y="16433"/>
                </a:lnTo>
                <a:lnTo>
                  <a:pt x="11723" y="20123"/>
                </a:lnTo>
                <a:lnTo>
                  <a:pt x="16109" y="20123"/>
                </a:lnTo>
                <a:lnTo>
                  <a:pt x="16109" y="12934"/>
                </a:lnTo>
                <a:lnTo>
                  <a:pt x="5491" y="12934"/>
                </a:lnTo>
                <a:lnTo>
                  <a:pt x="5491" y="20123"/>
                </a:lnTo>
                <a:lnTo>
                  <a:pt x="9877" y="2012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1800" y="1143000"/>
            <a:ext cx="854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羿是天上的一位勇士，他看到人们在炎热的太阳下苦苦煎熬，非常难过，于是带上一把红色的弓和十支白色的箭，来到人间。十个太阳在天空中走来走去，地上的森林、房屋烤得快要着了火。后羿看了，立刻搭上了一支箭，拉满了弓，嗖的一声向一个太阳射去，一个火球应声落了下来。其余九个见势不妙，急忙逃走。可是后羿的箭射得又快又准，在“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箭声里，太阳一个个落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43000" y="2514600"/>
            <a:ext cx="60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九个太阳一死，大地立刻恢复了正常。人们纷纷从山洞里走出来，继续进行生产劳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2174760" y="5097600"/>
            <a:ext cx="55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t"/>
          <p:cNvPicPr/>
          <p:nvPr/>
        </p:nvPicPr>
        <p:blipFill>
          <a:blip r:embed="rId1"/>
          <a:stretch/>
        </p:blipFill>
        <p:spPr>
          <a:xfrm>
            <a:off x="1403280" y="476280"/>
            <a:ext cx="6337440" cy="4887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47640" y="551664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想对后羿说些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" action="ppaction://hlinkshowjump?jump=firstslide"/>
          </p:cNvPr>
          <p:cNvSpPr/>
          <p:nvPr/>
        </p:nvSpPr>
        <p:spPr>
          <a:xfrm>
            <a:off x="824400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837"/>
                </a:moveTo>
                <a:lnTo>
                  <a:pt x="13420" y="6448"/>
                </a:ln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lnTo>
                  <a:pt x="17806" y="10800"/>
                </a:lnTo>
                <a:lnTo>
                  <a:pt x="16153" y="10800"/>
                </a:lnTo>
                <a:lnTo>
                  <a:pt x="16153" y="17989"/>
                </a:lnTo>
                <a:lnTo>
                  <a:pt x="5534" y="17989"/>
                </a:lnTo>
                <a:lnTo>
                  <a:pt x="5534" y="10800"/>
                </a:lnTo>
                <a:lnTo>
                  <a:pt x="3880" y="10800"/>
                </a:lnTo>
                <a:close/>
              </a:path>
              <a:path fill="darkenLess" w="21687" h="21600">
                <a:moveTo>
                  <a:pt x="13420" y="6448"/>
                </a:move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close/>
              </a:path>
              <a:path fill="darkenLess" w="21687" h="21600">
                <a:moveTo>
                  <a:pt x="9921" y="14299"/>
                </a:moveTo>
                <a:lnTo>
                  <a:pt x="11766" y="14299"/>
                </a:lnTo>
                <a:lnTo>
                  <a:pt x="11766" y="17989"/>
                </a:lnTo>
                <a:lnTo>
                  <a:pt x="16153" y="17989"/>
                </a:lnTo>
                <a:lnTo>
                  <a:pt x="16153" y="10800"/>
                </a:lnTo>
                <a:lnTo>
                  <a:pt x="5534" y="10800"/>
                </a:lnTo>
                <a:lnTo>
                  <a:pt x="5534" y="17989"/>
                </a:lnTo>
                <a:lnTo>
                  <a:pt x="9921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06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7:44Z</dcterms:modified>
  <cp:revision>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