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3E9B-D08F-4190-9E9E-549238D1F7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03D-E49A-474B-BE63-0FCCB7DCB8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8E8-C1D9-4288-89A9-343893B0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92E-DB19-4977-8B81-92AB4D7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AEB-0894-4444-8353-06498AD1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288-075C-4653-A960-214CB165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6BC-E0C2-4194-A7EE-237DAC04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98D-97B3-40DA-9E68-139FF84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1E2-6090-46C8-8E16-E5F78CB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CBA-CA91-4A88-B338-213FF5F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455-B872-4ED1-8944-0B2862D8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13C-0DDF-4512-8F15-8C8F32D8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E08-618C-4A32-BF03-242C097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660-2623-4CC4-9BD5-DE6BE1E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29F-4E17-4EC9-BAC0-2075782D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2649600" y="14479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后羿射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672200" y="55627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D9B-DCD2-4FC8-A83A-ED4A1D60E6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99072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，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字词读准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课文读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14400" y="76212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标题你有什么想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是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为什么射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怎样射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知词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án         yánɡ ɡǔ     yānɡ            zhà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传      说    旸   谷        中  央      千   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sānɡ            shuǎ    ɡuī  ju          j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扶  桑        玩    耍       规  矩     高  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炎热    其余     恢复     汹涌    茂密    恳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89548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知词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ōnɡ yǒnɡ   mào mì   wán liè    jìnɡ             k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汹     涌       茂  密     顽   劣    竟    然     烧 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ēnɡ ténɡ   mài        yáo      kěn qiú   jiān á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蒸      腾     迈  步    尧        恳   求      煎   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ōu             yán         yú     huī f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嗖的一声  炎  热    其  余    恢  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3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羿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又称夷裔，相传是夏王朝东夷族有穷氏的首领，善于射箭。神话传说中的后羿英勇威武。他射下九个太阳，还大地适宜的气候，万物得以生长，民间因而供奉他为“射神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羿为什么射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天空中出现了十个太阳，照得地面寸草不生，后羿不忍心看着人们受苦，射下九个太阳，只留一个太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羿怎样射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看了，立刻搭上一支箭，拉满了弓搜的一声向一个太阳射去，一个火球应声落下。其余的九个太阳见势不妙，急忙逃走。可是后羿的箭射得又快又准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嗖的箭声里，太阳一个又一个的落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2008080" y="5334120"/>
            <a:ext cx="62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过这篇课文你学习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学习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一心为民除害的大无畏精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0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7:39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