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CHIMES.WAV" ContentType="audio/x-wav"/>
  <Override PartName="/ppt/media/type.wav" ContentType="audio/x-wav"/>
  <Override PartName="/ppt/media/image6.jpeg" ContentType="image/jpeg"/>
  <Override PartName="/ppt/media/image23.jpeg" ContentType="image/jpeg"/>
  <Override PartName="/ppt/media/camera.wav" ContentType="audio/x-wav"/>
  <Override PartName="/ppt/media/image21.jpeg" ContentType="image/jpeg"/>
  <Override PartName="/ppt/media/image29.png" ContentType="image/png"/>
  <Override PartName="/ppt/media/image7.png" ContentType="image/png"/>
  <Override PartName="/ppt/media/image1.jpeg" ContentType="image/jpeg"/>
  <Override PartName="/ppt/media/image8.jpeg" ContentType="image/jpeg"/>
  <Override PartName="/ppt/media/image28.png" ContentType="image/pn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24.jpeg" ContentType="image/jpeg"/>
  <Override PartName="/ppt/media/image30.jpeg" ContentType="image/jpeg"/>
  <Override PartName="/ppt/media/image26.jpeg" ContentType="image/jpeg"/>
  <Override PartName="/ppt/media/image27.jpeg" ContentType="image/jpeg"/>
  <Override PartName="/ppt/media/image5.png" ContentType="image/png"/>
  <Override PartName="/ppt/media/applause.wav" ContentType="audio/x-wav"/>
  <Override PartName="/ppt/media/image31.jpeg" ContentType="image/jpeg"/>
  <Override PartName="/ppt/media/image25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3368-4D84-4E68-83CB-5CD964966E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873-64B4-470A-9E9C-E42FB97D48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D38-1D67-429F-BC3C-D0494273A6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9BCE-9F13-4274-A13A-BFD03D75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652-5DEC-469A-85CC-7162C94086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B37-184A-4358-BFF9-6200A584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F8B-3E15-41D7-AC77-360E71E4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8D6-E6E8-49FF-BEEC-1B1B514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1EE-8FAF-4D07-AC55-E6A592AE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8B8-03B2-4122-8646-0CD498C1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8B3-00BF-4860-A076-90A58FD0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850-3813-4675-A096-0AD9249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A10-D950-4498-8A07-150F80F3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A32-4BA1-437A-A0C9-30938902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F9C-CADD-4656-81BD-18EDC02E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E4C-A7B8-430C-A4C4-EDE4DD4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A54-F925-40A7-8142-8F0A4FB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BEE-6BBB-44D4-9EC2-B5D8D55E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15B5-D53B-4332-9F16-1769C7295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explode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1501920" y="1638360"/>
            <a:ext cx="619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记金华的双龙洞</a:t>
            </a:r>
            <a:endParaRPr b="1" lang="en-US" sz="40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Picture 3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820520" y="4792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826920" y="981000"/>
            <a:ext cx="1725840" cy="354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830160" y="165744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理解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284640"/>
            <a:ext cx="732636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化多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颜色各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826920" y="1916280"/>
            <a:ext cx="25210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明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18456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00360" y="263700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色彩明亮鲜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276720" y="3284640"/>
            <a:ext cx="61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端，项目。变化多种多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6720" y="4076640"/>
            <a:ext cx="62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，不同。颜色各不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826920" y="3284640"/>
            <a:ext cx="732636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化多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颜色各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00200" y="1447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再读课文，讨论分段并概括大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4685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段（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待时间、地点、事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3306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段（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路上见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段（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游览经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520560" y="765000"/>
            <a:ext cx="8101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文，了解课文主要内容，找出作者游览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课文，了解课文主要内容，找出作者游览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的主要内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记述了他游览金华双龙洞的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从金华出来，是按怎样的顺序进行游览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从金华出来，行五公里到罗甸，由罗甸进山到洞口，进入外洞，从孔隙进入内洞，然后出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44792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通读课文，理清作者游览的路线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9072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华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438280" y="3048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罗甸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733920" y="3048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入山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181480" y="3048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洞口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629400" y="3048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洞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09480" y="3886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孔隙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981080" y="38862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洞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35268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036221826091"/>
          <p:cNvPicPr/>
          <p:nvPr/>
        </p:nvPicPr>
        <p:blipFill>
          <a:blip r:embed="rId1"/>
          <a:stretch/>
        </p:blipFill>
        <p:spPr>
          <a:xfrm>
            <a:off x="1752480" y="189000"/>
            <a:ext cx="5467320" cy="6553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洞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无标题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洞口（图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zhejiang_jinhua_shuanglongdong"/>
          <p:cNvPicPr/>
          <p:nvPr/>
        </p:nvPicPr>
        <p:blipFill>
          <a:blip r:embed="rId1"/>
          <a:stretch/>
        </p:blipFill>
        <p:spPr>
          <a:xfrm>
            <a:off x="12600" y="0"/>
            <a:ext cx="6834240" cy="677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6248520" y="2286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外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无标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孔隙（图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shuanglongdong"/>
          <p:cNvPicPr/>
          <p:nvPr/>
        </p:nvPicPr>
        <p:blipFill>
          <a:blip r:embed="rId1"/>
          <a:stretch/>
        </p:blipFill>
        <p:spPr>
          <a:xfrm>
            <a:off x="1447920" y="609480"/>
            <a:ext cx="6248160" cy="5842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54" name="Rectangle 4"/>
            <p:cNvSpPr/>
            <p:nvPr/>
          </p:nvSpPr>
          <p:spPr>
            <a:xfrm>
              <a:off x="152280" y="609480"/>
              <a:ext cx="8839440" cy="5943600"/>
            </a:xfrm>
            <a:prstGeom prst="rect">
              <a:avLst/>
            </a:prstGeom>
            <a:gradFill rotWithShape="0">
              <a:gsLst>
                <a:gs pos="0">
                  <a:srgbClr val="996600">
                    <a:alpha val="60392"/>
                  </a:srgbClr>
                </a:gs>
                <a:gs pos="100000">
                  <a:srgbClr val="ddcba9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3" descr="图片1"/>
            <p:cNvPicPr/>
            <p:nvPr/>
          </p:nvPicPr>
          <p:blipFill>
            <a:blip r:embed="rId2"/>
            <a:stretch/>
          </p:blipFill>
          <p:spPr>
            <a:xfrm>
              <a:off x="152280" y="5715000"/>
              <a:ext cx="883944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533520" y="2195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你们喜欢旅游吗？你到过哪些城市？它有什么独特的风光呢？今天，我们准备跟著名作家、教育家叶圣陶爷爷到浙江省的金华去旅游，你们想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762120" y="1905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同学们自由朗读第一段，说说从这段中你知道些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676520" y="3200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676520" y="3886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676520" y="4616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事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7672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2767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浙江金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276720" y="46483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游北山的双龙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0064291355558945"/>
          <p:cNvPicPr/>
          <p:nvPr/>
        </p:nvPicPr>
        <p:blipFill>
          <a:blip r:embed="rId2"/>
          <a:stretch/>
        </p:blipFill>
        <p:spPr>
          <a:xfrm>
            <a:off x="7885080" y="2205000"/>
            <a:ext cx="1366920" cy="4724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250920" y="260280"/>
            <a:ext cx="871380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解作者一路上的所见所闻，感受沿途迷人的景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读第二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沿途看到了什么？作者是怎样描述这些景物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景物有什么特点？给作者的感受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片明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上开满了映山红，无论花果和叶子，都比盆栽的杜鹃显得有精神”怎样理解这句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：花儿在大自然中无拘无束，吸收阳光和雨露，任其自然的生长，显示出他的本性姿态，而格外的有生机有灵气，作者有崇尚自然赞美自然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映山红"/>
          <p:cNvPicPr/>
          <p:nvPr/>
        </p:nvPicPr>
        <p:blipFill>
          <a:blip r:embed="rId1"/>
          <a:stretch/>
        </p:blipFill>
        <p:spPr>
          <a:xfrm>
            <a:off x="0" y="0"/>
            <a:ext cx="4876920" cy="324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杜鹃"/>
          <p:cNvPicPr/>
          <p:nvPr/>
        </p:nvPicPr>
        <p:blipFill>
          <a:blip r:embed="rId2"/>
          <a:stretch/>
        </p:blipFill>
        <p:spPr>
          <a:xfrm>
            <a:off x="4869000" y="0"/>
            <a:ext cx="4275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Line 4"/>
          <p:cNvSpPr/>
          <p:nvPr/>
        </p:nvSpPr>
        <p:spPr>
          <a:xfrm flipV="1">
            <a:off x="2157840" y="3428640"/>
            <a:ext cx="720" cy="115488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752840" y="4648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映山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950840" y="550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盆栽的杜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3352320" y="5734080"/>
            <a:ext cx="1154880" cy="1116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047600" y="66672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1619280" y="1330200"/>
            <a:ext cx="6477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71640" y="1700280"/>
            <a:ext cx="74167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9999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还听到了什么？溪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0064291355558945"/>
          <p:cNvPicPr/>
          <p:nvPr/>
        </p:nvPicPr>
        <p:blipFill>
          <a:blip r:embed="rId2"/>
          <a:stretch/>
        </p:blipFill>
        <p:spPr>
          <a:xfrm>
            <a:off x="7885080" y="2205000"/>
            <a:ext cx="136692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250920" y="189000"/>
            <a:ext cx="87138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上有花有水，谁来读一读迎接游客的溪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：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溪流为什么会有宽、窄、缓、急的变化？溪声为什么会变换调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山势不断变化，有的地方宽，有的地方窄，有时山势高，有时山势低，有时平坦，有时陡峭，溪流从山上向下流，会随着山势的变化而时宽时窄，时缓时急，溪声也会时高时低，时断时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溪流和双龙洞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流是从双龙洞流出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的山路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路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8000" y="0"/>
            <a:ext cx="90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了解外洞特点体会双龙洞的“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读第四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沿途的风光可以用“美”来形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洞口和外洞你会用那两个字来概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洞口外的景色使你产生什么感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神秘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的哪些描写让你体会到外洞的大？（在课本上找出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又一次提到”泉水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全篇来看，它起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是作者在洞中游览的一条线索。迎着溪流入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乘船通过泉水流出的空隙进出内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896472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船从孔隙中穿过是什么滋味，我们也来试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了解怎样由外洞进入内洞，体会双龙洞的“险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到孔隙我们就会想到很小的窟窿或很细的缝，而这个孔隙却可容得下一只小船进出，那么作者为什么不称之为水洞却还要称为孔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外洞面积太大了，水洞就相对显得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读第五段，想一想：作者乘船洞中游与我们平常乘船水中游游法上有什么不一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只能仰卧在船上，身子紧贴船底，由管理处的工人把船拉进拉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会作者当时的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未知"/>
          <p:cNvSpPr/>
          <p:nvPr/>
        </p:nvSpPr>
        <p:spPr>
          <a:xfrm>
            <a:off x="3429000" y="914400"/>
            <a:ext cx="5715000" cy="3886200"/>
          </a:xfrm>
          <a:custGeom>
            <a:avLst/>
            <a:gdLst/>
            <a:ahLst/>
            <a:rect l="l" t="t" r="r" b="b"/>
            <a:pathLst>
              <a:path w="3464" h="2288">
                <a:moveTo>
                  <a:pt x="64" y="1856"/>
                </a:moveTo>
                <a:cubicBezTo>
                  <a:pt x="32" y="1368"/>
                  <a:pt x="0" y="880"/>
                  <a:pt x="208" y="752"/>
                </a:cubicBezTo>
                <a:cubicBezTo>
                  <a:pt x="416" y="624"/>
                  <a:pt x="1112" y="928"/>
                  <a:pt x="1312" y="1088"/>
                </a:cubicBezTo>
                <a:cubicBezTo>
                  <a:pt x="1512" y="1248"/>
                  <a:pt x="1344" y="1584"/>
                  <a:pt x="1408" y="1712"/>
                </a:cubicBezTo>
                <a:cubicBezTo>
                  <a:pt x="1472" y="1840"/>
                  <a:pt x="1616" y="1848"/>
                  <a:pt x="1696" y="1856"/>
                </a:cubicBezTo>
                <a:cubicBezTo>
                  <a:pt x="1776" y="1864"/>
                  <a:pt x="1856" y="1880"/>
                  <a:pt x="1888" y="1760"/>
                </a:cubicBezTo>
                <a:cubicBezTo>
                  <a:pt x="1920" y="1640"/>
                  <a:pt x="1856" y="1376"/>
                  <a:pt x="1888" y="1136"/>
                </a:cubicBezTo>
                <a:cubicBezTo>
                  <a:pt x="1920" y="896"/>
                  <a:pt x="1976" y="488"/>
                  <a:pt x="2080" y="320"/>
                </a:cubicBezTo>
                <a:cubicBezTo>
                  <a:pt x="2184" y="152"/>
                  <a:pt x="2392" y="160"/>
                  <a:pt x="2512" y="128"/>
                </a:cubicBezTo>
                <a:cubicBezTo>
                  <a:pt x="2632" y="96"/>
                  <a:pt x="2656" y="0"/>
                  <a:pt x="2800" y="128"/>
                </a:cubicBezTo>
                <a:cubicBezTo>
                  <a:pt x="2944" y="256"/>
                  <a:pt x="3288" y="648"/>
                  <a:pt x="3376" y="896"/>
                </a:cubicBezTo>
                <a:cubicBezTo>
                  <a:pt x="3464" y="1144"/>
                  <a:pt x="3320" y="1384"/>
                  <a:pt x="3328" y="1616"/>
                </a:cubicBezTo>
                <a:cubicBezTo>
                  <a:pt x="3336" y="1848"/>
                  <a:pt x="3408" y="2168"/>
                  <a:pt x="3424" y="2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 flipH="1">
            <a:off x="3580920" y="2133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3657240" y="2362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3962520" y="22860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1911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809520" y="28195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>
            <a:off x="3962160" y="23623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 flipH="1">
            <a:off x="4114440" y="32004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4419720" y="32004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4876920" y="297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 flipH="1">
            <a:off x="4800240" y="3352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H="1">
            <a:off x="5105520" y="3352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5867280" y="4114800"/>
            <a:ext cx="914400" cy="228600"/>
          </a:xfrm>
          <a:custGeom>
            <a:avLst/>
            <a:gdLst/>
            <a:ahLst/>
            <a:rect l="l" t="t" r="r" b="b"/>
            <a:pathLst>
              <a:path w="856" h="168">
                <a:moveTo>
                  <a:pt x="24" y="24"/>
                </a:moveTo>
                <a:cubicBezTo>
                  <a:pt x="48" y="48"/>
                  <a:pt x="272" y="168"/>
                  <a:pt x="408" y="168"/>
                </a:cubicBezTo>
                <a:cubicBezTo>
                  <a:pt x="544" y="168"/>
                  <a:pt x="824" y="48"/>
                  <a:pt x="840" y="24"/>
                </a:cubicBezTo>
                <a:cubicBezTo>
                  <a:pt x="856" y="0"/>
                  <a:pt x="600" y="24"/>
                  <a:pt x="504" y="24"/>
                </a:cubicBezTo>
                <a:cubicBezTo>
                  <a:pt x="408" y="24"/>
                  <a:pt x="336" y="24"/>
                  <a:pt x="264" y="24"/>
                </a:cubicBezTo>
                <a:cubicBezTo>
                  <a:pt x="192" y="24"/>
                  <a:pt x="0" y="0"/>
                  <a:pt x="24" y="2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6552720" y="1295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 flipH="1">
            <a:off x="6705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6705720" y="15238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H="1">
            <a:off x="6629040" y="28195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 flipH="1">
            <a:off x="7467120" y="19051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701028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 flipH="1">
            <a:off x="6781680" y="220968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7619760" y="23623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 flipH="1">
            <a:off x="7772040" y="281952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3276720" y="3886200"/>
            <a:ext cx="5790960" cy="380880"/>
          </a:xfrm>
          <a:custGeom>
            <a:avLst/>
            <a:gdLst/>
            <a:ahLst/>
            <a:rect l="l" t="t" r="r" b="b"/>
            <a:pathLst>
              <a:path w="3600" h="168">
                <a:moveTo>
                  <a:pt x="0" y="96"/>
                </a:moveTo>
                <a:cubicBezTo>
                  <a:pt x="132" y="72"/>
                  <a:pt x="264" y="48"/>
                  <a:pt x="432" y="48"/>
                </a:cubicBezTo>
                <a:cubicBezTo>
                  <a:pt x="600" y="48"/>
                  <a:pt x="840" y="80"/>
                  <a:pt x="1008" y="96"/>
                </a:cubicBezTo>
                <a:cubicBezTo>
                  <a:pt x="1176" y="112"/>
                  <a:pt x="1312" y="136"/>
                  <a:pt x="1440" y="144"/>
                </a:cubicBezTo>
                <a:cubicBezTo>
                  <a:pt x="1568" y="152"/>
                  <a:pt x="1688" y="152"/>
                  <a:pt x="1776" y="144"/>
                </a:cubicBezTo>
                <a:cubicBezTo>
                  <a:pt x="1864" y="136"/>
                  <a:pt x="1888" y="96"/>
                  <a:pt x="1968" y="96"/>
                </a:cubicBezTo>
                <a:cubicBezTo>
                  <a:pt x="2048" y="96"/>
                  <a:pt x="2144" y="160"/>
                  <a:pt x="2256" y="144"/>
                </a:cubicBezTo>
                <a:cubicBezTo>
                  <a:pt x="2368" y="128"/>
                  <a:pt x="2512" y="0"/>
                  <a:pt x="2640" y="0"/>
                </a:cubicBezTo>
                <a:cubicBezTo>
                  <a:pt x="2768" y="0"/>
                  <a:pt x="2864" y="120"/>
                  <a:pt x="3024" y="144"/>
                </a:cubicBezTo>
                <a:cubicBezTo>
                  <a:pt x="3184" y="168"/>
                  <a:pt x="3504" y="136"/>
                  <a:pt x="360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 flipV="1">
            <a:off x="2743200" y="3962520"/>
            <a:ext cx="609480" cy="1752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609480" y="57150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3049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4382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罗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>
            <a:off x="533520" y="563868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>
            <a:off x="26668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未知"/>
          <p:cNvSpPr/>
          <p:nvPr/>
        </p:nvSpPr>
        <p:spPr>
          <a:xfrm>
            <a:off x="-1370160" y="-379440"/>
            <a:ext cx="11047680" cy="5865840"/>
          </a:xfrm>
          <a:custGeom>
            <a:avLst/>
            <a:gdLst/>
            <a:ahLst/>
            <a:rect l="l" t="t" r="r" b="b"/>
            <a:pathLst>
              <a:path w="3464" h="2288">
                <a:moveTo>
                  <a:pt x="64" y="1856"/>
                </a:moveTo>
                <a:cubicBezTo>
                  <a:pt x="32" y="1368"/>
                  <a:pt x="0" y="880"/>
                  <a:pt x="208" y="752"/>
                </a:cubicBezTo>
                <a:cubicBezTo>
                  <a:pt x="416" y="624"/>
                  <a:pt x="1112" y="928"/>
                  <a:pt x="1312" y="1088"/>
                </a:cubicBezTo>
                <a:cubicBezTo>
                  <a:pt x="1512" y="1248"/>
                  <a:pt x="1344" y="1584"/>
                  <a:pt x="1408" y="1712"/>
                </a:cubicBezTo>
                <a:cubicBezTo>
                  <a:pt x="1472" y="1840"/>
                  <a:pt x="1616" y="1848"/>
                  <a:pt x="1696" y="1856"/>
                </a:cubicBezTo>
                <a:cubicBezTo>
                  <a:pt x="1776" y="1864"/>
                  <a:pt x="1856" y="1880"/>
                  <a:pt x="1888" y="1760"/>
                </a:cubicBezTo>
                <a:cubicBezTo>
                  <a:pt x="1920" y="1640"/>
                  <a:pt x="1856" y="1376"/>
                  <a:pt x="1888" y="1136"/>
                </a:cubicBezTo>
                <a:cubicBezTo>
                  <a:pt x="1920" y="896"/>
                  <a:pt x="1976" y="488"/>
                  <a:pt x="2080" y="320"/>
                </a:cubicBezTo>
                <a:cubicBezTo>
                  <a:pt x="2184" y="152"/>
                  <a:pt x="2392" y="160"/>
                  <a:pt x="2512" y="128"/>
                </a:cubicBezTo>
                <a:cubicBezTo>
                  <a:pt x="2632" y="96"/>
                  <a:pt x="2656" y="0"/>
                  <a:pt x="2800" y="128"/>
                </a:cubicBezTo>
                <a:cubicBezTo>
                  <a:pt x="2944" y="256"/>
                  <a:pt x="3288" y="648"/>
                  <a:pt x="3376" y="896"/>
                </a:cubicBezTo>
                <a:cubicBezTo>
                  <a:pt x="3464" y="1144"/>
                  <a:pt x="3320" y="1384"/>
                  <a:pt x="3328" y="1616"/>
                </a:cubicBezTo>
                <a:cubicBezTo>
                  <a:pt x="3336" y="1848"/>
                  <a:pt x="3408" y="2168"/>
                  <a:pt x="3424" y="2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未知"/>
          <p:cNvSpPr/>
          <p:nvPr/>
        </p:nvSpPr>
        <p:spPr>
          <a:xfrm>
            <a:off x="0" y="4267080"/>
            <a:ext cx="9067680" cy="609840"/>
          </a:xfrm>
          <a:custGeom>
            <a:avLst/>
            <a:gdLst/>
            <a:ahLst/>
            <a:rect l="l" t="t" r="r" b="b"/>
            <a:pathLst>
              <a:path w="3600" h="168">
                <a:moveTo>
                  <a:pt x="0" y="96"/>
                </a:moveTo>
                <a:cubicBezTo>
                  <a:pt x="132" y="72"/>
                  <a:pt x="264" y="48"/>
                  <a:pt x="432" y="48"/>
                </a:cubicBezTo>
                <a:cubicBezTo>
                  <a:pt x="600" y="48"/>
                  <a:pt x="840" y="80"/>
                  <a:pt x="1008" y="96"/>
                </a:cubicBezTo>
                <a:cubicBezTo>
                  <a:pt x="1176" y="112"/>
                  <a:pt x="1312" y="136"/>
                  <a:pt x="1440" y="144"/>
                </a:cubicBezTo>
                <a:cubicBezTo>
                  <a:pt x="1568" y="152"/>
                  <a:pt x="1688" y="152"/>
                  <a:pt x="1776" y="144"/>
                </a:cubicBezTo>
                <a:cubicBezTo>
                  <a:pt x="1864" y="136"/>
                  <a:pt x="1888" y="96"/>
                  <a:pt x="1968" y="96"/>
                </a:cubicBezTo>
                <a:cubicBezTo>
                  <a:pt x="2048" y="96"/>
                  <a:pt x="2144" y="160"/>
                  <a:pt x="2256" y="144"/>
                </a:cubicBezTo>
                <a:cubicBezTo>
                  <a:pt x="2368" y="128"/>
                  <a:pt x="2512" y="0"/>
                  <a:pt x="2640" y="0"/>
                </a:cubicBezTo>
                <a:cubicBezTo>
                  <a:pt x="2768" y="0"/>
                  <a:pt x="2864" y="120"/>
                  <a:pt x="3024" y="144"/>
                </a:cubicBezTo>
                <a:cubicBezTo>
                  <a:pt x="3184" y="168"/>
                  <a:pt x="3504" y="136"/>
                  <a:pt x="360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未知"/>
          <p:cNvSpPr/>
          <p:nvPr/>
        </p:nvSpPr>
        <p:spPr>
          <a:xfrm>
            <a:off x="5105520" y="4572000"/>
            <a:ext cx="914400" cy="228600"/>
          </a:xfrm>
          <a:custGeom>
            <a:avLst/>
            <a:gdLst/>
            <a:ahLst/>
            <a:rect l="l" t="t" r="r" b="b"/>
            <a:pathLst>
              <a:path w="856" h="168">
                <a:moveTo>
                  <a:pt x="24" y="24"/>
                </a:moveTo>
                <a:cubicBezTo>
                  <a:pt x="48" y="48"/>
                  <a:pt x="272" y="168"/>
                  <a:pt x="408" y="168"/>
                </a:cubicBezTo>
                <a:cubicBezTo>
                  <a:pt x="544" y="168"/>
                  <a:pt x="824" y="48"/>
                  <a:pt x="840" y="24"/>
                </a:cubicBezTo>
                <a:cubicBezTo>
                  <a:pt x="856" y="0"/>
                  <a:pt x="600" y="24"/>
                  <a:pt x="504" y="24"/>
                </a:cubicBezTo>
                <a:cubicBezTo>
                  <a:pt x="408" y="24"/>
                  <a:pt x="336" y="24"/>
                  <a:pt x="264" y="24"/>
                </a:cubicBezTo>
                <a:cubicBezTo>
                  <a:pt x="192" y="24"/>
                  <a:pt x="0" y="0"/>
                  <a:pt x="24" y="2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335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6294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H="1">
            <a:off x="685440" y="3352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 flipH="1">
            <a:off x="1371240" y="25146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1599840" y="25146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 flipH="1">
            <a:off x="1523520" y="28954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0" y="19810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175212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2209320" y="3352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2057040" y="30481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 flipH="1">
            <a:off x="2590920" y="35812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304920" y="32767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>
            <a:off x="6781680" y="220968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7772040" y="281952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 flipH="1">
            <a:off x="7619760" y="23623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 flipH="1">
            <a:off x="7467120" y="19051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1"/>
          <p:cNvSpPr/>
          <p:nvPr/>
        </p:nvSpPr>
        <p:spPr>
          <a:xfrm flipH="1">
            <a:off x="7238520" y="1828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>
            <a:off x="5334120" y="1523880"/>
            <a:ext cx="266688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 flipH="1">
            <a:off x="5334120" y="152388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H="1">
            <a:off x="5257440" y="12952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20064291355558945"/>
          <p:cNvPicPr/>
          <p:nvPr/>
        </p:nvPicPr>
        <p:blipFill>
          <a:blip r:embed="rId2"/>
          <a:stretch/>
        </p:blipFill>
        <p:spPr>
          <a:xfrm>
            <a:off x="7777080" y="2133720"/>
            <a:ext cx="1366920" cy="4724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263520" y="277920"/>
            <a:ext cx="8353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：作者为什么感觉左右和上方的山石似乎都在朝他挤压过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孔隙太小，左右上方山石奇形怪状，周围又是昏暗一片，作者感觉山石挨着他，似乎将他紧紧包围起来，越往内洞走，黑暗越浓，这种压迫感越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段水路并不长，大约就十米，但让人觉得船儿走了好久，孔隙乘船真是太“险”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57200" y="1905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双龙洞现为国家森林公园，是国家级风景名胜区，素以林海莽原、奇洞异景、道教名山著称于世。双龙洞位于双龙景区的中心，是整个景区的核心与象征。双龙洞成为自然风景名胜的历史已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年。它海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由外洞、内洞及耳洞组成。外洞宽敞，面积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米。常年洞温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摄氏度左右，冬暖夏凉，炎夏至此，有“上山汗如雨，入洞一身凉”之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1981080" y="11430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99ff"/>
                </a:solidFill>
                <a:latin typeface="隶书"/>
              </a:rPr>
              <a:t>金华的双龙洞简介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终于到达了内洞，内洞又是一番怎样的景色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了解内洞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洞的景象怎样，给你的感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中有名称的钟乳石和石笋多达四十多个，而工人首先指点给作者看的是洞顶双龙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龙洞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生朗读描写双龙洞的句子，女生读描写泉水的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作者乘船出洞，结束了双龙洞之游，我们同作者一道感受了双龙洞的雄伟。面对大自然的鬼斧神工，我们不禁折服于大自然之伟大，自然之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4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77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77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ji-3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r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rd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4160" y="404640"/>
            <a:ext cx="8642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石钟乳、石笋都是由石灰质聚积而成的。岩洞中的石灰质溶解在水中，水从石洞顶上滴落下来，水中的石灰质就一点一滴地聚积起来，从洞顶逐渐形成冰锥状物体，这就叫石钟乳，也叫钟乳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子类似北方冬季屋檐下的冰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洞顶的水滴落在地上，石灰质也逐渐堆积起来，越堆越高，最后形成一个直立的笋状柱体，叫作石笋。石笋常与石钟乳上下相对，日久天长，有些石钟乳和石笋连接起来，就成为石柱。石钟乳和石笋有各种形状，有的像人，有的像动物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50920" y="148428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洞内的石钟乳、石笋众多，造型奇特，布局巧妙，有“黄龙吐水”、“倒挂金钟”、“彩云遮月”、“天马行空”、“海龟探海”、“避水金针”“寿星捧仙桃”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幻化多变，使人目不暇接，宛若置身在水晶龙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──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隶书"/>
              </a:rPr>
              <a:t>摘自新浪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0" y="533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金华的双龙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-4320" y="2286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1219320" y="28195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176480" y="2286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罗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2438280" y="281952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624400" y="2286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3886200" y="281952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072320" y="2286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洞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5334120" y="2286000"/>
            <a:ext cx="533160" cy="53352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5334120" y="2819520"/>
            <a:ext cx="533160" cy="53316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5867280" y="1873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867280" y="2971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6477120" y="281952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618600" y="22860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79246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762120" y="487692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779760" y="43434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孔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 flipV="1">
            <a:off x="2057400" y="4419720"/>
            <a:ext cx="457200" cy="45720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2057400" y="4876920"/>
            <a:ext cx="457200" cy="45720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2514600" y="4006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2514600" y="4997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2971800" y="487692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3189600" y="434340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5"/>
          <p:cNvSpPr/>
          <p:nvPr/>
        </p:nvSpPr>
        <p:spPr>
          <a:xfrm flipV="1">
            <a:off x="4495680" y="4114440"/>
            <a:ext cx="304920" cy="76212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6"/>
          <p:cNvSpPr/>
          <p:nvPr/>
        </p:nvSpPr>
        <p:spPr>
          <a:xfrm flipV="1">
            <a:off x="4495680" y="4647960"/>
            <a:ext cx="381240" cy="22860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4495680" y="4876920"/>
            <a:ext cx="381240" cy="15228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4495680" y="4876920"/>
            <a:ext cx="304920" cy="68580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4952880" y="3733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4932360" y="4221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495288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495288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a8a1"/>
                </a:solidFill>
                <a:latin typeface="Times New Roman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5791320" y="4267080"/>
            <a:ext cx="1752480" cy="1143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4"/>
          <p:cNvSpPr/>
          <p:nvPr/>
        </p:nvSpPr>
        <p:spPr>
          <a:xfrm>
            <a:off x="6095880" y="4021200"/>
            <a:ext cx="114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景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奇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00"/>
                            </p:stCondLst>
                            <p:childTnLst>
                              <p:par>
                                <p:cTn id="7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300"/>
                            </p:stCondLst>
                            <p:childTnLst>
                              <p:par>
                                <p:cTn id="7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800"/>
                            </p:stCondLst>
                            <p:childTnLst>
                              <p:par>
                                <p:cTn id="7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300"/>
                            </p:stCondLst>
                            <p:childTnLst>
                              <p:par>
                                <p:cTn id="7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800"/>
                            </p:stCondLst>
                            <p:childTnLst>
                              <p:par>
                                <p:cTn id="7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300"/>
                            </p:stCondLst>
                            <p:childTnLst>
                              <p:par>
                                <p:cTn id="7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800"/>
                            </p:stCondLst>
                            <p:childTnLst>
                              <p:par>
                                <p:cTn id="7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300"/>
                            </p:stCondLst>
                            <p:childTnLst>
                              <p:par>
                                <p:cTn id="7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800"/>
                            </p:stCondLst>
                            <p:childTnLst>
                              <p:par>
                                <p:cTn id="75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300"/>
                            </p:stCondLst>
                            <p:childTnLst>
                              <p:par>
                                <p:cTn id="7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800"/>
                            </p:stCondLst>
                            <p:childTnLst>
                              <p:par>
                                <p:cTn id="7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300"/>
                            </p:stCondLst>
                            <p:childTnLst>
                              <p:par>
                                <p:cTn id="7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6800"/>
                            </p:stCondLst>
                            <p:childTnLst>
                              <p:par>
                                <p:cTn id="7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300"/>
                            </p:stCondLst>
                            <p:childTnLst>
                              <p:par>
                                <p:cTn id="7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800"/>
                            </p:stCondLst>
                            <p:childTnLst>
                              <p:par>
                                <p:cTn id="7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8300"/>
                            </p:stCondLst>
                            <p:childTnLst>
                              <p:par>
                                <p:cTn id="7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800"/>
                            </p:stCondLst>
                            <p:childTnLst>
                              <p:par>
                                <p:cTn id="7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300"/>
                            </p:stCondLst>
                            <p:childTnLst>
                              <p:par>
                                <p:cTn id="79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800"/>
                            </p:stCondLst>
                            <p:childTnLst>
                              <p:par>
                                <p:cTn id="79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300"/>
                            </p:stCondLst>
                            <p:childTnLst>
                              <p:par>
                                <p:cTn id="8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800"/>
                            </p:stCondLst>
                            <p:childTnLst>
                              <p:par>
                                <p:cTn id="8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1300"/>
                            </p:stCondLst>
                            <p:childTnLst>
                              <p:par>
                                <p:cTn id="8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1800"/>
                            </p:stCondLst>
                            <p:childTnLst>
                              <p:par>
                                <p:cTn id="8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2300"/>
                            </p:stCondLst>
                            <p:childTnLst>
                              <p:par>
                                <p:cTn id="8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2800"/>
                            </p:stCondLst>
                            <p:childTnLst>
                              <p:par>
                                <p:cTn id="8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3300"/>
                            </p:stCondLst>
                            <p:childTnLst>
                              <p:par>
                                <p:cTn id="82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3800"/>
                            </p:stCondLst>
                            <p:childTnLst>
                              <p:par>
                                <p:cTn id="828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4300"/>
                            </p:stCondLst>
                            <p:childTnLst>
                              <p:par>
                                <p:cTn id="83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4800"/>
                            </p:stCondLst>
                            <p:childTnLst>
                              <p:par>
                                <p:cTn id="838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300"/>
                            </p:stCondLst>
                            <p:childTnLst>
                              <p:par>
                                <p:cTn id="84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5800"/>
                            </p:stCondLst>
                            <p:childTnLst>
                              <p:par>
                                <p:cTn id="84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3520" y="2286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通过学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金华的双龙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课，我们欣赏了双龙洞的美丽奇特，领会到了祖国山河的可爱。现在让我们亲自到双龙洞去游一游吧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6"/>
          <p:cNvSpPr txBox="1"/>
          <p:nvPr/>
        </p:nvSpPr>
        <p:spPr>
          <a:xfrm>
            <a:off x="1981080" y="1523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latin typeface="隶书"/>
              </a:rPr>
              <a:t>课文总结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silin_ziyundon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guizhou-zjd02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p1a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guizhou-zjd01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slide0002_image00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slide0031_background"/>
          <p:cNvPicPr/>
          <p:nvPr/>
        </p:nvPicPr>
        <p:blipFill>
          <a:blip r:embed="rId2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slide0004_image014"/>
          <p:cNvPicPr/>
          <p:nvPr/>
        </p:nvPicPr>
        <p:blipFill>
          <a:blip r:embed="rId3"/>
          <a:stretch/>
        </p:blipFill>
        <p:spPr>
          <a:xfrm>
            <a:off x="0" y="3433680"/>
            <a:ext cx="4572000" cy="3424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alugudong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80880" y="19810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国著名的教育家叶圣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894--1968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名绍钧，江苏苏州人，著名作家、教育家，父亲在地主家做帐房，家境清苦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0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考入草桥中学，毕业后在一个初等小学当教员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被排挤出学校，闭居期间作文言小说发表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礼拜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杂志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981080" y="114300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隶书"/>
              </a:rPr>
              <a:t>走近叶圣陶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guizhou-zjd02"/>
          <p:cNvPicPr/>
          <p:nvPr/>
        </p:nvPicPr>
        <p:blipFill>
          <a:blip r:embed="rId1"/>
          <a:stretch/>
        </p:blipFill>
        <p:spPr>
          <a:xfrm>
            <a:off x="0" y="0"/>
            <a:ext cx="5076720" cy="4681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p1a"/>
          <p:cNvPicPr/>
          <p:nvPr/>
        </p:nvPicPr>
        <p:blipFill>
          <a:blip r:embed="rId2"/>
          <a:stretch/>
        </p:blipFill>
        <p:spPr>
          <a:xfrm>
            <a:off x="3995640" y="2492280"/>
            <a:ext cx="5148360" cy="4365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651672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黄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 flipH="1">
            <a:off x="5508000" y="549360"/>
            <a:ext cx="863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85" y="0"/>
                </a:moveTo>
                <a:lnTo>
                  <a:pt x="16185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16185" y="16762"/>
                </a:lnTo>
                <a:lnTo>
                  <a:pt x="16185" y="21600"/>
                </a:lnTo>
                <a:lnTo>
                  <a:pt x="21600" y="10800"/>
                </a:lnTo>
                <a:lnTo>
                  <a:pt x="16185" y="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lnTo>
                  <a:pt x="135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lnTo>
                  <a:pt x="0" y="483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826920" y="566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青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484360" y="5950080"/>
            <a:ext cx="792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"/>
          <p:cNvSpPr/>
          <p:nvPr/>
        </p:nvSpPr>
        <p:spPr>
          <a:xfrm>
            <a:off x="284040" y="53895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297" name="WordArt 2"/>
          <p:cNvSpPr txBox="1"/>
          <p:nvPr/>
        </p:nvSpPr>
        <p:spPr>
          <a:xfrm>
            <a:off x="611280" y="907920"/>
            <a:ext cx="25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外作业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5960" y="2349360"/>
            <a:ext cx="849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搜集有关溶洞的图片或文字资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课下仿写一篇小游记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默读课文根据作者的叙述，画一幅金华双龙洞的景点游览图，再介绍一下你印象最深的一个景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5D35-4581-4288-BD9D-2095E67061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9810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看课题提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62120" y="2438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课题中的“记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62120" y="32004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叶圣陶爷爷游完双龙洞后是怎样写这篇游记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9"/>
          <p:cNvSpPr/>
          <p:nvPr/>
        </p:nvSpPr>
        <p:spPr>
          <a:xfrm>
            <a:off x="3132000" y="5892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听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05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准字音，读顺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出生字新词，理解词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分段落，概括段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4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5" descr="katongyongpin2_0062"/>
          <p:cNvPicPr/>
          <p:nvPr/>
        </p:nvPicPr>
        <p:blipFill>
          <a:blip r:embed="rId1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图片1"/>
          <p:cNvPicPr/>
          <p:nvPr/>
        </p:nvPicPr>
        <p:blipFill>
          <a:blip r:embed="rId2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6002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7057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44792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沉甸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杜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705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梧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676520" y="2209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1148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629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ó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1371600" y="30481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1371600" y="21337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1371600" y="42670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6002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7057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238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臀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漆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705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竹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676520" y="22096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419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7816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371600" y="30481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1371600" y="21337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1371600" y="426708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katongyongpin2_0062"/>
          <p:cNvPicPr/>
          <p:nvPr/>
        </p:nvPicPr>
        <p:blipFill>
          <a:blip r:embed="rId2"/>
          <a:stretch/>
        </p:blipFill>
        <p:spPr>
          <a:xfrm>
            <a:off x="380880" y="91440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gradFill rotWithShape="0">
            <a:gsLst>
              <a:gs pos="0">
                <a:srgbClr val="996600">
                  <a:alpha val="60392"/>
                </a:srgbClr>
              </a:gs>
              <a:gs pos="100000">
                <a:srgbClr val="ddcba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图片1"/>
          <p:cNvPicPr/>
          <p:nvPr/>
        </p:nvPicPr>
        <p:blipFill>
          <a:blip r:embed="rId1"/>
          <a:stretch/>
        </p:blipFill>
        <p:spPr>
          <a:xfrm>
            <a:off x="152280" y="5715000"/>
            <a:ext cx="883944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浙江       蜿蜒      额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呈现        森郁      聚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合适        臀部      稍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0:20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5:07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