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%E4%BA%AC%E8%83%A1.wav" ContentType="audio/x-wav"/>
  <Override PartName="/ppt/media/image4.png" ContentType="image/png"/>
  <Override PartName="/ppt/media/image5.gif" ContentType="image/gif"/>
  <Override PartName="/ppt/media/image6.png" ContentType="image/png"/>
  <Override PartName="/ppt/media/image7.jpeg" ContentType="image/jpeg"/>
  <Override PartName="/ppt/media/image8.gif" ContentType="image/gif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BA3-E40F-499E-83AD-B97F41499899}" type="slidenum">
              <a:rPr b="1" lang="zh-CN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69BE-4BA3-4FC5-8ABD-03723F0FF501}" type="slidenum">
              <a:rPr b="1" lang="zh-CN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D46-4DDA-48E4-A13C-83E0486F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7A9-D84E-4907-931D-0984FC55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207-EC42-43CE-98A8-0794314A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A0B-6C7C-4AF9-B0C6-199E6E7A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89A-DCD1-4BC3-AB28-6E3FC145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3B1-66DD-4644-836C-276613A9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D7A-9305-4DBC-93CC-0866C54D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441-AAE2-4BDD-9785-77390A1E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66D-AC72-4BD2-B8B4-335CF393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BDD-B08D-4500-B4C6-69B60913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577-4882-41FD-A55B-59829FDF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DC1-899F-4DDF-8DFB-CCDC246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CE5B-BC7B-48E5-95EF-78B0F81105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image" Target="../media/image2.jpeg"/><Relationship Id="rId10" Type="http://schemas.openxmlformats.org/officeDocument/2006/relationships/audio" Target="../media/&#20140;&#32993;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J:/&#22810;&#23186;&#20307;&#25945;&#23398;&#26448;&#26009;/&#35838;&#20214;/j/&#23553;&#38754;&#21450;&#30446;&#24405;.pp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109440" y="1844640"/>
            <a:ext cx="2301840" cy="4753080"/>
          </a:xfrm>
          <a:prstGeom prst="verticalScroll">
            <a:avLst>
              <a:gd name="adj" fmla="val 6282"/>
            </a:avLst>
          </a:prstGeom>
          <a:solidFill>
            <a:srgbClr val="fdf1c3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AutoShape 6">
            <a:hlinkClick r:id="rId2" action="ppaction://hlinksldjump"/>
          </p:cNvPr>
          <p:cNvSpPr/>
          <p:nvPr/>
        </p:nvSpPr>
        <p:spPr>
          <a:xfrm>
            <a:off x="468360" y="206064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形成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AutoShape 7">
            <a:hlinkClick r:id="rId3" action="ppaction://hlinksldjump"/>
          </p:cNvPr>
          <p:cNvSpPr/>
          <p:nvPr/>
        </p:nvSpPr>
        <p:spPr>
          <a:xfrm>
            <a:off x="468360" y="263700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唱腔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AutoShape 8">
            <a:hlinkClick r:id="rId4" action="ppaction://hlinksldjump"/>
          </p:cNvPr>
          <p:cNvSpPr/>
          <p:nvPr/>
        </p:nvSpPr>
        <p:spPr>
          <a:xfrm>
            <a:off x="468360" y="436572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段欣赏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AutoShape 9">
            <a:hlinkClick r:id="rId5" action="ppaction://hlinksldjump"/>
          </p:cNvPr>
          <p:cNvSpPr/>
          <p:nvPr/>
        </p:nvSpPr>
        <p:spPr>
          <a:xfrm>
            <a:off x="468360" y="4941720"/>
            <a:ext cx="1511280" cy="43200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7551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19" y="21600"/>
                </a:lnTo>
                <a:arcTo wR="3600" hR="3600" stAng="10800000" swAng="5400000"/>
                <a:lnTo>
                  <a:pt x="75519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名家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AutoShape 10">
            <a:hlinkClick r:id="rId6" action="ppaction://hlinksldjump"/>
          </p:cNvPr>
          <p:cNvSpPr/>
          <p:nvPr/>
        </p:nvSpPr>
        <p:spPr>
          <a:xfrm>
            <a:off x="468360" y="3213000"/>
            <a:ext cx="1511280" cy="43200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7551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19" y="21600"/>
                </a:lnTo>
                <a:arcTo wR="3600" hR="3600" stAng="10800000" swAng="5400000"/>
                <a:lnTo>
                  <a:pt x="75519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乐队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AutoShape 11">
            <a:hlinkClick r:id="rId7" action="ppaction://hlinksldjump"/>
          </p:cNvPr>
          <p:cNvSpPr/>
          <p:nvPr/>
        </p:nvSpPr>
        <p:spPr>
          <a:xfrm>
            <a:off x="468360" y="378936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983160" y="1717560"/>
            <a:ext cx="43858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cc3300"/>
                </a:solidFill>
                <a:latin typeface="华文行楷"/>
              </a:rPr>
              <a:t>京剧</a:t>
            </a:r>
            <a:endParaRPr b="1" lang="en-US" sz="13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AutoShape 15">
            <a:hlinkClick r:id="rId8" action="ppaction://hlinksldjump"/>
          </p:cNvPr>
          <p:cNvSpPr/>
          <p:nvPr/>
        </p:nvSpPr>
        <p:spPr>
          <a:xfrm>
            <a:off x="468360" y="551664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脸谱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57" name="Picture 17" descr="h"/>
          <p:cNvPicPr/>
          <p:nvPr/>
        </p:nvPicPr>
        <p:blipFill>
          <a:blip r:embed="rId9"/>
          <a:stretch/>
        </p:blipFill>
        <p:spPr>
          <a:xfrm>
            <a:off x="5940360" y="1738440"/>
            <a:ext cx="2808360" cy="3979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9"/>
          <p:cNvSpPr/>
          <p:nvPr/>
        </p:nvSpPr>
        <p:spPr>
          <a:xfrm>
            <a:off x="468360" y="609300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后练习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矩形 15"/>
          <p:cNvSpPr/>
          <p:nvPr/>
        </p:nvSpPr>
        <p:spPr>
          <a:xfrm>
            <a:off x="3017520" y="6127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36360" y="1916280"/>
            <a:ext cx="2374920" cy="4465440"/>
          </a:xfrm>
          <a:prstGeom prst="verticalScroll">
            <a:avLst>
              <a:gd name="adj" fmla="val 6282"/>
            </a:avLst>
          </a:prstGeom>
          <a:solidFill>
            <a:srgbClr val="fdf1c3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468360" y="227664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形成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68360" y="2852640"/>
            <a:ext cx="1511280" cy="43200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7551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19" y="21600"/>
                </a:lnTo>
                <a:arcTo wR="3600" hR="3600" stAng="10800000" swAng="5400000"/>
                <a:lnTo>
                  <a:pt x="75519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唱腔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68360" y="4581360"/>
            <a:ext cx="1511280" cy="43200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7551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19" y="21600"/>
                </a:lnTo>
                <a:arcTo wR="3600" hR="3600" stAng="10800000" swAng="5400000"/>
                <a:lnTo>
                  <a:pt x="75519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段欣赏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68360" y="5157720"/>
            <a:ext cx="1511280" cy="43200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7551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19" y="21600"/>
                </a:lnTo>
                <a:arcTo wR="3600" hR="3600" stAng="10800000" swAng="5400000"/>
                <a:lnTo>
                  <a:pt x="75519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名家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468360" y="342900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乐队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468360" y="400536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98040" y="1773360"/>
            <a:ext cx="25405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华文行楷"/>
              </a:rPr>
              <a:t>本课到此结束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华文行楷"/>
              </a:rPr>
              <a:t>同学们再见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468360" y="5734080"/>
            <a:ext cx="1511280" cy="431640"/>
          </a:xfrm>
          <a:custGeom>
            <a:avLst/>
            <a:gdLst>
              <a:gd name="textAreaLeft" fmla="*/ 50760 w 1511280"/>
              <a:gd name="textAreaRight" fmla="*/ 1460520 w 15112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755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1982" y="21600"/>
                </a:lnTo>
                <a:arcTo wR="3600" hR="3600" stAng="10800000" swAng="5400000"/>
                <a:lnTo>
                  <a:pt x="7558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京剧脸谱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1" name="Picture 12" descr="h"/>
          <p:cNvPicPr/>
          <p:nvPr/>
        </p:nvPicPr>
        <p:blipFill>
          <a:blip r:embed="rId2"/>
          <a:stretch/>
        </p:blipFill>
        <p:spPr>
          <a:xfrm>
            <a:off x="6300720" y="2100240"/>
            <a:ext cx="2311560" cy="3273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3"/>
          <p:cNvSpPr/>
          <p:nvPr/>
        </p:nvSpPr>
        <p:spPr>
          <a:xfrm>
            <a:off x="8028000" y="630864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返回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141120" y="1903320"/>
            <a:ext cx="2270160" cy="57636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850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38" y="21600"/>
                </a:lnTo>
                <a:arcTo wR="3600" hR="3600" stAng="10800000" swAng="5400000"/>
                <a:lnTo>
                  <a:pt x="85038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9280" y="5581800"/>
            <a:ext cx="2270160" cy="57600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850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91" y="21600"/>
                </a:lnTo>
                <a:arcTo wR="3600" hR="3600" stAng="10800000" swAng="5400000"/>
                <a:lnTo>
                  <a:pt x="85091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5" name="Picture 4" descr="b5"/>
          <p:cNvPicPr/>
          <p:nvPr/>
        </p:nvPicPr>
        <p:blipFill>
          <a:blip r:embed="rId2"/>
          <a:stretch/>
        </p:blipFill>
        <p:spPr>
          <a:xfrm>
            <a:off x="250920" y="2517840"/>
            <a:ext cx="2089080" cy="3039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262728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生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03640" y="126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净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780000" y="148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8472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丑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2484360" y="3213000"/>
            <a:ext cx="64764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生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行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13200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356400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56400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356400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356400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3564000" y="551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3995640" y="2276640"/>
            <a:ext cx="460872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老生：中年以上的正面人物，用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真声演唱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3995640" y="3213000"/>
            <a:ext cx="460872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小生：男性青少年，用真假声结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合演唱，嗓音宽亮中带刚劲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3995640" y="4149720"/>
            <a:ext cx="424836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武生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主要表演武将型人物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3995640" y="5084640"/>
            <a:ext cx="352908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娃娃生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主要演小男孩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AutoShape 36"/>
          <p:cNvSpPr/>
          <p:nvPr/>
        </p:nvSpPr>
        <p:spPr>
          <a:xfrm>
            <a:off x="8675640" y="631044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141120" y="1903320"/>
            <a:ext cx="2270160" cy="57636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850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38" y="21600"/>
                </a:lnTo>
                <a:arcTo wR="3600" hR="3600" stAng="10800000" swAng="5400000"/>
                <a:lnTo>
                  <a:pt x="85038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79280" y="5581800"/>
            <a:ext cx="2270160" cy="57600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850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91" y="21600"/>
                </a:lnTo>
                <a:arcTo wR="3600" hR="3600" stAng="10800000" swAng="5400000"/>
                <a:lnTo>
                  <a:pt x="85091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4" name="Picture 4" descr="b5"/>
          <p:cNvPicPr/>
          <p:nvPr/>
        </p:nvPicPr>
        <p:blipFill>
          <a:blip r:embed="rId2"/>
          <a:stretch/>
        </p:blipFill>
        <p:spPr>
          <a:xfrm>
            <a:off x="250920" y="2517840"/>
            <a:ext cx="2089080" cy="3039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62728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生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003640" y="126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净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780000" y="148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08472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丑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484360" y="3718080"/>
            <a:ext cx="647640" cy="1079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484360" y="37782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旦行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3564000" y="3429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564000" y="2708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3564000" y="38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3564000" y="486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995640" y="2421000"/>
            <a:ext cx="475308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青衣：端庄典雅的女性，重唱功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3995640" y="3500280"/>
            <a:ext cx="475308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花旦：天真或活泼的女性，都用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假声，唱腔委婉、妩媚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3995640" y="4581360"/>
            <a:ext cx="475308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武旦、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刀马旦：见于武戏中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3564000" y="5300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3564000" y="609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3995640" y="5516640"/>
            <a:ext cx="475308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老旦：老年女性，用真声演唱，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既苍劲、又柔婉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356400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8675640" y="631044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5364000" y="429264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5292720" y="4437000"/>
            <a:ext cx="57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3132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41120" y="1903320"/>
            <a:ext cx="2270160" cy="57636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850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38" y="21600"/>
                </a:lnTo>
                <a:arcTo wR="3600" hR="3600" stAng="10800000" swAng="5400000"/>
                <a:lnTo>
                  <a:pt x="85038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79280" y="5581800"/>
            <a:ext cx="2270160" cy="57600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850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91" y="21600"/>
                </a:lnTo>
                <a:arcTo wR="3600" hR="3600" stAng="10800000" swAng="5400000"/>
                <a:lnTo>
                  <a:pt x="85091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8" name="Picture 4" descr="b5"/>
          <p:cNvPicPr/>
          <p:nvPr/>
        </p:nvPicPr>
        <p:blipFill>
          <a:blip r:embed="rId2"/>
          <a:stretch/>
        </p:blipFill>
        <p:spPr>
          <a:xfrm>
            <a:off x="250920" y="2517840"/>
            <a:ext cx="2089080" cy="3039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62728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生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003640" y="126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净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780000" y="148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084720" y="112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丑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484360" y="3429000"/>
            <a:ext cx="64764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519280" y="34909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净行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3564000" y="342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356400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356400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995640" y="2276640"/>
            <a:ext cx="475308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铜锤：地位较高有威望的人物，又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称黑头，用真声演唱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3995640" y="3573360"/>
            <a:ext cx="475308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架子花脸：粗犷豪放的人物或权奸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人物，偏重表现气势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3564000" y="5300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356400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3995640" y="4941720"/>
            <a:ext cx="475308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武净：重武打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56400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8675640" y="630864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3132000" y="40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文本框 1"/>
          <p:cNvSpPr/>
          <p:nvPr/>
        </p:nvSpPr>
        <p:spPr>
          <a:xfrm>
            <a:off x="179280" y="62164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更多免费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PPT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模板尽在：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http://www.eeppt.co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141120" y="1903320"/>
            <a:ext cx="2127240" cy="576360"/>
          </a:xfrm>
          <a:custGeom>
            <a:avLst/>
            <a:gdLst>
              <a:gd name="textAreaLeft" fmla="*/ 67680 w 2127240"/>
              <a:gd name="textAreaRight" fmla="*/ 2059560 w 212724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7968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085" y="21600"/>
                </a:lnTo>
                <a:arcTo wR="3600" hR="3600" stAng="10800000" swAng="5400000"/>
                <a:lnTo>
                  <a:pt x="79685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79280" y="5581800"/>
            <a:ext cx="2160720" cy="576000"/>
          </a:xfrm>
          <a:custGeom>
            <a:avLst/>
            <a:gdLst>
              <a:gd name="textAreaLeft" fmla="*/ 67680 w 2160720"/>
              <a:gd name="textAreaRight" fmla="*/ 2093040 w 216072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8099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7390" y="21600"/>
                </a:lnTo>
                <a:arcTo wR="3600" hR="3600" stAng="10800000" swAng="5400000"/>
                <a:lnTo>
                  <a:pt x="80990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9" name="Picture 4" descr="b5"/>
          <p:cNvPicPr/>
          <p:nvPr/>
        </p:nvPicPr>
        <p:blipFill>
          <a:blip r:embed="rId2"/>
          <a:stretch/>
        </p:blipFill>
        <p:spPr>
          <a:xfrm>
            <a:off x="250920" y="2517840"/>
            <a:ext cx="1944720" cy="30398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627280" y="17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生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003640" y="119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净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780000" y="1341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84720" y="98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丑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3564000" y="5300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8675640" y="630864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374920" y="2357280"/>
          <a:ext cx="6734160" cy="3382920"/>
        </p:xfrm>
        <a:graphic>
          <a:graphicData uri="http://schemas.openxmlformats.org/drawingml/2006/table">
            <a:tbl>
              <a:tblPr/>
              <a:tblGrid>
                <a:gridCol w="6734160"/>
              </a:tblGrid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9900"/>
                          </a:solidFill>
                          <a:latin typeface="华文行楷"/>
                          <a:ea typeface="华文行楷"/>
                        </a:rPr>
                        <a:t>丑行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又叫</a:t>
                      </a:r>
                      <a:r>
                        <a:rPr b="0" lang="zh-CN" sz="2400" spc="-1" strike="noStrike" u="sng">
                          <a:solidFill>
                            <a:srgbClr val="cc3300"/>
                          </a:solidFill>
                          <a:uFillTx/>
                          <a:latin typeface="华文行楷"/>
                          <a:ea typeface="华文行楷"/>
                        </a:rPr>
                        <a:t>小花脸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，或</a:t>
                      </a:r>
                      <a:r>
                        <a:rPr b="0" lang="zh-CN" sz="2400" spc="-1" strike="noStrike" u="sng">
                          <a:solidFill>
                            <a:srgbClr val="cc3300"/>
                          </a:solidFill>
                          <a:uFillTx/>
                          <a:latin typeface="华文行楷"/>
                          <a:ea typeface="华文行楷"/>
                        </a:rPr>
                        <a:t>三花脸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。其扮相是在鼻梁上用白粉涂抹粉块，有几种形状：方形、元宝形、倒元宝形（腰籽形）、枣核形等。丑行分为</a:t>
                      </a:r>
                      <a:r>
                        <a:rPr b="0" lang="zh-CN" sz="2400" spc="-1" strike="noStrike">
                          <a:solidFill>
                            <a:srgbClr val="009900"/>
                          </a:solidFill>
                          <a:latin typeface="华文行楷"/>
                          <a:ea typeface="华文行楷"/>
                        </a:rPr>
                        <a:t>文丑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和</a:t>
                      </a:r>
                      <a:r>
                        <a:rPr b="0" lang="zh-CN" sz="2400" spc="-1" strike="noStrike">
                          <a:solidFill>
                            <a:srgbClr val="009900"/>
                          </a:solidFill>
                          <a:latin typeface="华文行楷"/>
                          <a:ea typeface="华文行楷"/>
                        </a:rPr>
                        <a:t>武丑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两类。文丑分为：</a:t>
                      </a:r>
                      <a:r>
                        <a:rPr b="0" lang="zh-CN" sz="2400" spc="-1" strike="noStrike" u="sng">
                          <a:solidFill>
                            <a:srgbClr val="cc3300"/>
                          </a:solidFill>
                          <a:uFillTx/>
                          <a:latin typeface="华文行楷"/>
                          <a:ea typeface="华文行楷"/>
                        </a:rPr>
                        <a:t>方巾丑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、</a:t>
                      </a:r>
                      <a:r>
                        <a:rPr b="0" lang="zh-CN" sz="2400" spc="-1" strike="noStrike" u="sng">
                          <a:solidFill>
                            <a:srgbClr val="cc3300"/>
                          </a:solidFill>
                          <a:uFillTx/>
                          <a:latin typeface="华文行楷"/>
                          <a:ea typeface="华文行楷"/>
                        </a:rPr>
                        <a:t>袍带丑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、</a:t>
                      </a:r>
                      <a:r>
                        <a:rPr b="0" lang="zh-CN" sz="2400" spc="-1" strike="noStrike" u="sng">
                          <a:solidFill>
                            <a:srgbClr val="cc3300"/>
                          </a:solidFill>
                          <a:uFillTx/>
                          <a:latin typeface="华文行楷"/>
                          <a:ea typeface="华文行楷"/>
                        </a:rPr>
                        <a:t>茶衣丑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、</a:t>
                      </a:r>
                      <a:r>
                        <a:rPr b="0" lang="zh-CN" sz="2400" spc="-1" strike="noStrike" u="sng">
                          <a:solidFill>
                            <a:srgbClr val="cc3300"/>
                          </a:solidFill>
                          <a:uFillTx/>
                          <a:latin typeface="华文行楷"/>
                          <a:ea typeface="华文行楷"/>
                        </a:rPr>
                        <a:t>巾子丑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华文行楷"/>
                          <a:ea typeface="华文行楷"/>
                        </a:rPr>
                        <a:t>等。方巾丑扮演有文化的人，带点儿迂腐的酸气，头戴方巾，手里拿扇子，迈着四方步，举止缓慢文雅；袍带丑扮演官吏，戴纱帽，穿官衣；最多见的是茶衣丑，短蓝布褂子，扮演的大多是普通人。 </a:t>
                      </a:r>
                      <a:endParaRPr b="1" lang="en-US" sz="2400" spc="-1" strike="noStrike">
                        <a:solidFill>
                          <a:srgbClr val="cc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377A-3A9F-465C-BA5A-653EEBBA15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60480" y="1870200"/>
            <a:ext cx="2411280" cy="576000"/>
          </a:xfrm>
          <a:custGeom>
            <a:avLst/>
            <a:gdLst>
              <a:gd name="textAreaLeft" fmla="*/ 67680 w 2411280"/>
              <a:gd name="textAreaRight" fmla="*/ 2343600 w 241128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903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780" y="21600"/>
                </a:lnTo>
                <a:arcTo wR="3600" hR="3600" stAng="10800000" swAng="5400000"/>
                <a:lnTo>
                  <a:pt x="90380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剧的形成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3132000" y="20606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京剧距今约有</a:t>
            </a: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200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多年的历史，因形成于北京而得名。</a:t>
            </a: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1790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年，乾隆皇帝</a:t>
            </a: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80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大寿，四大徽班进京，带进了二黄腔；</a:t>
            </a: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19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世纪初，湖北艺人进京参加徽班演出，又加进了西皮腔，后结合西皮腔，吸收昆曲、秦腔等多种戏曲的长处，并引用当地的民间曲调，形成京剧。真正意义上的形成则应在</a:t>
            </a:r>
            <a:r>
              <a:rPr b="1" lang="en-US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1840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年后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2" name="Picture 29" descr="b6"/>
          <p:cNvPicPr/>
          <p:nvPr/>
        </p:nvPicPr>
        <p:blipFill>
          <a:blip r:embed="rId2"/>
          <a:stretch/>
        </p:blipFill>
        <p:spPr>
          <a:xfrm>
            <a:off x="179280" y="2467080"/>
            <a:ext cx="2232000" cy="3105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0"/>
          <p:cNvSpPr/>
          <p:nvPr/>
        </p:nvSpPr>
        <p:spPr>
          <a:xfrm>
            <a:off x="63360" y="5589720"/>
            <a:ext cx="2411640" cy="576000"/>
          </a:xfrm>
          <a:custGeom>
            <a:avLst/>
            <a:gdLst>
              <a:gd name="textAreaLeft" fmla="*/ 67680 w 2411640"/>
              <a:gd name="textAreaRight" fmla="*/ 2343960 w 241164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903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794" y="21600"/>
                </a:lnTo>
                <a:arcTo wR="3600" hR="3600" stAng="10800000" swAng="5400000"/>
                <a:lnTo>
                  <a:pt x="90394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剧的形成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AutoShape 32">
            <a:hlinkClick r:id="" action="ppaction://hlinkshowjump?jump=firstslide"/>
          </p:cNvPr>
          <p:cNvSpPr/>
          <p:nvPr/>
        </p:nvSpPr>
        <p:spPr>
          <a:xfrm>
            <a:off x="8604360" y="6237360"/>
            <a:ext cx="360360" cy="4302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0200"/>
              <a:gd name="textAreaBottom" fmla="*/ 407160 h 430200"/>
            </a:gdLst>
            <a:ahLst/>
            <a:rect l="textAreaLeft" t="textAreaTop" r="textAreaRight" b="textAreaBottom"/>
            <a:pathLst>
              <a:path w="21600" h="25782">
                <a:moveTo>
                  <a:pt x="0" y="0"/>
                </a:moveTo>
                <a:lnTo>
                  <a:pt x="21600" y="0"/>
                </a:lnTo>
                <a:lnTo>
                  <a:pt x="21600" y="25782"/>
                </a:lnTo>
                <a:lnTo>
                  <a:pt x="0" y="25782"/>
                </a:lnTo>
                <a:close/>
              </a:path>
              <a:path fill="lightenLess" w="21600" h="257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82">
                <a:moveTo>
                  <a:pt x="21600" y="0"/>
                </a:moveTo>
                <a:lnTo>
                  <a:pt x="21600" y="25782"/>
                </a:lnTo>
                <a:lnTo>
                  <a:pt x="20200" y="24382"/>
                </a:lnTo>
                <a:lnTo>
                  <a:pt x="20200" y="1400"/>
                </a:lnTo>
                <a:close/>
              </a:path>
              <a:path fill="darkenLess" w="21600" h="25782">
                <a:moveTo>
                  <a:pt x="21600" y="25782"/>
                </a:moveTo>
                <a:lnTo>
                  <a:pt x="0" y="25782"/>
                </a:lnTo>
                <a:lnTo>
                  <a:pt x="1400" y="24382"/>
                </a:lnTo>
                <a:lnTo>
                  <a:pt x="20200" y="24382"/>
                </a:lnTo>
                <a:close/>
              </a:path>
              <a:path fill="lighten" w="21600" h="25782">
                <a:moveTo>
                  <a:pt x="0" y="257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82"/>
                </a:lnTo>
                <a:close/>
              </a:path>
              <a:path fill="darken" w="21600" h="25782">
                <a:moveTo>
                  <a:pt x="10800" y="5928"/>
                </a:moveTo>
                <a:lnTo>
                  <a:pt x="13376" y="8539"/>
                </a:lnTo>
                <a:lnTo>
                  <a:pt x="13376" y="6798"/>
                </a:lnTo>
                <a:lnTo>
                  <a:pt x="15152" y="6798"/>
                </a:lnTo>
                <a:lnTo>
                  <a:pt x="15152" y="10315"/>
                </a:lnTo>
                <a:lnTo>
                  <a:pt x="17763" y="12891"/>
                </a:lnTo>
                <a:lnTo>
                  <a:pt x="16109" y="12891"/>
                </a:lnTo>
                <a:lnTo>
                  <a:pt x="16109" y="20080"/>
                </a:lnTo>
                <a:lnTo>
                  <a:pt x="5491" y="20080"/>
                </a:lnTo>
                <a:lnTo>
                  <a:pt x="5491" y="12891"/>
                </a:lnTo>
                <a:lnTo>
                  <a:pt x="3837" y="12891"/>
                </a:lnTo>
                <a:close/>
              </a:path>
              <a:path fill="darkenLess" w="21600" h="25782">
                <a:moveTo>
                  <a:pt x="13376" y="8539"/>
                </a:moveTo>
                <a:lnTo>
                  <a:pt x="13376" y="6798"/>
                </a:lnTo>
                <a:lnTo>
                  <a:pt x="15152" y="6798"/>
                </a:lnTo>
                <a:lnTo>
                  <a:pt x="15152" y="10315"/>
                </a:lnTo>
                <a:close/>
              </a:path>
              <a:path fill="darkenLess" w="21600" h="25782">
                <a:moveTo>
                  <a:pt x="9877" y="16390"/>
                </a:moveTo>
                <a:lnTo>
                  <a:pt x="11723" y="16390"/>
                </a:lnTo>
                <a:lnTo>
                  <a:pt x="11723" y="20080"/>
                </a:lnTo>
                <a:lnTo>
                  <a:pt x="16109" y="20080"/>
                </a:lnTo>
                <a:lnTo>
                  <a:pt x="16109" y="12891"/>
                </a:lnTo>
                <a:lnTo>
                  <a:pt x="5491" y="12891"/>
                </a:lnTo>
                <a:lnTo>
                  <a:pt x="5491" y="20080"/>
                </a:lnTo>
                <a:lnTo>
                  <a:pt x="9877" y="2008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108000" y="1844640"/>
            <a:ext cx="2663640" cy="647640"/>
          </a:xfrm>
          <a:custGeom>
            <a:avLst/>
            <a:gdLst>
              <a:gd name="textAreaLeft" fmla="*/ 76320 w 2663640"/>
              <a:gd name="textAreaRight" fmla="*/ 2587320 w 266364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8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200" y="21600"/>
                </a:lnTo>
                <a:arcTo wR="3600" hR="3600" stAng="10800000" swAng="5400000"/>
                <a:lnTo>
                  <a:pt x="88800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的唱腔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41120" y="5759280"/>
            <a:ext cx="2592720" cy="648000"/>
          </a:xfrm>
          <a:custGeom>
            <a:avLst/>
            <a:gdLst>
              <a:gd name="textAreaLeft" fmla="*/ 76320 w 2592720"/>
              <a:gd name="textAreaRight" fmla="*/ 2516400 w 2592720"/>
              <a:gd name="textAreaTop" fmla="*/ 76320 h 648000"/>
              <a:gd name="textAreaBottom" fmla="*/ 571680 h 648000"/>
            </a:gdLst>
            <a:ahLst/>
            <a:rect l="textAreaLeft" t="textAreaTop" r="textAreaRight" b="textAreaBottom"/>
            <a:pathLst>
              <a:path w="863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88" y="21600"/>
                </a:lnTo>
                <a:arcTo wR="3600" hR="3600" stAng="10800000" swAng="5400000"/>
                <a:lnTo>
                  <a:pt x="86388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的唱腔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7" name="Picture 7" descr="b7"/>
          <p:cNvPicPr/>
          <p:nvPr/>
        </p:nvPicPr>
        <p:blipFill>
          <a:blip r:embed="rId2"/>
          <a:stretch/>
        </p:blipFill>
        <p:spPr>
          <a:xfrm>
            <a:off x="250920" y="2530440"/>
            <a:ext cx="2371680" cy="3203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3059280" y="1870200"/>
            <a:ext cx="5400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京剧的唱腔以皮黄腔为主，其对皮黄腔的使用，是所有使用皮黄腔剧种中最为成熟完善的。皮黄腔指西皮与二黄两种声腔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西皮腔是秦腔与襄阳地区民间音乐相结合演变而成的，刚劲明快，长于表现灵活、昂扬、欢快之情；二黄腔形成于南方，曲调沉稳，苍凉深沉，长于抒发悲沉激愤之情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AutoShape 9">
            <a:hlinkClick r:id="" action="ppaction://hlinkshowjump?jump=firstslide"/>
          </p:cNvPr>
          <p:cNvSpPr/>
          <p:nvPr/>
        </p:nvSpPr>
        <p:spPr>
          <a:xfrm>
            <a:off x="8675640" y="63086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10800" y="6025"/>
                </a:moveTo>
                <a:lnTo>
                  <a:pt x="13376" y="8636"/>
                </a:ln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lnTo>
                  <a:pt x="17763" y="12988"/>
                </a:lnTo>
                <a:lnTo>
                  <a:pt x="16109" y="12988"/>
                </a:lnTo>
                <a:lnTo>
                  <a:pt x="16109" y="20177"/>
                </a:lnTo>
                <a:lnTo>
                  <a:pt x="5491" y="20177"/>
                </a:lnTo>
                <a:lnTo>
                  <a:pt x="5491" y="12988"/>
                </a:lnTo>
                <a:lnTo>
                  <a:pt x="3837" y="12988"/>
                </a:lnTo>
                <a:close/>
              </a:path>
              <a:path fill="darkenLess" w="21600" h="25976">
                <a:moveTo>
                  <a:pt x="13376" y="8636"/>
                </a:move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close/>
              </a:path>
              <a:path fill="darkenLess" w="21600" h="25976">
                <a:moveTo>
                  <a:pt x="9877" y="16487"/>
                </a:moveTo>
                <a:lnTo>
                  <a:pt x="11723" y="16487"/>
                </a:lnTo>
                <a:lnTo>
                  <a:pt x="11723" y="20177"/>
                </a:lnTo>
                <a:lnTo>
                  <a:pt x="16109" y="20177"/>
                </a:lnTo>
                <a:lnTo>
                  <a:pt x="16109" y="12988"/>
                </a:lnTo>
                <a:lnTo>
                  <a:pt x="5491" y="12988"/>
                </a:lnTo>
                <a:lnTo>
                  <a:pt x="5491" y="20177"/>
                </a:lnTo>
                <a:lnTo>
                  <a:pt x="9877" y="20177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108000" y="1989000"/>
            <a:ext cx="2448000" cy="649440"/>
          </a:xfrm>
          <a:custGeom>
            <a:avLst/>
            <a:gdLst>
              <a:gd name="textAreaLeft" fmla="*/ 76320 w 2448000"/>
              <a:gd name="textAreaRight" fmla="*/ 2371680 w 2448000"/>
              <a:gd name="textAreaTop" fmla="*/ 76320 h 649440"/>
              <a:gd name="textAreaBottom" fmla="*/ 573120 h 649440"/>
            </a:gdLst>
            <a:ahLst/>
            <a:rect l="textAreaLeft" t="textAreaTop" r="textAreaRight" b="textAreaBottom"/>
            <a:pathLst>
              <a:path w="813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7786" y="21600"/>
                </a:lnTo>
                <a:arcTo wR="3600" hR="3600" stAng="10800000" swAng="5400000"/>
                <a:lnTo>
                  <a:pt x="81386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剧的乐队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08000" y="5529240"/>
            <a:ext cx="2448000" cy="649440"/>
          </a:xfrm>
          <a:custGeom>
            <a:avLst/>
            <a:gdLst>
              <a:gd name="textAreaLeft" fmla="*/ 76320 w 2448000"/>
              <a:gd name="textAreaRight" fmla="*/ 2371680 w 2448000"/>
              <a:gd name="textAreaTop" fmla="*/ 76320 h 649440"/>
              <a:gd name="textAreaBottom" fmla="*/ 573120 h 649440"/>
            </a:gdLst>
            <a:ahLst/>
            <a:rect l="textAreaLeft" t="textAreaTop" r="textAreaRight" b="textAreaBottom"/>
            <a:pathLst>
              <a:path w="813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7786" y="21600"/>
                </a:lnTo>
                <a:arcTo wR="3600" hR="3600" stAng="10800000" swAng="5400000"/>
                <a:lnTo>
                  <a:pt x="81386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剧的乐队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700360" y="3666600"/>
            <a:ext cx="62276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戏曲乐队中管弦乐部分称为“文场”，由胡琴、月琴、琵琶、阮等组成。打击乐部分称为“武场”，由鼓、板、锣、铙钹等组成。合称为“文武场”，或叫“场面”。文场的作用主要是为演唱进行伴奏，并演奏为配合表演而用的场景音乐。乐器包括：曲笛、唢呐、京胡、小三弦、阮、京二胡、琵琶 、板胡、月琴。武场的任务是配合演员的身段动作、念白、演唱、舞蹈、开打，使其起止明确、节奏鲜明。此外，场次的转换、舞台情绪渲染等也都由武场承担。武场乐器有：锣、钹、鼓、鼓板（击次重或弱拍，即“眼”；击重拍，即“板”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3" name="Picture 8" descr="未命名-1"/>
          <p:cNvPicPr/>
          <p:nvPr/>
        </p:nvPicPr>
        <p:blipFill>
          <a:blip r:embed="rId2"/>
          <a:stretch/>
        </p:blipFill>
        <p:spPr>
          <a:xfrm>
            <a:off x="250920" y="2806560"/>
            <a:ext cx="1971720" cy="26384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9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41120" y="1903320"/>
            <a:ext cx="2270160" cy="57636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850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38" y="21600"/>
                </a:lnTo>
                <a:arcTo wR="3600" hR="3600" stAng="10800000" swAng="5400000"/>
                <a:lnTo>
                  <a:pt x="85038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79280" y="5581800"/>
            <a:ext cx="2270160" cy="576000"/>
          </a:xfrm>
          <a:custGeom>
            <a:avLst/>
            <a:gdLst>
              <a:gd name="textAreaLeft" fmla="*/ 67680 w 2270160"/>
              <a:gd name="textAreaRight" fmla="*/ 2202480 w 227016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850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91" y="21600"/>
                </a:lnTo>
                <a:arcTo wR="3600" hR="3600" stAng="10800000" swAng="5400000"/>
                <a:lnTo>
                  <a:pt x="85091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剧的行当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8" name="Picture 6" descr="b5"/>
          <p:cNvPicPr/>
          <p:nvPr/>
        </p:nvPicPr>
        <p:blipFill>
          <a:blip r:embed="rId2"/>
          <a:stretch/>
        </p:blipFill>
        <p:spPr>
          <a:xfrm>
            <a:off x="324000" y="2550960"/>
            <a:ext cx="1871640" cy="2967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771640" y="2781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行当：是戏曲演员扮演不同角色的分工类别，京剧发展至今，可归并为生、旦、净、丑四大行当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2627280" y="1892160"/>
            <a:ext cx="720720" cy="6955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Oval 16">
            <a:hlinkClick r:id="rId3" action="ppaction://hlinksldjump"/>
          </p:cNvPr>
          <p:cNvSpPr/>
          <p:nvPr/>
        </p:nvSpPr>
        <p:spPr>
          <a:xfrm>
            <a:off x="3851280" y="1464120"/>
            <a:ext cx="720720" cy="7358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旦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Oval 17">
            <a:hlinkClick r:id="rId4" action="ppaction://hlinksldjump"/>
          </p:cNvPr>
          <p:cNvSpPr/>
          <p:nvPr/>
        </p:nvSpPr>
        <p:spPr>
          <a:xfrm>
            <a:off x="4932360" y="1248120"/>
            <a:ext cx="720720" cy="7358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Oval 18">
            <a:hlinkClick r:id="rId5" action="ppaction://hlinksldjump"/>
          </p:cNvPr>
          <p:cNvSpPr/>
          <p:nvPr/>
        </p:nvSpPr>
        <p:spPr>
          <a:xfrm>
            <a:off x="6084720" y="1032480"/>
            <a:ext cx="720720" cy="7358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丑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Text Box 19">
            <a:hlinkClick r:id="rId6" action="ppaction://hlinksldjump"/>
          </p:cNvPr>
          <p:cNvSpPr/>
          <p:nvPr/>
        </p:nvSpPr>
        <p:spPr>
          <a:xfrm>
            <a:off x="270036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生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AutoShape 21">
            <a:hlinkClick r:id="rId7" action="ppaction://hlinksldjump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101520" y="1890720"/>
            <a:ext cx="2158920" cy="576360"/>
          </a:xfrm>
          <a:custGeom>
            <a:avLst/>
            <a:gdLst>
              <a:gd name="textAreaLeft" fmla="*/ 67680 w 2158920"/>
              <a:gd name="textAreaRight" fmla="*/ 2091240 w 215892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808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7272" y="21600"/>
                </a:lnTo>
                <a:arcTo wR="3600" hR="3600" stAng="10800000" swAng="5400000"/>
                <a:lnTo>
                  <a:pt x="8087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剧名家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08000" y="5373720"/>
            <a:ext cx="2158920" cy="576360"/>
          </a:xfrm>
          <a:custGeom>
            <a:avLst/>
            <a:gdLst>
              <a:gd name="textAreaLeft" fmla="*/ 67680 w 2158920"/>
              <a:gd name="textAreaRight" fmla="*/ 2091240 w 215892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808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7272" y="21600"/>
                </a:lnTo>
                <a:arcTo wR="3600" hR="3600" stAng="10800000" swAng="5400000"/>
                <a:lnTo>
                  <a:pt x="8087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剧名家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8" name="Picture 6" descr="7973,ac839c,eb4,1"/>
          <p:cNvPicPr/>
          <p:nvPr/>
        </p:nvPicPr>
        <p:blipFill>
          <a:blip r:embed="rId2"/>
          <a:stretch/>
        </p:blipFill>
        <p:spPr>
          <a:xfrm>
            <a:off x="250920" y="2492280"/>
            <a:ext cx="187308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2484360" y="2422800"/>
            <a:ext cx="64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京剧名家有：余三胜、张二奎、程长庚、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谭鑫培、程砚秋、张君秋、裘盛戎等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北方名家有四大名旦：梅兰芳、程砚秋、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尚小云、荀慧生；四大须生：余叔岩、言菊朋、高庆奎、马连良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南方有周信芳的麒派、欧阳予倩的南通伶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工学社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0" name="Picture 8" descr="pict"/>
          <p:cNvPicPr/>
          <p:nvPr/>
        </p:nvPicPr>
        <p:blipFill>
          <a:blip r:embed="rId3"/>
          <a:stretch/>
        </p:blipFill>
        <p:spPr>
          <a:xfrm>
            <a:off x="5148360" y="5084640"/>
            <a:ext cx="749160" cy="93672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" action="ppaction://hlinkshowjump?jump=firstslide"/>
          </p:cNvPr>
          <p:cNvSpPr/>
          <p:nvPr/>
        </p:nvSpPr>
        <p:spPr>
          <a:xfrm>
            <a:off x="8675640" y="631044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50920" y="1916280"/>
            <a:ext cx="2158920" cy="718920"/>
          </a:xfrm>
          <a:custGeom>
            <a:avLst/>
            <a:gdLst>
              <a:gd name="textAreaLeft" fmla="*/ 84600 w 2158920"/>
              <a:gd name="textAreaRight" fmla="*/ 2074320 w 2158920"/>
              <a:gd name="textAreaTop" fmla="*/ 84600 h 718920"/>
              <a:gd name="textAreaBottom" fmla="*/ 634320 h 718920"/>
            </a:gdLst>
            <a:ahLst/>
            <a:rect l="textAreaLeft" t="textAreaTop" r="textAreaRight" b="textAreaBottom"/>
            <a:pathLst>
              <a:path w="648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243" y="21600"/>
                </a:lnTo>
                <a:arcTo wR="3600" hR="3600" stAng="10800000" swAng="5400000"/>
                <a:lnTo>
                  <a:pt x="64843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京剧脸谱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3" name="Picture 5" descr="slm10"/>
          <p:cNvPicPr/>
          <p:nvPr/>
        </p:nvPicPr>
        <p:blipFill>
          <a:blip r:embed="rId2"/>
          <a:stretch/>
        </p:blipFill>
        <p:spPr>
          <a:xfrm>
            <a:off x="395280" y="2674800"/>
            <a:ext cx="1873080" cy="25210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250920" y="5229360"/>
            <a:ext cx="2158920" cy="718920"/>
          </a:xfrm>
          <a:custGeom>
            <a:avLst/>
            <a:gdLst>
              <a:gd name="textAreaLeft" fmla="*/ 84600 w 2158920"/>
              <a:gd name="textAreaRight" fmla="*/ 2074320 w 2158920"/>
              <a:gd name="textAreaTop" fmla="*/ 84600 h 718920"/>
              <a:gd name="textAreaBottom" fmla="*/ 634320 h 718920"/>
            </a:gdLst>
            <a:ahLst/>
            <a:rect l="textAreaLeft" t="textAreaTop" r="textAreaRight" b="textAreaBottom"/>
            <a:pathLst>
              <a:path w="648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243" y="21600"/>
                </a:lnTo>
                <a:arcTo wR="3600" hR="3600" stAng="10800000" swAng="5400000"/>
                <a:lnTo>
                  <a:pt x="64843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京剧脸谱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5" name="Picture 7" descr="hf"/>
          <p:cNvPicPr/>
          <p:nvPr/>
        </p:nvPicPr>
        <p:blipFill>
          <a:blip r:embed="rId3"/>
          <a:stretch/>
        </p:blipFill>
        <p:spPr>
          <a:xfrm>
            <a:off x="2484360" y="1844640"/>
            <a:ext cx="6588360" cy="43927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>
            <a:hlinkClick r:id="rId4" action="ppaction://hlinksldjump"/>
          </p:cNvPr>
          <p:cNvSpPr/>
          <p:nvPr/>
        </p:nvSpPr>
        <p:spPr>
          <a:xfrm>
            <a:off x="8639280" y="6337440"/>
            <a:ext cx="396720" cy="40464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031">
                <a:moveTo>
                  <a:pt x="0" y="0"/>
                </a:moveTo>
                <a:lnTo>
                  <a:pt x="21600" y="0"/>
                </a:lnTo>
                <a:lnTo>
                  <a:pt x="21600" y="22031"/>
                </a:lnTo>
                <a:lnTo>
                  <a:pt x="0" y="22031"/>
                </a:lnTo>
                <a:close/>
              </a:path>
              <a:path fill="lightenLess" w="21600" h="22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31">
                <a:moveTo>
                  <a:pt x="21600" y="0"/>
                </a:moveTo>
                <a:lnTo>
                  <a:pt x="21600" y="22031"/>
                </a:lnTo>
                <a:lnTo>
                  <a:pt x="20200" y="20631"/>
                </a:lnTo>
                <a:lnTo>
                  <a:pt x="20200" y="1400"/>
                </a:lnTo>
                <a:close/>
              </a:path>
              <a:path fill="darkenLess" w="21600" h="22031">
                <a:moveTo>
                  <a:pt x="21600" y="22031"/>
                </a:moveTo>
                <a:lnTo>
                  <a:pt x="0" y="22031"/>
                </a:lnTo>
                <a:lnTo>
                  <a:pt x="1400" y="20631"/>
                </a:lnTo>
                <a:lnTo>
                  <a:pt x="20200" y="20631"/>
                </a:lnTo>
                <a:close/>
              </a:path>
              <a:path fill="lighten" w="21600" h="22031">
                <a:moveTo>
                  <a:pt x="0" y="22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31"/>
                </a:lnTo>
                <a:close/>
              </a:path>
              <a:path fill="darken" w="21600" h="22031">
                <a:moveTo>
                  <a:pt x="10800" y="4052"/>
                </a:moveTo>
                <a:lnTo>
                  <a:pt x="13376" y="6664"/>
                </a:lnTo>
                <a:lnTo>
                  <a:pt x="13376" y="4923"/>
                </a:lnTo>
                <a:lnTo>
                  <a:pt x="15152" y="4923"/>
                </a:lnTo>
                <a:lnTo>
                  <a:pt x="15152" y="8439"/>
                </a:lnTo>
                <a:lnTo>
                  <a:pt x="17763" y="11015"/>
                </a:lnTo>
                <a:lnTo>
                  <a:pt x="16109" y="11015"/>
                </a:lnTo>
                <a:lnTo>
                  <a:pt x="16109" y="18205"/>
                </a:lnTo>
                <a:lnTo>
                  <a:pt x="5491" y="18205"/>
                </a:lnTo>
                <a:lnTo>
                  <a:pt x="5491" y="11015"/>
                </a:lnTo>
                <a:lnTo>
                  <a:pt x="3837" y="11015"/>
                </a:lnTo>
                <a:close/>
              </a:path>
              <a:path fill="darkenLess" w="21600" h="22031">
                <a:moveTo>
                  <a:pt x="13376" y="6664"/>
                </a:moveTo>
                <a:lnTo>
                  <a:pt x="13376" y="4923"/>
                </a:lnTo>
                <a:lnTo>
                  <a:pt x="15152" y="4923"/>
                </a:lnTo>
                <a:lnTo>
                  <a:pt x="15152" y="8439"/>
                </a:lnTo>
                <a:close/>
              </a:path>
              <a:path fill="darkenLess" w="21600" h="22031">
                <a:moveTo>
                  <a:pt x="9877" y="14514"/>
                </a:moveTo>
                <a:lnTo>
                  <a:pt x="11723" y="14514"/>
                </a:lnTo>
                <a:lnTo>
                  <a:pt x="11723" y="18205"/>
                </a:lnTo>
                <a:lnTo>
                  <a:pt x="16109" y="18205"/>
                </a:lnTo>
                <a:lnTo>
                  <a:pt x="16109" y="11015"/>
                </a:lnTo>
                <a:lnTo>
                  <a:pt x="5491" y="11015"/>
                </a:lnTo>
                <a:lnTo>
                  <a:pt x="5491" y="18205"/>
                </a:lnTo>
                <a:lnTo>
                  <a:pt x="9877" y="18205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/>
          <p:cNvSpPr/>
          <p:nvPr/>
        </p:nvSpPr>
        <p:spPr>
          <a:xfrm>
            <a:off x="108000" y="2133720"/>
            <a:ext cx="2448000" cy="718920"/>
          </a:xfrm>
          <a:custGeom>
            <a:avLst/>
            <a:gdLst>
              <a:gd name="textAreaLeft" fmla="*/ 84600 w 2448000"/>
              <a:gd name="textAreaRight" fmla="*/ 2363400 w 2448000"/>
              <a:gd name="textAreaTop" fmla="*/ 84600 h 718920"/>
              <a:gd name="textAreaBottom" fmla="*/ 634320 h 718920"/>
            </a:gdLst>
            <a:ahLst/>
            <a:rect l="textAreaLeft" t="textAreaTop" r="textAreaRight" b="textAreaBottom"/>
            <a:pathLst>
              <a:path w="735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9924" y="21600"/>
                </a:lnTo>
                <a:arcTo wR="3600" hR="3600" stAng="10800000" swAng="5400000"/>
                <a:lnTo>
                  <a:pt x="73524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段欣赏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79280" y="2851200"/>
            <a:ext cx="2016360" cy="3025800"/>
          </a:xfrm>
          <a:prstGeom prst="vertic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00080" y="5516640"/>
            <a:ext cx="2455920" cy="718920"/>
          </a:xfrm>
          <a:custGeom>
            <a:avLst/>
            <a:gdLst>
              <a:gd name="textAreaLeft" fmla="*/ 84600 w 2455920"/>
              <a:gd name="textAreaRight" fmla="*/ 2371320 w 2455920"/>
              <a:gd name="textAreaTop" fmla="*/ 84600 h 718920"/>
              <a:gd name="textAreaBottom" fmla="*/ 634320 h 718920"/>
            </a:gdLst>
            <a:ahLst/>
            <a:rect l="textAreaLeft" t="textAreaTop" r="textAreaRight" b="textAreaBottom"/>
            <a:pathLst>
              <a:path w="737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0162" y="21600"/>
                </a:lnTo>
                <a:arcTo wR="3600" hR="3600" stAng="10800000" swAng="5400000"/>
                <a:lnTo>
                  <a:pt x="73762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段欣赏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Picture 13" descr="未命名-1"/>
          <p:cNvPicPr/>
          <p:nvPr/>
        </p:nvPicPr>
        <p:blipFill>
          <a:blip r:embed="rId2"/>
          <a:stretch/>
        </p:blipFill>
        <p:spPr>
          <a:xfrm>
            <a:off x="324000" y="2924280"/>
            <a:ext cx="2016000" cy="252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4"/>
          <p:cNvSpPr/>
          <p:nvPr/>
        </p:nvSpPr>
        <p:spPr>
          <a:xfrm>
            <a:off x="3134160" y="2277000"/>
            <a:ext cx="524520" cy="64080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生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3134160" y="3213360"/>
            <a:ext cx="524520" cy="64080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旦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3134160" y="4150080"/>
            <a:ext cx="524520" cy="64080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3134160" y="5088240"/>
            <a:ext cx="524520" cy="64080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丑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851280" y="33321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苏三起解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——《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玉堂春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3852720" y="2395440"/>
            <a:ext cx="52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将身儿来至在大街口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——《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三家店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851280" y="426708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包龙图打坐在开封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——《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铡美案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3851280" y="51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当官难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——《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徐九经升官记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AutoShape 22">
            <a:hlinkClick r:id="rId3" action="ppaction://hlinksldjump"/>
          </p:cNvPr>
          <p:cNvSpPr/>
          <p:nvPr/>
        </p:nvSpPr>
        <p:spPr>
          <a:xfrm>
            <a:off x="853272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幼圆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5640" y="285228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简述京剧的形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说说京剧的音乐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背唱：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苏三起解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将身儿来至在大街口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包龙图打坐在开封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2:37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33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