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EE8-0199-4A47-8C9B-33369472A5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A26-7546-4CB0-B4F3-CB9188EAAD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2D5-CB16-4C29-8688-E28E7EA0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053-45DE-416D-A78C-53A413D6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2A5-C18E-4DEA-B312-1F524848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86E-D9D9-4645-81D2-76CA54EC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465-F53A-417D-AA5F-27A76C9B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BEC-78EF-4A15-B57C-C997619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ECF-1DB0-4E96-9D61-981A61C0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1C1-0A54-47FB-B5E3-9717610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F5A-8CB4-4ECB-958E-8EA7265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A42-E3A9-4651-B151-9C6B5D2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FEC-FE1F-4423-82FA-44BE75B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A02-0848-4D85-A6E7-FD27B6F5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24B-B9D9-46C6-9FD3-E061E9B6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ike.baidu.com/view/6392.htm" TargetMode="External"/><Relationship Id="rId2" Type="http://schemas.openxmlformats.org/officeDocument/2006/relationships/hyperlink" Target="http://baike.baidu.com/view/9531.ht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625320"/>
            <a:ext cx="9144000" cy="577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042920" y="2362320"/>
            <a:ext cx="6913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华文新魏"/>
                <a:ea typeface="华文新魏"/>
              </a:rPr>
              <a:t>九龙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75392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d7faf35cd601ec2a71e1241"/>
          <p:cNvPicPr/>
          <p:nvPr/>
        </p:nvPicPr>
        <p:blipFill>
          <a:blip r:embed="rId1"/>
          <a:stretch/>
        </p:blipFill>
        <p:spPr>
          <a:xfrm>
            <a:off x="0" y="1484280"/>
            <a:ext cx="9109080" cy="5635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42920" y="357120"/>
            <a:ext cx="8858160" cy="8251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蓝色的和白色的两条龙正翻滚在汹涌澎湃的碧涛之上，穿行在险峻的山峰之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未命名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00040" y="214200"/>
            <a:ext cx="8215200" cy="8251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看，一条黄龙和一条紫龙正在戏耍着一个火球；蓝色的和白色的两条龙正翻滚在汹涌澎湃的碧涛之上，穿行在险峻的山峰之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未命名1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200" y="285480"/>
            <a:ext cx="8501040" cy="33130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看其他几条巨龙，也各有各的特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的雄姿勃勃，气势非凡；有的回首遥望，像在呼唤同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蓝龙和白龙之白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黄龙、紫龙"/>
          <p:cNvPicPr/>
          <p:nvPr/>
        </p:nvPicPr>
        <p:blipFill>
          <a:blip r:embed="rId1"/>
          <a:stretch/>
        </p:blipFill>
        <p:spPr>
          <a:xfrm>
            <a:off x="-304920" y="190440"/>
            <a:ext cx="9753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41335951588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111114045425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e70974da4da2e13510ffeaa"/>
          <p:cNvPicPr/>
          <p:nvPr/>
        </p:nvPicPr>
        <p:blipFill>
          <a:blip r:embed="rId1"/>
          <a:stretch/>
        </p:blipFill>
        <p:spPr>
          <a:xfrm>
            <a:off x="762120" y="-380880"/>
            <a:ext cx="7619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805e216f73a5f3cf624e4bb"/>
          <p:cNvPicPr/>
          <p:nvPr/>
        </p:nvPicPr>
        <p:blipFill>
          <a:blip r:embed="rId1"/>
          <a:stretch/>
        </p:blipFill>
        <p:spPr>
          <a:xfrm>
            <a:off x="762120" y="-380880"/>
            <a:ext cx="7619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549360"/>
            <a:ext cx="8540640" cy="4194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看其他几条巨龙，也各有各的特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的雄姿勃勃，气势非凡；有的回首遥望，像在呼唤同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857240" y="3857760"/>
            <a:ext cx="53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有的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有的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60624222057909"/>
          <p:cNvPicPr/>
          <p:nvPr/>
        </p:nvPicPr>
        <p:blipFill>
          <a:blip r:embed="rId1"/>
          <a:stretch/>
        </p:blipFill>
        <p:spPr>
          <a:xfrm>
            <a:off x="214200" y="214200"/>
            <a:ext cx="1071720" cy="878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143000" y="3571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回顾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85840" y="1143000"/>
            <a:ext cx="8607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北京   砌成    戏耍   工匠   精美    造型   镶嵌    险峻   碧涛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赞叹不已   闻名中外  形态各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汹涌澎湃   雄姿勃勃  腾云驾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灵手巧  琉璃砖瓦   艺术珍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1008200938cb0819690cc91736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358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条条巨龙腾云驾雾，好像要冲出影壁，飞向天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1440" y="333360"/>
            <a:ext cx="91454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看，一条黄龙和一条紫龙正在（         ）着一个火球；蓝色的和白色的两条龙正（         ）在（              ）的（        ）之上，（        ）在（        ）的山峰之间。再看其他几条巨龙，也各有各的特色：有的（             ），（       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（               ），像在（       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条条巨龙（              ），好像要冲出影壁，飞向天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4360" y="907920"/>
            <a:ext cx="122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戏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00360" y="1484280"/>
            <a:ext cx="1295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292720" y="155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汹涌澎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11640" y="21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77080" y="2133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险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00720" y="33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姿勃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95280" y="3933720"/>
            <a:ext cx="22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势非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43280" y="4005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回首遥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68360" y="458136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呼唤同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11280" y="2133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碧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46836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腾云驾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1008200938cb0819690cc91736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4071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785880" y="57168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么精美的九龙壁呀！我国古代的工匠们，真是心灵手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9000"/>
            <a:ext cx="914400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海九龙壁除了壁前壁后各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醒目的戏珠蟠龙外，壁的正脊、垂脊和其他一些建筑构件等地方都有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踪迹。九龙壁顶呈“庑殿式”，有一条正脊，四条垂脊，正脊前后各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龙，垂脊左右各有一条龙，正脊两侧有两只吞脊兽，它的身上前后也各有一条龙，这样五条脊上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龙。 往下每块瓦当下面镶嵌的琉璃砖上，也各有一条龙，壁四周共有筒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，陇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，龙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，加上跃于云雾之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蛟龙，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龙了。 在正脊两侧“吞兽脊”下，东、西还各有一块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烧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”的瓦当，上面也各有一条龙。这样算来，北海九龙壁上总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龙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ongbi2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四大九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） 山西大同九龙壁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于明洪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五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9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，为明太祖朱元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朱桂代王府前的照壁，壁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0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为中国现存最古最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一座九龙壁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longbi2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四大九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） 北京北海九龙壁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于清乾隆二十一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5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，仿大同九龙壁而建，表现了清代琉璃结构建筑高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艺术水平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longbi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四大九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920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） 北京故宫九龙壁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于清乾隆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七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7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，仿自北海公园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龙壁，是乾隆皇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时为在宁寿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太极殿颐养天年而建，壁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被誉为“独具匠心的艺术精品”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ongbi2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四大九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） 山西平远九龙壁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如上面几座大，但也很有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20100525184722-1352066446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820800" y="1341360"/>
            <a:ext cx="7500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还知道哪些古代工匠留下的宝贵建筑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2214082166806307691.jp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608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357720" y="214200"/>
            <a:ext cx="185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故 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20100525184722-1352066446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28760" y="500040"/>
            <a:ext cx="8215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在北京北海公园，有一座用（               ）砌成德影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九龙壁精美的造型使前来参观的人们（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135600" y="1928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琉璃砖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143680" y="43578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赞叹不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a044ad345982b2b71abaa87130adcbef76099b5a.jpg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3500280" y="428760"/>
            <a:ext cx="21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赵州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214200" y="61419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2010051811264466604.jpg"/>
          <p:cNvPicPr/>
          <p:nvPr/>
        </p:nvPicPr>
        <p:blipFill>
          <a:blip r:embed="rId1"/>
          <a:stretch/>
        </p:blipFill>
        <p:spPr>
          <a:xfrm>
            <a:off x="714240" y="0"/>
            <a:ext cx="68947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7139520" y="1428840"/>
            <a:ext cx="1642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乐山大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caisu3.jpg"/>
          <p:cNvPicPr/>
          <p:nvPr/>
        </p:nvPicPr>
        <p:blipFill>
          <a:blip r:embed="rId1"/>
          <a:stretch/>
        </p:blipFill>
        <p:spPr>
          <a:xfrm>
            <a:off x="142920" y="142920"/>
            <a:ext cx="4135320" cy="27147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" descr="20130531093352.jpg"/>
          <p:cNvPicPr/>
          <p:nvPr/>
        </p:nvPicPr>
        <p:blipFill>
          <a:blip r:embed="rId2"/>
          <a:stretch/>
        </p:blipFill>
        <p:spPr>
          <a:xfrm>
            <a:off x="4286160" y="0"/>
            <a:ext cx="4681800" cy="2960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2009032514333637343.jpg"/>
          <p:cNvPicPr/>
          <p:nvPr/>
        </p:nvPicPr>
        <p:blipFill>
          <a:blip r:embed="rId3"/>
          <a:stretch/>
        </p:blipFill>
        <p:spPr>
          <a:xfrm>
            <a:off x="142920" y="3643200"/>
            <a:ext cx="407196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10431_2011022415095816aLO.new.jpg"/>
          <p:cNvPicPr/>
          <p:nvPr/>
        </p:nvPicPr>
        <p:blipFill>
          <a:blip r:embed="rId4"/>
          <a:stretch/>
        </p:blipFill>
        <p:spPr>
          <a:xfrm>
            <a:off x="4214880" y="3643200"/>
            <a:ext cx="4714920" cy="3079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2786040" y="2857680"/>
            <a:ext cx="35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敦煌莫高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867B-8B72-431F-95E9-EE1F8DC9F3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20100525184722-1352066446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85840" y="714240"/>
            <a:ext cx="8643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这座九龙壁高（      ）米，长（             ）米，厚（         ）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影壁的正反两面，用七色的琉璃砖瓦分别镶嵌成九条（               ）的巨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715000" y="12142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500120" y="200016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十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643800" y="2000160"/>
            <a:ext cx="20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点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785880" y="492912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形态各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742084_13402002732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3000002561181226802563467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longbi2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20100525184722-1352066446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85840" y="714240"/>
            <a:ext cx="86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座九龙壁高五米，长二十七米，厚一点二米。在影壁的正反两面，用七色的琉璃砖瓦分别镶嵌成九条形态各异的巨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857160" y="4786200"/>
            <a:ext cx="7572600" cy="703440"/>
          </a:xfrm>
          <a:prstGeom prst="rect">
            <a:avLst/>
          </a:prstGeom>
          <a:solidFill>
            <a:srgbClr val="daedef"/>
          </a:solidFill>
          <a:ln w="9360">
            <a:solidFill>
              <a:srgbClr val="daed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态各异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多事物形状、姿态、形式不尽相同，各有特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41319307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71680" y="214200"/>
            <a:ext cx="8143560" cy="8251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看，一条黄龙和一条紫龙正在戏耍着一个火球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3:03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02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