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C0E5-752E-4BD5-8899-8B600043EB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5EBC-645C-455B-B6E7-B37B71EC435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7A9E-8A19-4E6D-8CE2-F44BB4D3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FD60-840E-4311-AE0E-C79AC5F9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B50A-1005-4087-ABD4-D46BFB6FF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2F5D-4816-4F35-BB53-7AC65E79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C9C-FC80-453E-9D1F-A78DDCBE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42F-24A5-4792-8465-76F42C4D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D07-A03E-437F-8FF8-84727DEA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1A91-A12B-4B16-99C9-2F36878C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9ED2-4DBF-4D86-8AFF-6AF781F1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326D-9012-46D9-BFAF-642AB840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373-2F09-4216-BBFA-946D3D69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75E-FB25-4695-A291-F8E08D5E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D773-378E-4728-9D1F-D3DDF8724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家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09320" y="2693880"/>
            <a:ext cx="49532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0000"/>
                </a:solidFill>
                <a:latin typeface="黑体"/>
                <a:ea typeface="黑体"/>
              </a:rPr>
              <a:t>家</a:t>
            </a:r>
            <a:r>
              <a:rPr b="1" lang="zh-CN" sz="115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25600" y="8380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湘教版二年级语文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827000" y="6019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752480" y="1447920"/>
            <a:ext cx="7391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掌握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宋体"/>
              </a:rPr>
              <a:t>hé  sōng xiā  qiú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宋体"/>
              </a:rPr>
              <a:t>和   松   虾   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体会诗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方正楷体_GBK"/>
              </a:rPr>
              <a:t>让我们来看看这首小诗，自己读读。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方正楷体_GBK"/>
              </a:rPr>
              <a:t>你对那一句印象最深就读哪句。和同桌交流体会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楷体_GBK"/>
              </a:rPr>
              <a:t>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一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99"/>
                </a:solidFill>
                <a:latin typeface="方正楷体_GBK"/>
                <a:ea typeface="方正楷体_GBK"/>
              </a:rPr>
              <a:t>在半空中的树杈上，鸟妈妈在精心哺育着她的孩子们，小松鼠们也在快乐地玩耍。小树是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方正楷体_GBK"/>
                <a:ea typeface="方正楷体_GBK"/>
              </a:rPr>
              <a:t>　　    </a:t>
            </a:r>
            <a:r>
              <a:rPr b="1" lang="zh-CN" sz="3200" spc="-1" strike="noStrike">
                <a:solidFill>
                  <a:srgbClr val="000099"/>
                </a:solidFill>
                <a:latin typeface="方正楷体_GBK"/>
                <a:ea typeface="方正楷体_GBK"/>
              </a:rPr>
              <a:t>的家；小树是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方正楷体_GBK"/>
                <a:ea typeface="方正楷体_GBK"/>
              </a:rPr>
              <a:t> 　　　</a:t>
            </a:r>
            <a:r>
              <a:rPr b="1" lang="zh-CN" sz="3200" spc="-1" strike="noStrike">
                <a:solidFill>
                  <a:srgbClr val="000099"/>
                </a:solidFill>
                <a:latin typeface="方正楷体_GBK"/>
                <a:ea typeface="方正楷体_GBK"/>
              </a:rPr>
              <a:t>的家；小树是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方正楷体_GBK"/>
                <a:ea typeface="方正楷体_GBK"/>
              </a:rPr>
              <a:t>　　        </a:t>
            </a:r>
            <a:r>
              <a:rPr b="1" lang="zh-CN" sz="3200" spc="-1" strike="noStrike">
                <a:solidFill>
                  <a:srgbClr val="000099"/>
                </a:solidFill>
                <a:latin typeface="方正楷体_GBK"/>
                <a:ea typeface="方正楷体_GBK"/>
              </a:rPr>
              <a:t>的家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方正楷体_G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二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请同学们联系生活体验来感受、朗读。不光树上的小鸟和松鼠很快乐，地面上的房子里也有着快乐的精灵。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地面上的房子里，有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方正楷体_GBK"/>
                <a:ea typeface="方正楷体_GBK"/>
              </a:rPr>
              <a:t>　　        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的家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"/>
          <p:cNvSpPr/>
          <p:nvPr/>
        </p:nvSpPr>
        <p:spPr>
          <a:xfrm>
            <a:off x="457200" y="295200"/>
            <a:ext cx="60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第三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充分想象想象，在池塘的荷叶下还生活着一些淘气的娃娃，它们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方正楷体_GBK"/>
                <a:ea typeface="方正楷体_GBK"/>
              </a:rPr>
              <a:t>　　　 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，小鱼和小虾在荷叶边嬉戏玩耍，多高兴呀，原来池塘和荷叶就是它们的家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还有很多动物把自己的家给藏了起来，你不信，蹲下身子仔细瞧一瞧，说不定你会有很大的发现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方正楷体_GBK"/>
                <a:ea typeface="方正楷体_GBK"/>
              </a:rPr>
              <a:t>地底下的泥洞里，有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方正楷体_GBK"/>
                <a:ea typeface="方正楷体_GBK"/>
              </a:rPr>
              <a:t>　　　</a:t>
            </a:r>
            <a:r>
              <a:rPr b="1" lang="zh-CN" sz="3200" spc="-1" strike="noStrike">
                <a:solidFill>
                  <a:srgbClr val="000099"/>
                </a:solidFill>
                <a:latin typeface="方正楷体_GBK"/>
                <a:ea typeface="方正楷体_GBK"/>
              </a:rPr>
              <a:t>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方正楷体_GBK"/>
                <a:ea typeface="方正楷体_GBK"/>
              </a:rPr>
              <a:t>　　　  </a:t>
            </a:r>
            <a:r>
              <a:rPr b="1" lang="zh-CN" sz="3200" spc="-1" strike="noStrike">
                <a:solidFill>
                  <a:srgbClr val="000099"/>
                </a:solidFill>
                <a:latin typeface="方正楷体_GBK"/>
                <a:ea typeface="方正楷体_GBK"/>
              </a:rPr>
              <a:t>的家。草丛里，有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方正楷体_GBK"/>
                <a:ea typeface="方正楷体_GBK"/>
              </a:rPr>
              <a:t>　　　 </a:t>
            </a:r>
            <a:r>
              <a:rPr b="1" lang="zh-CN" sz="3200" spc="-1" strike="noStrike">
                <a:solidFill>
                  <a:srgbClr val="000099"/>
                </a:solidFill>
                <a:latin typeface="方正楷体_GBK"/>
                <a:ea typeface="方正楷体_GBK"/>
              </a:rPr>
              <a:t>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方正楷体_GBK"/>
                <a:ea typeface="方正楷体_GBK"/>
              </a:rPr>
              <a:t>　　　 </a:t>
            </a:r>
            <a:r>
              <a:rPr b="1" lang="zh-CN" sz="3200" spc="-1" strike="noStrike">
                <a:solidFill>
                  <a:srgbClr val="000099"/>
                </a:solidFill>
                <a:latin typeface="方正楷体_GBK"/>
                <a:ea typeface="方正楷体_GBK"/>
              </a:rPr>
              <a:t>的家。天空中有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方正楷体_GBK"/>
                <a:ea typeface="方正楷体_GBK"/>
              </a:rPr>
              <a:t>　　　 </a:t>
            </a:r>
            <a:r>
              <a:rPr b="1" lang="zh-CN" sz="3200" spc="-1" strike="noStrike">
                <a:solidFill>
                  <a:srgbClr val="000099"/>
                </a:solidFill>
                <a:latin typeface="方正楷体_GBK"/>
                <a:ea typeface="方正楷体_GBK"/>
              </a:rPr>
              <a:t>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方正楷体_GBK"/>
                <a:ea typeface="方正楷体_GBK"/>
              </a:rPr>
              <a:t>　　　 </a:t>
            </a:r>
            <a:r>
              <a:rPr b="1" lang="zh-CN" sz="3200" spc="-1" strike="noStrike">
                <a:solidFill>
                  <a:srgbClr val="000099"/>
                </a:solidFill>
                <a:latin typeface="方正楷体_GBK"/>
                <a:ea typeface="方正楷体_GBK"/>
              </a:rPr>
              <a:t>的家。海洋中，有　　　和</a:t>
            </a:r>
            <a:r>
              <a:rPr b="1" lang="zh-CN" sz="3200" spc="-1" strike="noStrike" u="sng">
                <a:solidFill>
                  <a:srgbClr val="000099"/>
                </a:solidFill>
                <a:uFillTx/>
                <a:latin typeface="方正楷体_GBK"/>
                <a:ea typeface="方正楷体_GBK"/>
              </a:rPr>
              <a:t>　　　 </a:t>
            </a:r>
            <a:r>
              <a:rPr b="1" lang="zh-CN" sz="3200" spc="-1" strike="noStrike">
                <a:solidFill>
                  <a:srgbClr val="000099"/>
                </a:solidFill>
                <a:latin typeface="方正楷体_GBK"/>
                <a:ea typeface="方正楷体_GBK"/>
              </a:rPr>
              <a:t>的家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３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小鸟、松鼠、小狗、小鱼、小虾、蚂蚁、兔子还有我们小朋友都有自己的家。是谁让我们能过上这种幸福快乐的生活呢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４</a:t>
            </a: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地球妈妈可真是一个慈祥的好妈妈，她让她的每一个孩子都有一个幸福的家，你喜欢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-360" y="75960"/>
            <a:ext cx="85345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方正楷体_GBK"/>
                <a:ea typeface="方正楷体_GBK"/>
              </a:rPr>
              <a:t>１</a:t>
            </a:r>
            <a:r>
              <a:rPr b="1" lang="en-US" sz="2800" spc="-1" strike="noStrike">
                <a:solidFill>
                  <a:srgbClr val="000099"/>
                </a:solidFill>
                <a:latin typeface="方正楷体_GBK"/>
                <a:ea typeface="方正楷体_GBK"/>
              </a:rPr>
              <a:t>.</a:t>
            </a:r>
            <a:r>
              <a:rPr b="1" lang="zh-CN" sz="2800" spc="-1" strike="noStrike">
                <a:solidFill>
                  <a:srgbClr val="000099"/>
                </a:solidFill>
                <a:latin typeface="方正楷体_GBK"/>
                <a:ea typeface="方正楷体_GBK"/>
              </a:rPr>
              <a:t>其实我们的身边还有很多像课文这种句式的诗呢，不过，它们都悄悄地藏起来了，聪明的小朋友，你能找出地球妈妈精心创编的诗吗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２</a:t>
            </a:r>
            <a:r>
              <a:rPr b="1" lang="en-US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结合生活实际，仿句说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方正楷体_GBK"/>
                <a:ea typeface="方正楷体_GBK"/>
              </a:rPr>
              <a:t>　　　　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，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方正楷体_GBK"/>
                <a:ea typeface="方正楷体_GBK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方正楷体_GBK"/>
                <a:ea typeface="方正楷体_GBK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的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9E01-F08B-4A27-905B-43DC5B1BCD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楷体_GBK"/>
              </a:rPr>
              <a:t>同学们，你们都有自己美满幸福的家。那你们知道动物们的家吗？他们的家是怎么样的呢？今天，我们就一起来学习一首小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方正楷体_GBK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楷体_GBK"/>
              </a:rPr>
              <a:t>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方正楷体_GBK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楷体_GBK"/>
              </a:rPr>
              <a:t>，看看动物们的家是怎么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鸟 该"/>
          <p:cNvPicPr/>
          <p:nvPr/>
        </p:nvPicPr>
        <p:blipFill>
          <a:blip r:embed="rId2"/>
          <a:stretch/>
        </p:blipFill>
        <p:spPr>
          <a:xfrm>
            <a:off x="1600200" y="0"/>
            <a:ext cx="5850000" cy="6629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啄木鸟 巢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5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鸟  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老鼠 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蚂蚁 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蜜蜂窝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14400" y="19810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选择你最喜欢、最擅长的方式读一读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读完诗歌，说说你都知道了些什么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5:13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4:27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