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DBE2-9210-454D-B333-978C4612FB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067C-DE46-4D11-BA4F-A8D5974459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0ADA-607D-43CD-989C-960C73E5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D58-B5EA-429E-ACDB-AE156EA9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2EF-E065-4658-9BEB-CFB3DE45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6D5-881C-4C06-9A2E-4E3ABC3B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AB6-BAFB-4487-A3D0-8E7B548E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1ECB-A342-4DBE-B9CA-EB4984ED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C29-FEA8-4AEB-BB4B-0524BB43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475-426B-47F8-B438-E21BC3E6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08B-EAE1-4AFC-99C4-8EB158FC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B45-E103-493D-9188-462B66A5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1A2-0066-4D6E-B2B7-A29CBBC8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D2B-43F8-4A72-878D-8EB67884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6E82-AA25-4E4A-97B8-39FA2CA2A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08360" y="105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湘教版一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052720" y="2205000"/>
            <a:ext cx="511164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5.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架桥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86336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900000" y="198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猴和小熊都想架桥，都架了吗？为什么小猴没有架桥？它干什么去了？那你认为这种做法好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258920" y="242100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为什么小熊猫能架桥，而小猴却没有架桥呢？结果怎样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小猴为什么会不好意思？他心里想些什么？他会向大家说些什么呢？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细读感悟"/>
          <p:cNvPicPr/>
          <p:nvPr/>
        </p:nvPicPr>
        <p:blipFill>
          <a:blip r:embed="rId1"/>
          <a:stretch/>
        </p:blipFill>
        <p:spPr>
          <a:xfrm>
            <a:off x="2050920" y="404640"/>
            <a:ext cx="334656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事情不能光说不做，要像小熊那样将想法付之行动，这样才能把事情做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116000" y="2133720"/>
            <a:ext cx="720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了这篇课文，你学会了什么？应该向谁学习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是小猴，今后该怎么做？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拓展学习"/>
          <p:cNvPicPr/>
          <p:nvPr/>
        </p:nvPicPr>
        <p:blipFill>
          <a:blip r:embed="rId1"/>
          <a:stretch/>
        </p:blipFill>
        <p:spPr>
          <a:xfrm>
            <a:off x="1042920" y="981000"/>
            <a:ext cx="230508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4F6A-6E92-4062-8DAD-960A746672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00000" y="2060640"/>
            <a:ext cx="75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生字，会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生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主、合作学会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培养合作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042920" y="907920"/>
            <a:ext cx="266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619280" y="2637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    力  因    森   划   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47640" y="2060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āng  lì   yīn  sēn  huà  nò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1042920" y="83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1692360" y="400536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桥    没    要   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1619280" y="3284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qiáo méi yào wè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"/>
          <p:cNvSpPr/>
          <p:nvPr/>
        </p:nvSpPr>
        <p:spPr>
          <a:xfrm>
            <a:off x="1835280" y="1581120"/>
            <a:ext cx="63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3"/>
          <p:cNvSpPr/>
          <p:nvPr/>
        </p:nvSpPr>
        <p:spPr>
          <a:xfrm>
            <a:off x="1042920" y="83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900000" y="1998720"/>
            <a:ext cx="741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桥    没    要   为   方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力    因    森   划   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桥”字是“木”字旁，看你能写出几个“木”字旁的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）（      ）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有下面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（     ）（      ）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（     ）（      ） （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332000" y="24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朗读课文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讲了一件什么事情，你知道了什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116000" y="907920"/>
            <a:ext cx="165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187280" y="1484280"/>
            <a:ext cx="8280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读课文后，想想小猴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熊在干什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042920" y="2421000"/>
            <a:ext cx="74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中写了几个动物？它们为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架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042920" y="227664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上没桥，小猴和小熊很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么办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8:30:54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39:41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