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79AF-2194-4FAD-924F-ADC9B04F466E}" type="slidenum"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6B2C-6772-43D9-96DE-4C20E0326D6E}" type="slidenum"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634-3807-471D-BE84-AF73CE9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93C-D1EC-4E5A-8784-623D64B5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D46-F9E2-4193-A888-7B0AA323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FCE-3FC8-4C48-9A9F-C3FB7F23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5D5-38CB-42DB-AC30-C9651952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BE5-0A37-4E7E-A484-F2E8A9F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10A-B613-474F-9D04-CF85230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32B7-DD90-4478-B98D-7AF9143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0062-A185-4DEB-BCA9-B446C44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45CF-AEB1-4684-BE28-C5D81CBD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32A3-EA0D-45AD-8FFA-DF98AB45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9A-BD4D-48BD-90D2-D707D06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B33A-335C-4BB6-AE37-46D230D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C460-A678-4ADE-AD85-9E5E13E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B7BD-91EE-460A-B710-73695AC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3C72-126F-44CA-86BB-AF283C23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612E-BA30-4509-990C-8416091D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0691-AC51-4248-B76C-60F303F2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4269-0966-4FF8-B1BB-5B0E12C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86CB-FC5F-441E-B7DC-3F2504B4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63AB-455B-45A6-99FA-0490BBE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8B71-BA9E-4835-A4A7-E68D9EA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B8F-42BC-48E4-9C36-F99A6470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F39D-ECF7-4C00-97AD-FEC2654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689D-A939-421D-90E5-3BD7D8F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FBB9-CBC4-49C0-BD36-DC5B5A01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561D-10B5-4310-B824-ED3C893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DAE0-FBCB-413D-A599-C0C945C6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2C55-10E0-4238-944A-9F70C6FE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4E3A-96E4-4B0F-8855-4D22D115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B3-9FD1-4F22-8410-A858370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2E3-0E62-48F2-A1F6-345B908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B55-8A51-4E63-9710-15A5882B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A33-6732-4D3E-9ECA-6C9016A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90E-D60C-4EE3-807E-5ABF004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DE7-2AEE-48D1-B829-1EF9A33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21CC-D9AD-4D76-A71D-22DD1D285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6C1-045E-4E9F-A571-9E6A7FEBD5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2E25-8E79-4C2D-B8AD-4033142B8419}" type="slidenum"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aike.baidu.com/image/35e940dfb8ff9f23495403db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7.xml"/><Relationship Id="rId3" Type="http://schemas.openxmlformats.org/officeDocument/2006/relationships/image" Target="../media/image12.gif"/><Relationship Id="rId4" Type="http://schemas.openxmlformats.org/officeDocument/2006/relationships/slide" Target="slide16.xml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3320" y="764640"/>
            <a:ext cx="821844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800000"/>
                </a:solidFill>
                <a:latin typeface="Arial"/>
                <a:ea typeface="隶书"/>
              </a:rPr>
              <a:t>江  雪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556000" y="3429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唐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宗元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矩形 7"/>
          <p:cNvSpPr/>
          <p:nvPr/>
        </p:nvSpPr>
        <p:spPr>
          <a:xfrm>
            <a:off x="1448640" y="58784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692360" y="1628640"/>
            <a:ext cx="58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表达了作者怎样的思想感情呢？你能读出来吗？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2" name="Picture 3" descr="ren07"/>
          <p:cNvPicPr/>
          <p:nvPr/>
        </p:nvPicPr>
        <p:blipFill>
          <a:blip r:embed="rId1"/>
          <a:stretch/>
        </p:blipFill>
        <p:spPr>
          <a:xfrm>
            <a:off x="2266920" y="2852640"/>
            <a:ext cx="1944720" cy="352764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4"/>
          <p:cNvGrpSpPr/>
          <p:nvPr/>
        </p:nvGrpSpPr>
        <p:grpSpPr>
          <a:xfrm>
            <a:off x="4716360" y="2492280"/>
            <a:ext cx="2233440" cy="1655640"/>
            <a:chOff x="4716360" y="2492280"/>
            <a:chExt cx="2233440" cy="1655640"/>
          </a:xfrm>
        </p:grpSpPr>
        <p:sp>
          <p:nvSpPr>
            <p:cNvPr id="604" name="AutoShape 5"/>
            <p:cNvSpPr/>
            <p:nvPr/>
          </p:nvSpPr>
          <p:spPr>
            <a:xfrm>
              <a:off x="4716360" y="2492280"/>
              <a:ext cx="2160720" cy="1655640"/>
            </a:xfrm>
            <a:prstGeom prst="cloudCallout">
              <a:avLst>
                <a:gd name="adj1" fmla="val -76967"/>
                <a:gd name="adj2" fmla="val 5172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5" name="Text Box 6"/>
            <p:cNvSpPr/>
            <p:nvPr/>
          </p:nvSpPr>
          <p:spPr>
            <a:xfrm>
              <a:off x="4717800" y="2779560"/>
              <a:ext cx="22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首诗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i="1" lang="en-US" sz="2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6" name="文本框 1"/>
          <p:cNvSpPr/>
          <p:nvPr/>
        </p:nvSpPr>
        <p:spPr>
          <a:xfrm>
            <a:off x="1136520" y="98892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更多免费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模板尽在：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201009231659411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457200" y="692280"/>
            <a:ext cx="8362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003399"/>
                </a:solidFill>
                <a:uFillTx/>
                <a:latin typeface="Arial"/>
              </a:rPr>
              <a:t>借景抒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中，渔翁与大自然抗争的形象正是诗人柳宗元自己的精神写照：越是艰难困苦才越能激发“我”顽强不屈的精神，不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189080" y="479736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思考：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你读过的古诗中，还有谁也有这样一种坚忍不拔的精神的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773545da204c8f59d1164e95"/>
          <p:cNvPicPr/>
          <p:nvPr/>
        </p:nvPicPr>
        <p:blipFill>
          <a:blip r:embed="rId1"/>
          <a:stretch/>
        </p:blipFill>
        <p:spPr>
          <a:xfrm>
            <a:off x="-571680" y="-255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490680"/>
            <a:ext cx="180036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a68"/>
                </a:solidFill>
                <a:latin typeface="华文行楷"/>
                <a:ea typeface="华文行楷"/>
              </a:rPr>
              <a:t>沁</a:t>
            </a:r>
            <a:br>
              <a:rPr sz="5600"/>
            </a:br>
            <a:r>
              <a:rPr b="1" lang="zh-CN" sz="5600" spc="-1" strike="noStrike">
                <a:solidFill>
                  <a:srgbClr val="006a68"/>
                </a:solidFill>
                <a:latin typeface="华文行楷"/>
                <a:ea typeface="华文行楷"/>
              </a:rPr>
              <a:t>园</a:t>
            </a:r>
            <a:br>
              <a:rPr sz="5600"/>
            </a:br>
            <a:r>
              <a:rPr b="1" lang="zh-CN" sz="5600" spc="-1" strike="noStrike">
                <a:solidFill>
                  <a:srgbClr val="006a68"/>
                </a:solidFill>
                <a:latin typeface="华文行楷"/>
                <a:ea typeface="华文行楷"/>
              </a:rPr>
              <a:t>春 </a:t>
            </a:r>
            <a:br>
              <a:rPr sz="5600"/>
            </a:br>
            <a:r>
              <a:rPr b="1" lang="zh-CN" sz="5600" spc="-1" strike="noStrike">
                <a:solidFill>
                  <a:srgbClr val="006a68"/>
                </a:solidFill>
                <a:latin typeface="Arial"/>
                <a:ea typeface="华文行楷"/>
              </a:rPr>
              <a:t>·</a:t>
            </a:r>
            <a:r>
              <a:rPr b="1" lang="zh-CN" sz="5600" spc="-1" strike="noStrike">
                <a:solidFill>
                  <a:srgbClr val="006a68"/>
                </a:solidFill>
                <a:latin typeface="华文行楷"/>
                <a:ea typeface="华文行楷"/>
              </a:rPr>
              <a:t> </a:t>
            </a:r>
            <a:br>
              <a:rPr sz="5600"/>
            </a:br>
            <a:r>
              <a:rPr b="1" lang="zh-CN" sz="5600" spc="-1" strike="noStrike">
                <a:solidFill>
                  <a:srgbClr val="006a68"/>
                </a:solidFill>
                <a:latin typeface="华文行楷"/>
                <a:ea typeface="华文行楷"/>
              </a:rPr>
              <a:t>雪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59280" y="115560"/>
            <a:ext cx="6408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北国风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千里冰封，万里雪飘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望长城内外，惟余莽莽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大河上下，顿失滔滔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山舞银蛇，原驰蜡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欲与天公试比高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须晴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看红装素裹，分外妖娆。</a:t>
            </a:r>
            <a:r>
              <a:rPr b="1" lang="zh-CN" sz="2800" spc="-1" strike="noStrike">
                <a:solidFill>
                  <a:srgbClr val="f9ea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103840" y="160956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3c39"/>
                </a:solidFill>
                <a:latin typeface="Arial"/>
              </a:rPr>
              <a:t>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3c39"/>
                </a:solidFill>
                <a:latin typeface="Arial"/>
              </a:rPr>
              <a:t>泽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3c39"/>
                </a:solidFill>
                <a:latin typeface="Arial"/>
              </a:rPr>
              <a:t>东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12065273732371975544910"/>
          <p:cNvPicPr/>
          <p:nvPr/>
        </p:nvPicPr>
        <p:blipFill>
          <a:blip r:embed="rId1"/>
          <a:stretch/>
        </p:blipFill>
        <p:spPr>
          <a:xfrm>
            <a:off x="-250920" y="0"/>
            <a:ext cx="1022364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7488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600" spc="-1" strike="noStrike">
                <a:solidFill>
                  <a:srgbClr val="ff0000"/>
                </a:solidFill>
                <a:latin typeface="Arial"/>
                <a:ea typeface="楷体_GB2312"/>
              </a:rPr>
              <a:t>题秋江独钓图</a:t>
            </a:r>
            <a:br>
              <a:rPr sz="60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王士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347640" y="2205000"/>
            <a:ext cx="55436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蓑一笠一扁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丈丝纶一寸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曲高歌一壶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人独钓一江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4253040" y="3243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2079748_094922079_2"/>
          <p:cNvPicPr/>
          <p:nvPr/>
        </p:nvPicPr>
        <p:blipFill>
          <a:blip r:embed="rId1"/>
          <a:stretch/>
        </p:blipFill>
        <p:spPr>
          <a:xfrm>
            <a:off x="5219640" y="4419720"/>
            <a:ext cx="3789360" cy="232704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-106200" y="1484280"/>
            <a:ext cx="47512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a68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6a68"/>
                </a:solidFill>
                <a:latin typeface="楷体_GB2312"/>
                <a:ea typeface="楷体_GB2312"/>
              </a:rPr>
              <a:t>北国风光，千里冰封，万里雪飘。望长城内外，惟余莽莽；大河上下，顿失滔滔。山舞银蛇，原驰蜡象，欲与天公试比高。须晴日，看红装素裹，分外妖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4500720" y="44280"/>
            <a:ext cx="46432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题秋江独钓图</a:t>
            </a:r>
            <a:br>
              <a:rPr sz="6000"/>
            </a:b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清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] 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王士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788000" y="1989000"/>
            <a:ext cx="4176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Arial"/>
              </a:rPr>
              <a:t>一蓑一笠一扁舟，</a:t>
            </a:r>
            <a:endParaRPr b="0" i="1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Arial"/>
              </a:rPr>
              <a:t>一丈丝纶一寸钩。</a:t>
            </a:r>
            <a:endParaRPr b="0" i="1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Arial"/>
              </a:rPr>
              <a:t>一曲高歌一壶酒，</a:t>
            </a:r>
            <a:endParaRPr b="0" i="1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cc"/>
                </a:solidFill>
                <a:latin typeface="Arial"/>
              </a:rPr>
              <a:t>一人独钓一江秋。</a:t>
            </a:r>
            <a:endParaRPr b="0" i="1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94920" y="72720"/>
            <a:ext cx="3745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a68"/>
                </a:solidFill>
                <a:latin typeface="Arial"/>
                <a:ea typeface="华文行楷"/>
              </a:rPr>
              <a:t>沁园春</a:t>
            </a:r>
            <a:r>
              <a:rPr b="1" lang="zh-CN" sz="5400" spc="-1" strike="noStrike">
                <a:solidFill>
                  <a:srgbClr val="006a68"/>
                </a:solidFill>
                <a:latin typeface="Arial"/>
                <a:ea typeface="华文行楷"/>
              </a:rPr>
              <a:t>·</a:t>
            </a:r>
            <a:r>
              <a:rPr b="1" lang="zh-CN" sz="5400" spc="-1" strike="noStrike">
                <a:solidFill>
                  <a:srgbClr val="006a68"/>
                </a:solidFill>
                <a:latin typeface="Arial"/>
                <a:ea typeface="华文行楷"/>
              </a:rPr>
              <a:t>雪</a:t>
            </a:r>
            <a:br>
              <a:rPr sz="5400"/>
            </a:br>
            <a:r>
              <a:rPr b="1" i="1" lang="zh-CN" sz="3200" spc="-1" strike="noStrike">
                <a:solidFill>
                  <a:srgbClr val="006a68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寒江独钓图5"/>
          <p:cNvPicPr/>
          <p:nvPr/>
        </p:nvPicPr>
        <p:blipFill>
          <a:blip r:embed="rId1"/>
          <a:stretch/>
        </p:blipFill>
        <p:spPr>
          <a:xfrm>
            <a:off x="4211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144360" y="115920"/>
            <a:ext cx="42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  <a:ea typeface="隶书"/>
              </a:rPr>
              <a:t>课后作业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0" y="1484280"/>
            <a:ext cx="4643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诵古诗，掌握重点词句的解释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这首诗，联系实际，发挥联想，个人拓展写一篇寒江独钓图，字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左右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2796203_182504022_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1052640"/>
            <a:ext cx="3763800" cy="53290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280" y="124920"/>
            <a:ext cx="355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a68"/>
                </a:solidFill>
                <a:latin typeface="Arial"/>
                <a:ea typeface="华文行楷"/>
              </a:rPr>
              <a:t>资料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916000" y="333360"/>
            <a:ext cx="6048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宗元在长安参加革新失败，被贬到永州。永州地处湖南和广东交界处，当时人烟稀少，一片荒凉，和柳宗元同去的有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老母。他们没有住的地方，只好借住在一间寺庙里。没有半年，老母病逝，他的政敌还几次派人对他的住所放火。残酷的政治迫害，艰苦的生活环境，严重损害了柳宗元的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20081031123150406_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98920" y="3573360"/>
            <a:ext cx="5545080" cy="316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5589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a68"/>
                </a:solidFill>
                <a:latin typeface="Arial"/>
                <a:ea typeface="华文行楷"/>
              </a:rPr>
              <a:t>资料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9280" y="1267920"/>
            <a:ext cx="77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州一贬就是十年。十年来，他除了继续坚持斗争，更广泛地研究古往今来关于哲学、政治、历史、文学等方面的一些重大问题，还写下了著名的《永州八记》等作品。《永州八记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为我国古代山水游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作，生动地表达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对自然美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2A51-35B7-41DC-923F-FE2C645BBB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雪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小学语文(古诗词)01"/>
          <p:cNvPicPr/>
          <p:nvPr/>
        </p:nvPicPr>
        <p:blipFill>
          <a:blip r:embed="rId2"/>
          <a:stretch/>
        </p:blipFill>
        <p:spPr>
          <a:xfrm>
            <a:off x="0" y="0"/>
            <a:ext cx="1440000" cy="3906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4"/>
          <p:cNvSpPr/>
          <p:nvPr/>
        </p:nvSpPr>
        <p:spPr>
          <a:xfrm>
            <a:off x="4142520" y="59641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 景 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8" name="Group 5"/>
          <p:cNvGrpSpPr/>
          <p:nvPr/>
        </p:nvGrpSpPr>
        <p:grpSpPr>
          <a:xfrm>
            <a:off x="5797440" y="1917720"/>
            <a:ext cx="2735280" cy="2087640"/>
            <a:chOff x="5797440" y="1917720"/>
            <a:chExt cx="2735280" cy="2087640"/>
          </a:xfrm>
        </p:grpSpPr>
        <p:sp>
          <p:nvSpPr>
            <p:cNvPr id="559" name="AutoShape 6"/>
            <p:cNvSpPr/>
            <p:nvPr/>
          </p:nvSpPr>
          <p:spPr>
            <a:xfrm>
              <a:off x="5797440" y="1917720"/>
              <a:ext cx="2735280" cy="2087640"/>
            </a:xfrm>
            <a:prstGeom prst="cloudCallout">
              <a:avLst>
                <a:gd name="adj1" fmla="val -43555"/>
                <a:gd name="adj2" fmla="val 8657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Text Box 7"/>
            <p:cNvSpPr/>
            <p:nvPr/>
          </p:nvSpPr>
          <p:spPr>
            <a:xfrm>
              <a:off x="6013440" y="2060640"/>
              <a:ext cx="2178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们看见过在漫天大雪里钓鱼的情景吗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 </a:t>
              </a:r>
              <a:endParaRPr b="0" i="1" lang="en-US" sz="2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51280" y="691920"/>
            <a:ext cx="5184720" cy="55450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我国唐朝著名的文学家，字子厚，世称“柳河东”，与唐代的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韩愈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宋代的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欧阳修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苏洵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苏轼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苏辙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王安石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曾巩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， 并称 “</a:t>
            </a:r>
            <a:r>
              <a:rPr b="1" lang="zh-CN" sz="4200" spc="-1" strike="noStrike">
                <a:solidFill>
                  <a:srgbClr val="0000cc"/>
                </a:solidFill>
                <a:latin typeface="Arial"/>
              </a:rPr>
              <a:t>唐宋八大家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 。一生留诗文作品达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余篇，其文的成就大于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Arial"/>
              </a:rPr>
              <a:t>柳宗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35e940dfb8ff9f23495403d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2480" y="2276640"/>
            <a:ext cx="287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364176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5" name="Picture 3" descr="小学语文(古诗词)03"/>
          <p:cNvPicPr/>
          <p:nvPr/>
        </p:nvPicPr>
        <p:blipFill>
          <a:blip r:embed="rId1"/>
          <a:stretch/>
        </p:blipFill>
        <p:spPr>
          <a:xfrm>
            <a:off x="1116000" y="1165320"/>
            <a:ext cx="1440000" cy="4633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4348080" y="2852640"/>
            <a:ext cx="208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山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飞绝，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径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踪灭。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舟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蓑笠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翁，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江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。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7" name="Group 5"/>
          <p:cNvGrpSpPr/>
          <p:nvPr/>
        </p:nvGrpSpPr>
        <p:grpSpPr>
          <a:xfrm>
            <a:off x="1692360" y="1628640"/>
            <a:ext cx="1673280" cy="1994040"/>
            <a:chOff x="1692360" y="1628640"/>
            <a:chExt cx="1673280" cy="1994040"/>
          </a:xfrm>
        </p:grpSpPr>
        <p:pic>
          <p:nvPicPr>
            <p:cNvPr id="568" name="Picture 6" descr="08"/>
            <p:cNvPicPr/>
            <p:nvPr/>
          </p:nvPicPr>
          <p:blipFill>
            <a:blip r:embed="rId2"/>
            <a:stretch/>
          </p:blipFill>
          <p:spPr>
            <a:xfrm>
              <a:off x="1692360" y="1628640"/>
              <a:ext cx="16732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 Box 7"/>
            <p:cNvSpPr/>
            <p:nvPr/>
          </p:nvSpPr>
          <p:spPr>
            <a:xfrm>
              <a:off x="2073960" y="1822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节奏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0" name="Text Box 8"/>
          <p:cNvSpPr/>
          <p:nvPr/>
        </p:nvSpPr>
        <p:spPr>
          <a:xfrm>
            <a:off x="3708360" y="213372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江雪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江  雪</a:t>
            </a:r>
            <a:br>
              <a:rPr sz="6600"/>
            </a:b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【唐】</a:t>
            </a: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· </a:t>
            </a: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柳宗元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916360" y="2344320"/>
            <a:ext cx="385272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千山鸟飞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万径人踪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孤舟蓑笠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独钓寒江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900000" y="907920"/>
            <a:ext cx="25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468360" y="1917720"/>
            <a:ext cx="392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6372360" y="1197000"/>
            <a:ext cx="2592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179280" y="1197000"/>
            <a:ext cx="2880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山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围的群山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绝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迹，不存在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万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数量很多的道路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踪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脚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灭，消失（没有了）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无人雪景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364176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4685400" y="1413000"/>
            <a:ext cx="40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山鸟飞绝，万径人踪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929600" y="4581360"/>
            <a:ext cx="545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有的山上都没有飞鸟的踪影，条条道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看不到人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山、万径是夸张的说法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江  雪</a:t>
            </a:r>
            <a:br>
              <a:rPr sz="6600"/>
            </a:b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【唐】</a:t>
            </a: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· </a:t>
            </a:r>
            <a:r>
              <a:rPr b="1" lang="zh-CN" sz="3200" spc="-1" strike="noStrike">
                <a:solidFill>
                  <a:srgbClr val="006462"/>
                </a:solidFill>
                <a:latin typeface="Arial"/>
                <a:ea typeface="楷体_GB2312"/>
              </a:rPr>
              <a:t>柳宗元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916360" y="2344320"/>
            <a:ext cx="385272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千山鸟飞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万径人踪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孤舟蓑笠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独钓寒江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900000" y="907920"/>
            <a:ext cx="25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468360" y="1917720"/>
            <a:ext cx="3924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6372360" y="1197000"/>
            <a:ext cx="2592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孤舟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孤单单的一条小船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蓑笠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披蓑衣，头戴斗笠的老翁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寒江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寒冷江面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79280" y="1197000"/>
            <a:ext cx="2880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snap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364176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4468680" y="808200"/>
            <a:ext cx="40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孤舟蓑笠翁，独钓寒江雪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455840" y="548964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1160" y="5127480"/>
            <a:ext cx="91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有一条小船上坐着身披蓑衣，头戴斗笠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老人，独自一人冒着飞雪在寒冷的江面上垂钓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" y="515736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990000"/>
                </a:solidFill>
                <a:latin typeface="Arial"/>
              </a:rPr>
              <a:t>环境—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2345040" y="522936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Arial"/>
                <a:ea typeface="楷体_GB2312"/>
              </a:rPr>
              <a:t>寒冷凄凉</a:t>
            </a:r>
            <a:endParaRPr b="0" i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3141720"/>
            <a:ext cx="3024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990000"/>
                </a:solidFill>
                <a:latin typeface="Arial"/>
              </a:rPr>
              <a:t>心情—</a:t>
            </a:r>
            <a:endParaRPr b="0" i="1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2345040" y="306864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Arial"/>
                <a:ea typeface="楷体_GB2312"/>
              </a:rPr>
              <a:t>孤独悲愤</a:t>
            </a:r>
            <a:endParaRPr b="0" i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0" y="765000"/>
            <a:ext cx="309564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990000"/>
                </a:solidFill>
                <a:latin typeface="Arial"/>
              </a:rPr>
              <a:t>精神—</a:t>
            </a:r>
            <a:endParaRPr b="0" i="1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2286000" y="77472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Arial"/>
                <a:ea typeface="楷体_GB2312"/>
              </a:rPr>
              <a:t>顽强不屈</a:t>
            </a:r>
            <a:endParaRPr b="0" i="1" lang="en-US" sz="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9" name="Picture 9" descr="图片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5607000"/>
            <a:ext cx="1116000" cy="866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0" descr="图片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56360" y="5589720"/>
            <a:ext cx="1116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56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02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