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ding.wav" ContentType="audio/x-wav"/>
  <Override PartName="/ppt/media/image7.png" ContentType="image/png"/>
  <Override PartName="/ppt/media/image1.jpeg" ContentType="image/jpeg"/>
  <Override PartName="/ppt/media/image3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31.png" ContentType="image/png"/>
  <Override PartName="/ppt/media/image8.png" ContentType="image/png"/>
  <Override PartName="/ppt/media/image29.png" ContentType="image/png"/>
  <Override PartName="/ppt/media/chimes.wav" ContentType="audio/x-wav"/>
  <Override PartName="/ppt/media/image16.png" ContentType="image/png"/>
  <Override PartName="/ppt/media/image9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3.jpeg" ContentType="image/jpeg"/>
  <Override PartName="/ppt/media/image23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C3EB-9D85-47B4-A994-7ADEB93E1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C065-3B2B-4805-9864-3DA4208AD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B06C-A246-45DB-A9C3-8D5D2114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29E-D4F9-4D97-AF1C-EB541209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581-D67A-47C6-9F26-5C6CA63E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0AC-0F38-4023-BB3E-F41184CC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9B50-97AA-4275-A6B7-2856911E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953-3161-4ED2-8C92-25CBD35A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900-D0BA-42C6-84E8-929BFF3C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66F-88D5-4A78-9AD8-CA1C976D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E7B5-9354-40A6-8AEF-6A303DC1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0CD0-9E33-43EB-8109-3455C093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5D64-DBE3-498E-A63A-9BB8B8F1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D1DE-F51B-4C34-B048-552CD1CD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1D3F-F069-44DD-8591-12E973A90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8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1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5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0.png"/><Relationship Id="rId35" Type="http://schemas.openxmlformats.org/officeDocument/2006/relationships/image" Target="../media/image30.png"/><Relationship Id="rId36" Type="http://schemas.openxmlformats.org/officeDocument/2006/relationships/image" Target="../media/image30.png"/><Relationship Id="rId37" Type="http://schemas.openxmlformats.org/officeDocument/2006/relationships/image" Target="../media/image30.png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audio" Target="../media/chimes.wav"/><Relationship Id="rId42" Type="http://schemas.openxmlformats.org/officeDocument/2006/relationships/audio" Target="../media/chimes.wav"/><Relationship Id="rId43" Type="http://schemas.openxmlformats.org/officeDocument/2006/relationships/audio" Target="../media/chimes.wav"/><Relationship Id="rId44" Type="http://schemas.openxmlformats.org/officeDocument/2006/relationships/audio" Target="../media/chimes.wav"/><Relationship Id="rId45" Type="http://schemas.openxmlformats.org/officeDocument/2006/relationships/audio" Target="../media/chimes.wav"/><Relationship Id="rId4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audio" Target="../media/ding.wav"/><Relationship Id="rId14" Type="http://schemas.openxmlformats.org/officeDocument/2006/relationships/audio" Target="../media/ding.wav"/><Relationship Id="rId15" Type="http://schemas.openxmlformats.org/officeDocument/2006/relationships/audio" Target="../media/ding.wav"/><Relationship Id="rId16" Type="http://schemas.openxmlformats.org/officeDocument/2006/relationships/audio" Target="../media/ding.wav"/><Relationship Id="rId17" Type="http://schemas.openxmlformats.org/officeDocument/2006/relationships/audio" Target="../media/ding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0" y="816120"/>
            <a:ext cx="9144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br>
              <a:rPr sz="54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九溪十八涧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634400" y="580536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1533960" y="765000"/>
            <a:ext cx="191664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56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叮叮咚咚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320920" y="2635920"/>
            <a:ext cx="34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叮叮咚咚就像在唱歌的泉水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68360" y="1528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路欣赏了重峦叠嶂的山，沿着弯弯曲曲的小路找寻了叮咚的泉水，还有什么景物没欣赏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006640" y="4076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怎样的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255040" y="5012280"/>
            <a:ext cx="170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高高下下的树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488240" y="321300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94920" y="692280"/>
            <a:ext cx="830268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高下下的树是怎样的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108880" y="299664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些树怎么会是高高低低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514160" y="1628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高高低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801440" y="4480560"/>
            <a:ext cx="44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原来有了高低错落的山也才有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这参差错落的树木呀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2637000"/>
            <a:ext cx="822960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其实这里是杭州西湖十景之一，山清水秀景色迷人，这么美的地方你们还想不想再去走一走，谁能用你优美的声音带着大家一起去走一走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九溪十八涧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8360" y="882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欣赏完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九溪十八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景色，你们觉得这里怎么样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93840" y="1771560"/>
          <a:ext cx="3960720" cy="4103640"/>
        </p:xfrm>
        <a:graphic>
          <a:graphicData uri="http://schemas.openxmlformats.org/drawingml/2006/table">
            <a:tbl>
              <a:tblPr/>
              <a:tblGrid>
                <a:gridCol w="1922400"/>
                <a:gridCol w="2038320"/>
              </a:tblGrid>
              <a:tr h="203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71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Freeform 15"/>
          <p:cNvSpPr/>
          <p:nvPr/>
        </p:nvSpPr>
        <p:spPr>
          <a:xfrm>
            <a:off x="1042920" y="2421000"/>
            <a:ext cx="2967120" cy="2967120"/>
          </a:xfrm>
          <a:custGeom>
            <a:avLst/>
            <a:gdLst/>
            <a:ahLst/>
            <a:rect l="l" t="t" r="r" b="b"/>
            <a:pathLst>
              <a:path w="1899" h="1899">
                <a:moveTo>
                  <a:pt x="284" y="1118"/>
                </a:moveTo>
                <a:lnTo>
                  <a:pt x="319" y="1118"/>
                </a:lnTo>
                <a:lnTo>
                  <a:pt x="355" y="1100"/>
                </a:lnTo>
                <a:lnTo>
                  <a:pt x="373" y="1100"/>
                </a:lnTo>
                <a:lnTo>
                  <a:pt x="390" y="1100"/>
                </a:lnTo>
                <a:lnTo>
                  <a:pt x="408" y="1100"/>
                </a:lnTo>
                <a:lnTo>
                  <a:pt x="426" y="1083"/>
                </a:lnTo>
                <a:lnTo>
                  <a:pt x="426" y="1083"/>
                </a:lnTo>
                <a:lnTo>
                  <a:pt x="444" y="1083"/>
                </a:lnTo>
                <a:lnTo>
                  <a:pt x="461" y="1065"/>
                </a:lnTo>
                <a:lnTo>
                  <a:pt x="461" y="1065"/>
                </a:lnTo>
                <a:lnTo>
                  <a:pt x="479" y="1047"/>
                </a:lnTo>
                <a:lnTo>
                  <a:pt x="497" y="1047"/>
                </a:lnTo>
                <a:lnTo>
                  <a:pt x="497" y="1065"/>
                </a:lnTo>
                <a:lnTo>
                  <a:pt x="532" y="1065"/>
                </a:lnTo>
                <a:lnTo>
                  <a:pt x="550" y="1083"/>
                </a:lnTo>
                <a:lnTo>
                  <a:pt x="568" y="1100"/>
                </a:lnTo>
                <a:lnTo>
                  <a:pt x="603" y="1136"/>
                </a:lnTo>
                <a:lnTo>
                  <a:pt x="621" y="1154"/>
                </a:lnTo>
                <a:lnTo>
                  <a:pt x="621" y="1171"/>
                </a:lnTo>
                <a:lnTo>
                  <a:pt x="639" y="1171"/>
                </a:lnTo>
                <a:lnTo>
                  <a:pt x="621" y="1189"/>
                </a:lnTo>
                <a:lnTo>
                  <a:pt x="621" y="1189"/>
                </a:lnTo>
                <a:lnTo>
                  <a:pt x="603" y="1207"/>
                </a:lnTo>
                <a:lnTo>
                  <a:pt x="586" y="1207"/>
                </a:lnTo>
                <a:lnTo>
                  <a:pt x="586" y="1207"/>
                </a:lnTo>
                <a:lnTo>
                  <a:pt x="568" y="1225"/>
                </a:lnTo>
                <a:lnTo>
                  <a:pt x="568" y="1225"/>
                </a:lnTo>
                <a:lnTo>
                  <a:pt x="550" y="1242"/>
                </a:lnTo>
                <a:lnTo>
                  <a:pt x="532" y="1260"/>
                </a:lnTo>
                <a:lnTo>
                  <a:pt x="515" y="1278"/>
                </a:lnTo>
                <a:lnTo>
                  <a:pt x="497" y="1296"/>
                </a:lnTo>
                <a:lnTo>
                  <a:pt x="497" y="1331"/>
                </a:lnTo>
                <a:lnTo>
                  <a:pt x="444" y="1384"/>
                </a:lnTo>
                <a:lnTo>
                  <a:pt x="408" y="1438"/>
                </a:lnTo>
                <a:lnTo>
                  <a:pt x="355" y="1473"/>
                </a:lnTo>
                <a:lnTo>
                  <a:pt x="302" y="1526"/>
                </a:lnTo>
                <a:lnTo>
                  <a:pt x="248" y="1580"/>
                </a:lnTo>
                <a:lnTo>
                  <a:pt x="195" y="1615"/>
                </a:lnTo>
                <a:lnTo>
                  <a:pt x="142" y="1651"/>
                </a:lnTo>
                <a:lnTo>
                  <a:pt x="106" y="1668"/>
                </a:lnTo>
                <a:lnTo>
                  <a:pt x="71" y="1686"/>
                </a:lnTo>
                <a:lnTo>
                  <a:pt x="53" y="1686"/>
                </a:lnTo>
                <a:lnTo>
                  <a:pt x="35" y="1704"/>
                </a:lnTo>
                <a:lnTo>
                  <a:pt x="18" y="1704"/>
                </a:lnTo>
                <a:lnTo>
                  <a:pt x="18" y="1704"/>
                </a:lnTo>
                <a:lnTo>
                  <a:pt x="0" y="1704"/>
                </a:lnTo>
                <a:lnTo>
                  <a:pt x="0" y="1704"/>
                </a:lnTo>
                <a:lnTo>
                  <a:pt x="0" y="1704"/>
                </a:lnTo>
                <a:lnTo>
                  <a:pt x="0" y="1704"/>
                </a:lnTo>
                <a:lnTo>
                  <a:pt x="0" y="1704"/>
                </a:lnTo>
                <a:lnTo>
                  <a:pt x="18" y="1686"/>
                </a:lnTo>
                <a:lnTo>
                  <a:pt x="18" y="1668"/>
                </a:lnTo>
                <a:lnTo>
                  <a:pt x="35" y="1651"/>
                </a:lnTo>
                <a:lnTo>
                  <a:pt x="71" y="1633"/>
                </a:lnTo>
                <a:lnTo>
                  <a:pt x="89" y="1615"/>
                </a:lnTo>
                <a:lnTo>
                  <a:pt x="124" y="1597"/>
                </a:lnTo>
                <a:lnTo>
                  <a:pt x="195" y="1544"/>
                </a:lnTo>
                <a:lnTo>
                  <a:pt x="248" y="1473"/>
                </a:lnTo>
                <a:lnTo>
                  <a:pt x="302" y="1420"/>
                </a:lnTo>
                <a:lnTo>
                  <a:pt x="355" y="1349"/>
                </a:lnTo>
                <a:lnTo>
                  <a:pt x="373" y="1313"/>
                </a:lnTo>
                <a:lnTo>
                  <a:pt x="390" y="1278"/>
                </a:lnTo>
                <a:lnTo>
                  <a:pt x="408" y="1260"/>
                </a:lnTo>
                <a:lnTo>
                  <a:pt x="408" y="1225"/>
                </a:lnTo>
                <a:lnTo>
                  <a:pt x="426" y="1207"/>
                </a:lnTo>
                <a:lnTo>
                  <a:pt x="426" y="1207"/>
                </a:lnTo>
                <a:lnTo>
                  <a:pt x="426" y="1189"/>
                </a:lnTo>
                <a:lnTo>
                  <a:pt x="426" y="1189"/>
                </a:lnTo>
                <a:lnTo>
                  <a:pt x="426" y="1189"/>
                </a:lnTo>
                <a:lnTo>
                  <a:pt x="408" y="1189"/>
                </a:lnTo>
                <a:lnTo>
                  <a:pt x="390" y="1189"/>
                </a:lnTo>
                <a:lnTo>
                  <a:pt x="373" y="1189"/>
                </a:lnTo>
                <a:lnTo>
                  <a:pt x="355" y="1189"/>
                </a:lnTo>
                <a:lnTo>
                  <a:pt x="337" y="1189"/>
                </a:lnTo>
                <a:lnTo>
                  <a:pt x="319" y="1189"/>
                </a:lnTo>
                <a:lnTo>
                  <a:pt x="284" y="1189"/>
                </a:lnTo>
                <a:lnTo>
                  <a:pt x="248" y="1207"/>
                </a:lnTo>
                <a:lnTo>
                  <a:pt x="231" y="1207"/>
                </a:lnTo>
                <a:lnTo>
                  <a:pt x="195" y="1207"/>
                </a:lnTo>
                <a:lnTo>
                  <a:pt x="177" y="1207"/>
                </a:lnTo>
                <a:lnTo>
                  <a:pt x="160" y="1207"/>
                </a:lnTo>
                <a:lnTo>
                  <a:pt x="142" y="1207"/>
                </a:lnTo>
                <a:lnTo>
                  <a:pt x="142" y="1207"/>
                </a:lnTo>
                <a:lnTo>
                  <a:pt x="124" y="1207"/>
                </a:lnTo>
                <a:lnTo>
                  <a:pt x="106" y="1189"/>
                </a:lnTo>
                <a:lnTo>
                  <a:pt x="106" y="1189"/>
                </a:lnTo>
                <a:lnTo>
                  <a:pt x="89" y="1171"/>
                </a:lnTo>
                <a:lnTo>
                  <a:pt x="89" y="1154"/>
                </a:lnTo>
                <a:lnTo>
                  <a:pt x="89" y="1136"/>
                </a:lnTo>
                <a:lnTo>
                  <a:pt x="89" y="1136"/>
                </a:lnTo>
                <a:lnTo>
                  <a:pt x="106" y="1118"/>
                </a:lnTo>
                <a:lnTo>
                  <a:pt x="124" y="1118"/>
                </a:lnTo>
                <a:lnTo>
                  <a:pt x="142" y="1118"/>
                </a:lnTo>
                <a:lnTo>
                  <a:pt x="142" y="1136"/>
                </a:lnTo>
                <a:lnTo>
                  <a:pt x="160" y="1136"/>
                </a:lnTo>
                <a:lnTo>
                  <a:pt x="177" y="1118"/>
                </a:lnTo>
                <a:lnTo>
                  <a:pt x="213" y="1118"/>
                </a:lnTo>
                <a:lnTo>
                  <a:pt x="231" y="1118"/>
                </a:lnTo>
                <a:lnTo>
                  <a:pt x="266" y="1118"/>
                </a:lnTo>
                <a:lnTo>
                  <a:pt x="284" y="1118"/>
                </a:lnTo>
                <a:lnTo>
                  <a:pt x="284" y="1118"/>
                </a:lnTo>
                <a:close/>
                <a:moveTo>
                  <a:pt x="781" y="35"/>
                </a:moveTo>
                <a:lnTo>
                  <a:pt x="763" y="18"/>
                </a:lnTo>
                <a:lnTo>
                  <a:pt x="763" y="18"/>
                </a:lnTo>
                <a:lnTo>
                  <a:pt x="763" y="0"/>
                </a:lnTo>
                <a:lnTo>
                  <a:pt x="781" y="0"/>
                </a:lnTo>
                <a:lnTo>
                  <a:pt x="799" y="0"/>
                </a:lnTo>
                <a:lnTo>
                  <a:pt x="816" y="0"/>
                </a:lnTo>
                <a:lnTo>
                  <a:pt x="834" y="0"/>
                </a:lnTo>
                <a:lnTo>
                  <a:pt x="870" y="18"/>
                </a:lnTo>
                <a:lnTo>
                  <a:pt x="905" y="35"/>
                </a:lnTo>
                <a:lnTo>
                  <a:pt x="923" y="53"/>
                </a:lnTo>
                <a:lnTo>
                  <a:pt x="941" y="71"/>
                </a:lnTo>
                <a:lnTo>
                  <a:pt x="941" y="89"/>
                </a:lnTo>
                <a:lnTo>
                  <a:pt x="941" y="89"/>
                </a:lnTo>
                <a:lnTo>
                  <a:pt x="941" y="106"/>
                </a:lnTo>
                <a:lnTo>
                  <a:pt x="923" y="124"/>
                </a:lnTo>
                <a:lnTo>
                  <a:pt x="923" y="124"/>
                </a:lnTo>
                <a:lnTo>
                  <a:pt x="905" y="142"/>
                </a:lnTo>
                <a:lnTo>
                  <a:pt x="887" y="160"/>
                </a:lnTo>
                <a:lnTo>
                  <a:pt x="852" y="213"/>
                </a:lnTo>
                <a:lnTo>
                  <a:pt x="763" y="284"/>
                </a:lnTo>
                <a:lnTo>
                  <a:pt x="710" y="319"/>
                </a:lnTo>
                <a:lnTo>
                  <a:pt x="657" y="373"/>
                </a:lnTo>
                <a:lnTo>
                  <a:pt x="621" y="390"/>
                </a:lnTo>
                <a:lnTo>
                  <a:pt x="603" y="408"/>
                </a:lnTo>
                <a:lnTo>
                  <a:pt x="586" y="426"/>
                </a:lnTo>
                <a:lnTo>
                  <a:pt x="550" y="426"/>
                </a:lnTo>
                <a:lnTo>
                  <a:pt x="532" y="444"/>
                </a:lnTo>
                <a:lnTo>
                  <a:pt x="515" y="444"/>
                </a:lnTo>
                <a:lnTo>
                  <a:pt x="497" y="461"/>
                </a:lnTo>
                <a:lnTo>
                  <a:pt x="479" y="461"/>
                </a:lnTo>
                <a:lnTo>
                  <a:pt x="532" y="390"/>
                </a:lnTo>
                <a:lnTo>
                  <a:pt x="586" y="337"/>
                </a:lnTo>
                <a:lnTo>
                  <a:pt x="621" y="302"/>
                </a:lnTo>
                <a:lnTo>
                  <a:pt x="657" y="248"/>
                </a:lnTo>
                <a:lnTo>
                  <a:pt x="692" y="213"/>
                </a:lnTo>
                <a:lnTo>
                  <a:pt x="728" y="177"/>
                </a:lnTo>
                <a:lnTo>
                  <a:pt x="745" y="160"/>
                </a:lnTo>
                <a:lnTo>
                  <a:pt x="763" y="124"/>
                </a:lnTo>
                <a:lnTo>
                  <a:pt x="781" y="89"/>
                </a:lnTo>
                <a:lnTo>
                  <a:pt x="781" y="89"/>
                </a:lnTo>
                <a:lnTo>
                  <a:pt x="781" y="71"/>
                </a:lnTo>
                <a:lnTo>
                  <a:pt x="781" y="53"/>
                </a:lnTo>
                <a:lnTo>
                  <a:pt x="781" y="53"/>
                </a:lnTo>
                <a:lnTo>
                  <a:pt x="781" y="35"/>
                </a:lnTo>
                <a:lnTo>
                  <a:pt x="781" y="35"/>
                </a:lnTo>
                <a:lnTo>
                  <a:pt x="781" y="35"/>
                </a:lnTo>
                <a:close/>
                <a:moveTo>
                  <a:pt x="355" y="479"/>
                </a:moveTo>
                <a:lnTo>
                  <a:pt x="337" y="461"/>
                </a:lnTo>
                <a:lnTo>
                  <a:pt x="337" y="444"/>
                </a:lnTo>
                <a:lnTo>
                  <a:pt x="337" y="444"/>
                </a:lnTo>
                <a:lnTo>
                  <a:pt x="337" y="426"/>
                </a:lnTo>
                <a:lnTo>
                  <a:pt x="337" y="426"/>
                </a:lnTo>
                <a:lnTo>
                  <a:pt x="337" y="408"/>
                </a:lnTo>
                <a:lnTo>
                  <a:pt x="355" y="408"/>
                </a:lnTo>
                <a:lnTo>
                  <a:pt x="355" y="408"/>
                </a:lnTo>
                <a:lnTo>
                  <a:pt x="373" y="408"/>
                </a:lnTo>
                <a:lnTo>
                  <a:pt x="373" y="408"/>
                </a:lnTo>
                <a:lnTo>
                  <a:pt x="390" y="408"/>
                </a:lnTo>
                <a:lnTo>
                  <a:pt x="426" y="408"/>
                </a:lnTo>
                <a:lnTo>
                  <a:pt x="444" y="408"/>
                </a:lnTo>
                <a:lnTo>
                  <a:pt x="479" y="426"/>
                </a:lnTo>
                <a:lnTo>
                  <a:pt x="497" y="426"/>
                </a:lnTo>
                <a:lnTo>
                  <a:pt x="515" y="497"/>
                </a:lnTo>
                <a:lnTo>
                  <a:pt x="532" y="550"/>
                </a:lnTo>
                <a:lnTo>
                  <a:pt x="532" y="603"/>
                </a:lnTo>
                <a:lnTo>
                  <a:pt x="550" y="657"/>
                </a:lnTo>
                <a:lnTo>
                  <a:pt x="550" y="710"/>
                </a:lnTo>
                <a:lnTo>
                  <a:pt x="568" y="745"/>
                </a:lnTo>
                <a:lnTo>
                  <a:pt x="568" y="781"/>
                </a:lnTo>
                <a:lnTo>
                  <a:pt x="568" y="816"/>
                </a:lnTo>
                <a:lnTo>
                  <a:pt x="586" y="852"/>
                </a:lnTo>
                <a:lnTo>
                  <a:pt x="586" y="887"/>
                </a:lnTo>
                <a:lnTo>
                  <a:pt x="586" y="905"/>
                </a:lnTo>
                <a:lnTo>
                  <a:pt x="586" y="923"/>
                </a:lnTo>
                <a:lnTo>
                  <a:pt x="586" y="941"/>
                </a:lnTo>
                <a:lnTo>
                  <a:pt x="586" y="941"/>
                </a:lnTo>
                <a:lnTo>
                  <a:pt x="568" y="958"/>
                </a:lnTo>
                <a:lnTo>
                  <a:pt x="568" y="958"/>
                </a:lnTo>
                <a:lnTo>
                  <a:pt x="550" y="958"/>
                </a:lnTo>
                <a:lnTo>
                  <a:pt x="550" y="941"/>
                </a:lnTo>
                <a:lnTo>
                  <a:pt x="532" y="923"/>
                </a:lnTo>
                <a:lnTo>
                  <a:pt x="515" y="905"/>
                </a:lnTo>
                <a:lnTo>
                  <a:pt x="515" y="870"/>
                </a:lnTo>
                <a:lnTo>
                  <a:pt x="497" y="834"/>
                </a:lnTo>
                <a:lnTo>
                  <a:pt x="479" y="781"/>
                </a:lnTo>
                <a:lnTo>
                  <a:pt x="479" y="728"/>
                </a:lnTo>
                <a:lnTo>
                  <a:pt x="461" y="674"/>
                </a:lnTo>
                <a:lnTo>
                  <a:pt x="444" y="639"/>
                </a:lnTo>
                <a:lnTo>
                  <a:pt x="426" y="603"/>
                </a:lnTo>
                <a:lnTo>
                  <a:pt x="426" y="568"/>
                </a:lnTo>
                <a:lnTo>
                  <a:pt x="408" y="532"/>
                </a:lnTo>
                <a:lnTo>
                  <a:pt x="390" y="515"/>
                </a:lnTo>
                <a:lnTo>
                  <a:pt x="373" y="497"/>
                </a:lnTo>
                <a:lnTo>
                  <a:pt x="355" y="479"/>
                </a:lnTo>
                <a:lnTo>
                  <a:pt x="355" y="479"/>
                </a:lnTo>
                <a:close/>
                <a:moveTo>
                  <a:pt x="444" y="426"/>
                </a:moveTo>
                <a:lnTo>
                  <a:pt x="568" y="426"/>
                </a:lnTo>
                <a:lnTo>
                  <a:pt x="674" y="408"/>
                </a:lnTo>
                <a:lnTo>
                  <a:pt x="781" y="390"/>
                </a:lnTo>
                <a:lnTo>
                  <a:pt x="887" y="355"/>
                </a:lnTo>
                <a:lnTo>
                  <a:pt x="941" y="355"/>
                </a:lnTo>
                <a:lnTo>
                  <a:pt x="994" y="337"/>
                </a:lnTo>
                <a:lnTo>
                  <a:pt x="1029" y="337"/>
                </a:lnTo>
                <a:lnTo>
                  <a:pt x="1065" y="319"/>
                </a:lnTo>
                <a:lnTo>
                  <a:pt x="1083" y="319"/>
                </a:lnTo>
                <a:lnTo>
                  <a:pt x="1100" y="302"/>
                </a:lnTo>
                <a:lnTo>
                  <a:pt x="1118" y="302"/>
                </a:lnTo>
                <a:lnTo>
                  <a:pt x="1136" y="284"/>
                </a:lnTo>
                <a:lnTo>
                  <a:pt x="1154" y="284"/>
                </a:lnTo>
                <a:lnTo>
                  <a:pt x="1171" y="284"/>
                </a:lnTo>
                <a:lnTo>
                  <a:pt x="1171" y="284"/>
                </a:lnTo>
                <a:lnTo>
                  <a:pt x="1189" y="284"/>
                </a:lnTo>
                <a:lnTo>
                  <a:pt x="1225" y="302"/>
                </a:lnTo>
                <a:lnTo>
                  <a:pt x="1260" y="302"/>
                </a:lnTo>
                <a:lnTo>
                  <a:pt x="1296" y="337"/>
                </a:lnTo>
                <a:lnTo>
                  <a:pt x="1313" y="337"/>
                </a:lnTo>
                <a:lnTo>
                  <a:pt x="1349" y="355"/>
                </a:lnTo>
                <a:lnTo>
                  <a:pt x="1349" y="373"/>
                </a:lnTo>
                <a:lnTo>
                  <a:pt x="1367" y="373"/>
                </a:lnTo>
                <a:lnTo>
                  <a:pt x="1384" y="390"/>
                </a:lnTo>
                <a:lnTo>
                  <a:pt x="1384" y="390"/>
                </a:lnTo>
                <a:lnTo>
                  <a:pt x="1384" y="390"/>
                </a:lnTo>
                <a:lnTo>
                  <a:pt x="1402" y="408"/>
                </a:lnTo>
                <a:lnTo>
                  <a:pt x="1384" y="408"/>
                </a:lnTo>
                <a:lnTo>
                  <a:pt x="1384" y="426"/>
                </a:lnTo>
                <a:lnTo>
                  <a:pt x="1367" y="444"/>
                </a:lnTo>
                <a:lnTo>
                  <a:pt x="1349" y="444"/>
                </a:lnTo>
                <a:lnTo>
                  <a:pt x="1331" y="461"/>
                </a:lnTo>
                <a:lnTo>
                  <a:pt x="1313" y="461"/>
                </a:lnTo>
                <a:lnTo>
                  <a:pt x="1313" y="479"/>
                </a:lnTo>
                <a:lnTo>
                  <a:pt x="1296" y="515"/>
                </a:lnTo>
                <a:lnTo>
                  <a:pt x="1278" y="532"/>
                </a:lnTo>
                <a:lnTo>
                  <a:pt x="1260" y="568"/>
                </a:lnTo>
                <a:lnTo>
                  <a:pt x="1225" y="621"/>
                </a:lnTo>
                <a:lnTo>
                  <a:pt x="1207" y="657"/>
                </a:lnTo>
                <a:lnTo>
                  <a:pt x="1189" y="692"/>
                </a:lnTo>
                <a:lnTo>
                  <a:pt x="1171" y="745"/>
                </a:lnTo>
                <a:lnTo>
                  <a:pt x="1154" y="763"/>
                </a:lnTo>
                <a:lnTo>
                  <a:pt x="1118" y="799"/>
                </a:lnTo>
                <a:lnTo>
                  <a:pt x="1100" y="816"/>
                </a:lnTo>
                <a:lnTo>
                  <a:pt x="1083" y="834"/>
                </a:lnTo>
                <a:lnTo>
                  <a:pt x="1065" y="834"/>
                </a:lnTo>
                <a:lnTo>
                  <a:pt x="1029" y="852"/>
                </a:lnTo>
                <a:lnTo>
                  <a:pt x="1065" y="763"/>
                </a:lnTo>
                <a:lnTo>
                  <a:pt x="1100" y="692"/>
                </a:lnTo>
                <a:lnTo>
                  <a:pt x="1118" y="639"/>
                </a:lnTo>
                <a:lnTo>
                  <a:pt x="1136" y="586"/>
                </a:lnTo>
                <a:lnTo>
                  <a:pt x="1154" y="532"/>
                </a:lnTo>
                <a:lnTo>
                  <a:pt x="1154" y="515"/>
                </a:lnTo>
                <a:lnTo>
                  <a:pt x="1154" y="479"/>
                </a:lnTo>
                <a:lnTo>
                  <a:pt x="1171" y="479"/>
                </a:lnTo>
                <a:lnTo>
                  <a:pt x="1171" y="461"/>
                </a:lnTo>
                <a:lnTo>
                  <a:pt x="1154" y="444"/>
                </a:lnTo>
                <a:lnTo>
                  <a:pt x="1154" y="426"/>
                </a:lnTo>
                <a:lnTo>
                  <a:pt x="1136" y="408"/>
                </a:lnTo>
                <a:lnTo>
                  <a:pt x="1118" y="390"/>
                </a:lnTo>
                <a:lnTo>
                  <a:pt x="1100" y="390"/>
                </a:lnTo>
                <a:lnTo>
                  <a:pt x="1083" y="390"/>
                </a:lnTo>
                <a:lnTo>
                  <a:pt x="1065" y="390"/>
                </a:lnTo>
                <a:lnTo>
                  <a:pt x="1029" y="390"/>
                </a:lnTo>
                <a:lnTo>
                  <a:pt x="994" y="408"/>
                </a:lnTo>
                <a:lnTo>
                  <a:pt x="958" y="408"/>
                </a:lnTo>
                <a:lnTo>
                  <a:pt x="941" y="426"/>
                </a:lnTo>
                <a:lnTo>
                  <a:pt x="923" y="426"/>
                </a:lnTo>
                <a:lnTo>
                  <a:pt x="905" y="426"/>
                </a:lnTo>
                <a:lnTo>
                  <a:pt x="887" y="426"/>
                </a:lnTo>
                <a:lnTo>
                  <a:pt x="870" y="444"/>
                </a:lnTo>
                <a:lnTo>
                  <a:pt x="834" y="444"/>
                </a:lnTo>
                <a:lnTo>
                  <a:pt x="816" y="444"/>
                </a:lnTo>
                <a:lnTo>
                  <a:pt x="781" y="444"/>
                </a:lnTo>
                <a:lnTo>
                  <a:pt x="745" y="461"/>
                </a:lnTo>
                <a:lnTo>
                  <a:pt x="710" y="461"/>
                </a:lnTo>
                <a:lnTo>
                  <a:pt x="674" y="461"/>
                </a:lnTo>
                <a:lnTo>
                  <a:pt x="639" y="479"/>
                </a:lnTo>
                <a:lnTo>
                  <a:pt x="586" y="479"/>
                </a:lnTo>
                <a:lnTo>
                  <a:pt x="532" y="479"/>
                </a:lnTo>
                <a:lnTo>
                  <a:pt x="497" y="497"/>
                </a:lnTo>
                <a:lnTo>
                  <a:pt x="444" y="497"/>
                </a:lnTo>
                <a:lnTo>
                  <a:pt x="444" y="426"/>
                </a:lnTo>
                <a:lnTo>
                  <a:pt x="444" y="426"/>
                </a:lnTo>
                <a:close/>
                <a:moveTo>
                  <a:pt x="905" y="550"/>
                </a:moveTo>
                <a:lnTo>
                  <a:pt x="923" y="550"/>
                </a:lnTo>
                <a:lnTo>
                  <a:pt x="923" y="568"/>
                </a:lnTo>
                <a:lnTo>
                  <a:pt x="941" y="568"/>
                </a:lnTo>
                <a:lnTo>
                  <a:pt x="958" y="568"/>
                </a:lnTo>
                <a:lnTo>
                  <a:pt x="976" y="586"/>
                </a:lnTo>
                <a:lnTo>
                  <a:pt x="976" y="586"/>
                </a:lnTo>
                <a:lnTo>
                  <a:pt x="994" y="603"/>
                </a:lnTo>
                <a:lnTo>
                  <a:pt x="994" y="603"/>
                </a:lnTo>
                <a:lnTo>
                  <a:pt x="994" y="621"/>
                </a:lnTo>
                <a:lnTo>
                  <a:pt x="976" y="621"/>
                </a:lnTo>
                <a:lnTo>
                  <a:pt x="976" y="621"/>
                </a:lnTo>
                <a:lnTo>
                  <a:pt x="958" y="621"/>
                </a:lnTo>
                <a:lnTo>
                  <a:pt x="941" y="639"/>
                </a:lnTo>
                <a:lnTo>
                  <a:pt x="905" y="639"/>
                </a:lnTo>
                <a:lnTo>
                  <a:pt x="887" y="639"/>
                </a:lnTo>
                <a:lnTo>
                  <a:pt x="852" y="657"/>
                </a:lnTo>
                <a:lnTo>
                  <a:pt x="763" y="657"/>
                </a:lnTo>
                <a:lnTo>
                  <a:pt x="692" y="674"/>
                </a:lnTo>
                <a:lnTo>
                  <a:pt x="603" y="674"/>
                </a:lnTo>
                <a:lnTo>
                  <a:pt x="497" y="674"/>
                </a:lnTo>
                <a:lnTo>
                  <a:pt x="497" y="639"/>
                </a:lnTo>
                <a:lnTo>
                  <a:pt x="550" y="621"/>
                </a:lnTo>
                <a:lnTo>
                  <a:pt x="603" y="621"/>
                </a:lnTo>
                <a:lnTo>
                  <a:pt x="639" y="603"/>
                </a:lnTo>
                <a:lnTo>
                  <a:pt x="674" y="603"/>
                </a:lnTo>
                <a:lnTo>
                  <a:pt x="710" y="586"/>
                </a:lnTo>
                <a:lnTo>
                  <a:pt x="745" y="586"/>
                </a:lnTo>
                <a:lnTo>
                  <a:pt x="763" y="586"/>
                </a:lnTo>
                <a:lnTo>
                  <a:pt x="799" y="568"/>
                </a:lnTo>
                <a:lnTo>
                  <a:pt x="816" y="568"/>
                </a:lnTo>
                <a:lnTo>
                  <a:pt x="834" y="568"/>
                </a:lnTo>
                <a:lnTo>
                  <a:pt x="852" y="568"/>
                </a:lnTo>
                <a:lnTo>
                  <a:pt x="870" y="568"/>
                </a:lnTo>
                <a:lnTo>
                  <a:pt x="887" y="550"/>
                </a:lnTo>
                <a:lnTo>
                  <a:pt x="887" y="550"/>
                </a:lnTo>
                <a:lnTo>
                  <a:pt x="905" y="550"/>
                </a:lnTo>
                <a:lnTo>
                  <a:pt x="905" y="550"/>
                </a:lnTo>
                <a:lnTo>
                  <a:pt x="905" y="550"/>
                </a:lnTo>
                <a:close/>
                <a:moveTo>
                  <a:pt x="568" y="852"/>
                </a:moveTo>
                <a:lnTo>
                  <a:pt x="763" y="834"/>
                </a:lnTo>
                <a:lnTo>
                  <a:pt x="781" y="834"/>
                </a:lnTo>
                <a:lnTo>
                  <a:pt x="816" y="834"/>
                </a:lnTo>
                <a:lnTo>
                  <a:pt x="852" y="816"/>
                </a:lnTo>
                <a:lnTo>
                  <a:pt x="887" y="816"/>
                </a:lnTo>
                <a:lnTo>
                  <a:pt x="923" y="816"/>
                </a:lnTo>
                <a:lnTo>
                  <a:pt x="976" y="799"/>
                </a:lnTo>
                <a:lnTo>
                  <a:pt x="1029" y="799"/>
                </a:lnTo>
                <a:lnTo>
                  <a:pt x="1100" y="781"/>
                </a:lnTo>
                <a:lnTo>
                  <a:pt x="1100" y="816"/>
                </a:lnTo>
                <a:lnTo>
                  <a:pt x="1118" y="834"/>
                </a:lnTo>
                <a:lnTo>
                  <a:pt x="1118" y="852"/>
                </a:lnTo>
                <a:lnTo>
                  <a:pt x="1118" y="852"/>
                </a:lnTo>
                <a:lnTo>
                  <a:pt x="1100" y="870"/>
                </a:lnTo>
                <a:lnTo>
                  <a:pt x="1100" y="870"/>
                </a:lnTo>
                <a:lnTo>
                  <a:pt x="1065" y="870"/>
                </a:lnTo>
                <a:lnTo>
                  <a:pt x="1047" y="870"/>
                </a:lnTo>
                <a:lnTo>
                  <a:pt x="1029" y="870"/>
                </a:lnTo>
                <a:lnTo>
                  <a:pt x="1029" y="870"/>
                </a:lnTo>
                <a:lnTo>
                  <a:pt x="1012" y="870"/>
                </a:lnTo>
                <a:lnTo>
                  <a:pt x="994" y="870"/>
                </a:lnTo>
                <a:lnTo>
                  <a:pt x="976" y="887"/>
                </a:lnTo>
                <a:lnTo>
                  <a:pt x="958" y="887"/>
                </a:lnTo>
                <a:lnTo>
                  <a:pt x="923" y="887"/>
                </a:lnTo>
                <a:lnTo>
                  <a:pt x="905" y="887"/>
                </a:lnTo>
                <a:lnTo>
                  <a:pt x="870" y="887"/>
                </a:lnTo>
                <a:lnTo>
                  <a:pt x="834" y="887"/>
                </a:lnTo>
                <a:lnTo>
                  <a:pt x="799" y="887"/>
                </a:lnTo>
                <a:lnTo>
                  <a:pt x="763" y="905"/>
                </a:lnTo>
                <a:lnTo>
                  <a:pt x="728" y="905"/>
                </a:lnTo>
                <a:lnTo>
                  <a:pt x="674" y="905"/>
                </a:lnTo>
                <a:lnTo>
                  <a:pt x="621" y="905"/>
                </a:lnTo>
                <a:lnTo>
                  <a:pt x="568" y="905"/>
                </a:lnTo>
                <a:lnTo>
                  <a:pt x="568" y="852"/>
                </a:lnTo>
                <a:lnTo>
                  <a:pt x="568" y="852"/>
                </a:lnTo>
                <a:close/>
                <a:moveTo>
                  <a:pt x="728" y="1686"/>
                </a:moveTo>
                <a:lnTo>
                  <a:pt x="745" y="1668"/>
                </a:lnTo>
                <a:lnTo>
                  <a:pt x="745" y="1651"/>
                </a:lnTo>
                <a:lnTo>
                  <a:pt x="745" y="1633"/>
                </a:lnTo>
                <a:lnTo>
                  <a:pt x="745" y="1597"/>
                </a:lnTo>
                <a:lnTo>
                  <a:pt x="763" y="1544"/>
                </a:lnTo>
                <a:lnTo>
                  <a:pt x="763" y="1509"/>
                </a:lnTo>
                <a:lnTo>
                  <a:pt x="763" y="1438"/>
                </a:lnTo>
                <a:lnTo>
                  <a:pt x="763" y="1384"/>
                </a:lnTo>
                <a:lnTo>
                  <a:pt x="763" y="1313"/>
                </a:lnTo>
                <a:lnTo>
                  <a:pt x="763" y="1260"/>
                </a:lnTo>
                <a:lnTo>
                  <a:pt x="763" y="1207"/>
                </a:lnTo>
                <a:lnTo>
                  <a:pt x="763" y="1171"/>
                </a:lnTo>
                <a:lnTo>
                  <a:pt x="763" y="1118"/>
                </a:lnTo>
                <a:lnTo>
                  <a:pt x="763" y="1100"/>
                </a:lnTo>
                <a:lnTo>
                  <a:pt x="763" y="1065"/>
                </a:lnTo>
                <a:lnTo>
                  <a:pt x="763" y="1047"/>
                </a:lnTo>
                <a:lnTo>
                  <a:pt x="763" y="1012"/>
                </a:lnTo>
                <a:lnTo>
                  <a:pt x="745" y="976"/>
                </a:lnTo>
                <a:lnTo>
                  <a:pt x="710" y="941"/>
                </a:lnTo>
                <a:lnTo>
                  <a:pt x="692" y="887"/>
                </a:lnTo>
                <a:lnTo>
                  <a:pt x="728" y="905"/>
                </a:lnTo>
                <a:lnTo>
                  <a:pt x="763" y="923"/>
                </a:lnTo>
                <a:lnTo>
                  <a:pt x="799" y="941"/>
                </a:lnTo>
                <a:lnTo>
                  <a:pt x="816" y="958"/>
                </a:lnTo>
                <a:lnTo>
                  <a:pt x="852" y="958"/>
                </a:lnTo>
                <a:lnTo>
                  <a:pt x="852" y="976"/>
                </a:lnTo>
                <a:lnTo>
                  <a:pt x="870" y="994"/>
                </a:lnTo>
                <a:lnTo>
                  <a:pt x="870" y="994"/>
                </a:lnTo>
                <a:lnTo>
                  <a:pt x="870" y="1012"/>
                </a:lnTo>
                <a:lnTo>
                  <a:pt x="870" y="1029"/>
                </a:lnTo>
                <a:lnTo>
                  <a:pt x="870" y="1047"/>
                </a:lnTo>
                <a:lnTo>
                  <a:pt x="870" y="1065"/>
                </a:lnTo>
                <a:lnTo>
                  <a:pt x="870" y="1083"/>
                </a:lnTo>
                <a:lnTo>
                  <a:pt x="852" y="1118"/>
                </a:lnTo>
                <a:lnTo>
                  <a:pt x="852" y="1136"/>
                </a:lnTo>
                <a:lnTo>
                  <a:pt x="852" y="1171"/>
                </a:lnTo>
                <a:lnTo>
                  <a:pt x="852" y="1260"/>
                </a:lnTo>
                <a:lnTo>
                  <a:pt x="852" y="1331"/>
                </a:lnTo>
                <a:lnTo>
                  <a:pt x="852" y="1420"/>
                </a:lnTo>
                <a:lnTo>
                  <a:pt x="870" y="1491"/>
                </a:lnTo>
                <a:lnTo>
                  <a:pt x="870" y="1544"/>
                </a:lnTo>
                <a:lnTo>
                  <a:pt x="870" y="1580"/>
                </a:lnTo>
                <a:lnTo>
                  <a:pt x="870" y="1615"/>
                </a:lnTo>
                <a:lnTo>
                  <a:pt x="870" y="1651"/>
                </a:lnTo>
                <a:lnTo>
                  <a:pt x="870" y="1686"/>
                </a:lnTo>
                <a:lnTo>
                  <a:pt x="870" y="1704"/>
                </a:lnTo>
                <a:lnTo>
                  <a:pt x="870" y="1722"/>
                </a:lnTo>
                <a:lnTo>
                  <a:pt x="870" y="1739"/>
                </a:lnTo>
                <a:lnTo>
                  <a:pt x="852" y="1775"/>
                </a:lnTo>
                <a:lnTo>
                  <a:pt x="834" y="1810"/>
                </a:lnTo>
                <a:lnTo>
                  <a:pt x="816" y="1846"/>
                </a:lnTo>
                <a:lnTo>
                  <a:pt x="799" y="1864"/>
                </a:lnTo>
                <a:lnTo>
                  <a:pt x="781" y="1881"/>
                </a:lnTo>
                <a:lnTo>
                  <a:pt x="763" y="1899"/>
                </a:lnTo>
                <a:lnTo>
                  <a:pt x="745" y="1899"/>
                </a:lnTo>
                <a:lnTo>
                  <a:pt x="728" y="1899"/>
                </a:lnTo>
                <a:lnTo>
                  <a:pt x="728" y="1899"/>
                </a:lnTo>
                <a:lnTo>
                  <a:pt x="710" y="1881"/>
                </a:lnTo>
                <a:lnTo>
                  <a:pt x="710" y="1864"/>
                </a:lnTo>
                <a:lnTo>
                  <a:pt x="692" y="1846"/>
                </a:lnTo>
                <a:lnTo>
                  <a:pt x="692" y="1810"/>
                </a:lnTo>
                <a:lnTo>
                  <a:pt x="674" y="1775"/>
                </a:lnTo>
                <a:lnTo>
                  <a:pt x="639" y="1757"/>
                </a:lnTo>
                <a:lnTo>
                  <a:pt x="603" y="1722"/>
                </a:lnTo>
                <a:lnTo>
                  <a:pt x="586" y="1704"/>
                </a:lnTo>
                <a:lnTo>
                  <a:pt x="550" y="1704"/>
                </a:lnTo>
                <a:lnTo>
                  <a:pt x="550" y="1686"/>
                </a:lnTo>
                <a:lnTo>
                  <a:pt x="532" y="1668"/>
                </a:lnTo>
                <a:lnTo>
                  <a:pt x="515" y="1668"/>
                </a:lnTo>
                <a:lnTo>
                  <a:pt x="515" y="1668"/>
                </a:lnTo>
                <a:lnTo>
                  <a:pt x="515" y="1651"/>
                </a:lnTo>
                <a:lnTo>
                  <a:pt x="515" y="1651"/>
                </a:lnTo>
                <a:lnTo>
                  <a:pt x="515" y="1651"/>
                </a:lnTo>
                <a:lnTo>
                  <a:pt x="515" y="1651"/>
                </a:lnTo>
                <a:lnTo>
                  <a:pt x="532" y="1651"/>
                </a:lnTo>
                <a:lnTo>
                  <a:pt x="532" y="1651"/>
                </a:lnTo>
                <a:lnTo>
                  <a:pt x="550" y="1651"/>
                </a:lnTo>
                <a:lnTo>
                  <a:pt x="568" y="1668"/>
                </a:lnTo>
                <a:lnTo>
                  <a:pt x="586" y="1668"/>
                </a:lnTo>
                <a:lnTo>
                  <a:pt x="621" y="1686"/>
                </a:lnTo>
                <a:lnTo>
                  <a:pt x="639" y="1686"/>
                </a:lnTo>
                <a:lnTo>
                  <a:pt x="657" y="1704"/>
                </a:lnTo>
                <a:lnTo>
                  <a:pt x="674" y="1704"/>
                </a:lnTo>
                <a:lnTo>
                  <a:pt x="692" y="1704"/>
                </a:lnTo>
                <a:lnTo>
                  <a:pt x="710" y="1704"/>
                </a:lnTo>
                <a:lnTo>
                  <a:pt x="728" y="1704"/>
                </a:lnTo>
                <a:lnTo>
                  <a:pt x="728" y="1686"/>
                </a:lnTo>
                <a:lnTo>
                  <a:pt x="728" y="1686"/>
                </a:lnTo>
                <a:lnTo>
                  <a:pt x="728" y="1686"/>
                </a:lnTo>
                <a:close/>
                <a:moveTo>
                  <a:pt x="1402" y="905"/>
                </a:moveTo>
                <a:lnTo>
                  <a:pt x="1402" y="923"/>
                </a:lnTo>
                <a:lnTo>
                  <a:pt x="1402" y="923"/>
                </a:lnTo>
                <a:lnTo>
                  <a:pt x="1402" y="941"/>
                </a:lnTo>
                <a:lnTo>
                  <a:pt x="1384" y="941"/>
                </a:lnTo>
                <a:lnTo>
                  <a:pt x="1367" y="958"/>
                </a:lnTo>
                <a:lnTo>
                  <a:pt x="1367" y="958"/>
                </a:lnTo>
                <a:lnTo>
                  <a:pt x="1349" y="976"/>
                </a:lnTo>
                <a:lnTo>
                  <a:pt x="1331" y="994"/>
                </a:lnTo>
                <a:lnTo>
                  <a:pt x="1296" y="1012"/>
                </a:lnTo>
                <a:lnTo>
                  <a:pt x="1278" y="1029"/>
                </a:lnTo>
                <a:lnTo>
                  <a:pt x="1242" y="1047"/>
                </a:lnTo>
                <a:lnTo>
                  <a:pt x="1189" y="1065"/>
                </a:lnTo>
                <a:lnTo>
                  <a:pt x="1154" y="1100"/>
                </a:lnTo>
                <a:lnTo>
                  <a:pt x="1100" y="1136"/>
                </a:lnTo>
                <a:lnTo>
                  <a:pt x="1047" y="1171"/>
                </a:lnTo>
                <a:lnTo>
                  <a:pt x="994" y="1207"/>
                </a:lnTo>
                <a:lnTo>
                  <a:pt x="958" y="1171"/>
                </a:lnTo>
                <a:lnTo>
                  <a:pt x="1012" y="1136"/>
                </a:lnTo>
                <a:lnTo>
                  <a:pt x="1065" y="1083"/>
                </a:lnTo>
                <a:lnTo>
                  <a:pt x="1100" y="1047"/>
                </a:lnTo>
                <a:lnTo>
                  <a:pt x="1136" y="1012"/>
                </a:lnTo>
                <a:lnTo>
                  <a:pt x="1171" y="976"/>
                </a:lnTo>
                <a:lnTo>
                  <a:pt x="1189" y="958"/>
                </a:lnTo>
                <a:lnTo>
                  <a:pt x="1207" y="941"/>
                </a:lnTo>
                <a:lnTo>
                  <a:pt x="1225" y="905"/>
                </a:lnTo>
                <a:lnTo>
                  <a:pt x="1242" y="887"/>
                </a:lnTo>
                <a:lnTo>
                  <a:pt x="1260" y="870"/>
                </a:lnTo>
                <a:lnTo>
                  <a:pt x="1260" y="834"/>
                </a:lnTo>
                <a:lnTo>
                  <a:pt x="1260" y="816"/>
                </a:lnTo>
                <a:lnTo>
                  <a:pt x="1242" y="816"/>
                </a:lnTo>
                <a:lnTo>
                  <a:pt x="1242" y="799"/>
                </a:lnTo>
                <a:lnTo>
                  <a:pt x="1242" y="781"/>
                </a:lnTo>
                <a:lnTo>
                  <a:pt x="1260" y="781"/>
                </a:lnTo>
                <a:lnTo>
                  <a:pt x="1260" y="781"/>
                </a:lnTo>
                <a:lnTo>
                  <a:pt x="1278" y="781"/>
                </a:lnTo>
                <a:lnTo>
                  <a:pt x="1313" y="799"/>
                </a:lnTo>
                <a:lnTo>
                  <a:pt x="1331" y="816"/>
                </a:lnTo>
                <a:lnTo>
                  <a:pt x="1367" y="852"/>
                </a:lnTo>
                <a:lnTo>
                  <a:pt x="1384" y="870"/>
                </a:lnTo>
                <a:lnTo>
                  <a:pt x="1402" y="887"/>
                </a:lnTo>
                <a:lnTo>
                  <a:pt x="1402" y="905"/>
                </a:lnTo>
                <a:lnTo>
                  <a:pt x="1402" y="905"/>
                </a:lnTo>
                <a:close/>
                <a:moveTo>
                  <a:pt x="1384" y="1384"/>
                </a:moveTo>
                <a:lnTo>
                  <a:pt x="1473" y="1420"/>
                </a:lnTo>
                <a:lnTo>
                  <a:pt x="1562" y="1455"/>
                </a:lnTo>
                <a:lnTo>
                  <a:pt x="1651" y="1491"/>
                </a:lnTo>
                <a:lnTo>
                  <a:pt x="1739" y="1509"/>
                </a:lnTo>
                <a:lnTo>
                  <a:pt x="1775" y="1509"/>
                </a:lnTo>
                <a:lnTo>
                  <a:pt x="1810" y="1526"/>
                </a:lnTo>
                <a:lnTo>
                  <a:pt x="1846" y="1544"/>
                </a:lnTo>
                <a:lnTo>
                  <a:pt x="1864" y="1544"/>
                </a:lnTo>
                <a:lnTo>
                  <a:pt x="1881" y="1544"/>
                </a:lnTo>
                <a:lnTo>
                  <a:pt x="1899" y="1562"/>
                </a:lnTo>
                <a:lnTo>
                  <a:pt x="1899" y="1562"/>
                </a:lnTo>
                <a:lnTo>
                  <a:pt x="1899" y="1562"/>
                </a:lnTo>
                <a:lnTo>
                  <a:pt x="1899" y="1580"/>
                </a:lnTo>
                <a:lnTo>
                  <a:pt x="1881" y="1580"/>
                </a:lnTo>
                <a:lnTo>
                  <a:pt x="1881" y="1580"/>
                </a:lnTo>
                <a:lnTo>
                  <a:pt x="1864" y="1580"/>
                </a:lnTo>
                <a:lnTo>
                  <a:pt x="1846" y="1580"/>
                </a:lnTo>
                <a:lnTo>
                  <a:pt x="1810" y="1597"/>
                </a:lnTo>
                <a:lnTo>
                  <a:pt x="1793" y="1597"/>
                </a:lnTo>
                <a:lnTo>
                  <a:pt x="1757" y="1597"/>
                </a:lnTo>
                <a:lnTo>
                  <a:pt x="1704" y="1615"/>
                </a:lnTo>
                <a:lnTo>
                  <a:pt x="1651" y="1615"/>
                </a:lnTo>
                <a:lnTo>
                  <a:pt x="1615" y="1615"/>
                </a:lnTo>
                <a:lnTo>
                  <a:pt x="1597" y="1615"/>
                </a:lnTo>
                <a:lnTo>
                  <a:pt x="1580" y="1615"/>
                </a:lnTo>
                <a:lnTo>
                  <a:pt x="1562" y="1615"/>
                </a:lnTo>
                <a:lnTo>
                  <a:pt x="1526" y="1615"/>
                </a:lnTo>
                <a:lnTo>
                  <a:pt x="1509" y="1615"/>
                </a:lnTo>
                <a:lnTo>
                  <a:pt x="1491" y="1615"/>
                </a:lnTo>
                <a:lnTo>
                  <a:pt x="1473" y="1615"/>
                </a:lnTo>
                <a:lnTo>
                  <a:pt x="1455" y="1615"/>
                </a:lnTo>
                <a:lnTo>
                  <a:pt x="1438" y="1615"/>
                </a:lnTo>
                <a:lnTo>
                  <a:pt x="1438" y="1597"/>
                </a:lnTo>
                <a:lnTo>
                  <a:pt x="1420" y="1597"/>
                </a:lnTo>
                <a:lnTo>
                  <a:pt x="1384" y="1580"/>
                </a:lnTo>
                <a:lnTo>
                  <a:pt x="1367" y="1562"/>
                </a:lnTo>
                <a:lnTo>
                  <a:pt x="1349" y="1544"/>
                </a:lnTo>
                <a:lnTo>
                  <a:pt x="1331" y="1526"/>
                </a:lnTo>
                <a:lnTo>
                  <a:pt x="1313" y="1509"/>
                </a:lnTo>
                <a:lnTo>
                  <a:pt x="1296" y="1491"/>
                </a:lnTo>
                <a:lnTo>
                  <a:pt x="1278" y="1473"/>
                </a:lnTo>
                <a:lnTo>
                  <a:pt x="1242" y="1455"/>
                </a:lnTo>
                <a:lnTo>
                  <a:pt x="1225" y="1438"/>
                </a:lnTo>
                <a:lnTo>
                  <a:pt x="1207" y="1420"/>
                </a:lnTo>
                <a:lnTo>
                  <a:pt x="1171" y="1384"/>
                </a:lnTo>
                <a:lnTo>
                  <a:pt x="1136" y="1367"/>
                </a:lnTo>
                <a:lnTo>
                  <a:pt x="1100" y="1331"/>
                </a:lnTo>
                <a:lnTo>
                  <a:pt x="1065" y="1313"/>
                </a:lnTo>
                <a:lnTo>
                  <a:pt x="1029" y="1278"/>
                </a:lnTo>
                <a:lnTo>
                  <a:pt x="976" y="1242"/>
                </a:lnTo>
                <a:lnTo>
                  <a:pt x="941" y="1207"/>
                </a:lnTo>
                <a:lnTo>
                  <a:pt x="887" y="1171"/>
                </a:lnTo>
                <a:lnTo>
                  <a:pt x="834" y="1136"/>
                </a:lnTo>
                <a:lnTo>
                  <a:pt x="799" y="1083"/>
                </a:lnTo>
                <a:lnTo>
                  <a:pt x="799" y="1029"/>
                </a:lnTo>
                <a:lnTo>
                  <a:pt x="834" y="1047"/>
                </a:lnTo>
                <a:lnTo>
                  <a:pt x="852" y="1065"/>
                </a:lnTo>
                <a:lnTo>
                  <a:pt x="870" y="1065"/>
                </a:lnTo>
                <a:lnTo>
                  <a:pt x="870" y="1083"/>
                </a:lnTo>
                <a:lnTo>
                  <a:pt x="887" y="1083"/>
                </a:lnTo>
                <a:lnTo>
                  <a:pt x="887" y="1083"/>
                </a:lnTo>
                <a:lnTo>
                  <a:pt x="905" y="1100"/>
                </a:lnTo>
                <a:lnTo>
                  <a:pt x="923" y="1118"/>
                </a:lnTo>
                <a:lnTo>
                  <a:pt x="941" y="1136"/>
                </a:lnTo>
                <a:lnTo>
                  <a:pt x="976" y="1154"/>
                </a:lnTo>
                <a:lnTo>
                  <a:pt x="1012" y="1171"/>
                </a:lnTo>
                <a:lnTo>
                  <a:pt x="1047" y="1189"/>
                </a:lnTo>
                <a:lnTo>
                  <a:pt x="1118" y="1242"/>
                </a:lnTo>
                <a:lnTo>
                  <a:pt x="1207" y="1296"/>
                </a:lnTo>
                <a:lnTo>
                  <a:pt x="1296" y="1349"/>
                </a:lnTo>
                <a:lnTo>
                  <a:pt x="1384" y="1384"/>
                </a:lnTo>
                <a:lnTo>
                  <a:pt x="1384" y="1384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>
            <a:off x="890640" y="33480"/>
            <a:ext cx="303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宋体"/>
              </a:rPr>
              <a:t>quá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716360" y="1773360"/>
          <a:ext cx="3960720" cy="4064040"/>
        </p:xfrm>
        <a:graphic>
          <a:graphicData uri="http://schemas.openxmlformats.org/drawingml/2006/table">
            <a:tbl>
              <a:tblPr/>
              <a:tblGrid>
                <a:gridCol w="1922400"/>
                <a:gridCol w="2038320"/>
              </a:tblGrid>
              <a:tr h="203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2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29" name="Group 49"/>
          <p:cNvGrpSpPr/>
          <p:nvPr/>
        </p:nvGrpSpPr>
        <p:grpSpPr>
          <a:xfrm>
            <a:off x="5508720" y="2421000"/>
            <a:ext cx="1109520" cy="2830320"/>
            <a:chOff x="5508720" y="2421000"/>
            <a:chExt cx="1109520" cy="2830320"/>
          </a:xfrm>
        </p:grpSpPr>
        <p:grpSp>
          <p:nvGrpSpPr>
            <p:cNvPr id="130" name="Group 50"/>
            <p:cNvGrpSpPr/>
            <p:nvPr/>
          </p:nvGrpSpPr>
          <p:grpSpPr>
            <a:xfrm>
              <a:off x="5508720" y="2421000"/>
              <a:ext cx="1109520" cy="2830320"/>
              <a:chOff x="5508720" y="2421000"/>
              <a:chExt cx="1109520" cy="2830320"/>
            </a:xfrm>
          </p:grpSpPr>
          <p:sp>
            <p:nvSpPr>
              <p:cNvPr id="131" name="Freeform 51"/>
              <p:cNvSpPr/>
              <p:nvPr/>
            </p:nvSpPr>
            <p:spPr>
              <a:xfrm>
                <a:off x="6091200" y="2421000"/>
                <a:ext cx="277920" cy="2830320"/>
              </a:xfrm>
              <a:custGeom>
                <a:avLst/>
                <a:gdLst/>
                <a:ahLst/>
                <a:rect l="l" t="t" r="r" b="b"/>
                <a:pathLst>
                  <a:path w="177" h="1806">
                    <a:moveTo>
                      <a:pt x="159" y="124"/>
                    </a:moveTo>
                    <a:lnTo>
                      <a:pt x="159" y="142"/>
                    </a:lnTo>
                    <a:lnTo>
                      <a:pt x="159" y="159"/>
                    </a:lnTo>
                    <a:lnTo>
                      <a:pt x="141" y="177"/>
                    </a:lnTo>
                    <a:lnTo>
                      <a:pt x="141" y="213"/>
                    </a:lnTo>
                    <a:lnTo>
                      <a:pt x="141" y="248"/>
                    </a:lnTo>
                    <a:lnTo>
                      <a:pt x="141" y="283"/>
                    </a:lnTo>
                    <a:lnTo>
                      <a:pt x="141" y="319"/>
                    </a:lnTo>
                    <a:lnTo>
                      <a:pt x="141" y="372"/>
                    </a:lnTo>
                    <a:lnTo>
                      <a:pt x="141" y="478"/>
                    </a:lnTo>
                    <a:lnTo>
                      <a:pt x="141" y="602"/>
                    </a:lnTo>
                    <a:lnTo>
                      <a:pt x="123" y="726"/>
                    </a:lnTo>
                    <a:lnTo>
                      <a:pt x="123" y="832"/>
                    </a:lnTo>
                    <a:lnTo>
                      <a:pt x="123" y="903"/>
                    </a:lnTo>
                    <a:lnTo>
                      <a:pt x="123" y="974"/>
                    </a:lnTo>
                    <a:lnTo>
                      <a:pt x="123" y="1045"/>
                    </a:lnTo>
                    <a:lnTo>
                      <a:pt x="123" y="1116"/>
                    </a:lnTo>
                    <a:lnTo>
                      <a:pt x="123" y="1186"/>
                    </a:lnTo>
                    <a:lnTo>
                      <a:pt x="106" y="1275"/>
                    </a:lnTo>
                    <a:lnTo>
                      <a:pt x="106" y="1364"/>
                    </a:lnTo>
                    <a:lnTo>
                      <a:pt x="106" y="1434"/>
                    </a:lnTo>
                    <a:lnTo>
                      <a:pt x="106" y="1487"/>
                    </a:lnTo>
                    <a:lnTo>
                      <a:pt x="106" y="1523"/>
                    </a:lnTo>
                    <a:lnTo>
                      <a:pt x="106" y="1558"/>
                    </a:lnTo>
                    <a:lnTo>
                      <a:pt x="106" y="1594"/>
                    </a:lnTo>
                    <a:lnTo>
                      <a:pt x="106" y="1629"/>
                    </a:lnTo>
                    <a:lnTo>
                      <a:pt x="106" y="1665"/>
                    </a:lnTo>
                    <a:lnTo>
                      <a:pt x="88" y="1682"/>
                    </a:lnTo>
                    <a:lnTo>
                      <a:pt x="88" y="1700"/>
                    </a:lnTo>
                    <a:lnTo>
                      <a:pt x="88" y="1735"/>
                    </a:lnTo>
                    <a:lnTo>
                      <a:pt x="88" y="1753"/>
                    </a:lnTo>
                    <a:lnTo>
                      <a:pt x="88" y="1771"/>
                    </a:lnTo>
                    <a:lnTo>
                      <a:pt x="88" y="1771"/>
                    </a:lnTo>
                    <a:lnTo>
                      <a:pt x="88" y="1788"/>
                    </a:lnTo>
                    <a:lnTo>
                      <a:pt x="88" y="1788"/>
                    </a:lnTo>
                    <a:lnTo>
                      <a:pt x="88" y="1806"/>
                    </a:lnTo>
                    <a:lnTo>
                      <a:pt x="70" y="1806"/>
                    </a:lnTo>
                    <a:lnTo>
                      <a:pt x="70" y="1806"/>
                    </a:lnTo>
                    <a:lnTo>
                      <a:pt x="53" y="1788"/>
                    </a:lnTo>
                    <a:lnTo>
                      <a:pt x="35" y="1771"/>
                    </a:lnTo>
                    <a:lnTo>
                      <a:pt x="35" y="1735"/>
                    </a:lnTo>
                    <a:lnTo>
                      <a:pt x="17" y="1700"/>
                    </a:lnTo>
                    <a:lnTo>
                      <a:pt x="0" y="1682"/>
                    </a:lnTo>
                    <a:lnTo>
                      <a:pt x="0" y="1647"/>
                    </a:lnTo>
                    <a:lnTo>
                      <a:pt x="0" y="1647"/>
                    </a:lnTo>
                    <a:lnTo>
                      <a:pt x="0" y="1629"/>
                    </a:lnTo>
                    <a:lnTo>
                      <a:pt x="0" y="1611"/>
                    </a:lnTo>
                    <a:lnTo>
                      <a:pt x="0" y="1594"/>
                    </a:lnTo>
                    <a:lnTo>
                      <a:pt x="0" y="1558"/>
                    </a:lnTo>
                    <a:lnTo>
                      <a:pt x="17" y="1541"/>
                    </a:lnTo>
                    <a:lnTo>
                      <a:pt x="17" y="1523"/>
                    </a:lnTo>
                    <a:lnTo>
                      <a:pt x="17" y="1487"/>
                    </a:lnTo>
                    <a:lnTo>
                      <a:pt x="17" y="1452"/>
                    </a:lnTo>
                    <a:lnTo>
                      <a:pt x="17" y="1434"/>
                    </a:lnTo>
                    <a:lnTo>
                      <a:pt x="17" y="1399"/>
                    </a:lnTo>
                    <a:lnTo>
                      <a:pt x="35" y="1364"/>
                    </a:lnTo>
                    <a:lnTo>
                      <a:pt x="35" y="1328"/>
                    </a:lnTo>
                    <a:lnTo>
                      <a:pt x="35" y="1240"/>
                    </a:lnTo>
                    <a:lnTo>
                      <a:pt x="35" y="1151"/>
                    </a:lnTo>
                    <a:lnTo>
                      <a:pt x="53" y="1063"/>
                    </a:lnTo>
                    <a:lnTo>
                      <a:pt x="53" y="974"/>
                    </a:lnTo>
                    <a:lnTo>
                      <a:pt x="53" y="868"/>
                    </a:lnTo>
                    <a:lnTo>
                      <a:pt x="53" y="761"/>
                    </a:lnTo>
                    <a:lnTo>
                      <a:pt x="53" y="655"/>
                    </a:lnTo>
                    <a:lnTo>
                      <a:pt x="53" y="531"/>
                    </a:lnTo>
                    <a:lnTo>
                      <a:pt x="53" y="478"/>
                    </a:lnTo>
                    <a:lnTo>
                      <a:pt x="53" y="425"/>
                    </a:lnTo>
                    <a:lnTo>
                      <a:pt x="53" y="372"/>
                    </a:lnTo>
                    <a:lnTo>
                      <a:pt x="53" y="337"/>
                    </a:lnTo>
                    <a:lnTo>
                      <a:pt x="53" y="283"/>
                    </a:lnTo>
                    <a:lnTo>
                      <a:pt x="53" y="248"/>
                    </a:lnTo>
                    <a:lnTo>
                      <a:pt x="53" y="213"/>
                    </a:lnTo>
                    <a:lnTo>
                      <a:pt x="53" y="177"/>
                    </a:lnTo>
                    <a:lnTo>
                      <a:pt x="53" y="159"/>
                    </a:lnTo>
                    <a:lnTo>
                      <a:pt x="35" y="124"/>
                    </a:lnTo>
                    <a:lnTo>
                      <a:pt x="35" y="106"/>
                    </a:lnTo>
                    <a:lnTo>
                      <a:pt x="35" y="89"/>
                    </a:lnTo>
                    <a:lnTo>
                      <a:pt x="35" y="71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17" y="53"/>
                    </a:lnTo>
                    <a:lnTo>
                      <a:pt x="17" y="36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5" y="0"/>
                    </a:lnTo>
                    <a:lnTo>
                      <a:pt x="70" y="0"/>
                    </a:lnTo>
                    <a:lnTo>
                      <a:pt x="106" y="18"/>
                    </a:lnTo>
                    <a:lnTo>
                      <a:pt x="141" y="18"/>
                    </a:lnTo>
                    <a:lnTo>
                      <a:pt x="159" y="36"/>
                    </a:lnTo>
                    <a:lnTo>
                      <a:pt x="177" y="53"/>
                    </a:lnTo>
                    <a:lnTo>
                      <a:pt x="177" y="71"/>
                    </a:lnTo>
                    <a:lnTo>
                      <a:pt x="177" y="89"/>
                    </a:lnTo>
                    <a:lnTo>
                      <a:pt x="177" y="89"/>
                    </a:lnTo>
                    <a:lnTo>
                      <a:pt x="159" y="106"/>
                    </a:lnTo>
                    <a:lnTo>
                      <a:pt x="159" y="124"/>
                    </a:lnTo>
                    <a:lnTo>
                      <a:pt x="159" y="124"/>
                    </a:lnTo>
                  </a:path>
                </a:pathLst>
              </a:custGeom>
              <a:solidFill>
                <a:srgbClr val="33cc33"/>
              </a:solidFill>
              <a:ln w="115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52"/>
              <p:cNvSpPr/>
              <p:nvPr/>
            </p:nvSpPr>
            <p:spPr>
              <a:xfrm>
                <a:off x="5591160" y="3281400"/>
                <a:ext cx="1027080" cy="277560"/>
              </a:xfrm>
              <a:custGeom>
                <a:avLst/>
                <a:gdLst/>
                <a:ahLst/>
                <a:rect l="l" t="t" r="r" b="b"/>
                <a:pathLst>
                  <a:path w="655" h="177">
                    <a:moveTo>
                      <a:pt x="620" y="18"/>
                    </a:moveTo>
                    <a:lnTo>
                      <a:pt x="637" y="18"/>
                    </a:lnTo>
                    <a:lnTo>
                      <a:pt x="655" y="18"/>
                    </a:lnTo>
                    <a:lnTo>
                      <a:pt x="655" y="35"/>
                    </a:lnTo>
                    <a:lnTo>
                      <a:pt x="655" y="35"/>
                    </a:lnTo>
                    <a:lnTo>
                      <a:pt x="655" y="35"/>
                    </a:lnTo>
                    <a:lnTo>
                      <a:pt x="637" y="53"/>
                    </a:lnTo>
                    <a:lnTo>
                      <a:pt x="620" y="53"/>
                    </a:lnTo>
                    <a:lnTo>
                      <a:pt x="584" y="71"/>
                    </a:lnTo>
                    <a:lnTo>
                      <a:pt x="549" y="71"/>
                    </a:lnTo>
                    <a:lnTo>
                      <a:pt x="513" y="89"/>
                    </a:lnTo>
                    <a:lnTo>
                      <a:pt x="460" y="106"/>
                    </a:lnTo>
                    <a:lnTo>
                      <a:pt x="407" y="106"/>
                    </a:lnTo>
                    <a:lnTo>
                      <a:pt x="354" y="124"/>
                    </a:lnTo>
                    <a:lnTo>
                      <a:pt x="301" y="142"/>
                    </a:lnTo>
                    <a:lnTo>
                      <a:pt x="265" y="159"/>
                    </a:lnTo>
                    <a:lnTo>
                      <a:pt x="230" y="159"/>
                    </a:lnTo>
                    <a:lnTo>
                      <a:pt x="195" y="177"/>
                    </a:lnTo>
                    <a:lnTo>
                      <a:pt x="177" y="177"/>
                    </a:lnTo>
                    <a:lnTo>
                      <a:pt x="159" y="177"/>
                    </a:lnTo>
                    <a:lnTo>
                      <a:pt x="159" y="177"/>
                    </a:lnTo>
                    <a:lnTo>
                      <a:pt x="141" y="177"/>
                    </a:lnTo>
                    <a:lnTo>
                      <a:pt x="141" y="177"/>
                    </a:lnTo>
                    <a:lnTo>
                      <a:pt x="124" y="177"/>
                    </a:lnTo>
                    <a:lnTo>
                      <a:pt x="106" y="177"/>
                    </a:lnTo>
                    <a:lnTo>
                      <a:pt x="88" y="159"/>
                    </a:lnTo>
                    <a:lnTo>
                      <a:pt x="71" y="159"/>
                    </a:lnTo>
                    <a:lnTo>
                      <a:pt x="35" y="142"/>
                    </a:lnTo>
                    <a:lnTo>
                      <a:pt x="0" y="124"/>
                    </a:lnTo>
                    <a:lnTo>
                      <a:pt x="18" y="124"/>
                    </a:lnTo>
                    <a:lnTo>
                      <a:pt x="53" y="124"/>
                    </a:lnTo>
                    <a:lnTo>
                      <a:pt x="71" y="106"/>
                    </a:lnTo>
                    <a:lnTo>
                      <a:pt x="106" y="106"/>
                    </a:lnTo>
                    <a:lnTo>
                      <a:pt x="159" y="89"/>
                    </a:lnTo>
                    <a:lnTo>
                      <a:pt x="195" y="71"/>
                    </a:lnTo>
                    <a:lnTo>
                      <a:pt x="248" y="71"/>
                    </a:lnTo>
                    <a:lnTo>
                      <a:pt x="301" y="53"/>
                    </a:lnTo>
                    <a:lnTo>
                      <a:pt x="354" y="35"/>
                    </a:lnTo>
                    <a:lnTo>
                      <a:pt x="407" y="18"/>
                    </a:lnTo>
                    <a:lnTo>
                      <a:pt x="442" y="18"/>
                    </a:lnTo>
                    <a:lnTo>
                      <a:pt x="478" y="0"/>
                    </a:lnTo>
                    <a:lnTo>
                      <a:pt x="513" y="0"/>
                    </a:lnTo>
                    <a:lnTo>
                      <a:pt x="531" y="0"/>
                    </a:lnTo>
                    <a:lnTo>
                      <a:pt x="549" y="0"/>
                    </a:lnTo>
                    <a:lnTo>
                      <a:pt x="566" y="0"/>
                    </a:lnTo>
                    <a:lnTo>
                      <a:pt x="584" y="0"/>
                    </a:lnTo>
                    <a:lnTo>
                      <a:pt x="602" y="0"/>
                    </a:lnTo>
                    <a:lnTo>
                      <a:pt x="602" y="0"/>
                    </a:lnTo>
                    <a:lnTo>
                      <a:pt x="620" y="18"/>
                    </a:lnTo>
                    <a:lnTo>
                      <a:pt x="620" y="18"/>
                    </a:lnTo>
                  </a:path>
                </a:pathLst>
              </a:custGeom>
              <a:solidFill>
                <a:srgbClr val="33cc33"/>
              </a:solidFill>
              <a:ln w="115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53"/>
              <p:cNvSpPr/>
              <p:nvPr/>
            </p:nvSpPr>
            <p:spPr>
              <a:xfrm>
                <a:off x="5508720" y="3392280"/>
                <a:ext cx="720720" cy="1192320"/>
              </a:xfrm>
              <a:custGeom>
                <a:avLst/>
                <a:gdLst/>
                <a:ahLst/>
                <a:rect l="l" t="t" r="r" b="b"/>
                <a:pathLst>
                  <a:path w="460" h="761">
                    <a:moveTo>
                      <a:pt x="141" y="655"/>
                    </a:moveTo>
                    <a:lnTo>
                      <a:pt x="106" y="690"/>
                    </a:lnTo>
                    <a:lnTo>
                      <a:pt x="88" y="708"/>
                    </a:lnTo>
                    <a:lnTo>
                      <a:pt x="53" y="726"/>
                    </a:lnTo>
                    <a:lnTo>
                      <a:pt x="35" y="744"/>
                    </a:lnTo>
                    <a:lnTo>
                      <a:pt x="17" y="761"/>
                    </a:lnTo>
                    <a:lnTo>
                      <a:pt x="17" y="761"/>
                    </a:lnTo>
                    <a:lnTo>
                      <a:pt x="0" y="761"/>
                    </a:lnTo>
                    <a:lnTo>
                      <a:pt x="0" y="761"/>
                    </a:lnTo>
                    <a:lnTo>
                      <a:pt x="0" y="761"/>
                    </a:lnTo>
                    <a:lnTo>
                      <a:pt x="0" y="744"/>
                    </a:lnTo>
                    <a:lnTo>
                      <a:pt x="0" y="726"/>
                    </a:lnTo>
                    <a:lnTo>
                      <a:pt x="17" y="708"/>
                    </a:lnTo>
                    <a:lnTo>
                      <a:pt x="35" y="690"/>
                    </a:lnTo>
                    <a:lnTo>
                      <a:pt x="53" y="655"/>
                    </a:lnTo>
                    <a:lnTo>
                      <a:pt x="71" y="637"/>
                    </a:lnTo>
                    <a:lnTo>
                      <a:pt x="106" y="584"/>
                    </a:lnTo>
                    <a:lnTo>
                      <a:pt x="124" y="566"/>
                    </a:lnTo>
                    <a:lnTo>
                      <a:pt x="141" y="549"/>
                    </a:lnTo>
                    <a:lnTo>
                      <a:pt x="159" y="531"/>
                    </a:lnTo>
                    <a:lnTo>
                      <a:pt x="177" y="496"/>
                    </a:lnTo>
                    <a:lnTo>
                      <a:pt x="194" y="478"/>
                    </a:lnTo>
                    <a:lnTo>
                      <a:pt x="212" y="443"/>
                    </a:lnTo>
                    <a:lnTo>
                      <a:pt x="230" y="407"/>
                    </a:lnTo>
                    <a:lnTo>
                      <a:pt x="248" y="372"/>
                    </a:lnTo>
                    <a:lnTo>
                      <a:pt x="301" y="301"/>
                    </a:lnTo>
                    <a:lnTo>
                      <a:pt x="336" y="212"/>
                    </a:lnTo>
                    <a:lnTo>
                      <a:pt x="389" y="106"/>
                    </a:lnTo>
                    <a:lnTo>
                      <a:pt x="442" y="0"/>
                    </a:lnTo>
                    <a:lnTo>
                      <a:pt x="460" y="177"/>
                    </a:lnTo>
                    <a:lnTo>
                      <a:pt x="425" y="265"/>
                    </a:lnTo>
                    <a:lnTo>
                      <a:pt x="372" y="336"/>
                    </a:lnTo>
                    <a:lnTo>
                      <a:pt x="336" y="407"/>
                    </a:lnTo>
                    <a:lnTo>
                      <a:pt x="301" y="460"/>
                    </a:lnTo>
                    <a:lnTo>
                      <a:pt x="265" y="513"/>
                    </a:lnTo>
                    <a:lnTo>
                      <a:pt x="230" y="566"/>
                    </a:lnTo>
                    <a:lnTo>
                      <a:pt x="177" y="620"/>
                    </a:lnTo>
                    <a:lnTo>
                      <a:pt x="141" y="655"/>
                    </a:lnTo>
                    <a:lnTo>
                      <a:pt x="141" y="655"/>
                    </a:lnTo>
                  </a:path>
                </a:pathLst>
              </a:custGeom>
              <a:solidFill>
                <a:srgbClr val="33cc33"/>
              </a:solidFill>
              <a:ln w="115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54"/>
            <p:cNvSpPr/>
            <p:nvPr/>
          </p:nvSpPr>
          <p:spPr>
            <a:xfrm>
              <a:off x="6257880" y="3781440"/>
              <a:ext cx="331920" cy="306360"/>
            </a:xfrm>
            <a:custGeom>
              <a:avLst/>
              <a:gdLst/>
              <a:ahLst/>
              <a:rect l="l" t="t" r="r" b="b"/>
              <a:pathLst>
                <a:path w="212" h="195">
                  <a:moveTo>
                    <a:pt x="0" y="0"/>
                  </a:moveTo>
                  <a:lnTo>
                    <a:pt x="53" y="0"/>
                  </a:lnTo>
                  <a:lnTo>
                    <a:pt x="88" y="0"/>
                  </a:lnTo>
                  <a:lnTo>
                    <a:pt x="124" y="17"/>
                  </a:lnTo>
                  <a:lnTo>
                    <a:pt x="159" y="17"/>
                  </a:lnTo>
                  <a:lnTo>
                    <a:pt x="177" y="35"/>
                  </a:lnTo>
                  <a:lnTo>
                    <a:pt x="195" y="53"/>
                  </a:lnTo>
                  <a:lnTo>
                    <a:pt x="195" y="71"/>
                  </a:lnTo>
                  <a:lnTo>
                    <a:pt x="212" y="88"/>
                  </a:lnTo>
                  <a:lnTo>
                    <a:pt x="212" y="106"/>
                  </a:lnTo>
                  <a:lnTo>
                    <a:pt x="212" y="124"/>
                  </a:lnTo>
                  <a:lnTo>
                    <a:pt x="212" y="141"/>
                  </a:lnTo>
                  <a:lnTo>
                    <a:pt x="212" y="159"/>
                  </a:lnTo>
                  <a:lnTo>
                    <a:pt x="212" y="177"/>
                  </a:lnTo>
                  <a:lnTo>
                    <a:pt x="195" y="195"/>
                  </a:lnTo>
                  <a:lnTo>
                    <a:pt x="177" y="195"/>
                  </a:lnTo>
                  <a:lnTo>
                    <a:pt x="159" y="195"/>
                  </a:lnTo>
                  <a:lnTo>
                    <a:pt x="141" y="195"/>
                  </a:lnTo>
                  <a:lnTo>
                    <a:pt x="141" y="177"/>
                  </a:lnTo>
                  <a:lnTo>
                    <a:pt x="124" y="159"/>
                  </a:lnTo>
                  <a:lnTo>
                    <a:pt x="106" y="141"/>
                  </a:lnTo>
                  <a:lnTo>
                    <a:pt x="88" y="106"/>
                  </a:lnTo>
                  <a:lnTo>
                    <a:pt x="53" y="71"/>
                  </a:lnTo>
                  <a:lnTo>
                    <a:pt x="35" y="3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33cc33"/>
            </a:solidFill>
            <a:ln w="1152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55"/>
          <p:cNvGrpSpPr/>
          <p:nvPr/>
        </p:nvGrpSpPr>
        <p:grpSpPr>
          <a:xfrm>
            <a:off x="6084720" y="2997360"/>
            <a:ext cx="942840" cy="1774800"/>
            <a:chOff x="6084720" y="2997360"/>
            <a:chExt cx="942840" cy="1774800"/>
          </a:xfrm>
        </p:grpSpPr>
        <p:sp>
          <p:nvSpPr>
            <p:cNvPr id="136" name="Freeform 56"/>
            <p:cNvSpPr/>
            <p:nvPr/>
          </p:nvSpPr>
          <p:spPr>
            <a:xfrm>
              <a:off x="6084720" y="2997360"/>
              <a:ext cx="942840" cy="1774800"/>
            </a:xfrm>
            <a:custGeom>
              <a:avLst/>
              <a:gdLst/>
              <a:ahLst/>
              <a:rect l="l" t="t" r="r" b="b"/>
              <a:pathLst>
                <a:path w="602" h="1133">
                  <a:moveTo>
                    <a:pt x="0" y="1133"/>
                  </a:moveTo>
                  <a:lnTo>
                    <a:pt x="0" y="1133"/>
                  </a:lnTo>
                  <a:lnTo>
                    <a:pt x="0" y="1133"/>
                  </a:lnTo>
                  <a:lnTo>
                    <a:pt x="18" y="1116"/>
                  </a:lnTo>
                  <a:lnTo>
                    <a:pt x="18" y="1098"/>
                  </a:lnTo>
                  <a:lnTo>
                    <a:pt x="35" y="1080"/>
                  </a:lnTo>
                  <a:lnTo>
                    <a:pt x="53" y="1063"/>
                  </a:lnTo>
                  <a:lnTo>
                    <a:pt x="71" y="1045"/>
                  </a:lnTo>
                  <a:lnTo>
                    <a:pt x="89" y="1010"/>
                  </a:lnTo>
                  <a:lnTo>
                    <a:pt x="124" y="956"/>
                  </a:lnTo>
                  <a:lnTo>
                    <a:pt x="159" y="886"/>
                  </a:lnTo>
                  <a:lnTo>
                    <a:pt x="212" y="815"/>
                  </a:lnTo>
                  <a:lnTo>
                    <a:pt x="230" y="779"/>
                  </a:lnTo>
                  <a:lnTo>
                    <a:pt x="248" y="744"/>
                  </a:lnTo>
                  <a:lnTo>
                    <a:pt x="283" y="655"/>
                  </a:lnTo>
                  <a:lnTo>
                    <a:pt x="319" y="567"/>
                  </a:lnTo>
                  <a:lnTo>
                    <a:pt x="354" y="478"/>
                  </a:lnTo>
                  <a:lnTo>
                    <a:pt x="372" y="425"/>
                  </a:lnTo>
                  <a:lnTo>
                    <a:pt x="390" y="372"/>
                  </a:lnTo>
                  <a:lnTo>
                    <a:pt x="407" y="319"/>
                  </a:lnTo>
                  <a:lnTo>
                    <a:pt x="407" y="266"/>
                  </a:lnTo>
                  <a:lnTo>
                    <a:pt x="425" y="230"/>
                  </a:lnTo>
                  <a:lnTo>
                    <a:pt x="425" y="195"/>
                  </a:lnTo>
                  <a:lnTo>
                    <a:pt x="425" y="177"/>
                  </a:lnTo>
                  <a:lnTo>
                    <a:pt x="425" y="160"/>
                  </a:lnTo>
                  <a:lnTo>
                    <a:pt x="425" y="142"/>
                  </a:lnTo>
                  <a:lnTo>
                    <a:pt x="425" y="142"/>
                  </a:lnTo>
                  <a:lnTo>
                    <a:pt x="425" y="142"/>
                  </a:lnTo>
                  <a:lnTo>
                    <a:pt x="425" y="142"/>
                  </a:lnTo>
                  <a:lnTo>
                    <a:pt x="407" y="142"/>
                  </a:lnTo>
                  <a:lnTo>
                    <a:pt x="390" y="142"/>
                  </a:lnTo>
                  <a:lnTo>
                    <a:pt x="372" y="142"/>
                  </a:lnTo>
                  <a:lnTo>
                    <a:pt x="354" y="142"/>
                  </a:lnTo>
                  <a:lnTo>
                    <a:pt x="336" y="160"/>
                  </a:lnTo>
                  <a:lnTo>
                    <a:pt x="319" y="160"/>
                  </a:lnTo>
                  <a:lnTo>
                    <a:pt x="266" y="177"/>
                  </a:lnTo>
                  <a:lnTo>
                    <a:pt x="248" y="195"/>
                  </a:lnTo>
                  <a:lnTo>
                    <a:pt x="230" y="195"/>
                  </a:lnTo>
                  <a:lnTo>
                    <a:pt x="212" y="195"/>
                  </a:lnTo>
                  <a:lnTo>
                    <a:pt x="195" y="195"/>
                  </a:lnTo>
                  <a:lnTo>
                    <a:pt x="195" y="195"/>
                  </a:lnTo>
                  <a:lnTo>
                    <a:pt x="177" y="195"/>
                  </a:lnTo>
                  <a:lnTo>
                    <a:pt x="159" y="195"/>
                  </a:lnTo>
                  <a:lnTo>
                    <a:pt x="142" y="177"/>
                  </a:lnTo>
                  <a:lnTo>
                    <a:pt x="124" y="177"/>
                  </a:lnTo>
                  <a:lnTo>
                    <a:pt x="106" y="160"/>
                  </a:lnTo>
                  <a:lnTo>
                    <a:pt x="106" y="160"/>
                  </a:lnTo>
                  <a:lnTo>
                    <a:pt x="106" y="142"/>
                  </a:lnTo>
                  <a:lnTo>
                    <a:pt x="106" y="124"/>
                  </a:lnTo>
                  <a:lnTo>
                    <a:pt x="159" y="124"/>
                  </a:lnTo>
                  <a:lnTo>
                    <a:pt x="212" y="106"/>
                  </a:lnTo>
                  <a:lnTo>
                    <a:pt x="266" y="89"/>
                  </a:lnTo>
                  <a:lnTo>
                    <a:pt x="319" y="89"/>
                  </a:lnTo>
                  <a:lnTo>
                    <a:pt x="354" y="71"/>
                  </a:lnTo>
                  <a:lnTo>
                    <a:pt x="390" y="71"/>
                  </a:lnTo>
                  <a:lnTo>
                    <a:pt x="407" y="53"/>
                  </a:lnTo>
                  <a:lnTo>
                    <a:pt x="425" y="36"/>
                  </a:lnTo>
                  <a:lnTo>
                    <a:pt x="425" y="18"/>
                  </a:lnTo>
                  <a:lnTo>
                    <a:pt x="443" y="0"/>
                  </a:lnTo>
                  <a:lnTo>
                    <a:pt x="460" y="0"/>
                  </a:lnTo>
                  <a:lnTo>
                    <a:pt x="460" y="0"/>
                  </a:lnTo>
                  <a:lnTo>
                    <a:pt x="478" y="0"/>
                  </a:lnTo>
                  <a:lnTo>
                    <a:pt x="514" y="0"/>
                  </a:lnTo>
                  <a:lnTo>
                    <a:pt x="531" y="18"/>
                  </a:lnTo>
                  <a:lnTo>
                    <a:pt x="549" y="36"/>
                  </a:lnTo>
                  <a:lnTo>
                    <a:pt x="567" y="71"/>
                  </a:lnTo>
                  <a:lnTo>
                    <a:pt x="584" y="89"/>
                  </a:lnTo>
                  <a:lnTo>
                    <a:pt x="602" y="106"/>
                  </a:lnTo>
                  <a:lnTo>
                    <a:pt x="602" y="106"/>
                  </a:lnTo>
                  <a:lnTo>
                    <a:pt x="602" y="124"/>
                  </a:lnTo>
                  <a:lnTo>
                    <a:pt x="602" y="142"/>
                  </a:lnTo>
                  <a:lnTo>
                    <a:pt x="584" y="142"/>
                  </a:lnTo>
                  <a:lnTo>
                    <a:pt x="584" y="160"/>
                  </a:lnTo>
                  <a:lnTo>
                    <a:pt x="567" y="160"/>
                  </a:lnTo>
                  <a:lnTo>
                    <a:pt x="567" y="177"/>
                  </a:lnTo>
                  <a:lnTo>
                    <a:pt x="549" y="195"/>
                  </a:lnTo>
                  <a:lnTo>
                    <a:pt x="549" y="230"/>
                  </a:lnTo>
                  <a:lnTo>
                    <a:pt x="531" y="266"/>
                  </a:lnTo>
                  <a:lnTo>
                    <a:pt x="514" y="301"/>
                  </a:lnTo>
                  <a:lnTo>
                    <a:pt x="514" y="337"/>
                  </a:lnTo>
                  <a:lnTo>
                    <a:pt x="496" y="390"/>
                  </a:lnTo>
                  <a:lnTo>
                    <a:pt x="460" y="496"/>
                  </a:lnTo>
                  <a:lnTo>
                    <a:pt x="425" y="585"/>
                  </a:lnTo>
                  <a:lnTo>
                    <a:pt x="372" y="691"/>
                  </a:lnTo>
                  <a:lnTo>
                    <a:pt x="336" y="779"/>
                  </a:lnTo>
                  <a:lnTo>
                    <a:pt x="301" y="832"/>
                  </a:lnTo>
                  <a:lnTo>
                    <a:pt x="283" y="868"/>
                  </a:lnTo>
                  <a:lnTo>
                    <a:pt x="248" y="903"/>
                  </a:lnTo>
                  <a:lnTo>
                    <a:pt x="230" y="939"/>
                  </a:lnTo>
                  <a:lnTo>
                    <a:pt x="195" y="974"/>
                  </a:lnTo>
                  <a:lnTo>
                    <a:pt x="177" y="1010"/>
                  </a:lnTo>
                  <a:lnTo>
                    <a:pt x="142" y="1045"/>
                  </a:lnTo>
                  <a:lnTo>
                    <a:pt x="124" y="1063"/>
                  </a:lnTo>
                  <a:lnTo>
                    <a:pt x="106" y="1080"/>
                  </a:lnTo>
                  <a:lnTo>
                    <a:pt x="71" y="1098"/>
                  </a:lnTo>
                  <a:lnTo>
                    <a:pt x="53" y="1116"/>
                  </a:lnTo>
                  <a:lnTo>
                    <a:pt x="35" y="1133"/>
                  </a:lnTo>
                  <a:lnTo>
                    <a:pt x="35" y="1133"/>
                  </a:lnTo>
                  <a:lnTo>
                    <a:pt x="18" y="1133"/>
                  </a:lnTo>
                  <a:lnTo>
                    <a:pt x="18" y="1133"/>
                  </a:lnTo>
                  <a:lnTo>
                    <a:pt x="0" y="1133"/>
                  </a:lnTo>
                  <a:lnTo>
                    <a:pt x="0" y="1133"/>
                  </a:lnTo>
                </a:path>
              </a:pathLst>
            </a:custGeom>
            <a:solidFill>
              <a:srgbClr val="33cc33"/>
            </a:solidFill>
            <a:ln w="1152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7"/>
            <p:cNvSpPr/>
            <p:nvPr/>
          </p:nvSpPr>
          <p:spPr>
            <a:xfrm>
              <a:off x="6302160" y="3500640"/>
              <a:ext cx="666720" cy="1108080"/>
            </a:xfrm>
            <a:custGeom>
              <a:avLst/>
              <a:gdLst/>
              <a:ahLst/>
              <a:rect l="l" t="t" r="r" b="b"/>
              <a:pathLst>
                <a:path w="425" h="708">
                  <a:moveTo>
                    <a:pt x="425" y="549"/>
                  </a:moveTo>
                  <a:lnTo>
                    <a:pt x="425" y="584"/>
                  </a:lnTo>
                  <a:lnTo>
                    <a:pt x="425" y="620"/>
                  </a:lnTo>
                  <a:lnTo>
                    <a:pt x="425" y="637"/>
                  </a:lnTo>
                  <a:lnTo>
                    <a:pt x="425" y="673"/>
                  </a:lnTo>
                  <a:lnTo>
                    <a:pt x="425" y="691"/>
                  </a:lnTo>
                  <a:lnTo>
                    <a:pt x="408" y="691"/>
                  </a:lnTo>
                  <a:lnTo>
                    <a:pt x="408" y="708"/>
                  </a:lnTo>
                  <a:lnTo>
                    <a:pt x="390" y="708"/>
                  </a:lnTo>
                  <a:lnTo>
                    <a:pt x="390" y="708"/>
                  </a:lnTo>
                  <a:lnTo>
                    <a:pt x="390" y="691"/>
                  </a:lnTo>
                  <a:lnTo>
                    <a:pt x="372" y="673"/>
                  </a:lnTo>
                  <a:lnTo>
                    <a:pt x="355" y="655"/>
                  </a:lnTo>
                  <a:lnTo>
                    <a:pt x="337" y="620"/>
                  </a:lnTo>
                  <a:lnTo>
                    <a:pt x="301" y="567"/>
                  </a:lnTo>
                  <a:lnTo>
                    <a:pt x="284" y="513"/>
                  </a:lnTo>
                  <a:lnTo>
                    <a:pt x="248" y="460"/>
                  </a:lnTo>
                  <a:lnTo>
                    <a:pt x="213" y="407"/>
                  </a:lnTo>
                  <a:lnTo>
                    <a:pt x="195" y="354"/>
                  </a:lnTo>
                  <a:lnTo>
                    <a:pt x="160" y="301"/>
                  </a:lnTo>
                  <a:lnTo>
                    <a:pt x="124" y="248"/>
                  </a:lnTo>
                  <a:lnTo>
                    <a:pt x="107" y="212"/>
                  </a:lnTo>
                  <a:lnTo>
                    <a:pt x="89" y="177"/>
                  </a:lnTo>
                  <a:lnTo>
                    <a:pt x="71" y="142"/>
                  </a:lnTo>
                  <a:lnTo>
                    <a:pt x="53" y="124"/>
                  </a:lnTo>
                  <a:lnTo>
                    <a:pt x="18" y="7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53" y="35"/>
                  </a:lnTo>
                  <a:lnTo>
                    <a:pt x="89" y="53"/>
                  </a:lnTo>
                  <a:lnTo>
                    <a:pt x="107" y="71"/>
                  </a:lnTo>
                  <a:lnTo>
                    <a:pt x="160" y="124"/>
                  </a:lnTo>
                  <a:lnTo>
                    <a:pt x="195" y="177"/>
                  </a:lnTo>
                  <a:lnTo>
                    <a:pt x="248" y="248"/>
                  </a:lnTo>
                  <a:lnTo>
                    <a:pt x="301" y="319"/>
                  </a:lnTo>
                  <a:lnTo>
                    <a:pt x="319" y="354"/>
                  </a:lnTo>
                  <a:lnTo>
                    <a:pt x="337" y="390"/>
                  </a:lnTo>
                  <a:lnTo>
                    <a:pt x="372" y="443"/>
                  </a:lnTo>
                  <a:lnTo>
                    <a:pt x="408" y="496"/>
                  </a:lnTo>
                  <a:lnTo>
                    <a:pt x="425" y="549"/>
                  </a:lnTo>
                  <a:lnTo>
                    <a:pt x="425" y="549"/>
                  </a:lnTo>
                </a:path>
              </a:pathLst>
            </a:custGeom>
            <a:solidFill>
              <a:srgbClr val="33cc33"/>
            </a:solidFill>
            <a:ln w="1152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58"/>
          <p:cNvGrpSpPr/>
          <p:nvPr/>
        </p:nvGrpSpPr>
        <p:grpSpPr>
          <a:xfrm>
            <a:off x="6661080" y="2349360"/>
            <a:ext cx="1163880" cy="2995920"/>
            <a:chOff x="6661080" y="2349360"/>
            <a:chExt cx="1163880" cy="2995920"/>
          </a:xfrm>
        </p:grpSpPr>
        <p:sp>
          <p:nvSpPr>
            <p:cNvPr id="139" name="Freeform 59"/>
            <p:cNvSpPr/>
            <p:nvPr/>
          </p:nvSpPr>
          <p:spPr>
            <a:xfrm>
              <a:off x="6688080" y="3681360"/>
              <a:ext cx="276480" cy="41760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177" y="195"/>
                  </a:moveTo>
                  <a:lnTo>
                    <a:pt x="177" y="212"/>
                  </a:lnTo>
                  <a:lnTo>
                    <a:pt x="177" y="230"/>
                  </a:lnTo>
                  <a:lnTo>
                    <a:pt x="177" y="248"/>
                  </a:lnTo>
                  <a:lnTo>
                    <a:pt x="160" y="248"/>
                  </a:lnTo>
                  <a:lnTo>
                    <a:pt x="160" y="266"/>
                  </a:lnTo>
                  <a:lnTo>
                    <a:pt x="142" y="266"/>
                  </a:lnTo>
                  <a:lnTo>
                    <a:pt x="142" y="266"/>
                  </a:lnTo>
                  <a:lnTo>
                    <a:pt x="142" y="266"/>
                  </a:lnTo>
                  <a:lnTo>
                    <a:pt x="124" y="266"/>
                  </a:lnTo>
                  <a:lnTo>
                    <a:pt x="124" y="266"/>
                  </a:lnTo>
                  <a:lnTo>
                    <a:pt x="124" y="248"/>
                  </a:lnTo>
                  <a:lnTo>
                    <a:pt x="107" y="230"/>
                  </a:lnTo>
                  <a:lnTo>
                    <a:pt x="89" y="212"/>
                  </a:lnTo>
                  <a:lnTo>
                    <a:pt x="71" y="195"/>
                  </a:lnTo>
                  <a:lnTo>
                    <a:pt x="71" y="177"/>
                  </a:lnTo>
                  <a:lnTo>
                    <a:pt x="36" y="124"/>
                  </a:lnTo>
                  <a:lnTo>
                    <a:pt x="18" y="71"/>
                  </a:lnTo>
                  <a:lnTo>
                    <a:pt x="0" y="35"/>
                  </a:lnTo>
                  <a:lnTo>
                    <a:pt x="0" y="0"/>
                  </a:lnTo>
                  <a:lnTo>
                    <a:pt x="53" y="18"/>
                  </a:lnTo>
                  <a:lnTo>
                    <a:pt x="89" y="35"/>
                  </a:lnTo>
                  <a:lnTo>
                    <a:pt x="107" y="53"/>
                  </a:lnTo>
                  <a:lnTo>
                    <a:pt x="142" y="71"/>
                  </a:lnTo>
                  <a:lnTo>
                    <a:pt x="160" y="106"/>
                  </a:lnTo>
                  <a:lnTo>
                    <a:pt x="160" y="124"/>
                  </a:lnTo>
                  <a:lnTo>
                    <a:pt x="177" y="159"/>
                  </a:lnTo>
                  <a:lnTo>
                    <a:pt x="177" y="195"/>
                  </a:lnTo>
                  <a:lnTo>
                    <a:pt x="177" y="195"/>
                  </a:lnTo>
                </a:path>
              </a:pathLst>
            </a:custGeom>
            <a:solidFill>
              <a:srgbClr val="33cc33"/>
            </a:solidFill>
            <a:ln w="1152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0"/>
            <p:cNvSpPr/>
            <p:nvPr/>
          </p:nvSpPr>
          <p:spPr>
            <a:xfrm>
              <a:off x="6661080" y="3181320"/>
              <a:ext cx="1163880" cy="306360"/>
            </a:xfrm>
            <a:custGeom>
              <a:avLst/>
              <a:gdLst/>
              <a:ahLst/>
              <a:rect l="l" t="t" r="r" b="b"/>
              <a:pathLst>
                <a:path w="743" h="195">
                  <a:moveTo>
                    <a:pt x="0" y="142"/>
                  </a:moveTo>
                  <a:lnTo>
                    <a:pt x="70" y="124"/>
                  </a:lnTo>
                  <a:lnTo>
                    <a:pt x="141" y="106"/>
                  </a:lnTo>
                  <a:lnTo>
                    <a:pt x="194" y="89"/>
                  </a:lnTo>
                  <a:lnTo>
                    <a:pt x="248" y="89"/>
                  </a:lnTo>
                  <a:lnTo>
                    <a:pt x="318" y="71"/>
                  </a:lnTo>
                  <a:lnTo>
                    <a:pt x="354" y="53"/>
                  </a:lnTo>
                  <a:lnTo>
                    <a:pt x="407" y="53"/>
                  </a:lnTo>
                  <a:lnTo>
                    <a:pt x="442" y="36"/>
                  </a:lnTo>
                  <a:lnTo>
                    <a:pt x="478" y="36"/>
                  </a:lnTo>
                  <a:lnTo>
                    <a:pt x="513" y="18"/>
                  </a:lnTo>
                  <a:lnTo>
                    <a:pt x="549" y="18"/>
                  </a:lnTo>
                  <a:lnTo>
                    <a:pt x="566" y="18"/>
                  </a:lnTo>
                  <a:lnTo>
                    <a:pt x="584" y="18"/>
                  </a:lnTo>
                  <a:lnTo>
                    <a:pt x="602" y="18"/>
                  </a:lnTo>
                  <a:lnTo>
                    <a:pt x="619" y="0"/>
                  </a:lnTo>
                  <a:lnTo>
                    <a:pt x="619" y="0"/>
                  </a:lnTo>
                  <a:lnTo>
                    <a:pt x="637" y="18"/>
                  </a:lnTo>
                  <a:lnTo>
                    <a:pt x="655" y="18"/>
                  </a:lnTo>
                  <a:lnTo>
                    <a:pt x="708" y="18"/>
                  </a:lnTo>
                  <a:lnTo>
                    <a:pt x="726" y="36"/>
                  </a:lnTo>
                  <a:lnTo>
                    <a:pt x="743" y="53"/>
                  </a:lnTo>
                  <a:lnTo>
                    <a:pt x="743" y="71"/>
                  </a:lnTo>
                  <a:lnTo>
                    <a:pt x="743" y="71"/>
                  </a:lnTo>
                  <a:lnTo>
                    <a:pt x="743" y="89"/>
                  </a:lnTo>
                  <a:lnTo>
                    <a:pt x="743" y="89"/>
                  </a:lnTo>
                  <a:lnTo>
                    <a:pt x="726" y="89"/>
                  </a:lnTo>
                  <a:lnTo>
                    <a:pt x="726" y="106"/>
                  </a:lnTo>
                  <a:lnTo>
                    <a:pt x="708" y="106"/>
                  </a:lnTo>
                  <a:lnTo>
                    <a:pt x="672" y="106"/>
                  </a:lnTo>
                  <a:lnTo>
                    <a:pt x="655" y="106"/>
                  </a:lnTo>
                  <a:lnTo>
                    <a:pt x="619" y="124"/>
                  </a:lnTo>
                  <a:lnTo>
                    <a:pt x="549" y="124"/>
                  </a:lnTo>
                  <a:lnTo>
                    <a:pt x="478" y="142"/>
                  </a:lnTo>
                  <a:lnTo>
                    <a:pt x="407" y="160"/>
                  </a:lnTo>
                  <a:lnTo>
                    <a:pt x="301" y="177"/>
                  </a:lnTo>
                  <a:lnTo>
                    <a:pt x="265" y="177"/>
                  </a:lnTo>
                  <a:lnTo>
                    <a:pt x="230" y="195"/>
                  </a:lnTo>
                  <a:lnTo>
                    <a:pt x="194" y="195"/>
                  </a:lnTo>
                  <a:lnTo>
                    <a:pt x="159" y="195"/>
                  </a:lnTo>
                  <a:lnTo>
                    <a:pt x="124" y="195"/>
                  </a:lnTo>
                  <a:lnTo>
                    <a:pt x="106" y="195"/>
                  </a:lnTo>
                  <a:lnTo>
                    <a:pt x="88" y="195"/>
                  </a:lnTo>
                  <a:lnTo>
                    <a:pt x="88" y="195"/>
                  </a:lnTo>
                  <a:lnTo>
                    <a:pt x="53" y="177"/>
                  </a:lnTo>
                  <a:lnTo>
                    <a:pt x="35" y="177"/>
                  </a:lnTo>
                  <a:lnTo>
                    <a:pt x="17" y="160"/>
                  </a:lnTo>
                  <a:lnTo>
                    <a:pt x="0" y="142"/>
                  </a:lnTo>
                  <a:lnTo>
                    <a:pt x="0" y="142"/>
                  </a:lnTo>
                </a:path>
              </a:pathLst>
            </a:custGeom>
            <a:solidFill>
              <a:srgbClr val="33cc33"/>
            </a:solidFill>
            <a:ln w="1152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1"/>
            <p:cNvSpPr/>
            <p:nvPr/>
          </p:nvSpPr>
          <p:spPr>
            <a:xfrm>
              <a:off x="6804000" y="2349360"/>
              <a:ext cx="554040" cy="2995920"/>
            </a:xfrm>
            <a:custGeom>
              <a:avLst/>
              <a:gdLst/>
              <a:ahLst/>
              <a:rect l="l" t="t" r="r" b="b"/>
              <a:pathLst>
                <a:path w="354" h="1912">
                  <a:moveTo>
                    <a:pt x="89" y="1700"/>
                  </a:moveTo>
                  <a:lnTo>
                    <a:pt x="53" y="1682"/>
                  </a:lnTo>
                  <a:lnTo>
                    <a:pt x="36" y="1664"/>
                  </a:lnTo>
                  <a:lnTo>
                    <a:pt x="36" y="1647"/>
                  </a:lnTo>
                  <a:lnTo>
                    <a:pt x="18" y="1629"/>
                  </a:lnTo>
                  <a:lnTo>
                    <a:pt x="0" y="1629"/>
                  </a:lnTo>
                  <a:lnTo>
                    <a:pt x="0" y="1611"/>
                  </a:lnTo>
                  <a:lnTo>
                    <a:pt x="0" y="1611"/>
                  </a:lnTo>
                  <a:lnTo>
                    <a:pt x="0" y="1611"/>
                  </a:lnTo>
                  <a:lnTo>
                    <a:pt x="0" y="1594"/>
                  </a:lnTo>
                  <a:lnTo>
                    <a:pt x="18" y="1594"/>
                  </a:lnTo>
                  <a:lnTo>
                    <a:pt x="18" y="1594"/>
                  </a:lnTo>
                  <a:lnTo>
                    <a:pt x="36" y="1611"/>
                  </a:lnTo>
                  <a:lnTo>
                    <a:pt x="53" y="1611"/>
                  </a:lnTo>
                  <a:lnTo>
                    <a:pt x="71" y="1611"/>
                  </a:lnTo>
                  <a:lnTo>
                    <a:pt x="89" y="1611"/>
                  </a:lnTo>
                  <a:lnTo>
                    <a:pt x="106" y="1629"/>
                  </a:lnTo>
                  <a:lnTo>
                    <a:pt x="142" y="1629"/>
                  </a:lnTo>
                  <a:lnTo>
                    <a:pt x="160" y="1647"/>
                  </a:lnTo>
                  <a:lnTo>
                    <a:pt x="195" y="1647"/>
                  </a:lnTo>
                  <a:lnTo>
                    <a:pt x="213" y="1647"/>
                  </a:lnTo>
                  <a:lnTo>
                    <a:pt x="230" y="1629"/>
                  </a:lnTo>
                  <a:lnTo>
                    <a:pt x="230" y="1629"/>
                  </a:lnTo>
                  <a:lnTo>
                    <a:pt x="230" y="1629"/>
                  </a:lnTo>
                  <a:lnTo>
                    <a:pt x="230" y="1611"/>
                  </a:lnTo>
                  <a:lnTo>
                    <a:pt x="230" y="1594"/>
                  </a:lnTo>
                  <a:lnTo>
                    <a:pt x="230" y="1558"/>
                  </a:lnTo>
                  <a:lnTo>
                    <a:pt x="230" y="1540"/>
                  </a:lnTo>
                  <a:lnTo>
                    <a:pt x="230" y="1505"/>
                  </a:lnTo>
                  <a:lnTo>
                    <a:pt x="248" y="1452"/>
                  </a:lnTo>
                  <a:lnTo>
                    <a:pt x="248" y="1417"/>
                  </a:lnTo>
                  <a:lnTo>
                    <a:pt x="248" y="1363"/>
                  </a:lnTo>
                  <a:lnTo>
                    <a:pt x="248" y="1310"/>
                  </a:lnTo>
                  <a:lnTo>
                    <a:pt x="248" y="1239"/>
                  </a:lnTo>
                  <a:lnTo>
                    <a:pt x="248" y="1186"/>
                  </a:lnTo>
                  <a:lnTo>
                    <a:pt x="248" y="1116"/>
                  </a:lnTo>
                  <a:lnTo>
                    <a:pt x="248" y="1027"/>
                  </a:lnTo>
                  <a:lnTo>
                    <a:pt x="248" y="956"/>
                  </a:lnTo>
                  <a:lnTo>
                    <a:pt x="248" y="868"/>
                  </a:lnTo>
                  <a:lnTo>
                    <a:pt x="248" y="797"/>
                  </a:lnTo>
                  <a:lnTo>
                    <a:pt x="248" y="726"/>
                  </a:lnTo>
                  <a:lnTo>
                    <a:pt x="248" y="655"/>
                  </a:lnTo>
                  <a:lnTo>
                    <a:pt x="230" y="602"/>
                  </a:lnTo>
                  <a:lnTo>
                    <a:pt x="230" y="531"/>
                  </a:lnTo>
                  <a:lnTo>
                    <a:pt x="230" y="478"/>
                  </a:lnTo>
                  <a:lnTo>
                    <a:pt x="230" y="425"/>
                  </a:lnTo>
                  <a:lnTo>
                    <a:pt x="230" y="390"/>
                  </a:lnTo>
                  <a:lnTo>
                    <a:pt x="230" y="354"/>
                  </a:lnTo>
                  <a:lnTo>
                    <a:pt x="230" y="319"/>
                  </a:lnTo>
                  <a:lnTo>
                    <a:pt x="230" y="283"/>
                  </a:lnTo>
                  <a:lnTo>
                    <a:pt x="230" y="248"/>
                  </a:lnTo>
                  <a:lnTo>
                    <a:pt x="230" y="230"/>
                  </a:lnTo>
                  <a:lnTo>
                    <a:pt x="230" y="212"/>
                  </a:lnTo>
                  <a:lnTo>
                    <a:pt x="230" y="195"/>
                  </a:lnTo>
                  <a:lnTo>
                    <a:pt x="230" y="142"/>
                  </a:lnTo>
                  <a:lnTo>
                    <a:pt x="213" y="106"/>
                  </a:lnTo>
                  <a:lnTo>
                    <a:pt x="195" y="89"/>
                  </a:lnTo>
                  <a:lnTo>
                    <a:pt x="195" y="71"/>
                  </a:lnTo>
                  <a:lnTo>
                    <a:pt x="177" y="53"/>
                  </a:lnTo>
                  <a:lnTo>
                    <a:pt x="177" y="35"/>
                  </a:lnTo>
                  <a:lnTo>
                    <a:pt x="177" y="35"/>
                  </a:lnTo>
                  <a:lnTo>
                    <a:pt x="177" y="18"/>
                  </a:lnTo>
                  <a:lnTo>
                    <a:pt x="177" y="18"/>
                  </a:lnTo>
                  <a:lnTo>
                    <a:pt x="195" y="0"/>
                  </a:lnTo>
                  <a:lnTo>
                    <a:pt x="213" y="18"/>
                  </a:lnTo>
                  <a:lnTo>
                    <a:pt x="230" y="18"/>
                  </a:lnTo>
                  <a:lnTo>
                    <a:pt x="266" y="18"/>
                  </a:lnTo>
                  <a:lnTo>
                    <a:pt x="283" y="35"/>
                  </a:lnTo>
                  <a:lnTo>
                    <a:pt x="301" y="53"/>
                  </a:lnTo>
                  <a:lnTo>
                    <a:pt x="337" y="71"/>
                  </a:lnTo>
                  <a:lnTo>
                    <a:pt x="337" y="89"/>
                  </a:lnTo>
                  <a:lnTo>
                    <a:pt x="354" y="106"/>
                  </a:lnTo>
                  <a:lnTo>
                    <a:pt x="354" y="124"/>
                  </a:lnTo>
                  <a:lnTo>
                    <a:pt x="354" y="142"/>
                  </a:lnTo>
                  <a:lnTo>
                    <a:pt x="354" y="159"/>
                  </a:lnTo>
                  <a:lnTo>
                    <a:pt x="337" y="177"/>
                  </a:lnTo>
                  <a:lnTo>
                    <a:pt x="337" y="212"/>
                  </a:lnTo>
                  <a:lnTo>
                    <a:pt x="337" y="230"/>
                  </a:lnTo>
                  <a:lnTo>
                    <a:pt x="337" y="248"/>
                  </a:lnTo>
                  <a:lnTo>
                    <a:pt x="337" y="266"/>
                  </a:lnTo>
                  <a:lnTo>
                    <a:pt x="337" y="301"/>
                  </a:lnTo>
                  <a:lnTo>
                    <a:pt x="337" y="319"/>
                  </a:lnTo>
                  <a:lnTo>
                    <a:pt x="337" y="354"/>
                  </a:lnTo>
                  <a:lnTo>
                    <a:pt x="337" y="390"/>
                  </a:lnTo>
                  <a:lnTo>
                    <a:pt x="337" y="425"/>
                  </a:lnTo>
                  <a:lnTo>
                    <a:pt x="337" y="478"/>
                  </a:lnTo>
                  <a:lnTo>
                    <a:pt x="337" y="496"/>
                  </a:lnTo>
                  <a:lnTo>
                    <a:pt x="337" y="513"/>
                  </a:lnTo>
                  <a:lnTo>
                    <a:pt x="337" y="549"/>
                  </a:lnTo>
                  <a:lnTo>
                    <a:pt x="337" y="584"/>
                  </a:lnTo>
                  <a:lnTo>
                    <a:pt x="337" y="620"/>
                  </a:lnTo>
                  <a:lnTo>
                    <a:pt x="337" y="655"/>
                  </a:lnTo>
                  <a:lnTo>
                    <a:pt x="337" y="691"/>
                  </a:lnTo>
                  <a:lnTo>
                    <a:pt x="337" y="744"/>
                  </a:lnTo>
                  <a:lnTo>
                    <a:pt x="337" y="779"/>
                  </a:lnTo>
                  <a:lnTo>
                    <a:pt x="337" y="832"/>
                  </a:lnTo>
                  <a:lnTo>
                    <a:pt x="337" y="885"/>
                  </a:lnTo>
                  <a:lnTo>
                    <a:pt x="337" y="938"/>
                  </a:lnTo>
                  <a:lnTo>
                    <a:pt x="337" y="992"/>
                  </a:lnTo>
                  <a:lnTo>
                    <a:pt x="337" y="1045"/>
                  </a:lnTo>
                  <a:lnTo>
                    <a:pt x="337" y="1116"/>
                  </a:lnTo>
                  <a:lnTo>
                    <a:pt x="337" y="1186"/>
                  </a:lnTo>
                  <a:lnTo>
                    <a:pt x="337" y="1239"/>
                  </a:lnTo>
                  <a:lnTo>
                    <a:pt x="337" y="1310"/>
                  </a:lnTo>
                  <a:lnTo>
                    <a:pt x="337" y="1363"/>
                  </a:lnTo>
                  <a:lnTo>
                    <a:pt x="337" y="1417"/>
                  </a:lnTo>
                  <a:lnTo>
                    <a:pt x="337" y="1470"/>
                  </a:lnTo>
                  <a:lnTo>
                    <a:pt x="337" y="1523"/>
                  </a:lnTo>
                  <a:lnTo>
                    <a:pt x="337" y="1558"/>
                  </a:lnTo>
                  <a:lnTo>
                    <a:pt x="337" y="1594"/>
                  </a:lnTo>
                  <a:lnTo>
                    <a:pt x="337" y="1629"/>
                  </a:lnTo>
                  <a:lnTo>
                    <a:pt x="337" y="1664"/>
                  </a:lnTo>
                  <a:lnTo>
                    <a:pt x="337" y="1700"/>
                  </a:lnTo>
                  <a:lnTo>
                    <a:pt x="337" y="1718"/>
                  </a:lnTo>
                  <a:lnTo>
                    <a:pt x="337" y="1753"/>
                  </a:lnTo>
                  <a:lnTo>
                    <a:pt x="337" y="1771"/>
                  </a:lnTo>
                  <a:lnTo>
                    <a:pt x="319" y="1771"/>
                  </a:lnTo>
                  <a:lnTo>
                    <a:pt x="319" y="1788"/>
                  </a:lnTo>
                  <a:lnTo>
                    <a:pt x="319" y="1824"/>
                  </a:lnTo>
                  <a:lnTo>
                    <a:pt x="301" y="1841"/>
                  </a:lnTo>
                  <a:lnTo>
                    <a:pt x="283" y="1877"/>
                  </a:lnTo>
                  <a:lnTo>
                    <a:pt x="266" y="1895"/>
                  </a:lnTo>
                  <a:lnTo>
                    <a:pt x="248" y="1895"/>
                  </a:lnTo>
                  <a:lnTo>
                    <a:pt x="230" y="1912"/>
                  </a:lnTo>
                  <a:lnTo>
                    <a:pt x="213" y="1912"/>
                  </a:lnTo>
                  <a:lnTo>
                    <a:pt x="213" y="1912"/>
                  </a:lnTo>
                  <a:lnTo>
                    <a:pt x="195" y="1912"/>
                  </a:lnTo>
                  <a:lnTo>
                    <a:pt x="177" y="1895"/>
                  </a:lnTo>
                  <a:lnTo>
                    <a:pt x="177" y="1877"/>
                  </a:lnTo>
                  <a:lnTo>
                    <a:pt x="177" y="1841"/>
                  </a:lnTo>
                  <a:lnTo>
                    <a:pt x="177" y="1824"/>
                  </a:lnTo>
                  <a:lnTo>
                    <a:pt x="160" y="1806"/>
                  </a:lnTo>
                  <a:lnTo>
                    <a:pt x="160" y="1788"/>
                  </a:lnTo>
                  <a:lnTo>
                    <a:pt x="142" y="1771"/>
                  </a:lnTo>
                  <a:lnTo>
                    <a:pt x="142" y="1753"/>
                  </a:lnTo>
                  <a:lnTo>
                    <a:pt x="124" y="1735"/>
                  </a:lnTo>
                  <a:lnTo>
                    <a:pt x="106" y="1718"/>
                  </a:lnTo>
                  <a:lnTo>
                    <a:pt x="89" y="1700"/>
                  </a:lnTo>
                  <a:lnTo>
                    <a:pt x="89" y="1700"/>
                  </a:lnTo>
                </a:path>
              </a:pathLst>
            </a:custGeom>
            <a:solidFill>
              <a:srgbClr val="33cc33"/>
            </a:solidFill>
            <a:ln w="1152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62"/>
          <p:cNvSpPr/>
          <p:nvPr/>
        </p:nvSpPr>
        <p:spPr>
          <a:xfrm>
            <a:off x="5718600" y="174600"/>
            <a:ext cx="202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宋体"/>
              </a:rPr>
              <a:t>sh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96532E-006 L -0.03698 0.0037 E">
                                      <p:cBhvr>
                                        <p:cTn id="324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33526E-006 L 0.03888 0.00208 E">
                                      <p:cBhvr>
                                        <p:cTn id="326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50920" y="1413000"/>
          <a:ext cx="3960720" cy="4064040"/>
        </p:xfrm>
        <a:graphic>
          <a:graphicData uri="http://schemas.openxmlformats.org/drawingml/2006/table">
            <a:tbl>
              <a:tblPr/>
              <a:tblGrid>
                <a:gridCol w="1922400"/>
                <a:gridCol w="2038320"/>
              </a:tblGrid>
              <a:tr h="203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2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4" name="AutoShape 13"/>
          <p:cNvSpPr/>
          <p:nvPr/>
        </p:nvSpPr>
        <p:spPr>
          <a:xfrm>
            <a:off x="684360" y="1989000"/>
            <a:ext cx="3024000" cy="30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84000" y="20160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5"/>
          <p:cNvSpPr/>
          <p:nvPr/>
        </p:nvSpPr>
        <p:spPr>
          <a:xfrm>
            <a:off x="684360" y="1989000"/>
            <a:ext cx="2966760" cy="2995920"/>
          </a:xfrm>
          <a:custGeom>
            <a:avLst/>
            <a:gdLst/>
            <a:ahLst/>
            <a:rect l="l" t="t" r="r" b="b"/>
            <a:pathLst>
              <a:path w="1894" h="1912">
                <a:moveTo>
                  <a:pt x="531" y="177"/>
                </a:moveTo>
                <a:lnTo>
                  <a:pt x="531" y="195"/>
                </a:lnTo>
                <a:lnTo>
                  <a:pt x="531" y="212"/>
                </a:lnTo>
                <a:lnTo>
                  <a:pt x="513" y="230"/>
                </a:lnTo>
                <a:lnTo>
                  <a:pt x="513" y="266"/>
                </a:lnTo>
                <a:lnTo>
                  <a:pt x="513" y="301"/>
                </a:lnTo>
                <a:lnTo>
                  <a:pt x="513" y="336"/>
                </a:lnTo>
                <a:lnTo>
                  <a:pt x="513" y="372"/>
                </a:lnTo>
                <a:lnTo>
                  <a:pt x="513" y="425"/>
                </a:lnTo>
                <a:lnTo>
                  <a:pt x="513" y="531"/>
                </a:lnTo>
                <a:lnTo>
                  <a:pt x="513" y="655"/>
                </a:lnTo>
                <a:lnTo>
                  <a:pt x="495" y="779"/>
                </a:lnTo>
                <a:lnTo>
                  <a:pt x="495" y="885"/>
                </a:lnTo>
                <a:lnTo>
                  <a:pt x="495" y="956"/>
                </a:lnTo>
                <a:lnTo>
                  <a:pt x="495" y="1027"/>
                </a:lnTo>
                <a:lnTo>
                  <a:pt x="495" y="1098"/>
                </a:lnTo>
                <a:lnTo>
                  <a:pt x="495" y="1169"/>
                </a:lnTo>
                <a:lnTo>
                  <a:pt x="495" y="1239"/>
                </a:lnTo>
                <a:lnTo>
                  <a:pt x="478" y="1328"/>
                </a:lnTo>
                <a:lnTo>
                  <a:pt x="478" y="1417"/>
                </a:lnTo>
                <a:lnTo>
                  <a:pt x="478" y="1487"/>
                </a:lnTo>
                <a:lnTo>
                  <a:pt x="478" y="1540"/>
                </a:lnTo>
                <a:lnTo>
                  <a:pt x="478" y="1576"/>
                </a:lnTo>
                <a:lnTo>
                  <a:pt x="478" y="1611"/>
                </a:lnTo>
                <a:lnTo>
                  <a:pt x="478" y="1647"/>
                </a:lnTo>
                <a:lnTo>
                  <a:pt x="478" y="1682"/>
                </a:lnTo>
                <a:lnTo>
                  <a:pt x="478" y="1718"/>
                </a:lnTo>
                <a:lnTo>
                  <a:pt x="460" y="1735"/>
                </a:lnTo>
                <a:lnTo>
                  <a:pt x="460" y="1753"/>
                </a:lnTo>
                <a:lnTo>
                  <a:pt x="460" y="1788"/>
                </a:lnTo>
                <a:lnTo>
                  <a:pt x="460" y="1806"/>
                </a:lnTo>
                <a:lnTo>
                  <a:pt x="460" y="1824"/>
                </a:lnTo>
                <a:lnTo>
                  <a:pt x="460" y="1824"/>
                </a:lnTo>
                <a:lnTo>
                  <a:pt x="460" y="1841"/>
                </a:lnTo>
                <a:lnTo>
                  <a:pt x="460" y="1841"/>
                </a:lnTo>
                <a:lnTo>
                  <a:pt x="460" y="1859"/>
                </a:lnTo>
                <a:lnTo>
                  <a:pt x="442" y="1859"/>
                </a:lnTo>
                <a:lnTo>
                  <a:pt x="442" y="1859"/>
                </a:lnTo>
                <a:lnTo>
                  <a:pt x="425" y="1841"/>
                </a:lnTo>
                <a:lnTo>
                  <a:pt x="407" y="1824"/>
                </a:lnTo>
                <a:lnTo>
                  <a:pt x="407" y="1788"/>
                </a:lnTo>
                <a:lnTo>
                  <a:pt x="389" y="1753"/>
                </a:lnTo>
                <a:lnTo>
                  <a:pt x="372" y="1735"/>
                </a:lnTo>
                <a:lnTo>
                  <a:pt x="372" y="1700"/>
                </a:lnTo>
                <a:lnTo>
                  <a:pt x="372" y="1700"/>
                </a:lnTo>
                <a:lnTo>
                  <a:pt x="372" y="1682"/>
                </a:lnTo>
                <a:lnTo>
                  <a:pt x="372" y="1664"/>
                </a:lnTo>
                <a:lnTo>
                  <a:pt x="372" y="1647"/>
                </a:lnTo>
                <a:lnTo>
                  <a:pt x="372" y="1611"/>
                </a:lnTo>
                <a:lnTo>
                  <a:pt x="389" y="1594"/>
                </a:lnTo>
                <a:lnTo>
                  <a:pt x="389" y="1576"/>
                </a:lnTo>
                <a:lnTo>
                  <a:pt x="389" y="1540"/>
                </a:lnTo>
                <a:lnTo>
                  <a:pt x="389" y="1505"/>
                </a:lnTo>
                <a:lnTo>
                  <a:pt x="389" y="1487"/>
                </a:lnTo>
                <a:lnTo>
                  <a:pt x="389" y="1452"/>
                </a:lnTo>
                <a:lnTo>
                  <a:pt x="407" y="1417"/>
                </a:lnTo>
                <a:lnTo>
                  <a:pt x="407" y="1381"/>
                </a:lnTo>
                <a:lnTo>
                  <a:pt x="407" y="1293"/>
                </a:lnTo>
                <a:lnTo>
                  <a:pt x="407" y="1204"/>
                </a:lnTo>
                <a:lnTo>
                  <a:pt x="425" y="1116"/>
                </a:lnTo>
                <a:lnTo>
                  <a:pt x="425" y="1027"/>
                </a:lnTo>
                <a:lnTo>
                  <a:pt x="425" y="921"/>
                </a:lnTo>
                <a:lnTo>
                  <a:pt x="425" y="814"/>
                </a:lnTo>
                <a:lnTo>
                  <a:pt x="425" y="708"/>
                </a:lnTo>
                <a:lnTo>
                  <a:pt x="425" y="584"/>
                </a:lnTo>
                <a:lnTo>
                  <a:pt x="425" y="531"/>
                </a:lnTo>
                <a:lnTo>
                  <a:pt x="425" y="478"/>
                </a:lnTo>
                <a:lnTo>
                  <a:pt x="425" y="425"/>
                </a:lnTo>
                <a:lnTo>
                  <a:pt x="425" y="390"/>
                </a:lnTo>
                <a:lnTo>
                  <a:pt x="425" y="336"/>
                </a:lnTo>
                <a:lnTo>
                  <a:pt x="425" y="301"/>
                </a:lnTo>
                <a:lnTo>
                  <a:pt x="425" y="266"/>
                </a:lnTo>
                <a:lnTo>
                  <a:pt x="425" y="230"/>
                </a:lnTo>
                <a:lnTo>
                  <a:pt x="425" y="212"/>
                </a:lnTo>
                <a:lnTo>
                  <a:pt x="407" y="177"/>
                </a:lnTo>
                <a:lnTo>
                  <a:pt x="407" y="159"/>
                </a:lnTo>
                <a:lnTo>
                  <a:pt x="407" y="142"/>
                </a:lnTo>
                <a:lnTo>
                  <a:pt x="407" y="124"/>
                </a:lnTo>
                <a:lnTo>
                  <a:pt x="407" y="106"/>
                </a:lnTo>
                <a:lnTo>
                  <a:pt x="407" y="106"/>
                </a:lnTo>
                <a:lnTo>
                  <a:pt x="389" y="106"/>
                </a:lnTo>
                <a:lnTo>
                  <a:pt x="389" y="89"/>
                </a:lnTo>
                <a:lnTo>
                  <a:pt x="372" y="89"/>
                </a:lnTo>
                <a:lnTo>
                  <a:pt x="372" y="71"/>
                </a:lnTo>
                <a:lnTo>
                  <a:pt x="372" y="53"/>
                </a:lnTo>
                <a:lnTo>
                  <a:pt x="389" y="53"/>
                </a:lnTo>
                <a:lnTo>
                  <a:pt x="407" y="53"/>
                </a:lnTo>
                <a:lnTo>
                  <a:pt x="442" y="53"/>
                </a:lnTo>
                <a:lnTo>
                  <a:pt x="478" y="71"/>
                </a:lnTo>
                <a:lnTo>
                  <a:pt x="513" y="71"/>
                </a:lnTo>
                <a:lnTo>
                  <a:pt x="531" y="89"/>
                </a:lnTo>
                <a:lnTo>
                  <a:pt x="549" y="106"/>
                </a:lnTo>
                <a:lnTo>
                  <a:pt x="549" y="124"/>
                </a:lnTo>
                <a:lnTo>
                  <a:pt x="549" y="142"/>
                </a:lnTo>
                <a:lnTo>
                  <a:pt x="549" y="142"/>
                </a:lnTo>
                <a:lnTo>
                  <a:pt x="531" y="159"/>
                </a:lnTo>
                <a:lnTo>
                  <a:pt x="531" y="177"/>
                </a:lnTo>
                <a:lnTo>
                  <a:pt x="531" y="177"/>
                </a:lnTo>
                <a:close/>
                <a:moveTo>
                  <a:pt x="673" y="620"/>
                </a:moveTo>
                <a:lnTo>
                  <a:pt x="690" y="620"/>
                </a:lnTo>
                <a:lnTo>
                  <a:pt x="708" y="620"/>
                </a:lnTo>
                <a:lnTo>
                  <a:pt x="708" y="637"/>
                </a:lnTo>
                <a:lnTo>
                  <a:pt x="708" y="637"/>
                </a:lnTo>
                <a:lnTo>
                  <a:pt x="708" y="637"/>
                </a:lnTo>
                <a:lnTo>
                  <a:pt x="690" y="655"/>
                </a:lnTo>
                <a:lnTo>
                  <a:pt x="673" y="655"/>
                </a:lnTo>
                <a:lnTo>
                  <a:pt x="637" y="673"/>
                </a:lnTo>
                <a:lnTo>
                  <a:pt x="602" y="673"/>
                </a:lnTo>
                <a:lnTo>
                  <a:pt x="566" y="691"/>
                </a:lnTo>
                <a:lnTo>
                  <a:pt x="513" y="708"/>
                </a:lnTo>
                <a:lnTo>
                  <a:pt x="460" y="708"/>
                </a:lnTo>
                <a:lnTo>
                  <a:pt x="407" y="726"/>
                </a:lnTo>
                <a:lnTo>
                  <a:pt x="354" y="744"/>
                </a:lnTo>
                <a:lnTo>
                  <a:pt x="318" y="761"/>
                </a:lnTo>
                <a:lnTo>
                  <a:pt x="283" y="761"/>
                </a:lnTo>
                <a:lnTo>
                  <a:pt x="248" y="779"/>
                </a:lnTo>
                <a:lnTo>
                  <a:pt x="230" y="779"/>
                </a:lnTo>
                <a:lnTo>
                  <a:pt x="212" y="779"/>
                </a:lnTo>
                <a:lnTo>
                  <a:pt x="212" y="779"/>
                </a:lnTo>
                <a:lnTo>
                  <a:pt x="194" y="779"/>
                </a:lnTo>
                <a:lnTo>
                  <a:pt x="194" y="779"/>
                </a:lnTo>
                <a:lnTo>
                  <a:pt x="177" y="779"/>
                </a:lnTo>
                <a:lnTo>
                  <a:pt x="159" y="779"/>
                </a:lnTo>
                <a:lnTo>
                  <a:pt x="141" y="761"/>
                </a:lnTo>
                <a:lnTo>
                  <a:pt x="124" y="761"/>
                </a:lnTo>
                <a:lnTo>
                  <a:pt x="88" y="744"/>
                </a:lnTo>
                <a:lnTo>
                  <a:pt x="53" y="726"/>
                </a:lnTo>
                <a:lnTo>
                  <a:pt x="71" y="726"/>
                </a:lnTo>
                <a:lnTo>
                  <a:pt x="106" y="726"/>
                </a:lnTo>
                <a:lnTo>
                  <a:pt x="124" y="708"/>
                </a:lnTo>
                <a:lnTo>
                  <a:pt x="159" y="708"/>
                </a:lnTo>
                <a:lnTo>
                  <a:pt x="212" y="691"/>
                </a:lnTo>
                <a:lnTo>
                  <a:pt x="248" y="673"/>
                </a:lnTo>
                <a:lnTo>
                  <a:pt x="301" y="673"/>
                </a:lnTo>
                <a:lnTo>
                  <a:pt x="354" y="655"/>
                </a:lnTo>
                <a:lnTo>
                  <a:pt x="407" y="637"/>
                </a:lnTo>
                <a:lnTo>
                  <a:pt x="460" y="620"/>
                </a:lnTo>
                <a:lnTo>
                  <a:pt x="495" y="620"/>
                </a:lnTo>
                <a:lnTo>
                  <a:pt x="531" y="602"/>
                </a:lnTo>
                <a:lnTo>
                  <a:pt x="566" y="602"/>
                </a:lnTo>
                <a:lnTo>
                  <a:pt x="584" y="602"/>
                </a:lnTo>
                <a:lnTo>
                  <a:pt x="602" y="602"/>
                </a:lnTo>
                <a:lnTo>
                  <a:pt x="619" y="602"/>
                </a:lnTo>
                <a:lnTo>
                  <a:pt x="637" y="602"/>
                </a:lnTo>
                <a:lnTo>
                  <a:pt x="655" y="602"/>
                </a:lnTo>
                <a:lnTo>
                  <a:pt x="655" y="602"/>
                </a:lnTo>
                <a:lnTo>
                  <a:pt x="673" y="620"/>
                </a:lnTo>
                <a:lnTo>
                  <a:pt x="673" y="620"/>
                </a:lnTo>
                <a:close/>
                <a:moveTo>
                  <a:pt x="141" y="1328"/>
                </a:moveTo>
                <a:lnTo>
                  <a:pt x="106" y="1363"/>
                </a:lnTo>
                <a:lnTo>
                  <a:pt x="88" y="1381"/>
                </a:lnTo>
                <a:lnTo>
                  <a:pt x="53" y="1399"/>
                </a:lnTo>
                <a:lnTo>
                  <a:pt x="35" y="1417"/>
                </a:lnTo>
                <a:lnTo>
                  <a:pt x="17" y="1434"/>
                </a:lnTo>
                <a:lnTo>
                  <a:pt x="17" y="1434"/>
                </a:lnTo>
                <a:lnTo>
                  <a:pt x="0" y="1434"/>
                </a:lnTo>
                <a:lnTo>
                  <a:pt x="0" y="1434"/>
                </a:lnTo>
                <a:lnTo>
                  <a:pt x="0" y="1434"/>
                </a:lnTo>
                <a:lnTo>
                  <a:pt x="0" y="1417"/>
                </a:lnTo>
                <a:lnTo>
                  <a:pt x="0" y="1399"/>
                </a:lnTo>
                <a:lnTo>
                  <a:pt x="17" y="1381"/>
                </a:lnTo>
                <a:lnTo>
                  <a:pt x="35" y="1363"/>
                </a:lnTo>
                <a:lnTo>
                  <a:pt x="53" y="1328"/>
                </a:lnTo>
                <a:lnTo>
                  <a:pt x="71" y="1310"/>
                </a:lnTo>
                <a:lnTo>
                  <a:pt x="106" y="1257"/>
                </a:lnTo>
                <a:lnTo>
                  <a:pt x="124" y="1239"/>
                </a:lnTo>
                <a:lnTo>
                  <a:pt x="141" y="1222"/>
                </a:lnTo>
                <a:lnTo>
                  <a:pt x="159" y="1204"/>
                </a:lnTo>
                <a:lnTo>
                  <a:pt x="177" y="1169"/>
                </a:lnTo>
                <a:lnTo>
                  <a:pt x="194" y="1151"/>
                </a:lnTo>
                <a:lnTo>
                  <a:pt x="212" y="1116"/>
                </a:lnTo>
                <a:lnTo>
                  <a:pt x="230" y="1080"/>
                </a:lnTo>
                <a:lnTo>
                  <a:pt x="248" y="1045"/>
                </a:lnTo>
                <a:lnTo>
                  <a:pt x="301" y="974"/>
                </a:lnTo>
                <a:lnTo>
                  <a:pt x="336" y="885"/>
                </a:lnTo>
                <a:lnTo>
                  <a:pt x="389" y="779"/>
                </a:lnTo>
                <a:lnTo>
                  <a:pt x="442" y="673"/>
                </a:lnTo>
                <a:lnTo>
                  <a:pt x="460" y="850"/>
                </a:lnTo>
                <a:lnTo>
                  <a:pt x="425" y="938"/>
                </a:lnTo>
                <a:lnTo>
                  <a:pt x="372" y="1009"/>
                </a:lnTo>
                <a:lnTo>
                  <a:pt x="336" y="1080"/>
                </a:lnTo>
                <a:lnTo>
                  <a:pt x="301" y="1133"/>
                </a:lnTo>
                <a:lnTo>
                  <a:pt x="265" y="1186"/>
                </a:lnTo>
                <a:lnTo>
                  <a:pt x="230" y="1239"/>
                </a:lnTo>
                <a:lnTo>
                  <a:pt x="177" y="1293"/>
                </a:lnTo>
                <a:lnTo>
                  <a:pt x="141" y="1328"/>
                </a:lnTo>
                <a:lnTo>
                  <a:pt x="141" y="1328"/>
                </a:lnTo>
                <a:close/>
                <a:moveTo>
                  <a:pt x="478" y="921"/>
                </a:moveTo>
                <a:lnTo>
                  <a:pt x="531" y="921"/>
                </a:lnTo>
                <a:lnTo>
                  <a:pt x="566" y="921"/>
                </a:lnTo>
                <a:lnTo>
                  <a:pt x="602" y="938"/>
                </a:lnTo>
                <a:lnTo>
                  <a:pt x="637" y="938"/>
                </a:lnTo>
                <a:lnTo>
                  <a:pt x="655" y="956"/>
                </a:lnTo>
                <a:lnTo>
                  <a:pt x="673" y="974"/>
                </a:lnTo>
                <a:lnTo>
                  <a:pt x="673" y="992"/>
                </a:lnTo>
                <a:lnTo>
                  <a:pt x="690" y="1009"/>
                </a:lnTo>
                <a:lnTo>
                  <a:pt x="690" y="1027"/>
                </a:lnTo>
                <a:lnTo>
                  <a:pt x="690" y="1045"/>
                </a:lnTo>
                <a:lnTo>
                  <a:pt x="690" y="1062"/>
                </a:lnTo>
                <a:lnTo>
                  <a:pt x="690" y="1080"/>
                </a:lnTo>
                <a:lnTo>
                  <a:pt x="690" y="1098"/>
                </a:lnTo>
                <a:lnTo>
                  <a:pt x="673" y="1116"/>
                </a:lnTo>
                <a:lnTo>
                  <a:pt x="655" y="1116"/>
                </a:lnTo>
                <a:lnTo>
                  <a:pt x="637" y="1116"/>
                </a:lnTo>
                <a:lnTo>
                  <a:pt x="619" y="1116"/>
                </a:lnTo>
                <a:lnTo>
                  <a:pt x="619" y="1098"/>
                </a:lnTo>
                <a:lnTo>
                  <a:pt x="602" y="1080"/>
                </a:lnTo>
                <a:lnTo>
                  <a:pt x="584" y="1062"/>
                </a:lnTo>
                <a:lnTo>
                  <a:pt x="566" y="1027"/>
                </a:lnTo>
                <a:lnTo>
                  <a:pt x="531" y="992"/>
                </a:lnTo>
                <a:lnTo>
                  <a:pt x="513" y="956"/>
                </a:lnTo>
                <a:lnTo>
                  <a:pt x="478" y="921"/>
                </a:lnTo>
                <a:lnTo>
                  <a:pt x="478" y="921"/>
                </a:lnTo>
                <a:close/>
                <a:moveTo>
                  <a:pt x="584" y="1540"/>
                </a:moveTo>
                <a:lnTo>
                  <a:pt x="584" y="1540"/>
                </a:lnTo>
                <a:lnTo>
                  <a:pt x="584" y="1540"/>
                </a:lnTo>
                <a:lnTo>
                  <a:pt x="602" y="1523"/>
                </a:lnTo>
                <a:lnTo>
                  <a:pt x="602" y="1505"/>
                </a:lnTo>
                <a:lnTo>
                  <a:pt x="619" y="1487"/>
                </a:lnTo>
                <a:lnTo>
                  <a:pt x="637" y="1470"/>
                </a:lnTo>
                <a:lnTo>
                  <a:pt x="655" y="1452"/>
                </a:lnTo>
                <a:lnTo>
                  <a:pt x="673" y="1417"/>
                </a:lnTo>
                <a:lnTo>
                  <a:pt x="708" y="1363"/>
                </a:lnTo>
                <a:lnTo>
                  <a:pt x="743" y="1293"/>
                </a:lnTo>
                <a:lnTo>
                  <a:pt x="796" y="1222"/>
                </a:lnTo>
                <a:lnTo>
                  <a:pt x="814" y="1186"/>
                </a:lnTo>
                <a:lnTo>
                  <a:pt x="832" y="1151"/>
                </a:lnTo>
                <a:lnTo>
                  <a:pt x="867" y="1062"/>
                </a:lnTo>
                <a:lnTo>
                  <a:pt x="903" y="974"/>
                </a:lnTo>
                <a:lnTo>
                  <a:pt x="938" y="885"/>
                </a:lnTo>
                <a:lnTo>
                  <a:pt x="956" y="832"/>
                </a:lnTo>
                <a:lnTo>
                  <a:pt x="974" y="779"/>
                </a:lnTo>
                <a:lnTo>
                  <a:pt x="991" y="726"/>
                </a:lnTo>
                <a:lnTo>
                  <a:pt x="991" y="673"/>
                </a:lnTo>
                <a:lnTo>
                  <a:pt x="1009" y="637"/>
                </a:lnTo>
                <a:lnTo>
                  <a:pt x="1009" y="602"/>
                </a:lnTo>
                <a:lnTo>
                  <a:pt x="1009" y="584"/>
                </a:lnTo>
                <a:lnTo>
                  <a:pt x="1009" y="567"/>
                </a:lnTo>
                <a:lnTo>
                  <a:pt x="1009" y="549"/>
                </a:lnTo>
                <a:lnTo>
                  <a:pt x="1009" y="549"/>
                </a:lnTo>
                <a:lnTo>
                  <a:pt x="1009" y="549"/>
                </a:lnTo>
                <a:lnTo>
                  <a:pt x="1009" y="549"/>
                </a:lnTo>
                <a:lnTo>
                  <a:pt x="991" y="549"/>
                </a:lnTo>
                <a:lnTo>
                  <a:pt x="974" y="549"/>
                </a:lnTo>
                <a:lnTo>
                  <a:pt x="956" y="549"/>
                </a:lnTo>
                <a:lnTo>
                  <a:pt x="938" y="549"/>
                </a:lnTo>
                <a:lnTo>
                  <a:pt x="920" y="567"/>
                </a:lnTo>
                <a:lnTo>
                  <a:pt x="903" y="567"/>
                </a:lnTo>
                <a:lnTo>
                  <a:pt x="850" y="584"/>
                </a:lnTo>
                <a:lnTo>
                  <a:pt x="832" y="602"/>
                </a:lnTo>
                <a:lnTo>
                  <a:pt x="814" y="602"/>
                </a:lnTo>
                <a:lnTo>
                  <a:pt x="796" y="602"/>
                </a:lnTo>
                <a:lnTo>
                  <a:pt x="779" y="602"/>
                </a:lnTo>
                <a:lnTo>
                  <a:pt x="779" y="602"/>
                </a:lnTo>
                <a:lnTo>
                  <a:pt x="761" y="602"/>
                </a:lnTo>
                <a:lnTo>
                  <a:pt x="743" y="602"/>
                </a:lnTo>
                <a:lnTo>
                  <a:pt x="726" y="584"/>
                </a:lnTo>
                <a:lnTo>
                  <a:pt x="708" y="584"/>
                </a:lnTo>
                <a:lnTo>
                  <a:pt x="690" y="567"/>
                </a:lnTo>
                <a:lnTo>
                  <a:pt x="690" y="567"/>
                </a:lnTo>
                <a:lnTo>
                  <a:pt x="690" y="549"/>
                </a:lnTo>
                <a:lnTo>
                  <a:pt x="690" y="531"/>
                </a:lnTo>
                <a:lnTo>
                  <a:pt x="743" y="531"/>
                </a:lnTo>
                <a:lnTo>
                  <a:pt x="796" y="513"/>
                </a:lnTo>
                <a:lnTo>
                  <a:pt x="850" y="496"/>
                </a:lnTo>
                <a:lnTo>
                  <a:pt x="903" y="496"/>
                </a:lnTo>
                <a:lnTo>
                  <a:pt x="938" y="478"/>
                </a:lnTo>
                <a:lnTo>
                  <a:pt x="974" y="478"/>
                </a:lnTo>
                <a:lnTo>
                  <a:pt x="991" y="460"/>
                </a:lnTo>
                <a:lnTo>
                  <a:pt x="1009" y="443"/>
                </a:lnTo>
                <a:lnTo>
                  <a:pt x="1009" y="425"/>
                </a:lnTo>
                <a:lnTo>
                  <a:pt x="1027" y="407"/>
                </a:lnTo>
                <a:lnTo>
                  <a:pt x="1044" y="407"/>
                </a:lnTo>
                <a:lnTo>
                  <a:pt x="1044" y="407"/>
                </a:lnTo>
                <a:lnTo>
                  <a:pt x="1062" y="407"/>
                </a:lnTo>
                <a:lnTo>
                  <a:pt x="1098" y="407"/>
                </a:lnTo>
                <a:lnTo>
                  <a:pt x="1115" y="425"/>
                </a:lnTo>
                <a:lnTo>
                  <a:pt x="1133" y="443"/>
                </a:lnTo>
                <a:lnTo>
                  <a:pt x="1151" y="478"/>
                </a:lnTo>
                <a:lnTo>
                  <a:pt x="1168" y="496"/>
                </a:lnTo>
                <a:lnTo>
                  <a:pt x="1186" y="513"/>
                </a:lnTo>
                <a:lnTo>
                  <a:pt x="1186" y="513"/>
                </a:lnTo>
                <a:lnTo>
                  <a:pt x="1186" y="531"/>
                </a:lnTo>
                <a:lnTo>
                  <a:pt x="1186" y="549"/>
                </a:lnTo>
                <a:lnTo>
                  <a:pt x="1168" y="549"/>
                </a:lnTo>
                <a:lnTo>
                  <a:pt x="1168" y="567"/>
                </a:lnTo>
                <a:lnTo>
                  <a:pt x="1151" y="567"/>
                </a:lnTo>
                <a:lnTo>
                  <a:pt x="1151" y="584"/>
                </a:lnTo>
                <a:lnTo>
                  <a:pt x="1133" y="602"/>
                </a:lnTo>
                <a:lnTo>
                  <a:pt x="1133" y="637"/>
                </a:lnTo>
                <a:lnTo>
                  <a:pt x="1115" y="673"/>
                </a:lnTo>
                <a:lnTo>
                  <a:pt x="1098" y="708"/>
                </a:lnTo>
                <a:lnTo>
                  <a:pt x="1098" y="744"/>
                </a:lnTo>
                <a:lnTo>
                  <a:pt x="1080" y="797"/>
                </a:lnTo>
                <a:lnTo>
                  <a:pt x="1044" y="903"/>
                </a:lnTo>
                <a:lnTo>
                  <a:pt x="1009" y="992"/>
                </a:lnTo>
                <a:lnTo>
                  <a:pt x="956" y="1098"/>
                </a:lnTo>
                <a:lnTo>
                  <a:pt x="920" y="1186"/>
                </a:lnTo>
                <a:lnTo>
                  <a:pt x="885" y="1239"/>
                </a:lnTo>
                <a:lnTo>
                  <a:pt x="867" y="1275"/>
                </a:lnTo>
                <a:lnTo>
                  <a:pt x="832" y="1310"/>
                </a:lnTo>
                <a:lnTo>
                  <a:pt x="814" y="1346"/>
                </a:lnTo>
                <a:lnTo>
                  <a:pt x="779" y="1381"/>
                </a:lnTo>
                <a:lnTo>
                  <a:pt x="761" y="1417"/>
                </a:lnTo>
                <a:lnTo>
                  <a:pt x="726" y="1452"/>
                </a:lnTo>
                <a:lnTo>
                  <a:pt x="708" y="1470"/>
                </a:lnTo>
                <a:lnTo>
                  <a:pt x="690" y="1487"/>
                </a:lnTo>
                <a:lnTo>
                  <a:pt x="655" y="1505"/>
                </a:lnTo>
                <a:lnTo>
                  <a:pt x="637" y="1523"/>
                </a:lnTo>
                <a:lnTo>
                  <a:pt x="619" y="1540"/>
                </a:lnTo>
                <a:lnTo>
                  <a:pt x="619" y="1540"/>
                </a:lnTo>
                <a:lnTo>
                  <a:pt x="602" y="1540"/>
                </a:lnTo>
                <a:lnTo>
                  <a:pt x="602" y="1540"/>
                </a:lnTo>
                <a:lnTo>
                  <a:pt x="584" y="1540"/>
                </a:lnTo>
                <a:lnTo>
                  <a:pt x="584" y="1540"/>
                </a:lnTo>
                <a:close/>
                <a:moveTo>
                  <a:pt x="1345" y="1045"/>
                </a:moveTo>
                <a:lnTo>
                  <a:pt x="1345" y="1062"/>
                </a:lnTo>
                <a:lnTo>
                  <a:pt x="1345" y="1080"/>
                </a:lnTo>
                <a:lnTo>
                  <a:pt x="1345" y="1098"/>
                </a:lnTo>
                <a:lnTo>
                  <a:pt x="1328" y="1098"/>
                </a:lnTo>
                <a:lnTo>
                  <a:pt x="1328" y="1116"/>
                </a:lnTo>
                <a:lnTo>
                  <a:pt x="1310" y="1116"/>
                </a:lnTo>
                <a:lnTo>
                  <a:pt x="1310" y="1116"/>
                </a:lnTo>
                <a:lnTo>
                  <a:pt x="1310" y="1116"/>
                </a:lnTo>
                <a:lnTo>
                  <a:pt x="1292" y="1116"/>
                </a:lnTo>
                <a:lnTo>
                  <a:pt x="1292" y="1116"/>
                </a:lnTo>
                <a:lnTo>
                  <a:pt x="1292" y="1098"/>
                </a:lnTo>
                <a:lnTo>
                  <a:pt x="1275" y="1080"/>
                </a:lnTo>
                <a:lnTo>
                  <a:pt x="1257" y="1062"/>
                </a:lnTo>
                <a:lnTo>
                  <a:pt x="1239" y="1045"/>
                </a:lnTo>
                <a:lnTo>
                  <a:pt x="1239" y="1027"/>
                </a:lnTo>
                <a:lnTo>
                  <a:pt x="1204" y="974"/>
                </a:lnTo>
                <a:lnTo>
                  <a:pt x="1186" y="921"/>
                </a:lnTo>
                <a:lnTo>
                  <a:pt x="1168" y="885"/>
                </a:lnTo>
                <a:lnTo>
                  <a:pt x="1168" y="850"/>
                </a:lnTo>
                <a:lnTo>
                  <a:pt x="1221" y="868"/>
                </a:lnTo>
                <a:lnTo>
                  <a:pt x="1257" y="885"/>
                </a:lnTo>
                <a:lnTo>
                  <a:pt x="1275" y="903"/>
                </a:lnTo>
                <a:lnTo>
                  <a:pt x="1310" y="921"/>
                </a:lnTo>
                <a:lnTo>
                  <a:pt x="1328" y="956"/>
                </a:lnTo>
                <a:lnTo>
                  <a:pt x="1328" y="974"/>
                </a:lnTo>
                <a:lnTo>
                  <a:pt x="1345" y="1009"/>
                </a:lnTo>
                <a:lnTo>
                  <a:pt x="1345" y="1045"/>
                </a:lnTo>
                <a:lnTo>
                  <a:pt x="1345" y="1045"/>
                </a:lnTo>
                <a:close/>
                <a:moveTo>
                  <a:pt x="1151" y="673"/>
                </a:moveTo>
                <a:lnTo>
                  <a:pt x="1221" y="655"/>
                </a:lnTo>
                <a:lnTo>
                  <a:pt x="1292" y="637"/>
                </a:lnTo>
                <a:lnTo>
                  <a:pt x="1345" y="620"/>
                </a:lnTo>
                <a:lnTo>
                  <a:pt x="1399" y="620"/>
                </a:lnTo>
                <a:lnTo>
                  <a:pt x="1469" y="602"/>
                </a:lnTo>
                <a:lnTo>
                  <a:pt x="1505" y="584"/>
                </a:lnTo>
                <a:lnTo>
                  <a:pt x="1558" y="584"/>
                </a:lnTo>
                <a:lnTo>
                  <a:pt x="1593" y="567"/>
                </a:lnTo>
                <a:lnTo>
                  <a:pt x="1629" y="567"/>
                </a:lnTo>
                <a:lnTo>
                  <a:pt x="1664" y="549"/>
                </a:lnTo>
                <a:lnTo>
                  <a:pt x="1700" y="549"/>
                </a:lnTo>
                <a:lnTo>
                  <a:pt x="1717" y="549"/>
                </a:lnTo>
                <a:lnTo>
                  <a:pt x="1735" y="549"/>
                </a:lnTo>
                <a:lnTo>
                  <a:pt x="1753" y="549"/>
                </a:lnTo>
                <a:lnTo>
                  <a:pt x="1770" y="531"/>
                </a:lnTo>
                <a:lnTo>
                  <a:pt x="1770" y="531"/>
                </a:lnTo>
                <a:lnTo>
                  <a:pt x="1788" y="549"/>
                </a:lnTo>
                <a:lnTo>
                  <a:pt x="1806" y="549"/>
                </a:lnTo>
                <a:lnTo>
                  <a:pt x="1859" y="549"/>
                </a:lnTo>
                <a:lnTo>
                  <a:pt x="1877" y="567"/>
                </a:lnTo>
                <a:lnTo>
                  <a:pt x="1894" y="584"/>
                </a:lnTo>
                <a:lnTo>
                  <a:pt x="1894" y="602"/>
                </a:lnTo>
                <a:lnTo>
                  <a:pt x="1894" y="602"/>
                </a:lnTo>
                <a:lnTo>
                  <a:pt x="1894" y="620"/>
                </a:lnTo>
                <a:lnTo>
                  <a:pt x="1894" y="620"/>
                </a:lnTo>
                <a:lnTo>
                  <a:pt x="1877" y="620"/>
                </a:lnTo>
                <a:lnTo>
                  <a:pt x="1877" y="637"/>
                </a:lnTo>
                <a:lnTo>
                  <a:pt x="1859" y="637"/>
                </a:lnTo>
                <a:lnTo>
                  <a:pt x="1823" y="637"/>
                </a:lnTo>
                <a:lnTo>
                  <a:pt x="1806" y="637"/>
                </a:lnTo>
                <a:lnTo>
                  <a:pt x="1770" y="655"/>
                </a:lnTo>
                <a:lnTo>
                  <a:pt x="1700" y="655"/>
                </a:lnTo>
                <a:lnTo>
                  <a:pt x="1629" y="673"/>
                </a:lnTo>
                <a:lnTo>
                  <a:pt x="1558" y="691"/>
                </a:lnTo>
                <a:lnTo>
                  <a:pt x="1452" y="708"/>
                </a:lnTo>
                <a:lnTo>
                  <a:pt x="1416" y="708"/>
                </a:lnTo>
                <a:lnTo>
                  <a:pt x="1381" y="726"/>
                </a:lnTo>
                <a:lnTo>
                  <a:pt x="1345" y="726"/>
                </a:lnTo>
                <a:lnTo>
                  <a:pt x="1310" y="726"/>
                </a:lnTo>
                <a:lnTo>
                  <a:pt x="1275" y="726"/>
                </a:lnTo>
                <a:lnTo>
                  <a:pt x="1257" y="726"/>
                </a:lnTo>
                <a:lnTo>
                  <a:pt x="1239" y="726"/>
                </a:lnTo>
                <a:lnTo>
                  <a:pt x="1239" y="726"/>
                </a:lnTo>
                <a:lnTo>
                  <a:pt x="1204" y="708"/>
                </a:lnTo>
                <a:lnTo>
                  <a:pt x="1186" y="708"/>
                </a:lnTo>
                <a:lnTo>
                  <a:pt x="1168" y="691"/>
                </a:lnTo>
                <a:lnTo>
                  <a:pt x="1151" y="673"/>
                </a:lnTo>
                <a:lnTo>
                  <a:pt x="1151" y="673"/>
                </a:lnTo>
                <a:close/>
                <a:moveTo>
                  <a:pt x="1168" y="1275"/>
                </a:moveTo>
                <a:lnTo>
                  <a:pt x="1168" y="1310"/>
                </a:lnTo>
                <a:lnTo>
                  <a:pt x="1168" y="1346"/>
                </a:lnTo>
                <a:lnTo>
                  <a:pt x="1168" y="1363"/>
                </a:lnTo>
                <a:lnTo>
                  <a:pt x="1168" y="1399"/>
                </a:lnTo>
                <a:lnTo>
                  <a:pt x="1168" y="1417"/>
                </a:lnTo>
                <a:lnTo>
                  <a:pt x="1151" y="1417"/>
                </a:lnTo>
                <a:lnTo>
                  <a:pt x="1151" y="1434"/>
                </a:lnTo>
                <a:lnTo>
                  <a:pt x="1133" y="1434"/>
                </a:lnTo>
                <a:lnTo>
                  <a:pt x="1133" y="1434"/>
                </a:lnTo>
                <a:lnTo>
                  <a:pt x="1133" y="1417"/>
                </a:lnTo>
                <a:lnTo>
                  <a:pt x="1115" y="1399"/>
                </a:lnTo>
                <a:lnTo>
                  <a:pt x="1098" y="1381"/>
                </a:lnTo>
                <a:lnTo>
                  <a:pt x="1080" y="1346"/>
                </a:lnTo>
                <a:lnTo>
                  <a:pt x="1044" y="1293"/>
                </a:lnTo>
                <a:lnTo>
                  <a:pt x="1027" y="1239"/>
                </a:lnTo>
                <a:lnTo>
                  <a:pt x="991" y="1186"/>
                </a:lnTo>
                <a:lnTo>
                  <a:pt x="956" y="1133"/>
                </a:lnTo>
                <a:lnTo>
                  <a:pt x="938" y="1080"/>
                </a:lnTo>
                <a:lnTo>
                  <a:pt x="903" y="1027"/>
                </a:lnTo>
                <a:lnTo>
                  <a:pt x="867" y="974"/>
                </a:lnTo>
                <a:lnTo>
                  <a:pt x="850" y="938"/>
                </a:lnTo>
                <a:lnTo>
                  <a:pt x="832" y="903"/>
                </a:lnTo>
                <a:lnTo>
                  <a:pt x="814" y="868"/>
                </a:lnTo>
                <a:lnTo>
                  <a:pt x="796" y="850"/>
                </a:lnTo>
                <a:lnTo>
                  <a:pt x="761" y="797"/>
                </a:lnTo>
                <a:lnTo>
                  <a:pt x="743" y="761"/>
                </a:lnTo>
                <a:lnTo>
                  <a:pt x="743" y="761"/>
                </a:lnTo>
                <a:lnTo>
                  <a:pt x="743" y="744"/>
                </a:lnTo>
                <a:lnTo>
                  <a:pt x="743" y="744"/>
                </a:lnTo>
                <a:lnTo>
                  <a:pt x="743" y="726"/>
                </a:lnTo>
                <a:lnTo>
                  <a:pt x="743" y="726"/>
                </a:lnTo>
                <a:lnTo>
                  <a:pt x="743" y="726"/>
                </a:lnTo>
                <a:lnTo>
                  <a:pt x="761" y="744"/>
                </a:lnTo>
                <a:lnTo>
                  <a:pt x="779" y="744"/>
                </a:lnTo>
                <a:lnTo>
                  <a:pt x="779" y="744"/>
                </a:lnTo>
                <a:lnTo>
                  <a:pt x="796" y="761"/>
                </a:lnTo>
                <a:lnTo>
                  <a:pt x="832" y="779"/>
                </a:lnTo>
                <a:lnTo>
                  <a:pt x="850" y="797"/>
                </a:lnTo>
                <a:lnTo>
                  <a:pt x="903" y="850"/>
                </a:lnTo>
                <a:lnTo>
                  <a:pt x="938" y="903"/>
                </a:lnTo>
                <a:lnTo>
                  <a:pt x="991" y="974"/>
                </a:lnTo>
                <a:lnTo>
                  <a:pt x="1044" y="1045"/>
                </a:lnTo>
                <a:lnTo>
                  <a:pt x="1062" y="1080"/>
                </a:lnTo>
                <a:lnTo>
                  <a:pt x="1080" y="1116"/>
                </a:lnTo>
                <a:lnTo>
                  <a:pt x="1115" y="1169"/>
                </a:lnTo>
                <a:lnTo>
                  <a:pt x="1151" y="1222"/>
                </a:lnTo>
                <a:lnTo>
                  <a:pt x="1168" y="1275"/>
                </a:lnTo>
                <a:lnTo>
                  <a:pt x="1168" y="1275"/>
                </a:lnTo>
                <a:close/>
                <a:moveTo>
                  <a:pt x="1328" y="1700"/>
                </a:moveTo>
                <a:lnTo>
                  <a:pt x="1292" y="1682"/>
                </a:lnTo>
                <a:lnTo>
                  <a:pt x="1275" y="1664"/>
                </a:lnTo>
                <a:lnTo>
                  <a:pt x="1275" y="1647"/>
                </a:lnTo>
                <a:lnTo>
                  <a:pt x="1257" y="1629"/>
                </a:lnTo>
                <a:lnTo>
                  <a:pt x="1239" y="1629"/>
                </a:lnTo>
                <a:lnTo>
                  <a:pt x="1239" y="1611"/>
                </a:lnTo>
                <a:lnTo>
                  <a:pt x="1239" y="1611"/>
                </a:lnTo>
                <a:lnTo>
                  <a:pt x="1239" y="1611"/>
                </a:lnTo>
                <a:lnTo>
                  <a:pt x="1239" y="1594"/>
                </a:lnTo>
                <a:lnTo>
                  <a:pt x="1257" y="1594"/>
                </a:lnTo>
                <a:lnTo>
                  <a:pt x="1257" y="1594"/>
                </a:lnTo>
                <a:lnTo>
                  <a:pt x="1275" y="1611"/>
                </a:lnTo>
                <a:lnTo>
                  <a:pt x="1292" y="1611"/>
                </a:lnTo>
                <a:lnTo>
                  <a:pt x="1310" y="1611"/>
                </a:lnTo>
                <a:lnTo>
                  <a:pt x="1328" y="1611"/>
                </a:lnTo>
                <a:lnTo>
                  <a:pt x="1345" y="1629"/>
                </a:lnTo>
                <a:lnTo>
                  <a:pt x="1381" y="1629"/>
                </a:lnTo>
                <a:lnTo>
                  <a:pt x="1399" y="1647"/>
                </a:lnTo>
                <a:lnTo>
                  <a:pt x="1434" y="1647"/>
                </a:lnTo>
                <a:lnTo>
                  <a:pt x="1452" y="1647"/>
                </a:lnTo>
                <a:lnTo>
                  <a:pt x="1469" y="1629"/>
                </a:lnTo>
                <a:lnTo>
                  <a:pt x="1469" y="1629"/>
                </a:lnTo>
                <a:lnTo>
                  <a:pt x="1469" y="1629"/>
                </a:lnTo>
                <a:lnTo>
                  <a:pt x="1469" y="1611"/>
                </a:lnTo>
                <a:lnTo>
                  <a:pt x="1469" y="1594"/>
                </a:lnTo>
                <a:lnTo>
                  <a:pt x="1469" y="1558"/>
                </a:lnTo>
                <a:lnTo>
                  <a:pt x="1469" y="1540"/>
                </a:lnTo>
                <a:lnTo>
                  <a:pt x="1469" y="1505"/>
                </a:lnTo>
                <a:lnTo>
                  <a:pt x="1487" y="1452"/>
                </a:lnTo>
                <a:lnTo>
                  <a:pt x="1487" y="1417"/>
                </a:lnTo>
                <a:lnTo>
                  <a:pt x="1487" y="1363"/>
                </a:lnTo>
                <a:lnTo>
                  <a:pt x="1487" y="1310"/>
                </a:lnTo>
                <a:lnTo>
                  <a:pt x="1487" y="1239"/>
                </a:lnTo>
                <a:lnTo>
                  <a:pt x="1487" y="1186"/>
                </a:lnTo>
                <a:lnTo>
                  <a:pt x="1487" y="1116"/>
                </a:lnTo>
                <a:lnTo>
                  <a:pt x="1487" y="1027"/>
                </a:lnTo>
                <a:lnTo>
                  <a:pt x="1487" y="956"/>
                </a:lnTo>
                <a:lnTo>
                  <a:pt x="1487" y="868"/>
                </a:lnTo>
                <a:lnTo>
                  <a:pt x="1487" y="797"/>
                </a:lnTo>
                <a:lnTo>
                  <a:pt x="1487" y="726"/>
                </a:lnTo>
                <a:lnTo>
                  <a:pt x="1487" y="655"/>
                </a:lnTo>
                <a:lnTo>
                  <a:pt x="1469" y="602"/>
                </a:lnTo>
                <a:lnTo>
                  <a:pt x="1469" y="531"/>
                </a:lnTo>
                <a:lnTo>
                  <a:pt x="1469" y="478"/>
                </a:lnTo>
                <a:lnTo>
                  <a:pt x="1469" y="425"/>
                </a:lnTo>
                <a:lnTo>
                  <a:pt x="1469" y="390"/>
                </a:lnTo>
                <a:lnTo>
                  <a:pt x="1469" y="354"/>
                </a:lnTo>
                <a:lnTo>
                  <a:pt x="1469" y="319"/>
                </a:lnTo>
                <a:lnTo>
                  <a:pt x="1469" y="283"/>
                </a:lnTo>
                <a:lnTo>
                  <a:pt x="1469" y="248"/>
                </a:lnTo>
                <a:lnTo>
                  <a:pt x="1469" y="230"/>
                </a:lnTo>
                <a:lnTo>
                  <a:pt x="1469" y="212"/>
                </a:lnTo>
                <a:lnTo>
                  <a:pt x="1469" y="195"/>
                </a:lnTo>
                <a:lnTo>
                  <a:pt x="1469" y="142"/>
                </a:lnTo>
                <a:lnTo>
                  <a:pt x="1452" y="106"/>
                </a:lnTo>
                <a:lnTo>
                  <a:pt x="1434" y="89"/>
                </a:lnTo>
                <a:lnTo>
                  <a:pt x="1434" y="71"/>
                </a:lnTo>
                <a:lnTo>
                  <a:pt x="1416" y="53"/>
                </a:lnTo>
                <a:lnTo>
                  <a:pt x="1416" y="35"/>
                </a:lnTo>
                <a:lnTo>
                  <a:pt x="1416" y="35"/>
                </a:lnTo>
                <a:lnTo>
                  <a:pt x="1416" y="18"/>
                </a:lnTo>
                <a:lnTo>
                  <a:pt x="1416" y="18"/>
                </a:lnTo>
                <a:lnTo>
                  <a:pt x="1434" y="0"/>
                </a:lnTo>
                <a:lnTo>
                  <a:pt x="1452" y="18"/>
                </a:lnTo>
                <a:lnTo>
                  <a:pt x="1469" y="18"/>
                </a:lnTo>
                <a:lnTo>
                  <a:pt x="1505" y="18"/>
                </a:lnTo>
                <a:lnTo>
                  <a:pt x="1522" y="35"/>
                </a:lnTo>
                <a:lnTo>
                  <a:pt x="1540" y="53"/>
                </a:lnTo>
                <a:lnTo>
                  <a:pt x="1576" y="71"/>
                </a:lnTo>
                <a:lnTo>
                  <a:pt x="1576" y="89"/>
                </a:lnTo>
                <a:lnTo>
                  <a:pt x="1593" y="106"/>
                </a:lnTo>
                <a:lnTo>
                  <a:pt x="1593" y="124"/>
                </a:lnTo>
                <a:lnTo>
                  <a:pt x="1593" y="142"/>
                </a:lnTo>
                <a:lnTo>
                  <a:pt x="1593" y="159"/>
                </a:lnTo>
                <a:lnTo>
                  <a:pt x="1576" y="177"/>
                </a:lnTo>
                <a:lnTo>
                  <a:pt x="1576" y="212"/>
                </a:lnTo>
                <a:lnTo>
                  <a:pt x="1576" y="230"/>
                </a:lnTo>
                <a:lnTo>
                  <a:pt x="1576" y="248"/>
                </a:lnTo>
                <a:lnTo>
                  <a:pt x="1576" y="266"/>
                </a:lnTo>
                <a:lnTo>
                  <a:pt x="1576" y="301"/>
                </a:lnTo>
                <a:lnTo>
                  <a:pt x="1576" y="319"/>
                </a:lnTo>
                <a:lnTo>
                  <a:pt x="1576" y="354"/>
                </a:lnTo>
                <a:lnTo>
                  <a:pt x="1576" y="390"/>
                </a:lnTo>
                <a:lnTo>
                  <a:pt x="1576" y="425"/>
                </a:lnTo>
                <a:lnTo>
                  <a:pt x="1576" y="478"/>
                </a:lnTo>
                <a:lnTo>
                  <a:pt x="1576" y="496"/>
                </a:lnTo>
                <a:lnTo>
                  <a:pt x="1576" y="513"/>
                </a:lnTo>
                <a:lnTo>
                  <a:pt x="1576" y="549"/>
                </a:lnTo>
                <a:lnTo>
                  <a:pt x="1576" y="584"/>
                </a:lnTo>
                <a:lnTo>
                  <a:pt x="1576" y="620"/>
                </a:lnTo>
                <a:lnTo>
                  <a:pt x="1576" y="655"/>
                </a:lnTo>
                <a:lnTo>
                  <a:pt x="1576" y="691"/>
                </a:lnTo>
                <a:lnTo>
                  <a:pt x="1576" y="744"/>
                </a:lnTo>
                <a:lnTo>
                  <a:pt x="1576" y="779"/>
                </a:lnTo>
                <a:lnTo>
                  <a:pt x="1576" y="832"/>
                </a:lnTo>
                <a:lnTo>
                  <a:pt x="1576" y="885"/>
                </a:lnTo>
                <a:lnTo>
                  <a:pt x="1576" y="938"/>
                </a:lnTo>
                <a:lnTo>
                  <a:pt x="1576" y="992"/>
                </a:lnTo>
                <a:lnTo>
                  <a:pt x="1576" y="1045"/>
                </a:lnTo>
                <a:lnTo>
                  <a:pt x="1576" y="1116"/>
                </a:lnTo>
                <a:lnTo>
                  <a:pt x="1576" y="1186"/>
                </a:lnTo>
                <a:lnTo>
                  <a:pt x="1576" y="1239"/>
                </a:lnTo>
                <a:lnTo>
                  <a:pt x="1576" y="1310"/>
                </a:lnTo>
                <a:lnTo>
                  <a:pt x="1576" y="1363"/>
                </a:lnTo>
                <a:lnTo>
                  <a:pt x="1576" y="1417"/>
                </a:lnTo>
                <a:lnTo>
                  <a:pt x="1576" y="1470"/>
                </a:lnTo>
                <a:lnTo>
                  <a:pt x="1576" y="1523"/>
                </a:lnTo>
                <a:lnTo>
                  <a:pt x="1576" y="1558"/>
                </a:lnTo>
                <a:lnTo>
                  <a:pt x="1576" y="1594"/>
                </a:lnTo>
                <a:lnTo>
                  <a:pt x="1576" y="1629"/>
                </a:lnTo>
                <a:lnTo>
                  <a:pt x="1576" y="1664"/>
                </a:lnTo>
                <a:lnTo>
                  <a:pt x="1576" y="1700"/>
                </a:lnTo>
                <a:lnTo>
                  <a:pt x="1576" y="1718"/>
                </a:lnTo>
                <a:lnTo>
                  <a:pt x="1576" y="1753"/>
                </a:lnTo>
                <a:lnTo>
                  <a:pt x="1576" y="1771"/>
                </a:lnTo>
                <a:lnTo>
                  <a:pt x="1558" y="1771"/>
                </a:lnTo>
                <a:lnTo>
                  <a:pt x="1558" y="1788"/>
                </a:lnTo>
                <a:lnTo>
                  <a:pt x="1558" y="1824"/>
                </a:lnTo>
                <a:lnTo>
                  <a:pt x="1540" y="1841"/>
                </a:lnTo>
                <a:lnTo>
                  <a:pt x="1522" y="1877"/>
                </a:lnTo>
                <a:lnTo>
                  <a:pt x="1505" y="1895"/>
                </a:lnTo>
                <a:lnTo>
                  <a:pt x="1487" y="1895"/>
                </a:lnTo>
                <a:lnTo>
                  <a:pt x="1469" y="1912"/>
                </a:lnTo>
                <a:lnTo>
                  <a:pt x="1452" y="1912"/>
                </a:lnTo>
                <a:lnTo>
                  <a:pt x="1452" y="1912"/>
                </a:lnTo>
                <a:lnTo>
                  <a:pt x="1434" y="1912"/>
                </a:lnTo>
                <a:lnTo>
                  <a:pt x="1416" y="1895"/>
                </a:lnTo>
                <a:lnTo>
                  <a:pt x="1416" y="1877"/>
                </a:lnTo>
                <a:lnTo>
                  <a:pt x="1416" y="1841"/>
                </a:lnTo>
                <a:lnTo>
                  <a:pt x="1416" y="1824"/>
                </a:lnTo>
                <a:lnTo>
                  <a:pt x="1399" y="1806"/>
                </a:lnTo>
                <a:lnTo>
                  <a:pt x="1399" y="1788"/>
                </a:lnTo>
                <a:lnTo>
                  <a:pt x="1381" y="1771"/>
                </a:lnTo>
                <a:lnTo>
                  <a:pt x="1381" y="1753"/>
                </a:lnTo>
                <a:lnTo>
                  <a:pt x="1363" y="1735"/>
                </a:lnTo>
                <a:lnTo>
                  <a:pt x="1345" y="1718"/>
                </a:lnTo>
                <a:lnTo>
                  <a:pt x="1328" y="1700"/>
                </a:lnTo>
                <a:lnTo>
                  <a:pt x="1328" y="17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1042920" y="2060640"/>
            <a:ext cx="1109520" cy="2830320"/>
            <a:chOff x="1042920" y="2060640"/>
            <a:chExt cx="1109520" cy="2830320"/>
          </a:xfrm>
        </p:grpSpPr>
        <p:grpSp>
          <p:nvGrpSpPr>
            <p:cNvPr id="148" name="Group 17"/>
            <p:cNvGrpSpPr/>
            <p:nvPr/>
          </p:nvGrpSpPr>
          <p:grpSpPr>
            <a:xfrm>
              <a:off x="1042920" y="2060640"/>
              <a:ext cx="1109520" cy="2830320"/>
              <a:chOff x="1042920" y="2060640"/>
              <a:chExt cx="1109520" cy="2830320"/>
            </a:xfrm>
          </p:grpSpPr>
          <p:sp>
            <p:nvSpPr>
              <p:cNvPr id="149" name="Freeform 18"/>
              <p:cNvSpPr/>
              <p:nvPr/>
            </p:nvSpPr>
            <p:spPr>
              <a:xfrm>
                <a:off x="1625400" y="2060640"/>
                <a:ext cx="277920" cy="2830320"/>
              </a:xfrm>
              <a:custGeom>
                <a:avLst/>
                <a:gdLst/>
                <a:ahLst/>
                <a:rect l="l" t="t" r="r" b="b"/>
                <a:pathLst>
                  <a:path w="177" h="1806">
                    <a:moveTo>
                      <a:pt x="159" y="124"/>
                    </a:moveTo>
                    <a:lnTo>
                      <a:pt x="159" y="142"/>
                    </a:lnTo>
                    <a:lnTo>
                      <a:pt x="159" y="159"/>
                    </a:lnTo>
                    <a:lnTo>
                      <a:pt x="141" y="177"/>
                    </a:lnTo>
                    <a:lnTo>
                      <a:pt x="141" y="213"/>
                    </a:lnTo>
                    <a:lnTo>
                      <a:pt x="141" y="248"/>
                    </a:lnTo>
                    <a:lnTo>
                      <a:pt x="141" y="283"/>
                    </a:lnTo>
                    <a:lnTo>
                      <a:pt x="141" y="319"/>
                    </a:lnTo>
                    <a:lnTo>
                      <a:pt x="141" y="372"/>
                    </a:lnTo>
                    <a:lnTo>
                      <a:pt x="141" y="478"/>
                    </a:lnTo>
                    <a:lnTo>
                      <a:pt x="141" y="602"/>
                    </a:lnTo>
                    <a:lnTo>
                      <a:pt x="123" y="726"/>
                    </a:lnTo>
                    <a:lnTo>
                      <a:pt x="123" y="832"/>
                    </a:lnTo>
                    <a:lnTo>
                      <a:pt x="123" y="903"/>
                    </a:lnTo>
                    <a:lnTo>
                      <a:pt x="123" y="974"/>
                    </a:lnTo>
                    <a:lnTo>
                      <a:pt x="123" y="1045"/>
                    </a:lnTo>
                    <a:lnTo>
                      <a:pt x="123" y="1116"/>
                    </a:lnTo>
                    <a:lnTo>
                      <a:pt x="123" y="1186"/>
                    </a:lnTo>
                    <a:lnTo>
                      <a:pt x="106" y="1275"/>
                    </a:lnTo>
                    <a:lnTo>
                      <a:pt x="106" y="1364"/>
                    </a:lnTo>
                    <a:lnTo>
                      <a:pt x="106" y="1434"/>
                    </a:lnTo>
                    <a:lnTo>
                      <a:pt x="106" y="1487"/>
                    </a:lnTo>
                    <a:lnTo>
                      <a:pt x="106" y="1523"/>
                    </a:lnTo>
                    <a:lnTo>
                      <a:pt x="106" y="1558"/>
                    </a:lnTo>
                    <a:lnTo>
                      <a:pt x="106" y="1594"/>
                    </a:lnTo>
                    <a:lnTo>
                      <a:pt x="106" y="1629"/>
                    </a:lnTo>
                    <a:lnTo>
                      <a:pt x="106" y="1665"/>
                    </a:lnTo>
                    <a:lnTo>
                      <a:pt x="88" y="1682"/>
                    </a:lnTo>
                    <a:lnTo>
                      <a:pt x="88" y="1700"/>
                    </a:lnTo>
                    <a:lnTo>
                      <a:pt x="88" y="1735"/>
                    </a:lnTo>
                    <a:lnTo>
                      <a:pt x="88" y="1753"/>
                    </a:lnTo>
                    <a:lnTo>
                      <a:pt x="88" y="1771"/>
                    </a:lnTo>
                    <a:lnTo>
                      <a:pt x="88" y="1771"/>
                    </a:lnTo>
                    <a:lnTo>
                      <a:pt x="88" y="1788"/>
                    </a:lnTo>
                    <a:lnTo>
                      <a:pt x="88" y="1788"/>
                    </a:lnTo>
                    <a:lnTo>
                      <a:pt x="88" y="1806"/>
                    </a:lnTo>
                    <a:lnTo>
                      <a:pt x="70" y="1806"/>
                    </a:lnTo>
                    <a:lnTo>
                      <a:pt x="70" y="1806"/>
                    </a:lnTo>
                    <a:lnTo>
                      <a:pt x="53" y="1788"/>
                    </a:lnTo>
                    <a:lnTo>
                      <a:pt x="35" y="1771"/>
                    </a:lnTo>
                    <a:lnTo>
                      <a:pt x="35" y="1735"/>
                    </a:lnTo>
                    <a:lnTo>
                      <a:pt x="17" y="1700"/>
                    </a:lnTo>
                    <a:lnTo>
                      <a:pt x="0" y="1682"/>
                    </a:lnTo>
                    <a:lnTo>
                      <a:pt x="0" y="1647"/>
                    </a:lnTo>
                    <a:lnTo>
                      <a:pt x="0" y="1647"/>
                    </a:lnTo>
                    <a:lnTo>
                      <a:pt x="0" y="1629"/>
                    </a:lnTo>
                    <a:lnTo>
                      <a:pt x="0" y="1611"/>
                    </a:lnTo>
                    <a:lnTo>
                      <a:pt x="0" y="1594"/>
                    </a:lnTo>
                    <a:lnTo>
                      <a:pt x="0" y="1558"/>
                    </a:lnTo>
                    <a:lnTo>
                      <a:pt x="17" y="1541"/>
                    </a:lnTo>
                    <a:lnTo>
                      <a:pt x="17" y="1523"/>
                    </a:lnTo>
                    <a:lnTo>
                      <a:pt x="17" y="1487"/>
                    </a:lnTo>
                    <a:lnTo>
                      <a:pt x="17" y="1452"/>
                    </a:lnTo>
                    <a:lnTo>
                      <a:pt x="17" y="1434"/>
                    </a:lnTo>
                    <a:lnTo>
                      <a:pt x="17" y="1399"/>
                    </a:lnTo>
                    <a:lnTo>
                      <a:pt x="35" y="1364"/>
                    </a:lnTo>
                    <a:lnTo>
                      <a:pt x="35" y="1328"/>
                    </a:lnTo>
                    <a:lnTo>
                      <a:pt x="35" y="1240"/>
                    </a:lnTo>
                    <a:lnTo>
                      <a:pt x="35" y="1151"/>
                    </a:lnTo>
                    <a:lnTo>
                      <a:pt x="53" y="1063"/>
                    </a:lnTo>
                    <a:lnTo>
                      <a:pt x="53" y="974"/>
                    </a:lnTo>
                    <a:lnTo>
                      <a:pt x="53" y="868"/>
                    </a:lnTo>
                    <a:lnTo>
                      <a:pt x="53" y="761"/>
                    </a:lnTo>
                    <a:lnTo>
                      <a:pt x="53" y="655"/>
                    </a:lnTo>
                    <a:lnTo>
                      <a:pt x="53" y="531"/>
                    </a:lnTo>
                    <a:lnTo>
                      <a:pt x="53" y="478"/>
                    </a:lnTo>
                    <a:lnTo>
                      <a:pt x="53" y="425"/>
                    </a:lnTo>
                    <a:lnTo>
                      <a:pt x="53" y="372"/>
                    </a:lnTo>
                    <a:lnTo>
                      <a:pt x="53" y="337"/>
                    </a:lnTo>
                    <a:lnTo>
                      <a:pt x="53" y="283"/>
                    </a:lnTo>
                    <a:lnTo>
                      <a:pt x="53" y="248"/>
                    </a:lnTo>
                    <a:lnTo>
                      <a:pt x="53" y="213"/>
                    </a:lnTo>
                    <a:lnTo>
                      <a:pt x="53" y="177"/>
                    </a:lnTo>
                    <a:lnTo>
                      <a:pt x="53" y="159"/>
                    </a:lnTo>
                    <a:lnTo>
                      <a:pt x="35" y="124"/>
                    </a:lnTo>
                    <a:lnTo>
                      <a:pt x="35" y="106"/>
                    </a:lnTo>
                    <a:lnTo>
                      <a:pt x="35" y="89"/>
                    </a:lnTo>
                    <a:lnTo>
                      <a:pt x="35" y="71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17" y="53"/>
                    </a:lnTo>
                    <a:lnTo>
                      <a:pt x="17" y="36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5" y="0"/>
                    </a:lnTo>
                    <a:lnTo>
                      <a:pt x="70" y="0"/>
                    </a:lnTo>
                    <a:lnTo>
                      <a:pt x="106" y="18"/>
                    </a:lnTo>
                    <a:lnTo>
                      <a:pt x="141" y="18"/>
                    </a:lnTo>
                    <a:lnTo>
                      <a:pt x="159" y="36"/>
                    </a:lnTo>
                    <a:lnTo>
                      <a:pt x="177" y="53"/>
                    </a:lnTo>
                    <a:lnTo>
                      <a:pt x="177" y="71"/>
                    </a:lnTo>
                    <a:lnTo>
                      <a:pt x="177" y="89"/>
                    </a:lnTo>
                    <a:lnTo>
                      <a:pt x="177" y="89"/>
                    </a:lnTo>
                    <a:lnTo>
                      <a:pt x="159" y="106"/>
                    </a:lnTo>
                    <a:lnTo>
                      <a:pt x="159" y="124"/>
                    </a:lnTo>
                    <a:lnTo>
                      <a:pt x="159" y="124"/>
                    </a:lnTo>
                  </a:path>
                </a:pathLst>
              </a:custGeom>
              <a:solidFill>
                <a:srgbClr val="33cc33"/>
              </a:solidFill>
              <a:ln w="115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9"/>
              <p:cNvSpPr/>
              <p:nvPr/>
            </p:nvSpPr>
            <p:spPr>
              <a:xfrm>
                <a:off x="1125360" y="2921040"/>
                <a:ext cx="1027080" cy="277560"/>
              </a:xfrm>
              <a:custGeom>
                <a:avLst/>
                <a:gdLst/>
                <a:ahLst/>
                <a:rect l="l" t="t" r="r" b="b"/>
                <a:pathLst>
                  <a:path w="655" h="177">
                    <a:moveTo>
                      <a:pt x="620" y="18"/>
                    </a:moveTo>
                    <a:lnTo>
                      <a:pt x="637" y="18"/>
                    </a:lnTo>
                    <a:lnTo>
                      <a:pt x="655" y="18"/>
                    </a:lnTo>
                    <a:lnTo>
                      <a:pt x="655" y="35"/>
                    </a:lnTo>
                    <a:lnTo>
                      <a:pt x="655" y="35"/>
                    </a:lnTo>
                    <a:lnTo>
                      <a:pt x="655" y="35"/>
                    </a:lnTo>
                    <a:lnTo>
                      <a:pt x="637" y="53"/>
                    </a:lnTo>
                    <a:lnTo>
                      <a:pt x="620" y="53"/>
                    </a:lnTo>
                    <a:lnTo>
                      <a:pt x="584" y="71"/>
                    </a:lnTo>
                    <a:lnTo>
                      <a:pt x="549" y="71"/>
                    </a:lnTo>
                    <a:lnTo>
                      <a:pt x="513" y="89"/>
                    </a:lnTo>
                    <a:lnTo>
                      <a:pt x="460" y="106"/>
                    </a:lnTo>
                    <a:lnTo>
                      <a:pt x="407" y="106"/>
                    </a:lnTo>
                    <a:lnTo>
                      <a:pt x="354" y="124"/>
                    </a:lnTo>
                    <a:lnTo>
                      <a:pt x="301" y="142"/>
                    </a:lnTo>
                    <a:lnTo>
                      <a:pt x="265" y="159"/>
                    </a:lnTo>
                    <a:lnTo>
                      <a:pt x="230" y="159"/>
                    </a:lnTo>
                    <a:lnTo>
                      <a:pt x="195" y="177"/>
                    </a:lnTo>
                    <a:lnTo>
                      <a:pt x="177" y="177"/>
                    </a:lnTo>
                    <a:lnTo>
                      <a:pt x="159" y="177"/>
                    </a:lnTo>
                    <a:lnTo>
                      <a:pt x="159" y="177"/>
                    </a:lnTo>
                    <a:lnTo>
                      <a:pt x="141" y="177"/>
                    </a:lnTo>
                    <a:lnTo>
                      <a:pt x="141" y="177"/>
                    </a:lnTo>
                    <a:lnTo>
                      <a:pt x="124" y="177"/>
                    </a:lnTo>
                    <a:lnTo>
                      <a:pt x="106" y="177"/>
                    </a:lnTo>
                    <a:lnTo>
                      <a:pt x="88" y="159"/>
                    </a:lnTo>
                    <a:lnTo>
                      <a:pt x="71" y="159"/>
                    </a:lnTo>
                    <a:lnTo>
                      <a:pt x="35" y="142"/>
                    </a:lnTo>
                    <a:lnTo>
                      <a:pt x="0" y="124"/>
                    </a:lnTo>
                    <a:lnTo>
                      <a:pt x="18" y="124"/>
                    </a:lnTo>
                    <a:lnTo>
                      <a:pt x="53" y="124"/>
                    </a:lnTo>
                    <a:lnTo>
                      <a:pt x="71" y="106"/>
                    </a:lnTo>
                    <a:lnTo>
                      <a:pt x="106" y="106"/>
                    </a:lnTo>
                    <a:lnTo>
                      <a:pt x="159" y="89"/>
                    </a:lnTo>
                    <a:lnTo>
                      <a:pt x="195" y="71"/>
                    </a:lnTo>
                    <a:lnTo>
                      <a:pt x="248" y="71"/>
                    </a:lnTo>
                    <a:lnTo>
                      <a:pt x="301" y="53"/>
                    </a:lnTo>
                    <a:lnTo>
                      <a:pt x="354" y="35"/>
                    </a:lnTo>
                    <a:lnTo>
                      <a:pt x="407" y="18"/>
                    </a:lnTo>
                    <a:lnTo>
                      <a:pt x="442" y="18"/>
                    </a:lnTo>
                    <a:lnTo>
                      <a:pt x="478" y="0"/>
                    </a:lnTo>
                    <a:lnTo>
                      <a:pt x="513" y="0"/>
                    </a:lnTo>
                    <a:lnTo>
                      <a:pt x="531" y="0"/>
                    </a:lnTo>
                    <a:lnTo>
                      <a:pt x="549" y="0"/>
                    </a:lnTo>
                    <a:lnTo>
                      <a:pt x="566" y="0"/>
                    </a:lnTo>
                    <a:lnTo>
                      <a:pt x="584" y="0"/>
                    </a:lnTo>
                    <a:lnTo>
                      <a:pt x="602" y="0"/>
                    </a:lnTo>
                    <a:lnTo>
                      <a:pt x="602" y="0"/>
                    </a:lnTo>
                    <a:lnTo>
                      <a:pt x="620" y="18"/>
                    </a:lnTo>
                    <a:lnTo>
                      <a:pt x="620" y="18"/>
                    </a:lnTo>
                  </a:path>
                </a:pathLst>
              </a:custGeom>
              <a:solidFill>
                <a:srgbClr val="33cc33"/>
              </a:solidFill>
              <a:ln w="115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0"/>
              <p:cNvSpPr/>
              <p:nvPr/>
            </p:nvSpPr>
            <p:spPr>
              <a:xfrm>
                <a:off x="1042920" y="3031920"/>
                <a:ext cx="720720" cy="1192320"/>
              </a:xfrm>
              <a:custGeom>
                <a:avLst/>
                <a:gdLst/>
                <a:ahLst/>
                <a:rect l="l" t="t" r="r" b="b"/>
                <a:pathLst>
                  <a:path w="460" h="761">
                    <a:moveTo>
                      <a:pt x="141" y="655"/>
                    </a:moveTo>
                    <a:lnTo>
                      <a:pt x="106" y="690"/>
                    </a:lnTo>
                    <a:lnTo>
                      <a:pt x="88" y="708"/>
                    </a:lnTo>
                    <a:lnTo>
                      <a:pt x="53" y="726"/>
                    </a:lnTo>
                    <a:lnTo>
                      <a:pt x="35" y="744"/>
                    </a:lnTo>
                    <a:lnTo>
                      <a:pt x="17" y="761"/>
                    </a:lnTo>
                    <a:lnTo>
                      <a:pt x="17" y="761"/>
                    </a:lnTo>
                    <a:lnTo>
                      <a:pt x="0" y="761"/>
                    </a:lnTo>
                    <a:lnTo>
                      <a:pt x="0" y="761"/>
                    </a:lnTo>
                    <a:lnTo>
                      <a:pt x="0" y="761"/>
                    </a:lnTo>
                    <a:lnTo>
                      <a:pt x="0" y="744"/>
                    </a:lnTo>
                    <a:lnTo>
                      <a:pt x="0" y="726"/>
                    </a:lnTo>
                    <a:lnTo>
                      <a:pt x="17" y="708"/>
                    </a:lnTo>
                    <a:lnTo>
                      <a:pt x="35" y="690"/>
                    </a:lnTo>
                    <a:lnTo>
                      <a:pt x="53" y="655"/>
                    </a:lnTo>
                    <a:lnTo>
                      <a:pt x="71" y="637"/>
                    </a:lnTo>
                    <a:lnTo>
                      <a:pt x="106" y="584"/>
                    </a:lnTo>
                    <a:lnTo>
                      <a:pt x="124" y="566"/>
                    </a:lnTo>
                    <a:lnTo>
                      <a:pt x="141" y="549"/>
                    </a:lnTo>
                    <a:lnTo>
                      <a:pt x="159" y="531"/>
                    </a:lnTo>
                    <a:lnTo>
                      <a:pt x="177" y="496"/>
                    </a:lnTo>
                    <a:lnTo>
                      <a:pt x="194" y="478"/>
                    </a:lnTo>
                    <a:lnTo>
                      <a:pt x="212" y="443"/>
                    </a:lnTo>
                    <a:lnTo>
                      <a:pt x="230" y="407"/>
                    </a:lnTo>
                    <a:lnTo>
                      <a:pt x="248" y="372"/>
                    </a:lnTo>
                    <a:lnTo>
                      <a:pt x="301" y="301"/>
                    </a:lnTo>
                    <a:lnTo>
                      <a:pt x="336" y="212"/>
                    </a:lnTo>
                    <a:lnTo>
                      <a:pt x="389" y="106"/>
                    </a:lnTo>
                    <a:lnTo>
                      <a:pt x="442" y="0"/>
                    </a:lnTo>
                    <a:lnTo>
                      <a:pt x="460" y="177"/>
                    </a:lnTo>
                    <a:lnTo>
                      <a:pt x="425" y="265"/>
                    </a:lnTo>
                    <a:lnTo>
                      <a:pt x="372" y="336"/>
                    </a:lnTo>
                    <a:lnTo>
                      <a:pt x="336" y="407"/>
                    </a:lnTo>
                    <a:lnTo>
                      <a:pt x="301" y="460"/>
                    </a:lnTo>
                    <a:lnTo>
                      <a:pt x="265" y="513"/>
                    </a:lnTo>
                    <a:lnTo>
                      <a:pt x="230" y="566"/>
                    </a:lnTo>
                    <a:lnTo>
                      <a:pt x="177" y="620"/>
                    </a:lnTo>
                    <a:lnTo>
                      <a:pt x="141" y="655"/>
                    </a:lnTo>
                    <a:lnTo>
                      <a:pt x="141" y="655"/>
                    </a:lnTo>
                  </a:path>
                </a:pathLst>
              </a:custGeom>
              <a:solidFill>
                <a:srgbClr val="33cc33"/>
              </a:solidFill>
              <a:ln w="115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Freeform 21"/>
            <p:cNvSpPr/>
            <p:nvPr/>
          </p:nvSpPr>
          <p:spPr>
            <a:xfrm>
              <a:off x="1792080" y="3421080"/>
              <a:ext cx="331920" cy="306360"/>
            </a:xfrm>
            <a:custGeom>
              <a:avLst/>
              <a:gdLst/>
              <a:ahLst/>
              <a:rect l="l" t="t" r="r" b="b"/>
              <a:pathLst>
                <a:path w="212" h="195">
                  <a:moveTo>
                    <a:pt x="0" y="0"/>
                  </a:moveTo>
                  <a:lnTo>
                    <a:pt x="53" y="0"/>
                  </a:lnTo>
                  <a:lnTo>
                    <a:pt x="88" y="0"/>
                  </a:lnTo>
                  <a:lnTo>
                    <a:pt x="124" y="17"/>
                  </a:lnTo>
                  <a:lnTo>
                    <a:pt x="159" y="17"/>
                  </a:lnTo>
                  <a:lnTo>
                    <a:pt x="177" y="35"/>
                  </a:lnTo>
                  <a:lnTo>
                    <a:pt x="195" y="53"/>
                  </a:lnTo>
                  <a:lnTo>
                    <a:pt x="195" y="71"/>
                  </a:lnTo>
                  <a:lnTo>
                    <a:pt x="212" y="88"/>
                  </a:lnTo>
                  <a:lnTo>
                    <a:pt x="212" y="106"/>
                  </a:lnTo>
                  <a:lnTo>
                    <a:pt x="212" y="124"/>
                  </a:lnTo>
                  <a:lnTo>
                    <a:pt x="212" y="141"/>
                  </a:lnTo>
                  <a:lnTo>
                    <a:pt x="212" y="159"/>
                  </a:lnTo>
                  <a:lnTo>
                    <a:pt x="212" y="177"/>
                  </a:lnTo>
                  <a:lnTo>
                    <a:pt x="195" y="195"/>
                  </a:lnTo>
                  <a:lnTo>
                    <a:pt x="177" y="195"/>
                  </a:lnTo>
                  <a:lnTo>
                    <a:pt x="159" y="195"/>
                  </a:lnTo>
                  <a:lnTo>
                    <a:pt x="141" y="195"/>
                  </a:lnTo>
                  <a:lnTo>
                    <a:pt x="141" y="177"/>
                  </a:lnTo>
                  <a:lnTo>
                    <a:pt x="124" y="159"/>
                  </a:lnTo>
                  <a:lnTo>
                    <a:pt x="106" y="141"/>
                  </a:lnTo>
                  <a:lnTo>
                    <a:pt x="88" y="106"/>
                  </a:lnTo>
                  <a:lnTo>
                    <a:pt x="53" y="71"/>
                  </a:lnTo>
                  <a:lnTo>
                    <a:pt x="35" y="3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33cc33"/>
            </a:solidFill>
            <a:ln w="1152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22"/>
          <p:cNvGrpSpPr/>
          <p:nvPr/>
        </p:nvGrpSpPr>
        <p:grpSpPr>
          <a:xfrm>
            <a:off x="1619280" y="2637000"/>
            <a:ext cx="942840" cy="1774800"/>
            <a:chOff x="1619280" y="2637000"/>
            <a:chExt cx="942840" cy="1774800"/>
          </a:xfrm>
        </p:grpSpPr>
        <p:sp>
          <p:nvSpPr>
            <p:cNvPr id="154" name="Freeform 23"/>
            <p:cNvSpPr/>
            <p:nvPr/>
          </p:nvSpPr>
          <p:spPr>
            <a:xfrm>
              <a:off x="1619280" y="2637000"/>
              <a:ext cx="942840" cy="1774800"/>
            </a:xfrm>
            <a:custGeom>
              <a:avLst/>
              <a:gdLst/>
              <a:ahLst/>
              <a:rect l="l" t="t" r="r" b="b"/>
              <a:pathLst>
                <a:path w="602" h="1133">
                  <a:moveTo>
                    <a:pt x="0" y="1133"/>
                  </a:moveTo>
                  <a:lnTo>
                    <a:pt x="0" y="1133"/>
                  </a:lnTo>
                  <a:lnTo>
                    <a:pt x="0" y="1133"/>
                  </a:lnTo>
                  <a:lnTo>
                    <a:pt x="18" y="1116"/>
                  </a:lnTo>
                  <a:lnTo>
                    <a:pt x="18" y="1098"/>
                  </a:lnTo>
                  <a:lnTo>
                    <a:pt x="35" y="1080"/>
                  </a:lnTo>
                  <a:lnTo>
                    <a:pt x="53" y="1063"/>
                  </a:lnTo>
                  <a:lnTo>
                    <a:pt x="71" y="1045"/>
                  </a:lnTo>
                  <a:lnTo>
                    <a:pt x="89" y="1010"/>
                  </a:lnTo>
                  <a:lnTo>
                    <a:pt x="124" y="956"/>
                  </a:lnTo>
                  <a:lnTo>
                    <a:pt x="159" y="886"/>
                  </a:lnTo>
                  <a:lnTo>
                    <a:pt x="212" y="815"/>
                  </a:lnTo>
                  <a:lnTo>
                    <a:pt x="230" y="779"/>
                  </a:lnTo>
                  <a:lnTo>
                    <a:pt x="248" y="744"/>
                  </a:lnTo>
                  <a:lnTo>
                    <a:pt x="283" y="655"/>
                  </a:lnTo>
                  <a:lnTo>
                    <a:pt x="319" y="567"/>
                  </a:lnTo>
                  <a:lnTo>
                    <a:pt x="354" y="478"/>
                  </a:lnTo>
                  <a:lnTo>
                    <a:pt x="372" y="425"/>
                  </a:lnTo>
                  <a:lnTo>
                    <a:pt x="390" y="372"/>
                  </a:lnTo>
                  <a:lnTo>
                    <a:pt x="407" y="319"/>
                  </a:lnTo>
                  <a:lnTo>
                    <a:pt x="407" y="266"/>
                  </a:lnTo>
                  <a:lnTo>
                    <a:pt x="425" y="230"/>
                  </a:lnTo>
                  <a:lnTo>
                    <a:pt x="425" y="195"/>
                  </a:lnTo>
                  <a:lnTo>
                    <a:pt x="425" y="177"/>
                  </a:lnTo>
                  <a:lnTo>
                    <a:pt x="425" y="160"/>
                  </a:lnTo>
                  <a:lnTo>
                    <a:pt x="425" y="142"/>
                  </a:lnTo>
                  <a:lnTo>
                    <a:pt x="425" y="142"/>
                  </a:lnTo>
                  <a:lnTo>
                    <a:pt x="425" y="142"/>
                  </a:lnTo>
                  <a:lnTo>
                    <a:pt x="425" y="142"/>
                  </a:lnTo>
                  <a:lnTo>
                    <a:pt x="407" y="142"/>
                  </a:lnTo>
                  <a:lnTo>
                    <a:pt x="390" y="142"/>
                  </a:lnTo>
                  <a:lnTo>
                    <a:pt x="372" y="142"/>
                  </a:lnTo>
                  <a:lnTo>
                    <a:pt x="354" y="142"/>
                  </a:lnTo>
                  <a:lnTo>
                    <a:pt x="336" y="160"/>
                  </a:lnTo>
                  <a:lnTo>
                    <a:pt x="319" y="160"/>
                  </a:lnTo>
                  <a:lnTo>
                    <a:pt x="266" y="177"/>
                  </a:lnTo>
                  <a:lnTo>
                    <a:pt x="248" y="195"/>
                  </a:lnTo>
                  <a:lnTo>
                    <a:pt x="230" y="195"/>
                  </a:lnTo>
                  <a:lnTo>
                    <a:pt x="212" y="195"/>
                  </a:lnTo>
                  <a:lnTo>
                    <a:pt x="195" y="195"/>
                  </a:lnTo>
                  <a:lnTo>
                    <a:pt x="195" y="195"/>
                  </a:lnTo>
                  <a:lnTo>
                    <a:pt x="177" y="195"/>
                  </a:lnTo>
                  <a:lnTo>
                    <a:pt x="159" y="195"/>
                  </a:lnTo>
                  <a:lnTo>
                    <a:pt x="142" y="177"/>
                  </a:lnTo>
                  <a:lnTo>
                    <a:pt x="124" y="177"/>
                  </a:lnTo>
                  <a:lnTo>
                    <a:pt x="106" y="160"/>
                  </a:lnTo>
                  <a:lnTo>
                    <a:pt x="106" y="160"/>
                  </a:lnTo>
                  <a:lnTo>
                    <a:pt x="106" y="142"/>
                  </a:lnTo>
                  <a:lnTo>
                    <a:pt x="106" y="124"/>
                  </a:lnTo>
                  <a:lnTo>
                    <a:pt x="159" y="124"/>
                  </a:lnTo>
                  <a:lnTo>
                    <a:pt x="212" y="106"/>
                  </a:lnTo>
                  <a:lnTo>
                    <a:pt x="266" y="89"/>
                  </a:lnTo>
                  <a:lnTo>
                    <a:pt x="319" y="89"/>
                  </a:lnTo>
                  <a:lnTo>
                    <a:pt x="354" y="71"/>
                  </a:lnTo>
                  <a:lnTo>
                    <a:pt x="390" y="71"/>
                  </a:lnTo>
                  <a:lnTo>
                    <a:pt x="407" y="53"/>
                  </a:lnTo>
                  <a:lnTo>
                    <a:pt x="425" y="36"/>
                  </a:lnTo>
                  <a:lnTo>
                    <a:pt x="425" y="18"/>
                  </a:lnTo>
                  <a:lnTo>
                    <a:pt x="443" y="0"/>
                  </a:lnTo>
                  <a:lnTo>
                    <a:pt x="460" y="0"/>
                  </a:lnTo>
                  <a:lnTo>
                    <a:pt x="460" y="0"/>
                  </a:lnTo>
                  <a:lnTo>
                    <a:pt x="478" y="0"/>
                  </a:lnTo>
                  <a:lnTo>
                    <a:pt x="514" y="0"/>
                  </a:lnTo>
                  <a:lnTo>
                    <a:pt x="531" y="18"/>
                  </a:lnTo>
                  <a:lnTo>
                    <a:pt x="549" y="36"/>
                  </a:lnTo>
                  <a:lnTo>
                    <a:pt x="567" y="71"/>
                  </a:lnTo>
                  <a:lnTo>
                    <a:pt x="584" y="89"/>
                  </a:lnTo>
                  <a:lnTo>
                    <a:pt x="602" y="106"/>
                  </a:lnTo>
                  <a:lnTo>
                    <a:pt x="602" y="106"/>
                  </a:lnTo>
                  <a:lnTo>
                    <a:pt x="602" y="124"/>
                  </a:lnTo>
                  <a:lnTo>
                    <a:pt x="602" y="142"/>
                  </a:lnTo>
                  <a:lnTo>
                    <a:pt x="584" y="142"/>
                  </a:lnTo>
                  <a:lnTo>
                    <a:pt x="584" y="160"/>
                  </a:lnTo>
                  <a:lnTo>
                    <a:pt x="567" y="160"/>
                  </a:lnTo>
                  <a:lnTo>
                    <a:pt x="567" y="177"/>
                  </a:lnTo>
                  <a:lnTo>
                    <a:pt x="549" y="195"/>
                  </a:lnTo>
                  <a:lnTo>
                    <a:pt x="549" y="230"/>
                  </a:lnTo>
                  <a:lnTo>
                    <a:pt x="531" y="266"/>
                  </a:lnTo>
                  <a:lnTo>
                    <a:pt x="514" y="301"/>
                  </a:lnTo>
                  <a:lnTo>
                    <a:pt x="514" y="337"/>
                  </a:lnTo>
                  <a:lnTo>
                    <a:pt x="496" y="390"/>
                  </a:lnTo>
                  <a:lnTo>
                    <a:pt x="460" y="496"/>
                  </a:lnTo>
                  <a:lnTo>
                    <a:pt x="425" y="585"/>
                  </a:lnTo>
                  <a:lnTo>
                    <a:pt x="372" y="691"/>
                  </a:lnTo>
                  <a:lnTo>
                    <a:pt x="336" y="779"/>
                  </a:lnTo>
                  <a:lnTo>
                    <a:pt x="301" y="832"/>
                  </a:lnTo>
                  <a:lnTo>
                    <a:pt x="283" y="868"/>
                  </a:lnTo>
                  <a:lnTo>
                    <a:pt x="248" y="903"/>
                  </a:lnTo>
                  <a:lnTo>
                    <a:pt x="230" y="939"/>
                  </a:lnTo>
                  <a:lnTo>
                    <a:pt x="195" y="974"/>
                  </a:lnTo>
                  <a:lnTo>
                    <a:pt x="177" y="1010"/>
                  </a:lnTo>
                  <a:lnTo>
                    <a:pt x="142" y="1045"/>
                  </a:lnTo>
                  <a:lnTo>
                    <a:pt x="124" y="1063"/>
                  </a:lnTo>
                  <a:lnTo>
                    <a:pt x="106" y="1080"/>
                  </a:lnTo>
                  <a:lnTo>
                    <a:pt x="71" y="1098"/>
                  </a:lnTo>
                  <a:lnTo>
                    <a:pt x="53" y="1116"/>
                  </a:lnTo>
                  <a:lnTo>
                    <a:pt x="35" y="1133"/>
                  </a:lnTo>
                  <a:lnTo>
                    <a:pt x="35" y="1133"/>
                  </a:lnTo>
                  <a:lnTo>
                    <a:pt x="18" y="1133"/>
                  </a:lnTo>
                  <a:lnTo>
                    <a:pt x="18" y="1133"/>
                  </a:lnTo>
                  <a:lnTo>
                    <a:pt x="0" y="1133"/>
                  </a:lnTo>
                  <a:lnTo>
                    <a:pt x="0" y="1133"/>
                  </a:lnTo>
                </a:path>
              </a:pathLst>
            </a:custGeom>
            <a:solidFill>
              <a:srgbClr val="33cc33"/>
            </a:solidFill>
            <a:ln w="1152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4"/>
            <p:cNvSpPr/>
            <p:nvPr/>
          </p:nvSpPr>
          <p:spPr>
            <a:xfrm>
              <a:off x="1836720" y="3140280"/>
              <a:ext cx="666720" cy="1108080"/>
            </a:xfrm>
            <a:custGeom>
              <a:avLst/>
              <a:gdLst/>
              <a:ahLst/>
              <a:rect l="l" t="t" r="r" b="b"/>
              <a:pathLst>
                <a:path w="425" h="708">
                  <a:moveTo>
                    <a:pt x="425" y="549"/>
                  </a:moveTo>
                  <a:lnTo>
                    <a:pt x="425" y="584"/>
                  </a:lnTo>
                  <a:lnTo>
                    <a:pt x="425" y="620"/>
                  </a:lnTo>
                  <a:lnTo>
                    <a:pt x="425" y="637"/>
                  </a:lnTo>
                  <a:lnTo>
                    <a:pt x="425" y="673"/>
                  </a:lnTo>
                  <a:lnTo>
                    <a:pt x="425" y="691"/>
                  </a:lnTo>
                  <a:lnTo>
                    <a:pt x="408" y="691"/>
                  </a:lnTo>
                  <a:lnTo>
                    <a:pt x="408" y="708"/>
                  </a:lnTo>
                  <a:lnTo>
                    <a:pt x="390" y="708"/>
                  </a:lnTo>
                  <a:lnTo>
                    <a:pt x="390" y="708"/>
                  </a:lnTo>
                  <a:lnTo>
                    <a:pt x="390" y="691"/>
                  </a:lnTo>
                  <a:lnTo>
                    <a:pt x="372" y="673"/>
                  </a:lnTo>
                  <a:lnTo>
                    <a:pt x="355" y="655"/>
                  </a:lnTo>
                  <a:lnTo>
                    <a:pt x="337" y="620"/>
                  </a:lnTo>
                  <a:lnTo>
                    <a:pt x="301" y="567"/>
                  </a:lnTo>
                  <a:lnTo>
                    <a:pt x="284" y="513"/>
                  </a:lnTo>
                  <a:lnTo>
                    <a:pt x="248" y="460"/>
                  </a:lnTo>
                  <a:lnTo>
                    <a:pt x="213" y="407"/>
                  </a:lnTo>
                  <a:lnTo>
                    <a:pt x="195" y="354"/>
                  </a:lnTo>
                  <a:lnTo>
                    <a:pt x="160" y="301"/>
                  </a:lnTo>
                  <a:lnTo>
                    <a:pt x="124" y="248"/>
                  </a:lnTo>
                  <a:lnTo>
                    <a:pt x="107" y="212"/>
                  </a:lnTo>
                  <a:lnTo>
                    <a:pt x="89" y="177"/>
                  </a:lnTo>
                  <a:lnTo>
                    <a:pt x="71" y="142"/>
                  </a:lnTo>
                  <a:lnTo>
                    <a:pt x="53" y="124"/>
                  </a:lnTo>
                  <a:lnTo>
                    <a:pt x="18" y="7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53" y="35"/>
                  </a:lnTo>
                  <a:lnTo>
                    <a:pt x="89" y="53"/>
                  </a:lnTo>
                  <a:lnTo>
                    <a:pt x="107" y="71"/>
                  </a:lnTo>
                  <a:lnTo>
                    <a:pt x="160" y="124"/>
                  </a:lnTo>
                  <a:lnTo>
                    <a:pt x="195" y="177"/>
                  </a:lnTo>
                  <a:lnTo>
                    <a:pt x="248" y="248"/>
                  </a:lnTo>
                  <a:lnTo>
                    <a:pt x="301" y="319"/>
                  </a:lnTo>
                  <a:lnTo>
                    <a:pt x="319" y="354"/>
                  </a:lnTo>
                  <a:lnTo>
                    <a:pt x="337" y="390"/>
                  </a:lnTo>
                  <a:lnTo>
                    <a:pt x="372" y="443"/>
                  </a:lnTo>
                  <a:lnTo>
                    <a:pt x="408" y="496"/>
                  </a:lnTo>
                  <a:lnTo>
                    <a:pt x="425" y="549"/>
                  </a:lnTo>
                  <a:lnTo>
                    <a:pt x="425" y="549"/>
                  </a:lnTo>
                </a:path>
              </a:pathLst>
            </a:custGeom>
            <a:solidFill>
              <a:srgbClr val="33cc33"/>
            </a:solidFill>
            <a:ln w="1152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25"/>
          <p:cNvGrpSpPr/>
          <p:nvPr/>
        </p:nvGrpSpPr>
        <p:grpSpPr>
          <a:xfrm>
            <a:off x="2195640" y="1989000"/>
            <a:ext cx="1163520" cy="2995920"/>
            <a:chOff x="2195640" y="1989000"/>
            <a:chExt cx="1163520" cy="2995920"/>
          </a:xfrm>
        </p:grpSpPr>
        <p:sp>
          <p:nvSpPr>
            <p:cNvPr id="157" name="Freeform 26"/>
            <p:cNvSpPr/>
            <p:nvPr/>
          </p:nvSpPr>
          <p:spPr>
            <a:xfrm>
              <a:off x="2222280" y="3321000"/>
              <a:ext cx="276120" cy="41760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177" y="195"/>
                  </a:moveTo>
                  <a:lnTo>
                    <a:pt x="177" y="212"/>
                  </a:lnTo>
                  <a:lnTo>
                    <a:pt x="177" y="230"/>
                  </a:lnTo>
                  <a:lnTo>
                    <a:pt x="177" y="248"/>
                  </a:lnTo>
                  <a:lnTo>
                    <a:pt x="160" y="248"/>
                  </a:lnTo>
                  <a:lnTo>
                    <a:pt x="160" y="266"/>
                  </a:lnTo>
                  <a:lnTo>
                    <a:pt x="142" y="266"/>
                  </a:lnTo>
                  <a:lnTo>
                    <a:pt x="142" y="266"/>
                  </a:lnTo>
                  <a:lnTo>
                    <a:pt x="142" y="266"/>
                  </a:lnTo>
                  <a:lnTo>
                    <a:pt x="124" y="266"/>
                  </a:lnTo>
                  <a:lnTo>
                    <a:pt x="124" y="266"/>
                  </a:lnTo>
                  <a:lnTo>
                    <a:pt x="124" y="248"/>
                  </a:lnTo>
                  <a:lnTo>
                    <a:pt x="107" y="230"/>
                  </a:lnTo>
                  <a:lnTo>
                    <a:pt x="89" y="212"/>
                  </a:lnTo>
                  <a:lnTo>
                    <a:pt x="71" y="195"/>
                  </a:lnTo>
                  <a:lnTo>
                    <a:pt x="71" y="177"/>
                  </a:lnTo>
                  <a:lnTo>
                    <a:pt x="36" y="124"/>
                  </a:lnTo>
                  <a:lnTo>
                    <a:pt x="18" y="71"/>
                  </a:lnTo>
                  <a:lnTo>
                    <a:pt x="0" y="35"/>
                  </a:lnTo>
                  <a:lnTo>
                    <a:pt x="0" y="0"/>
                  </a:lnTo>
                  <a:lnTo>
                    <a:pt x="53" y="18"/>
                  </a:lnTo>
                  <a:lnTo>
                    <a:pt x="89" y="35"/>
                  </a:lnTo>
                  <a:lnTo>
                    <a:pt x="107" y="53"/>
                  </a:lnTo>
                  <a:lnTo>
                    <a:pt x="142" y="71"/>
                  </a:lnTo>
                  <a:lnTo>
                    <a:pt x="160" y="106"/>
                  </a:lnTo>
                  <a:lnTo>
                    <a:pt x="160" y="124"/>
                  </a:lnTo>
                  <a:lnTo>
                    <a:pt x="177" y="159"/>
                  </a:lnTo>
                  <a:lnTo>
                    <a:pt x="177" y="195"/>
                  </a:lnTo>
                  <a:lnTo>
                    <a:pt x="177" y="195"/>
                  </a:lnTo>
                </a:path>
              </a:pathLst>
            </a:custGeom>
            <a:solidFill>
              <a:srgbClr val="33cc33"/>
            </a:solidFill>
            <a:ln w="1152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7"/>
            <p:cNvSpPr/>
            <p:nvPr/>
          </p:nvSpPr>
          <p:spPr>
            <a:xfrm>
              <a:off x="2195640" y="2820960"/>
              <a:ext cx="1163520" cy="306360"/>
            </a:xfrm>
            <a:custGeom>
              <a:avLst/>
              <a:gdLst/>
              <a:ahLst/>
              <a:rect l="l" t="t" r="r" b="b"/>
              <a:pathLst>
                <a:path w="743" h="195">
                  <a:moveTo>
                    <a:pt x="0" y="142"/>
                  </a:moveTo>
                  <a:lnTo>
                    <a:pt x="70" y="124"/>
                  </a:lnTo>
                  <a:lnTo>
                    <a:pt x="141" y="106"/>
                  </a:lnTo>
                  <a:lnTo>
                    <a:pt x="194" y="89"/>
                  </a:lnTo>
                  <a:lnTo>
                    <a:pt x="248" y="89"/>
                  </a:lnTo>
                  <a:lnTo>
                    <a:pt x="318" y="71"/>
                  </a:lnTo>
                  <a:lnTo>
                    <a:pt x="354" y="53"/>
                  </a:lnTo>
                  <a:lnTo>
                    <a:pt x="407" y="53"/>
                  </a:lnTo>
                  <a:lnTo>
                    <a:pt x="442" y="36"/>
                  </a:lnTo>
                  <a:lnTo>
                    <a:pt x="478" y="36"/>
                  </a:lnTo>
                  <a:lnTo>
                    <a:pt x="513" y="18"/>
                  </a:lnTo>
                  <a:lnTo>
                    <a:pt x="549" y="18"/>
                  </a:lnTo>
                  <a:lnTo>
                    <a:pt x="566" y="18"/>
                  </a:lnTo>
                  <a:lnTo>
                    <a:pt x="584" y="18"/>
                  </a:lnTo>
                  <a:lnTo>
                    <a:pt x="602" y="18"/>
                  </a:lnTo>
                  <a:lnTo>
                    <a:pt x="619" y="0"/>
                  </a:lnTo>
                  <a:lnTo>
                    <a:pt x="619" y="0"/>
                  </a:lnTo>
                  <a:lnTo>
                    <a:pt x="637" y="18"/>
                  </a:lnTo>
                  <a:lnTo>
                    <a:pt x="655" y="18"/>
                  </a:lnTo>
                  <a:lnTo>
                    <a:pt x="708" y="18"/>
                  </a:lnTo>
                  <a:lnTo>
                    <a:pt x="726" y="36"/>
                  </a:lnTo>
                  <a:lnTo>
                    <a:pt x="743" y="53"/>
                  </a:lnTo>
                  <a:lnTo>
                    <a:pt x="743" y="71"/>
                  </a:lnTo>
                  <a:lnTo>
                    <a:pt x="743" y="71"/>
                  </a:lnTo>
                  <a:lnTo>
                    <a:pt x="743" y="89"/>
                  </a:lnTo>
                  <a:lnTo>
                    <a:pt x="743" y="89"/>
                  </a:lnTo>
                  <a:lnTo>
                    <a:pt x="726" y="89"/>
                  </a:lnTo>
                  <a:lnTo>
                    <a:pt x="726" y="106"/>
                  </a:lnTo>
                  <a:lnTo>
                    <a:pt x="708" y="106"/>
                  </a:lnTo>
                  <a:lnTo>
                    <a:pt x="672" y="106"/>
                  </a:lnTo>
                  <a:lnTo>
                    <a:pt x="655" y="106"/>
                  </a:lnTo>
                  <a:lnTo>
                    <a:pt x="619" y="124"/>
                  </a:lnTo>
                  <a:lnTo>
                    <a:pt x="549" y="124"/>
                  </a:lnTo>
                  <a:lnTo>
                    <a:pt x="478" y="142"/>
                  </a:lnTo>
                  <a:lnTo>
                    <a:pt x="407" y="160"/>
                  </a:lnTo>
                  <a:lnTo>
                    <a:pt x="301" y="177"/>
                  </a:lnTo>
                  <a:lnTo>
                    <a:pt x="265" y="177"/>
                  </a:lnTo>
                  <a:lnTo>
                    <a:pt x="230" y="195"/>
                  </a:lnTo>
                  <a:lnTo>
                    <a:pt x="194" y="195"/>
                  </a:lnTo>
                  <a:lnTo>
                    <a:pt x="159" y="195"/>
                  </a:lnTo>
                  <a:lnTo>
                    <a:pt x="124" y="195"/>
                  </a:lnTo>
                  <a:lnTo>
                    <a:pt x="106" y="195"/>
                  </a:lnTo>
                  <a:lnTo>
                    <a:pt x="88" y="195"/>
                  </a:lnTo>
                  <a:lnTo>
                    <a:pt x="88" y="195"/>
                  </a:lnTo>
                  <a:lnTo>
                    <a:pt x="53" y="177"/>
                  </a:lnTo>
                  <a:lnTo>
                    <a:pt x="35" y="177"/>
                  </a:lnTo>
                  <a:lnTo>
                    <a:pt x="17" y="160"/>
                  </a:lnTo>
                  <a:lnTo>
                    <a:pt x="0" y="142"/>
                  </a:lnTo>
                  <a:lnTo>
                    <a:pt x="0" y="142"/>
                  </a:lnTo>
                </a:path>
              </a:pathLst>
            </a:custGeom>
            <a:solidFill>
              <a:srgbClr val="33cc33"/>
            </a:solidFill>
            <a:ln w="1152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8"/>
            <p:cNvSpPr/>
            <p:nvPr/>
          </p:nvSpPr>
          <p:spPr>
            <a:xfrm>
              <a:off x="2338200" y="1989000"/>
              <a:ext cx="553680" cy="2995920"/>
            </a:xfrm>
            <a:custGeom>
              <a:avLst/>
              <a:gdLst/>
              <a:ahLst/>
              <a:rect l="l" t="t" r="r" b="b"/>
              <a:pathLst>
                <a:path w="354" h="1912">
                  <a:moveTo>
                    <a:pt x="89" y="1700"/>
                  </a:moveTo>
                  <a:lnTo>
                    <a:pt x="53" y="1682"/>
                  </a:lnTo>
                  <a:lnTo>
                    <a:pt x="36" y="1664"/>
                  </a:lnTo>
                  <a:lnTo>
                    <a:pt x="36" y="1647"/>
                  </a:lnTo>
                  <a:lnTo>
                    <a:pt x="18" y="1629"/>
                  </a:lnTo>
                  <a:lnTo>
                    <a:pt x="0" y="1629"/>
                  </a:lnTo>
                  <a:lnTo>
                    <a:pt x="0" y="1611"/>
                  </a:lnTo>
                  <a:lnTo>
                    <a:pt x="0" y="1611"/>
                  </a:lnTo>
                  <a:lnTo>
                    <a:pt x="0" y="1611"/>
                  </a:lnTo>
                  <a:lnTo>
                    <a:pt x="0" y="1594"/>
                  </a:lnTo>
                  <a:lnTo>
                    <a:pt x="18" y="1594"/>
                  </a:lnTo>
                  <a:lnTo>
                    <a:pt x="18" y="1594"/>
                  </a:lnTo>
                  <a:lnTo>
                    <a:pt x="36" y="1611"/>
                  </a:lnTo>
                  <a:lnTo>
                    <a:pt x="53" y="1611"/>
                  </a:lnTo>
                  <a:lnTo>
                    <a:pt x="71" y="1611"/>
                  </a:lnTo>
                  <a:lnTo>
                    <a:pt x="89" y="1611"/>
                  </a:lnTo>
                  <a:lnTo>
                    <a:pt x="106" y="1629"/>
                  </a:lnTo>
                  <a:lnTo>
                    <a:pt x="142" y="1629"/>
                  </a:lnTo>
                  <a:lnTo>
                    <a:pt x="160" y="1647"/>
                  </a:lnTo>
                  <a:lnTo>
                    <a:pt x="195" y="1647"/>
                  </a:lnTo>
                  <a:lnTo>
                    <a:pt x="213" y="1647"/>
                  </a:lnTo>
                  <a:lnTo>
                    <a:pt x="230" y="1629"/>
                  </a:lnTo>
                  <a:lnTo>
                    <a:pt x="230" y="1629"/>
                  </a:lnTo>
                  <a:lnTo>
                    <a:pt x="230" y="1629"/>
                  </a:lnTo>
                  <a:lnTo>
                    <a:pt x="230" y="1611"/>
                  </a:lnTo>
                  <a:lnTo>
                    <a:pt x="230" y="1594"/>
                  </a:lnTo>
                  <a:lnTo>
                    <a:pt x="230" y="1558"/>
                  </a:lnTo>
                  <a:lnTo>
                    <a:pt x="230" y="1540"/>
                  </a:lnTo>
                  <a:lnTo>
                    <a:pt x="230" y="1505"/>
                  </a:lnTo>
                  <a:lnTo>
                    <a:pt x="248" y="1452"/>
                  </a:lnTo>
                  <a:lnTo>
                    <a:pt x="248" y="1417"/>
                  </a:lnTo>
                  <a:lnTo>
                    <a:pt x="248" y="1363"/>
                  </a:lnTo>
                  <a:lnTo>
                    <a:pt x="248" y="1310"/>
                  </a:lnTo>
                  <a:lnTo>
                    <a:pt x="248" y="1239"/>
                  </a:lnTo>
                  <a:lnTo>
                    <a:pt x="248" y="1186"/>
                  </a:lnTo>
                  <a:lnTo>
                    <a:pt x="248" y="1116"/>
                  </a:lnTo>
                  <a:lnTo>
                    <a:pt x="248" y="1027"/>
                  </a:lnTo>
                  <a:lnTo>
                    <a:pt x="248" y="956"/>
                  </a:lnTo>
                  <a:lnTo>
                    <a:pt x="248" y="868"/>
                  </a:lnTo>
                  <a:lnTo>
                    <a:pt x="248" y="797"/>
                  </a:lnTo>
                  <a:lnTo>
                    <a:pt x="248" y="726"/>
                  </a:lnTo>
                  <a:lnTo>
                    <a:pt x="248" y="655"/>
                  </a:lnTo>
                  <a:lnTo>
                    <a:pt x="230" y="602"/>
                  </a:lnTo>
                  <a:lnTo>
                    <a:pt x="230" y="531"/>
                  </a:lnTo>
                  <a:lnTo>
                    <a:pt x="230" y="478"/>
                  </a:lnTo>
                  <a:lnTo>
                    <a:pt x="230" y="425"/>
                  </a:lnTo>
                  <a:lnTo>
                    <a:pt x="230" y="390"/>
                  </a:lnTo>
                  <a:lnTo>
                    <a:pt x="230" y="354"/>
                  </a:lnTo>
                  <a:lnTo>
                    <a:pt x="230" y="319"/>
                  </a:lnTo>
                  <a:lnTo>
                    <a:pt x="230" y="283"/>
                  </a:lnTo>
                  <a:lnTo>
                    <a:pt x="230" y="248"/>
                  </a:lnTo>
                  <a:lnTo>
                    <a:pt x="230" y="230"/>
                  </a:lnTo>
                  <a:lnTo>
                    <a:pt x="230" y="212"/>
                  </a:lnTo>
                  <a:lnTo>
                    <a:pt x="230" y="195"/>
                  </a:lnTo>
                  <a:lnTo>
                    <a:pt x="230" y="142"/>
                  </a:lnTo>
                  <a:lnTo>
                    <a:pt x="213" y="106"/>
                  </a:lnTo>
                  <a:lnTo>
                    <a:pt x="195" y="89"/>
                  </a:lnTo>
                  <a:lnTo>
                    <a:pt x="195" y="71"/>
                  </a:lnTo>
                  <a:lnTo>
                    <a:pt x="177" y="53"/>
                  </a:lnTo>
                  <a:lnTo>
                    <a:pt x="177" y="35"/>
                  </a:lnTo>
                  <a:lnTo>
                    <a:pt x="177" y="35"/>
                  </a:lnTo>
                  <a:lnTo>
                    <a:pt x="177" y="18"/>
                  </a:lnTo>
                  <a:lnTo>
                    <a:pt x="177" y="18"/>
                  </a:lnTo>
                  <a:lnTo>
                    <a:pt x="195" y="0"/>
                  </a:lnTo>
                  <a:lnTo>
                    <a:pt x="213" y="18"/>
                  </a:lnTo>
                  <a:lnTo>
                    <a:pt x="230" y="18"/>
                  </a:lnTo>
                  <a:lnTo>
                    <a:pt x="266" y="18"/>
                  </a:lnTo>
                  <a:lnTo>
                    <a:pt x="283" y="35"/>
                  </a:lnTo>
                  <a:lnTo>
                    <a:pt x="301" y="53"/>
                  </a:lnTo>
                  <a:lnTo>
                    <a:pt x="337" y="71"/>
                  </a:lnTo>
                  <a:lnTo>
                    <a:pt x="337" y="89"/>
                  </a:lnTo>
                  <a:lnTo>
                    <a:pt x="354" y="106"/>
                  </a:lnTo>
                  <a:lnTo>
                    <a:pt x="354" y="124"/>
                  </a:lnTo>
                  <a:lnTo>
                    <a:pt x="354" y="142"/>
                  </a:lnTo>
                  <a:lnTo>
                    <a:pt x="354" y="159"/>
                  </a:lnTo>
                  <a:lnTo>
                    <a:pt x="337" y="177"/>
                  </a:lnTo>
                  <a:lnTo>
                    <a:pt x="337" y="212"/>
                  </a:lnTo>
                  <a:lnTo>
                    <a:pt x="337" y="230"/>
                  </a:lnTo>
                  <a:lnTo>
                    <a:pt x="337" y="248"/>
                  </a:lnTo>
                  <a:lnTo>
                    <a:pt x="337" y="266"/>
                  </a:lnTo>
                  <a:lnTo>
                    <a:pt x="337" y="301"/>
                  </a:lnTo>
                  <a:lnTo>
                    <a:pt x="337" y="319"/>
                  </a:lnTo>
                  <a:lnTo>
                    <a:pt x="337" y="354"/>
                  </a:lnTo>
                  <a:lnTo>
                    <a:pt x="337" y="390"/>
                  </a:lnTo>
                  <a:lnTo>
                    <a:pt x="337" y="425"/>
                  </a:lnTo>
                  <a:lnTo>
                    <a:pt x="337" y="478"/>
                  </a:lnTo>
                  <a:lnTo>
                    <a:pt x="337" y="496"/>
                  </a:lnTo>
                  <a:lnTo>
                    <a:pt x="337" y="513"/>
                  </a:lnTo>
                  <a:lnTo>
                    <a:pt x="337" y="549"/>
                  </a:lnTo>
                  <a:lnTo>
                    <a:pt x="337" y="584"/>
                  </a:lnTo>
                  <a:lnTo>
                    <a:pt x="337" y="620"/>
                  </a:lnTo>
                  <a:lnTo>
                    <a:pt x="337" y="655"/>
                  </a:lnTo>
                  <a:lnTo>
                    <a:pt x="337" y="691"/>
                  </a:lnTo>
                  <a:lnTo>
                    <a:pt x="337" y="744"/>
                  </a:lnTo>
                  <a:lnTo>
                    <a:pt x="337" y="779"/>
                  </a:lnTo>
                  <a:lnTo>
                    <a:pt x="337" y="832"/>
                  </a:lnTo>
                  <a:lnTo>
                    <a:pt x="337" y="885"/>
                  </a:lnTo>
                  <a:lnTo>
                    <a:pt x="337" y="938"/>
                  </a:lnTo>
                  <a:lnTo>
                    <a:pt x="337" y="992"/>
                  </a:lnTo>
                  <a:lnTo>
                    <a:pt x="337" y="1045"/>
                  </a:lnTo>
                  <a:lnTo>
                    <a:pt x="337" y="1116"/>
                  </a:lnTo>
                  <a:lnTo>
                    <a:pt x="337" y="1186"/>
                  </a:lnTo>
                  <a:lnTo>
                    <a:pt x="337" y="1239"/>
                  </a:lnTo>
                  <a:lnTo>
                    <a:pt x="337" y="1310"/>
                  </a:lnTo>
                  <a:lnTo>
                    <a:pt x="337" y="1363"/>
                  </a:lnTo>
                  <a:lnTo>
                    <a:pt x="337" y="1417"/>
                  </a:lnTo>
                  <a:lnTo>
                    <a:pt x="337" y="1470"/>
                  </a:lnTo>
                  <a:lnTo>
                    <a:pt x="337" y="1523"/>
                  </a:lnTo>
                  <a:lnTo>
                    <a:pt x="337" y="1558"/>
                  </a:lnTo>
                  <a:lnTo>
                    <a:pt x="337" y="1594"/>
                  </a:lnTo>
                  <a:lnTo>
                    <a:pt x="337" y="1629"/>
                  </a:lnTo>
                  <a:lnTo>
                    <a:pt x="337" y="1664"/>
                  </a:lnTo>
                  <a:lnTo>
                    <a:pt x="337" y="1700"/>
                  </a:lnTo>
                  <a:lnTo>
                    <a:pt x="337" y="1718"/>
                  </a:lnTo>
                  <a:lnTo>
                    <a:pt x="337" y="1753"/>
                  </a:lnTo>
                  <a:lnTo>
                    <a:pt x="337" y="1771"/>
                  </a:lnTo>
                  <a:lnTo>
                    <a:pt x="319" y="1771"/>
                  </a:lnTo>
                  <a:lnTo>
                    <a:pt x="319" y="1788"/>
                  </a:lnTo>
                  <a:lnTo>
                    <a:pt x="319" y="1824"/>
                  </a:lnTo>
                  <a:lnTo>
                    <a:pt x="301" y="1841"/>
                  </a:lnTo>
                  <a:lnTo>
                    <a:pt x="283" y="1877"/>
                  </a:lnTo>
                  <a:lnTo>
                    <a:pt x="266" y="1895"/>
                  </a:lnTo>
                  <a:lnTo>
                    <a:pt x="248" y="1895"/>
                  </a:lnTo>
                  <a:lnTo>
                    <a:pt x="230" y="1912"/>
                  </a:lnTo>
                  <a:lnTo>
                    <a:pt x="213" y="1912"/>
                  </a:lnTo>
                  <a:lnTo>
                    <a:pt x="213" y="1912"/>
                  </a:lnTo>
                  <a:lnTo>
                    <a:pt x="195" y="1912"/>
                  </a:lnTo>
                  <a:lnTo>
                    <a:pt x="177" y="1895"/>
                  </a:lnTo>
                  <a:lnTo>
                    <a:pt x="177" y="1877"/>
                  </a:lnTo>
                  <a:lnTo>
                    <a:pt x="177" y="1841"/>
                  </a:lnTo>
                  <a:lnTo>
                    <a:pt x="177" y="1824"/>
                  </a:lnTo>
                  <a:lnTo>
                    <a:pt x="160" y="1806"/>
                  </a:lnTo>
                  <a:lnTo>
                    <a:pt x="160" y="1788"/>
                  </a:lnTo>
                  <a:lnTo>
                    <a:pt x="142" y="1771"/>
                  </a:lnTo>
                  <a:lnTo>
                    <a:pt x="142" y="1753"/>
                  </a:lnTo>
                  <a:lnTo>
                    <a:pt x="124" y="1735"/>
                  </a:lnTo>
                  <a:lnTo>
                    <a:pt x="106" y="1718"/>
                  </a:lnTo>
                  <a:lnTo>
                    <a:pt x="89" y="1700"/>
                  </a:lnTo>
                  <a:lnTo>
                    <a:pt x="89" y="1700"/>
                  </a:lnTo>
                </a:path>
              </a:pathLst>
            </a:custGeom>
            <a:solidFill>
              <a:srgbClr val="33cc33"/>
            </a:solidFill>
            <a:ln w="1152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4643280" y="1484280"/>
          <a:ext cx="3960720" cy="4064040"/>
        </p:xfrm>
        <a:graphic>
          <a:graphicData uri="http://schemas.openxmlformats.org/drawingml/2006/table">
            <a:tbl>
              <a:tblPr/>
              <a:tblGrid>
                <a:gridCol w="1922400"/>
                <a:gridCol w="2038320"/>
              </a:tblGrid>
              <a:tr h="203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2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1" name="AutoShape 40"/>
          <p:cNvSpPr/>
          <p:nvPr/>
        </p:nvSpPr>
        <p:spPr>
          <a:xfrm>
            <a:off x="5076720" y="2133720"/>
            <a:ext cx="302436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1"/>
          <p:cNvSpPr/>
          <p:nvPr/>
        </p:nvSpPr>
        <p:spPr>
          <a:xfrm>
            <a:off x="5076360" y="21621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5076720" y="2133720"/>
            <a:ext cx="2967120" cy="2995560"/>
          </a:xfrm>
          <a:custGeom>
            <a:avLst/>
            <a:gdLst/>
            <a:ahLst/>
            <a:rect l="l" t="t" r="r" b="b"/>
            <a:pathLst>
              <a:path w="1894" h="1912">
                <a:moveTo>
                  <a:pt x="531" y="177"/>
                </a:moveTo>
                <a:lnTo>
                  <a:pt x="531" y="195"/>
                </a:lnTo>
                <a:lnTo>
                  <a:pt x="531" y="212"/>
                </a:lnTo>
                <a:lnTo>
                  <a:pt x="513" y="230"/>
                </a:lnTo>
                <a:lnTo>
                  <a:pt x="513" y="266"/>
                </a:lnTo>
                <a:lnTo>
                  <a:pt x="513" y="301"/>
                </a:lnTo>
                <a:lnTo>
                  <a:pt x="513" y="336"/>
                </a:lnTo>
                <a:lnTo>
                  <a:pt x="513" y="372"/>
                </a:lnTo>
                <a:lnTo>
                  <a:pt x="513" y="425"/>
                </a:lnTo>
                <a:lnTo>
                  <a:pt x="513" y="531"/>
                </a:lnTo>
                <a:lnTo>
                  <a:pt x="513" y="655"/>
                </a:lnTo>
                <a:lnTo>
                  <a:pt x="495" y="779"/>
                </a:lnTo>
                <a:lnTo>
                  <a:pt x="495" y="885"/>
                </a:lnTo>
                <a:lnTo>
                  <a:pt x="495" y="956"/>
                </a:lnTo>
                <a:lnTo>
                  <a:pt x="495" y="1027"/>
                </a:lnTo>
                <a:lnTo>
                  <a:pt x="495" y="1098"/>
                </a:lnTo>
                <a:lnTo>
                  <a:pt x="495" y="1169"/>
                </a:lnTo>
                <a:lnTo>
                  <a:pt x="495" y="1239"/>
                </a:lnTo>
                <a:lnTo>
                  <a:pt x="478" y="1328"/>
                </a:lnTo>
                <a:lnTo>
                  <a:pt x="478" y="1417"/>
                </a:lnTo>
                <a:lnTo>
                  <a:pt x="478" y="1487"/>
                </a:lnTo>
                <a:lnTo>
                  <a:pt x="478" y="1540"/>
                </a:lnTo>
                <a:lnTo>
                  <a:pt x="478" y="1576"/>
                </a:lnTo>
                <a:lnTo>
                  <a:pt x="478" y="1611"/>
                </a:lnTo>
                <a:lnTo>
                  <a:pt x="478" y="1647"/>
                </a:lnTo>
                <a:lnTo>
                  <a:pt x="478" y="1682"/>
                </a:lnTo>
                <a:lnTo>
                  <a:pt x="478" y="1718"/>
                </a:lnTo>
                <a:lnTo>
                  <a:pt x="460" y="1735"/>
                </a:lnTo>
                <a:lnTo>
                  <a:pt x="460" y="1753"/>
                </a:lnTo>
                <a:lnTo>
                  <a:pt x="460" y="1788"/>
                </a:lnTo>
                <a:lnTo>
                  <a:pt x="460" y="1806"/>
                </a:lnTo>
                <a:lnTo>
                  <a:pt x="460" y="1824"/>
                </a:lnTo>
                <a:lnTo>
                  <a:pt x="460" y="1824"/>
                </a:lnTo>
                <a:lnTo>
                  <a:pt x="460" y="1841"/>
                </a:lnTo>
                <a:lnTo>
                  <a:pt x="460" y="1841"/>
                </a:lnTo>
                <a:lnTo>
                  <a:pt x="460" y="1859"/>
                </a:lnTo>
                <a:lnTo>
                  <a:pt x="442" y="1859"/>
                </a:lnTo>
                <a:lnTo>
                  <a:pt x="442" y="1859"/>
                </a:lnTo>
                <a:lnTo>
                  <a:pt x="425" y="1841"/>
                </a:lnTo>
                <a:lnTo>
                  <a:pt x="407" y="1824"/>
                </a:lnTo>
                <a:lnTo>
                  <a:pt x="407" y="1788"/>
                </a:lnTo>
                <a:lnTo>
                  <a:pt x="389" y="1753"/>
                </a:lnTo>
                <a:lnTo>
                  <a:pt x="372" y="1735"/>
                </a:lnTo>
                <a:lnTo>
                  <a:pt x="372" y="1700"/>
                </a:lnTo>
                <a:lnTo>
                  <a:pt x="372" y="1700"/>
                </a:lnTo>
                <a:lnTo>
                  <a:pt x="372" y="1682"/>
                </a:lnTo>
                <a:lnTo>
                  <a:pt x="372" y="1664"/>
                </a:lnTo>
                <a:lnTo>
                  <a:pt x="372" y="1647"/>
                </a:lnTo>
                <a:lnTo>
                  <a:pt x="372" y="1611"/>
                </a:lnTo>
                <a:lnTo>
                  <a:pt x="389" y="1594"/>
                </a:lnTo>
                <a:lnTo>
                  <a:pt x="389" y="1576"/>
                </a:lnTo>
                <a:lnTo>
                  <a:pt x="389" y="1540"/>
                </a:lnTo>
                <a:lnTo>
                  <a:pt x="389" y="1505"/>
                </a:lnTo>
                <a:lnTo>
                  <a:pt x="389" y="1487"/>
                </a:lnTo>
                <a:lnTo>
                  <a:pt x="389" y="1452"/>
                </a:lnTo>
                <a:lnTo>
                  <a:pt x="407" y="1417"/>
                </a:lnTo>
                <a:lnTo>
                  <a:pt x="407" y="1381"/>
                </a:lnTo>
                <a:lnTo>
                  <a:pt x="407" y="1293"/>
                </a:lnTo>
                <a:lnTo>
                  <a:pt x="407" y="1204"/>
                </a:lnTo>
                <a:lnTo>
                  <a:pt x="425" y="1116"/>
                </a:lnTo>
                <a:lnTo>
                  <a:pt x="425" y="1027"/>
                </a:lnTo>
                <a:lnTo>
                  <a:pt x="425" y="921"/>
                </a:lnTo>
                <a:lnTo>
                  <a:pt x="425" y="814"/>
                </a:lnTo>
                <a:lnTo>
                  <a:pt x="425" y="708"/>
                </a:lnTo>
                <a:lnTo>
                  <a:pt x="425" y="584"/>
                </a:lnTo>
                <a:lnTo>
                  <a:pt x="425" y="531"/>
                </a:lnTo>
                <a:lnTo>
                  <a:pt x="425" y="478"/>
                </a:lnTo>
                <a:lnTo>
                  <a:pt x="425" y="425"/>
                </a:lnTo>
                <a:lnTo>
                  <a:pt x="425" y="390"/>
                </a:lnTo>
                <a:lnTo>
                  <a:pt x="425" y="336"/>
                </a:lnTo>
                <a:lnTo>
                  <a:pt x="425" y="301"/>
                </a:lnTo>
                <a:lnTo>
                  <a:pt x="425" y="266"/>
                </a:lnTo>
                <a:lnTo>
                  <a:pt x="425" y="230"/>
                </a:lnTo>
                <a:lnTo>
                  <a:pt x="425" y="212"/>
                </a:lnTo>
                <a:lnTo>
                  <a:pt x="407" y="177"/>
                </a:lnTo>
                <a:lnTo>
                  <a:pt x="407" y="159"/>
                </a:lnTo>
                <a:lnTo>
                  <a:pt x="407" y="142"/>
                </a:lnTo>
                <a:lnTo>
                  <a:pt x="407" y="124"/>
                </a:lnTo>
                <a:lnTo>
                  <a:pt x="407" y="106"/>
                </a:lnTo>
                <a:lnTo>
                  <a:pt x="407" y="106"/>
                </a:lnTo>
                <a:lnTo>
                  <a:pt x="389" y="106"/>
                </a:lnTo>
                <a:lnTo>
                  <a:pt x="389" y="89"/>
                </a:lnTo>
                <a:lnTo>
                  <a:pt x="372" y="89"/>
                </a:lnTo>
                <a:lnTo>
                  <a:pt x="372" y="71"/>
                </a:lnTo>
                <a:lnTo>
                  <a:pt x="372" y="53"/>
                </a:lnTo>
                <a:lnTo>
                  <a:pt x="389" y="53"/>
                </a:lnTo>
                <a:lnTo>
                  <a:pt x="407" y="53"/>
                </a:lnTo>
                <a:lnTo>
                  <a:pt x="442" y="53"/>
                </a:lnTo>
                <a:lnTo>
                  <a:pt x="478" y="71"/>
                </a:lnTo>
                <a:lnTo>
                  <a:pt x="513" y="71"/>
                </a:lnTo>
                <a:lnTo>
                  <a:pt x="531" y="89"/>
                </a:lnTo>
                <a:lnTo>
                  <a:pt x="549" y="106"/>
                </a:lnTo>
                <a:lnTo>
                  <a:pt x="549" y="124"/>
                </a:lnTo>
                <a:lnTo>
                  <a:pt x="549" y="142"/>
                </a:lnTo>
                <a:lnTo>
                  <a:pt x="549" y="142"/>
                </a:lnTo>
                <a:lnTo>
                  <a:pt x="531" y="159"/>
                </a:lnTo>
                <a:lnTo>
                  <a:pt x="531" y="177"/>
                </a:lnTo>
                <a:lnTo>
                  <a:pt x="531" y="177"/>
                </a:lnTo>
                <a:close/>
                <a:moveTo>
                  <a:pt x="673" y="620"/>
                </a:moveTo>
                <a:lnTo>
                  <a:pt x="690" y="620"/>
                </a:lnTo>
                <a:lnTo>
                  <a:pt x="708" y="620"/>
                </a:lnTo>
                <a:lnTo>
                  <a:pt x="708" y="637"/>
                </a:lnTo>
                <a:lnTo>
                  <a:pt x="708" y="637"/>
                </a:lnTo>
                <a:lnTo>
                  <a:pt x="708" y="637"/>
                </a:lnTo>
                <a:lnTo>
                  <a:pt x="690" y="655"/>
                </a:lnTo>
                <a:lnTo>
                  <a:pt x="673" y="655"/>
                </a:lnTo>
                <a:lnTo>
                  <a:pt x="637" y="673"/>
                </a:lnTo>
                <a:lnTo>
                  <a:pt x="602" y="673"/>
                </a:lnTo>
                <a:lnTo>
                  <a:pt x="566" y="691"/>
                </a:lnTo>
                <a:lnTo>
                  <a:pt x="513" y="708"/>
                </a:lnTo>
                <a:lnTo>
                  <a:pt x="460" y="708"/>
                </a:lnTo>
                <a:lnTo>
                  <a:pt x="407" y="726"/>
                </a:lnTo>
                <a:lnTo>
                  <a:pt x="354" y="744"/>
                </a:lnTo>
                <a:lnTo>
                  <a:pt x="318" y="761"/>
                </a:lnTo>
                <a:lnTo>
                  <a:pt x="283" y="761"/>
                </a:lnTo>
                <a:lnTo>
                  <a:pt x="248" y="779"/>
                </a:lnTo>
                <a:lnTo>
                  <a:pt x="230" y="779"/>
                </a:lnTo>
                <a:lnTo>
                  <a:pt x="212" y="779"/>
                </a:lnTo>
                <a:lnTo>
                  <a:pt x="212" y="779"/>
                </a:lnTo>
                <a:lnTo>
                  <a:pt x="194" y="779"/>
                </a:lnTo>
                <a:lnTo>
                  <a:pt x="194" y="779"/>
                </a:lnTo>
                <a:lnTo>
                  <a:pt x="177" y="779"/>
                </a:lnTo>
                <a:lnTo>
                  <a:pt x="159" y="779"/>
                </a:lnTo>
                <a:lnTo>
                  <a:pt x="141" y="761"/>
                </a:lnTo>
                <a:lnTo>
                  <a:pt x="124" y="761"/>
                </a:lnTo>
                <a:lnTo>
                  <a:pt x="88" y="744"/>
                </a:lnTo>
                <a:lnTo>
                  <a:pt x="53" y="726"/>
                </a:lnTo>
                <a:lnTo>
                  <a:pt x="71" y="726"/>
                </a:lnTo>
                <a:lnTo>
                  <a:pt x="106" y="726"/>
                </a:lnTo>
                <a:lnTo>
                  <a:pt x="124" y="708"/>
                </a:lnTo>
                <a:lnTo>
                  <a:pt x="159" y="708"/>
                </a:lnTo>
                <a:lnTo>
                  <a:pt x="212" y="691"/>
                </a:lnTo>
                <a:lnTo>
                  <a:pt x="248" y="673"/>
                </a:lnTo>
                <a:lnTo>
                  <a:pt x="301" y="673"/>
                </a:lnTo>
                <a:lnTo>
                  <a:pt x="354" y="655"/>
                </a:lnTo>
                <a:lnTo>
                  <a:pt x="407" y="637"/>
                </a:lnTo>
                <a:lnTo>
                  <a:pt x="460" y="620"/>
                </a:lnTo>
                <a:lnTo>
                  <a:pt x="495" y="620"/>
                </a:lnTo>
                <a:lnTo>
                  <a:pt x="531" y="602"/>
                </a:lnTo>
                <a:lnTo>
                  <a:pt x="566" y="602"/>
                </a:lnTo>
                <a:lnTo>
                  <a:pt x="584" y="602"/>
                </a:lnTo>
                <a:lnTo>
                  <a:pt x="602" y="602"/>
                </a:lnTo>
                <a:lnTo>
                  <a:pt x="619" y="602"/>
                </a:lnTo>
                <a:lnTo>
                  <a:pt x="637" y="602"/>
                </a:lnTo>
                <a:lnTo>
                  <a:pt x="655" y="602"/>
                </a:lnTo>
                <a:lnTo>
                  <a:pt x="655" y="602"/>
                </a:lnTo>
                <a:lnTo>
                  <a:pt x="673" y="620"/>
                </a:lnTo>
                <a:lnTo>
                  <a:pt x="673" y="620"/>
                </a:lnTo>
                <a:close/>
                <a:moveTo>
                  <a:pt x="141" y="1328"/>
                </a:moveTo>
                <a:lnTo>
                  <a:pt x="106" y="1363"/>
                </a:lnTo>
                <a:lnTo>
                  <a:pt x="88" y="1381"/>
                </a:lnTo>
                <a:lnTo>
                  <a:pt x="53" y="1399"/>
                </a:lnTo>
                <a:lnTo>
                  <a:pt x="35" y="1417"/>
                </a:lnTo>
                <a:lnTo>
                  <a:pt x="17" y="1434"/>
                </a:lnTo>
                <a:lnTo>
                  <a:pt x="17" y="1434"/>
                </a:lnTo>
                <a:lnTo>
                  <a:pt x="0" y="1434"/>
                </a:lnTo>
                <a:lnTo>
                  <a:pt x="0" y="1434"/>
                </a:lnTo>
                <a:lnTo>
                  <a:pt x="0" y="1434"/>
                </a:lnTo>
                <a:lnTo>
                  <a:pt x="0" y="1417"/>
                </a:lnTo>
                <a:lnTo>
                  <a:pt x="0" y="1399"/>
                </a:lnTo>
                <a:lnTo>
                  <a:pt x="17" y="1381"/>
                </a:lnTo>
                <a:lnTo>
                  <a:pt x="35" y="1363"/>
                </a:lnTo>
                <a:lnTo>
                  <a:pt x="53" y="1328"/>
                </a:lnTo>
                <a:lnTo>
                  <a:pt x="71" y="1310"/>
                </a:lnTo>
                <a:lnTo>
                  <a:pt x="106" y="1257"/>
                </a:lnTo>
                <a:lnTo>
                  <a:pt x="124" y="1239"/>
                </a:lnTo>
                <a:lnTo>
                  <a:pt x="141" y="1222"/>
                </a:lnTo>
                <a:lnTo>
                  <a:pt x="159" y="1204"/>
                </a:lnTo>
                <a:lnTo>
                  <a:pt x="177" y="1169"/>
                </a:lnTo>
                <a:lnTo>
                  <a:pt x="194" y="1151"/>
                </a:lnTo>
                <a:lnTo>
                  <a:pt x="212" y="1116"/>
                </a:lnTo>
                <a:lnTo>
                  <a:pt x="230" y="1080"/>
                </a:lnTo>
                <a:lnTo>
                  <a:pt x="248" y="1045"/>
                </a:lnTo>
                <a:lnTo>
                  <a:pt x="301" y="974"/>
                </a:lnTo>
                <a:lnTo>
                  <a:pt x="336" y="885"/>
                </a:lnTo>
                <a:lnTo>
                  <a:pt x="389" y="779"/>
                </a:lnTo>
                <a:lnTo>
                  <a:pt x="442" y="673"/>
                </a:lnTo>
                <a:lnTo>
                  <a:pt x="460" y="850"/>
                </a:lnTo>
                <a:lnTo>
                  <a:pt x="425" y="938"/>
                </a:lnTo>
                <a:lnTo>
                  <a:pt x="372" y="1009"/>
                </a:lnTo>
                <a:lnTo>
                  <a:pt x="336" y="1080"/>
                </a:lnTo>
                <a:lnTo>
                  <a:pt x="301" y="1133"/>
                </a:lnTo>
                <a:lnTo>
                  <a:pt x="265" y="1186"/>
                </a:lnTo>
                <a:lnTo>
                  <a:pt x="230" y="1239"/>
                </a:lnTo>
                <a:lnTo>
                  <a:pt x="177" y="1293"/>
                </a:lnTo>
                <a:lnTo>
                  <a:pt x="141" y="1328"/>
                </a:lnTo>
                <a:lnTo>
                  <a:pt x="141" y="1328"/>
                </a:lnTo>
                <a:close/>
                <a:moveTo>
                  <a:pt x="478" y="921"/>
                </a:moveTo>
                <a:lnTo>
                  <a:pt x="531" y="921"/>
                </a:lnTo>
                <a:lnTo>
                  <a:pt x="566" y="921"/>
                </a:lnTo>
                <a:lnTo>
                  <a:pt x="602" y="938"/>
                </a:lnTo>
                <a:lnTo>
                  <a:pt x="637" y="938"/>
                </a:lnTo>
                <a:lnTo>
                  <a:pt x="655" y="956"/>
                </a:lnTo>
                <a:lnTo>
                  <a:pt x="673" y="974"/>
                </a:lnTo>
                <a:lnTo>
                  <a:pt x="673" y="992"/>
                </a:lnTo>
                <a:lnTo>
                  <a:pt x="690" y="1009"/>
                </a:lnTo>
                <a:lnTo>
                  <a:pt x="690" y="1027"/>
                </a:lnTo>
                <a:lnTo>
                  <a:pt x="690" y="1045"/>
                </a:lnTo>
                <a:lnTo>
                  <a:pt x="690" y="1062"/>
                </a:lnTo>
                <a:lnTo>
                  <a:pt x="690" y="1080"/>
                </a:lnTo>
                <a:lnTo>
                  <a:pt x="690" y="1098"/>
                </a:lnTo>
                <a:lnTo>
                  <a:pt x="673" y="1116"/>
                </a:lnTo>
                <a:lnTo>
                  <a:pt x="655" y="1116"/>
                </a:lnTo>
                <a:lnTo>
                  <a:pt x="637" y="1116"/>
                </a:lnTo>
                <a:lnTo>
                  <a:pt x="619" y="1116"/>
                </a:lnTo>
                <a:lnTo>
                  <a:pt x="619" y="1098"/>
                </a:lnTo>
                <a:lnTo>
                  <a:pt x="602" y="1080"/>
                </a:lnTo>
                <a:lnTo>
                  <a:pt x="584" y="1062"/>
                </a:lnTo>
                <a:lnTo>
                  <a:pt x="566" y="1027"/>
                </a:lnTo>
                <a:lnTo>
                  <a:pt x="531" y="992"/>
                </a:lnTo>
                <a:lnTo>
                  <a:pt x="513" y="956"/>
                </a:lnTo>
                <a:lnTo>
                  <a:pt x="478" y="921"/>
                </a:lnTo>
                <a:lnTo>
                  <a:pt x="478" y="921"/>
                </a:lnTo>
                <a:close/>
                <a:moveTo>
                  <a:pt x="584" y="1540"/>
                </a:moveTo>
                <a:lnTo>
                  <a:pt x="584" y="1540"/>
                </a:lnTo>
                <a:lnTo>
                  <a:pt x="584" y="1540"/>
                </a:lnTo>
                <a:lnTo>
                  <a:pt x="602" y="1523"/>
                </a:lnTo>
                <a:lnTo>
                  <a:pt x="602" y="1505"/>
                </a:lnTo>
                <a:lnTo>
                  <a:pt x="619" y="1487"/>
                </a:lnTo>
                <a:lnTo>
                  <a:pt x="637" y="1470"/>
                </a:lnTo>
                <a:lnTo>
                  <a:pt x="655" y="1452"/>
                </a:lnTo>
                <a:lnTo>
                  <a:pt x="673" y="1417"/>
                </a:lnTo>
                <a:lnTo>
                  <a:pt x="708" y="1363"/>
                </a:lnTo>
                <a:lnTo>
                  <a:pt x="743" y="1293"/>
                </a:lnTo>
                <a:lnTo>
                  <a:pt x="796" y="1222"/>
                </a:lnTo>
                <a:lnTo>
                  <a:pt x="814" y="1186"/>
                </a:lnTo>
                <a:lnTo>
                  <a:pt x="832" y="1151"/>
                </a:lnTo>
                <a:lnTo>
                  <a:pt x="867" y="1062"/>
                </a:lnTo>
                <a:lnTo>
                  <a:pt x="903" y="974"/>
                </a:lnTo>
                <a:lnTo>
                  <a:pt x="938" y="885"/>
                </a:lnTo>
                <a:lnTo>
                  <a:pt x="956" y="832"/>
                </a:lnTo>
                <a:lnTo>
                  <a:pt x="974" y="779"/>
                </a:lnTo>
                <a:lnTo>
                  <a:pt x="991" y="726"/>
                </a:lnTo>
                <a:lnTo>
                  <a:pt x="991" y="673"/>
                </a:lnTo>
                <a:lnTo>
                  <a:pt x="1009" y="637"/>
                </a:lnTo>
                <a:lnTo>
                  <a:pt x="1009" y="602"/>
                </a:lnTo>
                <a:lnTo>
                  <a:pt x="1009" y="584"/>
                </a:lnTo>
                <a:lnTo>
                  <a:pt x="1009" y="567"/>
                </a:lnTo>
                <a:lnTo>
                  <a:pt x="1009" y="549"/>
                </a:lnTo>
                <a:lnTo>
                  <a:pt x="1009" y="549"/>
                </a:lnTo>
                <a:lnTo>
                  <a:pt x="1009" y="549"/>
                </a:lnTo>
                <a:lnTo>
                  <a:pt x="1009" y="549"/>
                </a:lnTo>
                <a:lnTo>
                  <a:pt x="991" y="549"/>
                </a:lnTo>
                <a:lnTo>
                  <a:pt x="974" y="549"/>
                </a:lnTo>
                <a:lnTo>
                  <a:pt x="956" y="549"/>
                </a:lnTo>
                <a:lnTo>
                  <a:pt x="938" y="549"/>
                </a:lnTo>
                <a:lnTo>
                  <a:pt x="920" y="567"/>
                </a:lnTo>
                <a:lnTo>
                  <a:pt x="903" y="567"/>
                </a:lnTo>
                <a:lnTo>
                  <a:pt x="850" y="584"/>
                </a:lnTo>
                <a:lnTo>
                  <a:pt x="832" y="602"/>
                </a:lnTo>
                <a:lnTo>
                  <a:pt x="814" y="602"/>
                </a:lnTo>
                <a:lnTo>
                  <a:pt x="796" y="602"/>
                </a:lnTo>
                <a:lnTo>
                  <a:pt x="779" y="602"/>
                </a:lnTo>
                <a:lnTo>
                  <a:pt x="779" y="602"/>
                </a:lnTo>
                <a:lnTo>
                  <a:pt x="761" y="602"/>
                </a:lnTo>
                <a:lnTo>
                  <a:pt x="743" y="602"/>
                </a:lnTo>
                <a:lnTo>
                  <a:pt x="726" y="584"/>
                </a:lnTo>
                <a:lnTo>
                  <a:pt x="708" y="584"/>
                </a:lnTo>
                <a:lnTo>
                  <a:pt x="690" y="567"/>
                </a:lnTo>
                <a:lnTo>
                  <a:pt x="690" y="567"/>
                </a:lnTo>
                <a:lnTo>
                  <a:pt x="690" y="549"/>
                </a:lnTo>
                <a:lnTo>
                  <a:pt x="690" y="531"/>
                </a:lnTo>
                <a:lnTo>
                  <a:pt x="743" y="531"/>
                </a:lnTo>
                <a:lnTo>
                  <a:pt x="796" y="513"/>
                </a:lnTo>
                <a:lnTo>
                  <a:pt x="850" y="496"/>
                </a:lnTo>
                <a:lnTo>
                  <a:pt x="903" y="496"/>
                </a:lnTo>
                <a:lnTo>
                  <a:pt x="938" y="478"/>
                </a:lnTo>
                <a:lnTo>
                  <a:pt x="974" y="478"/>
                </a:lnTo>
                <a:lnTo>
                  <a:pt x="991" y="460"/>
                </a:lnTo>
                <a:lnTo>
                  <a:pt x="1009" y="443"/>
                </a:lnTo>
                <a:lnTo>
                  <a:pt x="1009" y="425"/>
                </a:lnTo>
                <a:lnTo>
                  <a:pt x="1027" y="407"/>
                </a:lnTo>
                <a:lnTo>
                  <a:pt x="1044" y="407"/>
                </a:lnTo>
                <a:lnTo>
                  <a:pt x="1044" y="407"/>
                </a:lnTo>
                <a:lnTo>
                  <a:pt x="1062" y="407"/>
                </a:lnTo>
                <a:lnTo>
                  <a:pt x="1098" y="407"/>
                </a:lnTo>
                <a:lnTo>
                  <a:pt x="1115" y="425"/>
                </a:lnTo>
                <a:lnTo>
                  <a:pt x="1133" y="443"/>
                </a:lnTo>
                <a:lnTo>
                  <a:pt x="1151" y="478"/>
                </a:lnTo>
                <a:lnTo>
                  <a:pt x="1168" y="496"/>
                </a:lnTo>
                <a:lnTo>
                  <a:pt x="1186" y="513"/>
                </a:lnTo>
                <a:lnTo>
                  <a:pt x="1186" y="513"/>
                </a:lnTo>
                <a:lnTo>
                  <a:pt x="1186" y="531"/>
                </a:lnTo>
                <a:lnTo>
                  <a:pt x="1186" y="549"/>
                </a:lnTo>
                <a:lnTo>
                  <a:pt x="1168" y="549"/>
                </a:lnTo>
                <a:lnTo>
                  <a:pt x="1168" y="567"/>
                </a:lnTo>
                <a:lnTo>
                  <a:pt x="1151" y="567"/>
                </a:lnTo>
                <a:lnTo>
                  <a:pt x="1151" y="584"/>
                </a:lnTo>
                <a:lnTo>
                  <a:pt x="1133" y="602"/>
                </a:lnTo>
                <a:lnTo>
                  <a:pt x="1133" y="637"/>
                </a:lnTo>
                <a:lnTo>
                  <a:pt x="1115" y="673"/>
                </a:lnTo>
                <a:lnTo>
                  <a:pt x="1098" y="708"/>
                </a:lnTo>
                <a:lnTo>
                  <a:pt x="1098" y="744"/>
                </a:lnTo>
                <a:lnTo>
                  <a:pt x="1080" y="797"/>
                </a:lnTo>
                <a:lnTo>
                  <a:pt x="1044" y="903"/>
                </a:lnTo>
                <a:lnTo>
                  <a:pt x="1009" y="992"/>
                </a:lnTo>
                <a:lnTo>
                  <a:pt x="956" y="1098"/>
                </a:lnTo>
                <a:lnTo>
                  <a:pt x="920" y="1186"/>
                </a:lnTo>
                <a:lnTo>
                  <a:pt x="885" y="1239"/>
                </a:lnTo>
                <a:lnTo>
                  <a:pt x="867" y="1275"/>
                </a:lnTo>
                <a:lnTo>
                  <a:pt x="832" y="1310"/>
                </a:lnTo>
                <a:lnTo>
                  <a:pt x="814" y="1346"/>
                </a:lnTo>
                <a:lnTo>
                  <a:pt x="779" y="1381"/>
                </a:lnTo>
                <a:lnTo>
                  <a:pt x="761" y="1417"/>
                </a:lnTo>
                <a:lnTo>
                  <a:pt x="726" y="1452"/>
                </a:lnTo>
                <a:lnTo>
                  <a:pt x="708" y="1470"/>
                </a:lnTo>
                <a:lnTo>
                  <a:pt x="690" y="1487"/>
                </a:lnTo>
                <a:lnTo>
                  <a:pt x="655" y="1505"/>
                </a:lnTo>
                <a:lnTo>
                  <a:pt x="637" y="1523"/>
                </a:lnTo>
                <a:lnTo>
                  <a:pt x="619" y="1540"/>
                </a:lnTo>
                <a:lnTo>
                  <a:pt x="619" y="1540"/>
                </a:lnTo>
                <a:lnTo>
                  <a:pt x="602" y="1540"/>
                </a:lnTo>
                <a:lnTo>
                  <a:pt x="602" y="1540"/>
                </a:lnTo>
                <a:lnTo>
                  <a:pt x="584" y="1540"/>
                </a:lnTo>
                <a:lnTo>
                  <a:pt x="584" y="1540"/>
                </a:lnTo>
                <a:close/>
                <a:moveTo>
                  <a:pt x="1345" y="1045"/>
                </a:moveTo>
                <a:lnTo>
                  <a:pt x="1345" y="1062"/>
                </a:lnTo>
                <a:lnTo>
                  <a:pt x="1345" y="1080"/>
                </a:lnTo>
                <a:lnTo>
                  <a:pt x="1345" y="1098"/>
                </a:lnTo>
                <a:lnTo>
                  <a:pt x="1328" y="1098"/>
                </a:lnTo>
                <a:lnTo>
                  <a:pt x="1328" y="1116"/>
                </a:lnTo>
                <a:lnTo>
                  <a:pt x="1310" y="1116"/>
                </a:lnTo>
                <a:lnTo>
                  <a:pt x="1310" y="1116"/>
                </a:lnTo>
                <a:lnTo>
                  <a:pt x="1310" y="1116"/>
                </a:lnTo>
                <a:lnTo>
                  <a:pt x="1292" y="1116"/>
                </a:lnTo>
                <a:lnTo>
                  <a:pt x="1292" y="1116"/>
                </a:lnTo>
                <a:lnTo>
                  <a:pt x="1292" y="1098"/>
                </a:lnTo>
                <a:lnTo>
                  <a:pt x="1275" y="1080"/>
                </a:lnTo>
                <a:lnTo>
                  <a:pt x="1257" y="1062"/>
                </a:lnTo>
                <a:lnTo>
                  <a:pt x="1239" y="1045"/>
                </a:lnTo>
                <a:lnTo>
                  <a:pt x="1239" y="1027"/>
                </a:lnTo>
                <a:lnTo>
                  <a:pt x="1204" y="974"/>
                </a:lnTo>
                <a:lnTo>
                  <a:pt x="1186" y="921"/>
                </a:lnTo>
                <a:lnTo>
                  <a:pt x="1168" y="885"/>
                </a:lnTo>
                <a:lnTo>
                  <a:pt x="1168" y="850"/>
                </a:lnTo>
                <a:lnTo>
                  <a:pt x="1221" y="868"/>
                </a:lnTo>
                <a:lnTo>
                  <a:pt x="1257" y="885"/>
                </a:lnTo>
                <a:lnTo>
                  <a:pt x="1275" y="903"/>
                </a:lnTo>
                <a:lnTo>
                  <a:pt x="1310" y="921"/>
                </a:lnTo>
                <a:lnTo>
                  <a:pt x="1328" y="956"/>
                </a:lnTo>
                <a:lnTo>
                  <a:pt x="1328" y="974"/>
                </a:lnTo>
                <a:lnTo>
                  <a:pt x="1345" y="1009"/>
                </a:lnTo>
                <a:lnTo>
                  <a:pt x="1345" y="1045"/>
                </a:lnTo>
                <a:lnTo>
                  <a:pt x="1345" y="1045"/>
                </a:lnTo>
                <a:close/>
                <a:moveTo>
                  <a:pt x="1151" y="673"/>
                </a:moveTo>
                <a:lnTo>
                  <a:pt x="1221" y="655"/>
                </a:lnTo>
                <a:lnTo>
                  <a:pt x="1292" y="637"/>
                </a:lnTo>
                <a:lnTo>
                  <a:pt x="1345" y="620"/>
                </a:lnTo>
                <a:lnTo>
                  <a:pt x="1399" y="620"/>
                </a:lnTo>
                <a:lnTo>
                  <a:pt x="1469" y="602"/>
                </a:lnTo>
                <a:lnTo>
                  <a:pt x="1505" y="584"/>
                </a:lnTo>
                <a:lnTo>
                  <a:pt x="1558" y="584"/>
                </a:lnTo>
                <a:lnTo>
                  <a:pt x="1593" y="567"/>
                </a:lnTo>
                <a:lnTo>
                  <a:pt x="1629" y="567"/>
                </a:lnTo>
                <a:lnTo>
                  <a:pt x="1664" y="549"/>
                </a:lnTo>
                <a:lnTo>
                  <a:pt x="1700" y="549"/>
                </a:lnTo>
                <a:lnTo>
                  <a:pt x="1717" y="549"/>
                </a:lnTo>
                <a:lnTo>
                  <a:pt x="1735" y="549"/>
                </a:lnTo>
                <a:lnTo>
                  <a:pt x="1753" y="549"/>
                </a:lnTo>
                <a:lnTo>
                  <a:pt x="1770" y="531"/>
                </a:lnTo>
                <a:lnTo>
                  <a:pt x="1770" y="531"/>
                </a:lnTo>
                <a:lnTo>
                  <a:pt x="1788" y="549"/>
                </a:lnTo>
                <a:lnTo>
                  <a:pt x="1806" y="549"/>
                </a:lnTo>
                <a:lnTo>
                  <a:pt x="1859" y="549"/>
                </a:lnTo>
                <a:lnTo>
                  <a:pt x="1877" y="567"/>
                </a:lnTo>
                <a:lnTo>
                  <a:pt x="1894" y="584"/>
                </a:lnTo>
                <a:lnTo>
                  <a:pt x="1894" y="602"/>
                </a:lnTo>
                <a:lnTo>
                  <a:pt x="1894" y="602"/>
                </a:lnTo>
                <a:lnTo>
                  <a:pt x="1894" y="620"/>
                </a:lnTo>
                <a:lnTo>
                  <a:pt x="1894" y="620"/>
                </a:lnTo>
                <a:lnTo>
                  <a:pt x="1877" y="620"/>
                </a:lnTo>
                <a:lnTo>
                  <a:pt x="1877" y="637"/>
                </a:lnTo>
                <a:lnTo>
                  <a:pt x="1859" y="637"/>
                </a:lnTo>
                <a:lnTo>
                  <a:pt x="1823" y="637"/>
                </a:lnTo>
                <a:lnTo>
                  <a:pt x="1806" y="637"/>
                </a:lnTo>
                <a:lnTo>
                  <a:pt x="1770" y="655"/>
                </a:lnTo>
                <a:lnTo>
                  <a:pt x="1700" y="655"/>
                </a:lnTo>
                <a:lnTo>
                  <a:pt x="1629" y="673"/>
                </a:lnTo>
                <a:lnTo>
                  <a:pt x="1558" y="691"/>
                </a:lnTo>
                <a:lnTo>
                  <a:pt x="1452" y="708"/>
                </a:lnTo>
                <a:lnTo>
                  <a:pt x="1416" y="708"/>
                </a:lnTo>
                <a:lnTo>
                  <a:pt x="1381" y="726"/>
                </a:lnTo>
                <a:lnTo>
                  <a:pt x="1345" y="726"/>
                </a:lnTo>
                <a:lnTo>
                  <a:pt x="1310" y="726"/>
                </a:lnTo>
                <a:lnTo>
                  <a:pt x="1275" y="726"/>
                </a:lnTo>
                <a:lnTo>
                  <a:pt x="1257" y="726"/>
                </a:lnTo>
                <a:lnTo>
                  <a:pt x="1239" y="726"/>
                </a:lnTo>
                <a:lnTo>
                  <a:pt x="1239" y="726"/>
                </a:lnTo>
                <a:lnTo>
                  <a:pt x="1204" y="708"/>
                </a:lnTo>
                <a:lnTo>
                  <a:pt x="1186" y="708"/>
                </a:lnTo>
                <a:lnTo>
                  <a:pt x="1168" y="691"/>
                </a:lnTo>
                <a:lnTo>
                  <a:pt x="1151" y="673"/>
                </a:lnTo>
                <a:lnTo>
                  <a:pt x="1151" y="673"/>
                </a:lnTo>
                <a:close/>
                <a:moveTo>
                  <a:pt x="1168" y="1275"/>
                </a:moveTo>
                <a:lnTo>
                  <a:pt x="1168" y="1310"/>
                </a:lnTo>
                <a:lnTo>
                  <a:pt x="1168" y="1346"/>
                </a:lnTo>
                <a:lnTo>
                  <a:pt x="1168" y="1363"/>
                </a:lnTo>
                <a:lnTo>
                  <a:pt x="1168" y="1399"/>
                </a:lnTo>
                <a:lnTo>
                  <a:pt x="1168" y="1417"/>
                </a:lnTo>
                <a:lnTo>
                  <a:pt x="1151" y="1417"/>
                </a:lnTo>
                <a:lnTo>
                  <a:pt x="1151" y="1434"/>
                </a:lnTo>
                <a:lnTo>
                  <a:pt x="1133" y="1434"/>
                </a:lnTo>
                <a:lnTo>
                  <a:pt x="1133" y="1434"/>
                </a:lnTo>
                <a:lnTo>
                  <a:pt x="1133" y="1417"/>
                </a:lnTo>
                <a:lnTo>
                  <a:pt x="1115" y="1399"/>
                </a:lnTo>
                <a:lnTo>
                  <a:pt x="1098" y="1381"/>
                </a:lnTo>
                <a:lnTo>
                  <a:pt x="1080" y="1346"/>
                </a:lnTo>
                <a:lnTo>
                  <a:pt x="1044" y="1293"/>
                </a:lnTo>
                <a:lnTo>
                  <a:pt x="1027" y="1239"/>
                </a:lnTo>
                <a:lnTo>
                  <a:pt x="991" y="1186"/>
                </a:lnTo>
                <a:lnTo>
                  <a:pt x="956" y="1133"/>
                </a:lnTo>
                <a:lnTo>
                  <a:pt x="938" y="1080"/>
                </a:lnTo>
                <a:lnTo>
                  <a:pt x="903" y="1027"/>
                </a:lnTo>
                <a:lnTo>
                  <a:pt x="867" y="974"/>
                </a:lnTo>
                <a:lnTo>
                  <a:pt x="850" y="938"/>
                </a:lnTo>
                <a:lnTo>
                  <a:pt x="832" y="903"/>
                </a:lnTo>
                <a:lnTo>
                  <a:pt x="814" y="868"/>
                </a:lnTo>
                <a:lnTo>
                  <a:pt x="796" y="850"/>
                </a:lnTo>
                <a:lnTo>
                  <a:pt x="761" y="797"/>
                </a:lnTo>
                <a:lnTo>
                  <a:pt x="743" y="761"/>
                </a:lnTo>
                <a:lnTo>
                  <a:pt x="743" y="761"/>
                </a:lnTo>
                <a:lnTo>
                  <a:pt x="743" y="744"/>
                </a:lnTo>
                <a:lnTo>
                  <a:pt x="743" y="744"/>
                </a:lnTo>
                <a:lnTo>
                  <a:pt x="743" y="726"/>
                </a:lnTo>
                <a:lnTo>
                  <a:pt x="743" y="726"/>
                </a:lnTo>
                <a:lnTo>
                  <a:pt x="743" y="726"/>
                </a:lnTo>
                <a:lnTo>
                  <a:pt x="761" y="744"/>
                </a:lnTo>
                <a:lnTo>
                  <a:pt x="779" y="744"/>
                </a:lnTo>
                <a:lnTo>
                  <a:pt x="779" y="744"/>
                </a:lnTo>
                <a:lnTo>
                  <a:pt x="796" y="761"/>
                </a:lnTo>
                <a:lnTo>
                  <a:pt x="832" y="779"/>
                </a:lnTo>
                <a:lnTo>
                  <a:pt x="850" y="797"/>
                </a:lnTo>
                <a:lnTo>
                  <a:pt x="903" y="850"/>
                </a:lnTo>
                <a:lnTo>
                  <a:pt x="938" y="903"/>
                </a:lnTo>
                <a:lnTo>
                  <a:pt x="991" y="974"/>
                </a:lnTo>
                <a:lnTo>
                  <a:pt x="1044" y="1045"/>
                </a:lnTo>
                <a:lnTo>
                  <a:pt x="1062" y="1080"/>
                </a:lnTo>
                <a:lnTo>
                  <a:pt x="1080" y="1116"/>
                </a:lnTo>
                <a:lnTo>
                  <a:pt x="1115" y="1169"/>
                </a:lnTo>
                <a:lnTo>
                  <a:pt x="1151" y="1222"/>
                </a:lnTo>
                <a:lnTo>
                  <a:pt x="1168" y="1275"/>
                </a:lnTo>
                <a:lnTo>
                  <a:pt x="1168" y="1275"/>
                </a:lnTo>
                <a:close/>
                <a:moveTo>
                  <a:pt x="1328" y="1700"/>
                </a:moveTo>
                <a:lnTo>
                  <a:pt x="1292" y="1682"/>
                </a:lnTo>
                <a:lnTo>
                  <a:pt x="1275" y="1664"/>
                </a:lnTo>
                <a:lnTo>
                  <a:pt x="1275" y="1647"/>
                </a:lnTo>
                <a:lnTo>
                  <a:pt x="1257" y="1629"/>
                </a:lnTo>
                <a:lnTo>
                  <a:pt x="1239" y="1629"/>
                </a:lnTo>
                <a:lnTo>
                  <a:pt x="1239" y="1611"/>
                </a:lnTo>
                <a:lnTo>
                  <a:pt x="1239" y="1611"/>
                </a:lnTo>
                <a:lnTo>
                  <a:pt x="1239" y="1611"/>
                </a:lnTo>
                <a:lnTo>
                  <a:pt x="1239" y="1594"/>
                </a:lnTo>
                <a:lnTo>
                  <a:pt x="1257" y="1594"/>
                </a:lnTo>
                <a:lnTo>
                  <a:pt x="1257" y="1594"/>
                </a:lnTo>
                <a:lnTo>
                  <a:pt x="1275" y="1611"/>
                </a:lnTo>
                <a:lnTo>
                  <a:pt x="1292" y="1611"/>
                </a:lnTo>
                <a:lnTo>
                  <a:pt x="1310" y="1611"/>
                </a:lnTo>
                <a:lnTo>
                  <a:pt x="1328" y="1611"/>
                </a:lnTo>
                <a:lnTo>
                  <a:pt x="1345" y="1629"/>
                </a:lnTo>
                <a:lnTo>
                  <a:pt x="1381" y="1629"/>
                </a:lnTo>
                <a:lnTo>
                  <a:pt x="1399" y="1647"/>
                </a:lnTo>
                <a:lnTo>
                  <a:pt x="1434" y="1647"/>
                </a:lnTo>
                <a:lnTo>
                  <a:pt x="1452" y="1647"/>
                </a:lnTo>
                <a:lnTo>
                  <a:pt x="1469" y="1629"/>
                </a:lnTo>
                <a:lnTo>
                  <a:pt x="1469" y="1629"/>
                </a:lnTo>
                <a:lnTo>
                  <a:pt x="1469" y="1629"/>
                </a:lnTo>
                <a:lnTo>
                  <a:pt x="1469" y="1611"/>
                </a:lnTo>
                <a:lnTo>
                  <a:pt x="1469" y="1594"/>
                </a:lnTo>
                <a:lnTo>
                  <a:pt x="1469" y="1558"/>
                </a:lnTo>
                <a:lnTo>
                  <a:pt x="1469" y="1540"/>
                </a:lnTo>
                <a:lnTo>
                  <a:pt x="1469" y="1505"/>
                </a:lnTo>
                <a:lnTo>
                  <a:pt x="1487" y="1452"/>
                </a:lnTo>
                <a:lnTo>
                  <a:pt x="1487" y="1417"/>
                </a:lnTo>
                <a:lnTo>
                  <a:pt x="1487" y="1363"/>
                </a:lnTo>
                <a:lnTo>
                  <a:pt x="1487" y="1310"/>
                </a:lnTo>
                <a:lnTo>
                  <a:pt x="1487" y="1239"/>
                </a:lnTo>
                <a:lnTo>
                  <a:pt x="1487" y="1186"/>
                </a:lnTo>
                <a:lnTo>
                  <a:pt x="1487" y="1116"/>
                </a:lnTo>
                <a:lnTo>
                  <a:pt x="1487" y="1027"/>
                </a:lnTo>
                <a:lnTo>
                  <a:pt x="1487" y="956"/>
                </a:lnTo>
                <a:lnTo>
                  <a:pt x="1487" y="868"/>
                </a:lnTo>
                <a:lnTo>
                  <a:pt x="1487" y="797"/>
                </a:lnTo>
                <a:lnTo>
                  <a:pt x="1487" y="726"/>
                </a:lnTo>
                <a:lnTo>
                  <a:pt x="1487" y="655"/>
                </a:lnTo>
                <a:lnTo>
                  <a:pt x="1469" y="602"/>
                </a:lnTo>
                <a:lnTo>
                  <a:pt x="1469" y="531"/>
                </a:lnTo>
                <a:lnTo>
                  <a:pt x="1469" y="478"/>
                </a:lnTo>
                <a:lnTo>
                  <a:pt x="1469" y="425"/>
                </a:lnTo>
                <a:lnTo>
                  <a:pt x="1469" y="390"/>
                </a:lnTo>
                <a:lnTo>
                  <a:pt x="1469" y="354"/>
                </a:lnTo>
                <a:lnTo>
                  <a:pt x="1469" y="319"/>
                </a:lnTo>
                <a:lnTo>
                  <a:pt x="1469" y="283"/>
                </a:lnTo>
                <a:lnTo>
                  <a:pt x="1469" y="248"/>
                </a:lnTo>
                <a:lnTo>
                  <a:pt x="1469" y="230"/>
                </a:lnTo>
                <a:lnTo>
                  <a:pt x="1469" y="212"/>
                </a:lnTo>
                <a:lnTo>
                  <a:pt x="1469" y="195"/>
                </a:lnTo>
                <a:lnTo>
                  <a:pt x="1469" y="142"/>
                </a:lnTo>
                <a:lnTo>
                  <a:pt x="1452" y="106"/>
                </a:lnTo>
                <a:lnTo>
                  <a:pt x="1434" y="89"/>
                </a:lnTo>
                <a:lnTo>
                  <a:pt x="1434" y="71"/>
                </a:lnTo>
                <a:lnTo>
                  <a:pt x="1416" y="53"/>
                </a:lnTo>
                <a:lnTo>
                  <a:pt x="1416" y="35"/>
                </a:lnTo>
                <a:lnTo>
                  <a:pt x="1416" y="35"/>
                </a:lnTo>
                <a:lnTo>
                  <a:pt x="1416" y="18"/>
                </a:lnTo>
                <a:lnTo>
                  <a:pt x="1416" y="18"/>
                </a:lnTo>
                <a:lnTo>
                  <a:pt x="1434" y="0"/>
                </a:lnTo>
                <a:lnTo>
                  <a:pt x="1452" y="18"/>
                </a:lnTo>
                <a:lnTo>
                  <a:pt x="1469" y="18"/>
                </a:lnTo>
                <a:lnTo>
                  <a:pt x="1505" y="18"/>
                </a:lnTo>
                <a:lnTo>
                  <a:pt x="1522" y="35"/>
                </a:lnTo>
                <a:lnTo>
                  <a:pt x="1540" y="53"/>
                </a:lnTo>
                <a:lnTo>
                  <a:pt x="1576" y="71"/>
                </a:lnTo>
                <a:lnTo>
                  <a:pt x="1576" y="89"/>
                </a:lnTo>
                <a:lnTo>
                  <a:pt x="1593" y="106"/>
                </a:lnTo>
                <a:lnTo>
                  <a:pt x="1593" y="124"/>
                </a:lnTo>
                <a:lnTo>
                  <a:pt x="1593" y="142"/>
                </a:lnTo>
                <a:lnTo>
                  <a:pt x="1593" y="159"/>
                </a:lnTo>
                <a:lnTo>
                  <a:pt x="1576" y="177"/>
                </a:lnTo>
                <a:lnTo>
                  <a:pt x="1576" y="212"/>
                </a:lnTo>
                <a:lnTo>
                  <a:pt x="1576" y="230"/>
                </a:lnTo>
                <a:lnTo>
                  <a:pt x="1576" y="248"/>
                </a:lnTo>
                <a:lnTo>
                  <a:pt x="1576" y="266"/>
                </a:lnTo>
                <a:lnTo>
                  <a:pt x="1576" y="301"/>
                </a:lnTo>
                <a:lnTo>
                  <a:pt x="1576" y="319"/>
                </a:lnTo>
                <a:lnTo>
                  <a:pt x="1576" y="354"/>
                </a:lnTo>
                <a:lnTo>
                  <a:pt x="1576" y="390"/>
                </a:lnTo>
                <a:lnTo>
                  <a:pt x="1576" y="425"/>
                </a:lnTo>
                <a:lnTo>
                  <a:pt x="1576" y="478"/>
                </a:lnTo>
                <a:lnTo>
                  <a:pt x="1576" y="496"/>
                </a:lnTo>
                <a:lnTo>
                  <a:pt x="1576" y="513"/>
                </a:lnTo>
                <a:lnTo>
                  <a:pt x="1576" y="549"/>
                </a:lnTo>
                <a:lnTo>
                  <a:pt x="1576" y="584"/>
                </a:lnTo>
                <a:lnTo>
                  <a:pt x="1576" y="620"/>
                </a:lnTo>
                <a:lnTo>
                  <a:pt x="1576" y="655"/>
                </a:lnTo>
                <a:lnTo>
                  <a:pt x="1576" y="691"/>
                </a:lnTo>
                <a:lnTo>
                  <a:pt x="1576" y="744"/>
                </a:lnTo>
                <a:lnTo>
                  <a:pt x="1576" y="779"/>
                </a:lnTo>
                <a:lnTo>
                  <a:pt x="1576" y="832"/>
                </a:lnTo>
                <a:lnTo>
                  <a:pt x="1576" y="885"/>
                </a:lnTo>
                <a:lnTo>
                  <a:pt x="1576" y="938"/>
                </a:lnTo>
                <a:lnTo>
                  <a:pt x="1576" y="992"/>
                </a:lnTo>
                <a:lnTo>
                  <a:pt x="1576" y="1045"/>
                </a:lnTo>
                <a:lnTo>
                  <a:pt x="1576" y="1116"/>
                </a:lnTo>
                <a:lnTo>
                  <a:pt x="1576" y="1186"/>
                </a:lnTo>
                <a:lnTo>
                  <a:pt x="1576" y="1239"/>
                </a:lnTo>
                <a:lnTo>
                  <a:pt x="1576" y="1310"/>
                </a:lnTo>
                <a:lnTo>
                  <a:pt x="1576" y="1363"/>
                </a:lnTo>
                <a:lnTo>
                  <a:pt x="1576" y="1417"/>
                </a:lnTo>
                <a:lnTo>
                  <a:pt x="1576" y="1470"/>
                </a:lnTo>
                <a:lnTo>
                  <a:pt x="1576" y="1523"/>
                </a:lnTo>
                <a:lnTo>
                  <a:pt x="1576" y="1558"/>
                </a:lnTo>
                <a:lnTo>
                  <a:pt x="1576" y="1594"/>
                </a:lnTo>
                <a:lnTo>
                  <a:pt x="1576" y="1629"/>
                </a:lnTo>
                <a:lnTo>
                  <a:pt x="1576" y="1664"/>
                </a:lnTo>
                <a:lnTo>
                  <a:pt x="1576" y="1700"/>
                </a:lnTo>
                <a:lnTo>
                  <a:pt x="1576" y="1718"/>
                </a:lnTo>
                <a:lnTo>
                  <a:pt x="1576" y="1753"/>
                </a:lnTo>
                <a:lnTo>
                  <a:pt x="1576" y="1771"/>
                </a:lnTo>
                <a:lnTo>
                  <a:pt x="1558" y="1771"/>
                </a:lnTo>
                <a:lnTo>
                  <a:pt x="1558" y="1788"/>
                </a:lnTo>
                <a:lnTo>
                  <a:pt x="1558" y="1824"/>
                </a:lnTo>
                <a:lnTo>
                  <a:pt x="1540" y="1841"/>
                </a:lnTo>
                <a:lnTo>
                  <a:pt x="1522" y="1877"/>
                </a:lnTo>
                <a:lnTo>
                  <a:pt x="1505" y="1895"/>
                </a:lnTo>
                <a:lnTo>
                  <a:pt x="1487" y="1895"/>
                </a:lnTo>
                <a:lnTo>
                  <a:pt x="1469" y="1912"/>
                </a:lnTo>
                <a:lnTo>
                  <a:pt x="1452" y="1912"/>
                </a:lnTo>
                <a:lnTo>
                  <a:pt x="1452" y="1912"/>
                </a:lnTo>
                <a:lnTo>
                  <a:pt x="1434" y="1912"/>
                </a:lnTo>
                <a:lnTo>
                  <a:pt x="1416" y="1895"/>
                </a:lnTo>
                <a:lnTo>
                  <a:pt x="1416" y="1877"/>
                </a:lnTo>
                <a:lnTo>
                  <a:pt x="1416" y="1841"/>
                </a:lnTo>
                <a:lnTo>
                  <a:pt x="1416" y="1824"/>
                </a:lnTo>
                <a:lnTo>
                  <a:pt x="1399" y="1806"/>
                </a:lnTo>
                <a:lnTo>
                  <a:pt x="1399" y="1788"/>
                </a:lnTo>
                <a:lnTo>
                  <a:pt x="1381" y="1771"/>
                </a:lnTo>
                <a:lnTo>
                  <a:pt x="1381" y="1753"/>
                </a:lnTo>
                <a:lnTo>
                  <a:pt x="1363" y="1735"/>
                </a:lnTo>
                <a:lnTo>
                  <a:pt x="1345" y="1718"/>
                </a:lnTo>
                <a:lnTo>
                  <a:pt x="1328" y="1700"/>
                </a:lnTo>
                <a:lnTo>
                  <a:pt x="1328" y="17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5719680" y="2208240"/>
            <a:ext cx="277920" cy="2830320"/>
          </a:xfrm>
          <a:custGeom>
            <a:avLst/>
            <a:gdLst/>
            <a:ahLst/>
            <a:rect l="l" t="t" r="r" b="b"/>
            <a:pathLst>
              <a:path w="177" h="1806">
                <a:moveTo>
                  <a:pt x="159" y="124"/>
                </a:moveTo>
                <a:lnTo>
                  <a:pt x="159" y="142"/>
                </a:lnTo>
                <a:lnTo>
                  <a:pt x="159" y="159"/>
                </a:lnTo>
                <a:lnTo>
                  <a:pt x="141" y="177"/>
                </a:lnTo>
                <a:lnTo>
                  <a:pt x="141" y="213"/>
                </a:lnTo>
                <a:lnTo>
                  <a:pt x="141" y="248"/>
                </a:lnTo>
                <a:lnTo>
                  <a:pt x="141" y="283"/>
                </a:lnTo>
                <a:lnTo>
                  <a:pt x="141" y="319"/>
                </a:lnTo>
                <a:lnTo>
                  <a:pt x="141" y="372"/>
                </a:lnTo>
                <a:lnTo>
                  <a:pt x="141" y="478"/>
                </a:lnTo>
                <a:lnTo>
                  <a:pt x="141" y="602"/>
                </a:lnTo>
                <a:lnTo>
                  <a:pt x="123" y="726"/>
                </a:lnTo>
                <a:lnTo>
                  <a:pt x="123" y="832"/>
                </a:lnTo>
                <a:lnTo>
                  <a:pt x="123" y="903"/>
                </a:lnTo>
                <a:lnTo>
                  <a:pt x="123" y="974"/>
                </a:lnTo>
                <a:lnTo>
                  <a:pt x="123" y="1045"/>
                </a:lnTo>
                <a:lnTo>
                  <a:pt x="123" y="1116"/>
                </a:lnTo>
                <a:lnTo>
                  <a:pt x="123" y="1186"/>
                </a:lnTo>
                <a:lnTo>
                  <a:pt x="106" y="1275"/>
                </a:lnTo>
                <a:lnTo>
                  <a:pt x="106" y="1364"/>
                </a:lnTo>
                <a:lnTo>
                  <a:pt x="106" y="1434"/>
                </a:lnTo>
                <a:lnTo>
                  <a:pt x="106" y="1487"/>
                </a:lnTo>
                <a:lnTo>
                  <a:pt x="106" y="1523"/>
                </a:lnTo>
                <a:lnTo>
                  <a:pt x="106" y="1558"/>
                </a:lnTo>
                <a:lnTo>
                  <a:pt x="106" y="1594"/>
                </a:lnTo>
                <a:lnTo>
                  <a:pt x="106" y="1629"/>
                </a:lnTo>
                <a:lnTo>
                  <a:pt x="106" y="1665"/>
                </a:lnTo>
                <a:lnTo>
                  <a:pt x="88" y="1682"/>
                </a:lnTo>
                <a:lnTo>
                  <a:pt x="88" y="1700"/>
                </a:lnTo>
                <a:lnTo>
                  <a:pt x="88" y="1735"/>
                </a:lnTo>
                <a:lnTo>
                  <a:pt x="88" y="1753"/>
                </a:lnTo>
                <a:lnTo>
                  <a:pt x="88" y="1771"/>
                </a:lnTo>
                <a:lnTo>
                  <a:pt x="88" y="1771"/>
                </a:lnTo>
                <a:lnTo>
                  <a:pt x="88" y="1788"/>
                </a:lnTo>
                <a:lnTo>
                  <a:pt x="88" y="1788"/>
                </a:lnTo>
                <a:lnTo>
                  <a:pt x="88" y="1806"/>
                </a:lnTo>
                <a:lnTo>
                  <a:pt x="70" y="1806"/>
                </a:lnTo>
                <a:lnTo>
                  <a:pt x="70" y="1806"/>
                </a:lnTo>
                <a:lnTo>
                  <a:pt x="53" y="1788"/>
                </a:lnTo>
                <a:lnTo>
                  <a:pt x="35" y="1771"/>
                </a:lnTo>
                <a:lnTo>
                  <a:pt x="35" y="1735"/>
                </a:lnTo>
                <a:lnTo>
                  <a:pt x="17" y="1700"/>
                </a:lnTo>
                <a:lnTo>
                  <a:pt x="0" y="1682"/>
                </a:lnTo>
                <a:lnTo>
                  <a:pt x="0" y="1647"/>
                </a:lnTo>
                <a:lnTo>
                  <a:pt x="0" y="1647"/>
                </a:lnTo>
                <a:lnTo>
                  <a:pt x="0" y="1629"/>
                </a:lnTo>
                <a:lnTo>
                  <a:pt x="0" y="1611"/>
                </a:lnTo>
                <a:lnTo>
                  <a:pt x="0" y="1594"/>
                </a:lnTo>
                <a:lnTo>
                  <a:pt x="0" y="1558"/>
                </a:lnTo>
                <a:lnTo>
                  <a:pt x="17" y="1541"/>
                </a:lnTo>
                <a:lnTo>
                  <a:pt x="17" y="1523"/>
                </a:lnTo>
                <a:lnTo>
                  <a:pt x="17" y="1487"/>
                </a:lnTo>
                <a:lnTo>
                  <a:pt x="17" y="1452"/>
                </a:lnTo>
                <a:lnTo>
                  <a:pt x="17" y="1434"/>
                </a:lnTo>
                <a:lnTo>
                  <a:pt x="17" y="1399"/>
                </a:lnTo>
                <a:lnTo>
                  <a:pt x="35" y="1364"/>
                </a:lnTo>
                <a:lnTo>
                  <a:pt x="35" y="1328"/>
                </a:lnTo>
                <a:lnTo>
                  <a:pt x="35" y="1240"/>
                </a:lnTo>
                <a:lnTo>
                  <a:pt x="35" y="1151"/>
                </a:lnTo>
                <a:lnTo>
                  <a:pt x="53" y="1063"/>
                </a:lnTo>
                <a:lnTo>
                  <a:pt x="53" y="974"/>
                </a:lnTo>
                <a:lnTo>
                  <a:pt x="53" y="868"/>
                </a:lnTo>
                <a:lnTo>
                  <a:pt x="53" y="761"/>
                </a:lnTo>
                <a:lnTo>
                  <a:pt x="53" y="655"/>
                </a:lnTo>
                <a:lnTo>
                  <a:pt x="53" y="531"/>
                </a:lnTo>
                <a:lnTo>
                  <a:pt x="53" y="478"/>
                </a:lnTo>
                <a:lnTo>
                  <a:pt x="53" y="425"/>
                </a:lnTo>
                <a:lnTo>
                  <a:pt x="53" y="372"/>
                </a:lnTo>
                <a:lnTo>
                  <a:pt x="53" y="337"/>
                </a:lnTo>
                <a:lnTo>
                  <a:pt x="53" y="283"/>
                </a:lnTo>
                <a:lnTo>
                  <a:pt x="53" y="248"/>
                </a:lnTo>
                <a:lnTo>
                  <a:pt x="53" y="213"/>
                </a:lnTo>
                <a:lnTo>
                  <a:pt x="53" y="177"/>
                </a:lnTo>
                <a:lnTo>
                  <a:pt x="53" y="159"/>
                </a:lnTo>
                <a:lnTo>
                  <a:pt x="35" y="124"/>
                </a:lnTo>
                <a:lnTo>
                  <a:pt x="35" y="106"/>
                </a:lnTo>
                <a:lnTo>
                  <a:pt x="35" y="89"/>
                </a:lnTo>
                <a:lnTo>
                  <a:pt x="35" y="71"/>
                </a:lnTo>
                <a:lnTo>
                  <a:pt x="35" y="53"/>
                </a:lnTo>
                <a:lnTo>
                  <a:pt x="35" y="53"/>
                </a:lnTo>
                <a:lnTo>
                  <a:pt x="17" y="53"/>
                </a:lnTo>
                <a:lnTo>
                  <a:pt x="17" y="36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  <a:lnTo>
                  <a:pt x="17" y="0"/>
                </a:lnTo>
                <a:lnTo>
                  <a:pt x="35" y="0"/>
                </a:lnTo>
                <a:lnTo>
                  <a:pt x="70" y="0"/>
                </a:lnTo>
                <a:lnTo>
                  <a:pt x="106" y="18"/>
                </a:lnTo>
                <a:lnTo>
                  <a:pt x="141" y="18"/>
                </a:lnTo>
                <a:lnTo>
                  <a:pt x="159" y="36"/>
                </a:lnTo>
                <a:lnTo>
                  <a:pt x="177" y="53"/>
                </a:lnTo>
                <a:lnTo>
                  <a:pt x="177" y="71"/>
                </a:lnTo>
                <a:lnTo>
                  <a:pt x="177" y="89"/>
                </a:lnTo>
                <a:lnTo>
                  <a:pt x="177" y="89"/>
                </a:lnTo>
                <a:lnTo>
                  <a:pt x="159" y="106"/>
                </a:lnTo>
                <a:lnTo>
                  <a:pt x="159" y="124"/>
                </a:lnTo>
                <a:lnTo>
                  <a:pt x="159" y="124"/>
                </a:lnTo>
              </a:path>
            </a:pathLst>
          </a:custGeom>
          <a:noFill/>
          <a:ln w="115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5219640" y="3068640"/>
            <a:ext cx="1027080" cy="277920"/>
          </a:xfrm>
          <a:custGeom>
            <a:avLst/>
            <a:gdLst/>
            <a:ahLst/>
            <a:rect l="l" t="t" r="r" b="b"/>
            <a:pathLst>
              <a:path w="655" h="177">
                <a:moveTo>
                  <a:pt x="620" y="18"/>
                </a:moveTo>
                <a:lnTo>
                  <a:pt x="637" y="18"/>
                </a:lnTo>
                <a:lnTo>
                  <a:pt x="655" y="18"/>
                </a:lnTo>
                <a:lnTo>
                  <a:pt x="655" y="35"/>
                </a:lnTo>
                <a:lnTo>
                  <a:pt x="655" y="35"/>
                </a:lnTo>
                <a:lnTo>
                  <a:pt x="655" y="35"/>
                </a:lnTo>
                <a:lnTo>
                  <a:pt x="637" y="53"/>
                </a:lnTo>
                <a:lnTo>
                  <a:pt x="620" y="53"/>
                </a:lnTo>
                <a:lnTo>
                  <a:pt x="584" y="71"/>
                </a:lnTo>
                <a:lnTo>
                  <a:pt x="549" y="71"/>
                </a:lnTo>
                <a:lnTo>
                  <a:pt x="513" y="89"/>
                </a:lnTo>
                <a:lnTo>
                  <a:pt x="460" y="106"/>
                </a:lnTo>
                <a:lnTo>
                  <a:pt x="407" y="106"/>
                </a:lnTo>
                <a:lnTo>
                  <a:pt x="354" y="124"/>
                </a:lnTo>
                <a:lnTo>
                  <a:pt x="301" y="142"/>
                </a:lnTo>
                <a:lnTo>
                  <a:pt x="265" y="159"/>
                </a:lnTo>
                <a:lnTo>
                  <a:pt x="230" y="159"/>
                </a:lnTo>
                <a:lnTo>
                  <a:pt x="195" y="177"/>
                </a:lnTo>
                <a:lnTo>
                  <a:pt x="177" y="177"/>
                </a:lnTo>
                <a:lnTo>
                  <a:pt x="159" y="177"/>
                </a:lnTo>
                <a:lnTo>
                  <a:pt x="159" y="177"/>
                </a:lnTo>
                <a:lnTo>
                  <a:pt x="141" y="177"/>
                </a:lnTo>
                <a:lnTo>
                  <a:pt x="141" y="177"/>
                </a:lnTo>
                <a:lnTo>
                  <a:pt x="124" y="177"/>
                </a:lnTo>
                <a:lnTo>
                  <a:pt x="106" y="177"/>
                </a:lnTo>
                <a:lnTo>
                  <a:pt x="88" y="159"/>
                </a:lnTo>
                <a:lnTo>
                  <a:pt x="71" y="159"/>
                </a:lnTo>
                <a:lnTo>
                  <a:pt x="35" y="142"/>
                </a:lnTo>
                <a:lnTo>
                  <a:pt x="0" y="124"/>
                </a:lnTo>
                <a:lnTo>
                  <a:pt x="18" y="124"/>
                </a:lnTo>
                <a:lnTo>
                  <a:pt x="53" y="124"/>
                </a:lnTo>
                <a:lnTo>
                  <a:pt x="71" y="106"/>
                </a:lnTo>
                <a:lnTo>
                  <a:pt x="106" y="106"/>
                </a:lnTo>
                <a:lnTo>
                  <a:pt x="159" y="89"/>
                </a:lnTo>
                <a:lnTo>
                  <a:pt x="195" y="71"/>
                </a:lnTo>
                <a:lnTo>
                  <a:pt x="248" y="71"/>
                </a:lnTo>
                <a:lnTo>
                  <a:pt x="301" y="53"/>
                </a:lnTo>
                <a:lnTo>
                  <a:pt x="354" y="35"/>
                </a:lnTo>
                <a:lnTo>
                  <a:pt x="407" y="18"/>
                </a:lnTo>
                <a:lnTo>
                  <a:pt x="442" y="18"/>
                </a:lnTo>
                <a:lnTo>
                  <a:pt x="478" y="0"/>
                </a:lnTo>
                <a:lnTo>
                  <a:pt x="513" y="0"/>
                </a:lnTo>
                <a:lnTo>
                  <a:pt x="531" y="0"/>
                </a:lnTo>
                <a:lnTo>
                  <a:pt x="549" y="0"/>
                </a:lnTo>
                <a:lnTo>
                  <a:pt x="566" y="0"/>
                </a:lnTo>
                <a:lnTo>
                  <a:pt x="584" y="0"/>
                </a:lnTo>
                <a:lnTo>
                  <a:pt x="602" y="0"/>
                </a:lnTo>
                <a:lnTo>
                  <a:pt x="602" y="0"/>
                </a:lnTo>
                <a:lnTo>
                  <a:pt x="620" y="18"/>
                </a:lnTo>
                <a:lnTo>
                  <a:pt x="620" y="18"/>
                </a:lnTo>
              </a:path>
            </a:pathLst>
          </a:custGeom>
          <a:noFill/>
          <a:ln w="115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5137200" y="3179880"/>
            <a:ext cx="720720" cy="1191960"/>
          </a:xfrm>
          <a:custGeom>
            <a:avLst/>
            <a:gdLst/>
            <a:ahLst/>
            <a:rect l="l" t="t" r="r" b="b"/>
            <a:pathLst>
              <a:path w="460" h="761">
                <a:moveTo>
                  <a:pt x="141" y="655"/>
                </a:moveTo>
                <a:lnTo>
                  <a:pt x="106" y="690"/>
                </a:lnTo>
                <a:lnTo>
                  <a:pt x="88" y="708"/>
                </a:lnTo>
                <a:lnTo>
                  <a:pt x="53" y="726"/>
                </a:lnTo>
                <a:lnTo>
                  <a:pt x="35" y="744"/>
                </a:lnTo>
                <a:lnTo>
                  <a:pt x="17" y="761"/>
                </a:lnTo>
                <a:lnTo>
                  <a:pt x="17" y="761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lnTo>
                  <a:pt x="0" y="744"/>
                </a:lnTo>
                <a:lnTo>
                  <a:pt x="0" y="726"/>
                </a:lnTo>
                <a:lnTo>
                  <a:pt x="17" y="708"/>
                </a:lnTo>
                <a:lnTo>
                  <a:pt x="35" y="690"/>
                </a:lnTo>
                <a:lnTo>
                  <a:pt x="53" y="655"/>
                </a:lnTo>
                <a:lnTo>
                  <a:pt x="71" y="637"/>
                </a:lnTo>
                <a:lnTo>
                  <a:pt x="106" y="584"/>
                </a:lnTo>
                <a:lnTo>
                  <a:pt x="124" y="566"/>
                </a:lnTo>
                <a:lnTo>
                  <a:pt x="141" y="549"/>
                </a:lnTo>
                <a:lnTo>
                  <a:pt x="159" y="531"/>
                </a:lnTo>
                <a:lnTo>
                  <a:pt x="177" y="496"/>
                </a:lnTo>
                <a:lnTo>
                  <a:pt x="194" y="478"/>
                </a:lnTo>
                <a:lnTo>
                  <a:pt x="212" y="443"/>
                </a:lnTo>
                <a:lnTo>
                  <a:pt x="230" y="407"/>
                </a:lnTo>
                <a:lnTo>
                  <a:pt x="248" y="372"/>
                </a:lnTo>
                <a:lnTo>
                  <a:pt x="301" y="301"/>
                </a:lnTo>
                <a:lnTo>
                  <a:pt x="336" y="212"/>
                </a:lnTo>
                <a:lnTo>
                  <a:pt x="389" y="106"/>
                </a:lnTo>
                <a:lnTo>
                  <a:pt x="442" y="0"/>
                </a:lnTo>
                <a:lnTo>
                  <a:pt x="460" y="177"/>
                </a:lnTo>
                <a:lnTo>
                  <a:pt x="425" y="265"/>
                </a:lnTo>
                <a:lnTo>
                  <a:pt x="372" y="336"/>
                </a:lnTo>
                <a:lnTo>
                  <a:pt x="336" y="407"/>
                </a:lnTo>
                <a:lnTo>
                  <a:pt x="301" y="460"/>
                </a:lnTo>
                <a:lnTo>
                  <a:pt x="265" y="513"/>
                </a:lnTo>
                <a:lnTo>
                  <a:pt x="230" y="566"/>
                </a:lnTo>
                <a:lnTo>
                  <a:pt x="177" y="620"/>
                </a:lnTo>
                <a:lnTo>
                  <a:pt x="141" y="655"/>
                </a:lnTo>
                <a:lnTo>
                  <a:pt x="141" y="655"/>
                </a:lnTo>
              </a:path>
            </a:pathLst>
          </a:custGeom>
          <a:noFill/>
          <a:ln w="115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5867280" y="3500280"/>
            <a:ext cx="331920" cy="306720"/>
          </a:xfrm>
          <a:custGeom>
            <a:avLst/>
            <a:gdLst/>
            <a:ahLst/>
            <a:rect l="l" t="t" r="r" b="b"/>
            <a:pathLst>
              <a:path w="212" h="195">
                <a:moveTo>
                  <a:pt x="0" y="0"/>
                </a:moveTo>
                <a:lnTo>
                  <a:pt x="53" y="0"/>
                </a:lnTo>
                <a:lnTo>
                  <a:pt x="88" y="0"/>
                </a:lnTo>
                <a:lnTo>
                  <a:pt x="124" y="17"/>
                </a:lnTo>
                <a:lnTo>
                  <a:pt x="159" y="17"/>
                </a:lnTo>
                <a:lnTo>
                  <a:pt x="177" y="35"/>
                </a:lnTo>
                <a:lnTo>
                  <a:pt x="195" y="53"/>
                </a:lnTo>
                <a:lnTo>
                  <a:pt x="195" y="71"/>
                </a:lnTo>
                <a:lnTo>
                  <a:pt x="212" y="88"/>
                </a:lnTo>
                <a:lnTo>
                  <a:pt x="212" y="106"/>
                </a:lnTo>
                <a:lnTo>
                  <a:pt x="212" y="124"/>
                </a:lnTo>
                <a:lnTo>
                  <a:pt x="212" y="141"/>
                </a:lnTo>
                <a:lnTo>
                  <a:pt x="212" y="159"/>
                </a:lnTo>
                <a:lnTo>
                  <a:pt x="212" y="177"/>
                </a:lnTo>
                <a:lnTo>
                  <a:pt x="195" y="195"/>
                </a:lnTo>
                <a:lnTo>
                  <a:pt x="177" y="195"/>
                </a:lnTo>
                <a:lnTo>
                  <a:pt x="159" y="195"/>
                </a:lnTo>
                <a:lnTo>
                  <a:pt x="141" y="195"/>
                </a:lnTo>
                <a:lnTo>
                  <a:pt x="141" y="177"/>
                </a:lnTo>
                <a:lnTo>
                  <a:pt x="124" y="159"/>
                </a:lnTo>
                <a:lnTo>
                  <a:pt x="106" y="141"/>
                </a:lnTo>
                <a:lnTo>
                  <a:pt x="88" y="106"/>
                </a:lnTo>
                <a:lnTo>
                  <a:pt x="53" y="71"/>
                </a:lnTo>
                <a:lnTo>
                  <a:pt x="35" y="3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15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6012000" y="2708280"/>
            <a:ext cx="942840" cy="1774800"/>
          </a:xfrm>
          <a:custGeom>
            <a:avLst/>
            <a:gdLst/>
            <a:ahLst/>
            <a:rect l="l" t="t" r="r" b="b"/>
            <a:pathLst>
              <a:path w="602" h="1133">
                <a:moveTo>
                  <a:pt x="0" y="1133"/>
                </a:moveTo>
                <a:lnTo>
                  <a:pt x="0" y="1133"/>
                </a:lnTo>
                <a:lnTo>
                  <a:pt x="0" y="1133"/>
                </a:lnTo>
                <a:lnTo>
                  <a:pt x="18" y="1116"/>
                </a:lnTo>
                <a:lnTo>
                  <a:pt x="18" y="1098"/>
                </a:lnTo>
                <a:lnTo>
                  <a:pt x="35" y="1080"/>
                </a:lnTo>
                <a:lnTo>
                  <a:pt x="53" y="1063"/>
                </a:lnTo>
                <a:lnTo>
                  <a:pt x="71" y="1045"/>
                </a:lnTo>
                <a:lnTo>
                  <a:pt x="89" y="1010"/>
                </a:lnTo>
                <a:lnTo>
                  <a:pt x="124" y="956"/>
                </a:lnTo>
                <a:lnTo>
                  <a:pt x="159" y="886"/>
                </a:lnTo>
                <a:lnTo>
                  <a:pt x="212" y="815"/>
                </a:lnTo>
                <a:lnTo>
                  <a:pt x="230" y="779"/>
                </a:lnTo>
                <a:lnTo>
                  <a:pt x="248" y="744"/>
                </a:lnTo>
                <a:lnTo>
                  <a:pt x="283" y="655"/>
                </a:lnTo>
                <a:lnTo>
                  <a:pt x="319" y="567"/>
                </a:lnTo>
                <a:lnTo>
                  <a:pt x="354" y="478"/>
                </a:lnTo>
                <a:lnTo>
                  <a:pt x="372" y="425"/>
                </a:lnTo>
                <a:lnTo>
                  <a:pt x="390" y="372"/>
                </a:lnTo>
                <a:lnTo>
                  <a:pt x="407" y="319"/>
                </a:lnTo>
                <a:lnTo>
                  <a:pt x="407" y="266"/>
                </a:lnTo>
                <a:lnTo>
                  <a:pt x="425" y="230"/>
                </a:lnTo>
                <a:lnTo>
                  <a:pt x="425" y="195"/>
                </a:lnTo>
                <a:lnTo>
                  <a:pt x="425" y="177"/>
                </a:lnTo>
                <a:lnTo>
                  <a:pt x="425" y="160"/>
                </a:lnTo>
                <a:lnTo>
                  <a:pt x="425" y="142"/>
                </a:lnTo>
                <a:lnTo>
                  <a:pt x="425" y="142"/>
                </a:lnTo>
                <a:lnTo>
                  <a:pt x="425" y="142"/>
                </a:lnTo>
                <a:lnTo>
                  <a:pt x="425" y="142"/>
                </a:lnTo>
                <a:lnTo>
                  <a:pt x="407" y="142"/>
                </a:lnTo>
                <a:lnTo>
                  <a:pt x="390" y="142"/>
                </a:lnTo>
                <a:lnTo>
                  <a:pt x="372" y="142"/>
                </a:lnTo>
                <a:lnTo>
                  <a:pt x="354" y="142"/>
                </a:lnTo>
                <a:lnTo>
                  <a:pt x="336" y="160"/>
                </a:lnTo>
                <a:lnTo>
                  <a:pt x="319" y="160"/>
                </a:lnTo>
                <a:lnTo>
                  <a:pt x="266" y="177"/>
                </a:lnTo>
                <a:lnTo>
                  <a:pt x="248" y="195"/>
                </a:lnTo>
                <a:lnTo>
                  <a:pt x="230" y="195"/>
                </a:lnTo>
                <a:lnTo>
                  <a:pt x="212" y="195"/>
                </a:lnTo>
                <a:lnTo>
                  <a:pt x="195" y="195"/>
                </a:lnTo>
                <a:lnTo>
                  <a:pt x="195" y="195"/>
                </a:lnTo>
                <a:lnTo>
                  <a:pt x="177" y="195"/>
                </a:lnTo>
                <a:lnTo>
                  <a:pt x="159" y="195"/>
                </a:lnTo>
                <a:lnTo>
                  <a:pt x="142" y="177"/>
                </a:lnTo>
                <a:lnTo>
                  <a:pt x="124" y="177"/>
                </a:lnTo>
                <a:lnTo>
                  <a:pt x="106" y="160"/>
                </a:lnTo>
                <a:lnTo>
                  <a:pt x="106" y="160"/>
                </a:lnTo>
                <a:lnTo>
                  <a:pt x="106" y="142"/>
                </a:lnTo>
                <a:lnTo>
                  <a:pt x="106" y="124"/>
                </a:lnTo>
                <a:lnTo>
                  <a:pt x="159" y="124"/>
                </a:lnTo>
                <a:lnTo>
                  <a:pt x="212" y="106"/>
                </a:lnTo>
                <a:lnTo>
                  <a:pt x="266" y="89"/>
                </a:lnTo>
                <a:lnTo>
                  <a:pt x="319" y="89"/>
                </a:lnTo>
                <a:lnTo>
                  <a:pt x="354" y="71"/>
                </a:lnTo>
                <a:lnTo>
                  <a:pt x="390" y="71"/>
                </a:lnTo>
                <a:lnTo>
                  <a:pt x="407" y="53"/>
                </a:lnTo>
                <a:lnTo>
                  <a:pt x="425" y="36"/>
                </a:lnTo>
                <a:lnTo>
                  <a:pt x="425" y="18"/>
                </a:lnTo>
                <a:lnTo>
                  <a:pt x="443" y="0"/>
                </a:lnTo>
                <a:lnTo>
                  <a:pt x="460" y="0"/>
                </a:lnTo>
                <a:lnTo>
                  <a:pt x="460" y="0"/>
                </a:lnTo>
                <a:lnTo>
                  <a:pt x="478" y="0"/>
                </a:lnTo>
                <a:lnTo>
                  <a:pt x="514" y="0"/>
                </a:lnTo>
                <a:lnTo>
                  <a:pt x="531" y="18"/>
                </a:lnTo>
                <a:lnTo>
                  <a:pt x="549" y="36"/>
                </a:lnTo>
                <a:lnTo>
                  <a:pt x="567" y="71"/>
                </a:lnTo>
                <a:lnTo>
                  <a:pt x="584" y="89"/>
                </a:lnTo>
                <a:lnTo>
                  <a:pt x="602" y="106"/>
                </a:lnTo>
                <a:lnTo>
                  <a:pt x="602" y="106"/>
                </a:lnTo>
                <a:lnTo>
                  <a:pt x="602" y="124"/>
                </a:lnTo>
                <a:lnTo>
                  <a:pt x="602" y="142"/>
                </a:lnTo>
                <a:lnTo>
                  <a:pt x="584" y="142"/>
                </a:lnTo>
                <a:lnTo>
                  <a:pt x="584" y="160"/>
                </a:lnTo>
                <a:lnTo>
                  <a:pt x="567" y="160"/>
                </a:lnTo>
                <a:lnTo>
                  <a:pt x="567" y="177"/>
                </a:lnTo>
                <a:lnTo>
                  <a:pt x="549" y="195"/>
                </a:lnTo>
                <a:lnTo>
                  <a:pt x="549" y="230"/>
                </a:lnTo>
                <a:lnTo>
                  <a:pt x="531" y="266"/>
                </a:lnTo>
                <a:lnTo>
                  <a:pt x="514" y="301"/>
                </a:lnTo>
                <a:lnTo>
                  <a:pt x="514" y="337"/>
                </a:lnTo>
                <a:lnTo>
                  <a:pt x="496" y="390"/>
                </a:lnTo>
                <a:lnTo>
                  <a:pt x="460" y="496"/>
                </a:lnTo>
                <a:lnTo>
                  <a:pt x="425" y="585"/>
                </a:lnTo>
                <a:lnTo>
                  <a:pt x="372" y="691"/>
                </a:lnTo>
                <a:lnTo>
                  <a:pt x="336" y="779"/>
                </a:lnTo>
                <a:lnTo>
                  <a:pt x="301" y="832"/>
                </a:lnTo>
                <a:lnTo>
                  <a:pt x="283" y="868"/>
                </a:lnTo>
                <a:lnTo>
                  <a:pt x="248" y="903"/>
                </a:lnTo>
                <a:lnTo>
                  <a:pt x="230" y="939"/>
                </a:lnTo>
                <a:lnTo>
                  <a:pt x="195" y="974"/>
                </a:lnTo>
                <a:lnTo>
                  <a:pt x="177" y="1010"/>
                </a:lnTo>
                <a:lnTo>
                  <a:pt x="142" y="1045"/>
                </a:lnTo>
                <a:lnTo>
                  <a:pt x="124" y="1063"/>
                </a:lnTo>
                <a:lnTo>
                  <a:pt x="106" y="1080"/>
                </a:lnTo>
                <a:lnTo>
                  <a:pt x="71" y="1098"/>
                </a:lnTo>
                <a:lnTo>
                  <a:pt x="53" y="1116"/>
                </a:lnTo>
                <a:lnTo>
                  <a:pt x="35" y="1133"/>
                </a:lnTo>
                <a:lnTo>
                  <a:pt x="35" y="1133"/>
                </a:lnTo>
                <a:lnTo>
                  <a:pt x="18" y="1133"/>
                </a:lnTo>
                <a:lnTo>
                  <a:pt x="18" y="1133"/>
                </a:lnTo>
                <a:lnTo>
                  <a:pt x="0" y="1133"/>
                </a:lnTo>
                <a:lnTo>
                  <a:pt x="0" y="1133"/>
                </a:lnTo>
              </a:path>
            </a:pathLst>
          </a:custGeom>
          <a:noFill/>
          <a:ln w="115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6935760" y="3465360"/>
            <a:ext cx="276120" cy="417600"/>
          </a:xfrm>
          <a:custGeom>
            <a:avLst/>
            <a:gdLst/>
            <a:ahLst/>
            <a:rect l="l" t="t" r="r" b="b"/>
            <a:pathLst>
              <a:path w="177" h="266">
                <a:moveTo>
                  <a:pt x="177" y="195"/>
                </a:moveTo>
                <a:lnTo>
                  <a:pt x="177" y="212"/>
                </a:lnTo>
                <a:lnTo>
                  <a:pt x="177" y="230"/>
                </a:lnTo>
                <a:lnTo>
                  <a:pt x="177" y="248"/>
                </a:lnTo>
                <a:lnTo>
                  <a:pt x="160" y="248"/>
                </a:lnTo>
                <a:lnTo>
                  <a:pt x="160" y="266"/>
                </a:lnTo>
                <a:lnTo>
                  <a:pt x="142" y="266"/>
                </a:lnTo>
                <a:lnTo>
                  <a:pt x="142" y="266"/>
                </a:lnTo>
                <a:lnTo>
                  <a:pt x="142" y="266"/>
                </a:lnTo>
                <a:lnTo>
                  <a:pt x="124" y="266"/>
                </a:lnTo>
                <a:lnTo>
                  <a:pt x="124" y="266"/>
                </a:lnTo>
                <a:lnTo>
                  <a:pt x="124" y="248"/>
                </a:lnTo>
                <a:lnTo>
                  <a:pt x="107" y="230"/>
                </a:lnTo>
                <a:lnTo>
                  <a:pt x="89" y="212"/>
                </a:lnTo>
                <a:lnTo>
                  <a:pt x="71" y="195"/>
                </a:lnTo>
                <a:lnTo>
                  <a:pt x="71" y="177"/>
                </a:lnTo>
                <a:lnTo>
                  <a:pt x="36" y="124"/>
                </a:lnTo>
                <a:lnTo>
                  <a:pt x="18" y="71"/>
                </a:lnTo>
                <a:lnTo>
                  <a:pt x="0" y="35"/>
                </a:lnTo>
                <a:lnTo>
                  <a:pt x="0" y="0"/>
                </a:lnTo>
                <a:lnTo>
                  <a:pt x="53" y="18"/>
                </a:lnTo>
                <a:lnTo>
                  <a:pt x="89" y="35"/>
                </a:lnTo>
                <a:lnTo>
                  <a:pt x="107" y="53"/>
                </a:lnTo>
                <a:lnTo>
                  <a:pt x="142" y="71"/>
                </a:lnTo>
                <a:lnTo>
                  <a:pt x="160" y="106"/>
                </a:lnTo>
                <a:lnTo>
                  <a:pt x="160" y="124"/>
                </a:lnTo>
                <a:lnTo>
                  <a:pt x="177" y="159"/>
                </a:lnTo>
                <a:lnTo>
                  <a:pt x="177" y="195"/>
                </a:lnTo>
                <a:lnTo>
                  <a:pt x="177" y="195"/>
                </a:lnTo>
              </a:path>
            </a:pathLst>
          </a:custGeom>
          <a:noFill/>
          <a:ln w="115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6908760" y="2965320"/>
            <a:ext cx="1163520" cy="306360"/>
          </a:xfrm>
          <a:custGeom>
            <a:avLst/>
            <a:gdLst/>
            <a:ahLst/>
            <a:rect l="l" t="t" r="r" b="b"/>
            <a:pathLst>
              <a:path w="743" h="195">
                <a:moveTo>
                  <a:pt x="0" y="142"/>
                </a:moveTo>
                <a:lnTo>
                  <a:pt x="70" y="124"/>
                </a:lnTo>
                <a:lnTo>
                  <a:pt x="141" y="106"/>
                </a:lnTo>
                <a:lnTo>
                  <a:pt x="194" y="89"/>
                </a:lnTo>
                <a:lnTo>
                  <a:pt x="248" y="89"/>
                </a:lnTo>
                <a:lnTo>
                  <a:pt x="318" y="71"/>
                </a:lnTo>
                <a:lnTo>
                  <a:pt x="354" y="53"/>
                </a:lnTo>
                <a:lnTo>
                  <a:pt x="407" y="53"/>
                </a:lnTo>
                <a:lnTo>
                  <a:pt x="442" y="36"/>
                </a:lnTo>
                <a:lnTo>
                  <a:pt x="478" y="36"/>
                </a:lnTo>
                <a:lnTo>
                  <a:pt x="513" y="18"/>
                </a:lnTo>
                <a:lnTo>
                  <a:pt x="549" y="18"/>
                </a:lnTo>
                <a:lnTo>
                  <a:pt x="566" y="18"/>
                </a:lnTo>
                <a:lnTo>
                  <a:pt x="584" y="18"/>
                </a:lnTo>
                <a:lnTo>
                  <a:pt x="602" y="18"/>
                </a:lnTo>
                <a:lnTo>
                  <a:pt x="619" y="0"/>
                </a:lnTo>
                <a:lnTo>
                  <a:pt x="619" y="0"/>
                </a:lnTo>
                <a:lnTo>
                  <a:pt x="637" y="18"/>
                </a:lnTo>
                <a:lnTo>
                  <a:pt x="655" y="18"/>
                </a:lnTo>
                <a:lnTo>
                  <a:pt x="708" y="18"/>
                </a:lnTo>
                <a:lnTo>
                  <a:pt x="726" y="36"/>
                </a:lnTo>
                <a:lnTo>
                  <a:pt x="743" y="53"/>
                </a:lnTo>
                <a:lnTo>
                  <a:pt x="743" y="71"/>
                </a:lnTo>
                <a:lnTo>
                  <a:pt x="743" y="71"/>
                </a:lnTo>
                <a:lnTo>
                  <a:pt x="743" y="89"/>
                </a:lnTo>
                <a:lnTo>
                  <a:pt x="743" y="89"/>
                </a:lnTo>
                <a:lnTo>
                  <a:pt x="726" y="89"/>
                </a:lnTo>
                <a:lnTo>
                  <a:pt x="726" y="106"/>
                </a:lnTo>
                <a:lnTo>
                  <a:pt x="708" y="106"/>
                </a:lnTo>
                <a:lnTo>
                  <a:pt x="672" y="106"/>
                </a:lnTo>
                <a:lnTo>
                  <a:pt x="655" y="106"/>
                </a:lnTo>
                <a:lnTo>
                  <a:pt x="619" y="124"/>
                </a:lnTo>
                <a:lnTo>
                  <a:pt x="549" y="124"/>
                </a:lnTo>
                <a:lnTo>
                  <a:pt x="478" y="142"/>
                </a:lnTo>
                <a:lnTo>
                  <a:pt x="407" y="160"/>
                </a:lnTo>
                <a:lnTo>
                  <a:pt x="301" y="177"/>
                </a:lnTo>
                <a:lnTo>
                  <a:pt x="265" y="177"/>
                </a:lnTo>
                <a:lnTo>
                  <a:pt x="230" y="195"/>
                </a:lnTo>
                <a:lnTo>
                  <a:pt x="194" y="195"/>
                </a:lnTo>
                <a:lnTo>
                  <a:pt x="159" y="195"/>
                </a:lnTo>
                <a:lnTo>
                  <a:pt x="124" y="195"/>
                </a:lnTo>
                <a:lnTo>
                  <a:pt x="106" y="195"/>
                </a:lnTo>
                <a:lnTo>
                  <a:pt x="88" y="195"/>
                </a:lnTo>
                <a:lnTo>
                  <a:pt x="88" y="195"/>
                </a:lnTo>
                <a:lnTo>
                  <a:pt x="53" y="177"/>
                </a:lnTo>
                <a:lnTo>
                  <a:pt x="35" y="177"/>
                </a:lnTo>
                <a:lnTo>
                  <a:pt x="17" y="160"/>
                </a:lnTo>
                <a:lnTo>
                  <a:pt x="0" y="142"/>
                </a:lnTo>
                <a:lnTo>
                  <a:pt x="0" y="142"/>
                </a:lnTo>
              </a:path>
            </a:pathLst>
          </a:custGeom>
          <a:noFill/>
          <a:ln w="115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6300720" y="3284640"/>
            <a:ext cx="666720" cy="1108080"/>
          </a:xfrm>
          <a:custGeom>
            <a:avLst/>
            <a:gdLst/>
            <a:ahLst/>
            <a:rect l="l" t="t" r="r" b="b"/>
            <a:pathLst>
              <a:path w="425" h="708">
                <a:moveTo>
                  <a:pt x="425" y="549"/>
                </a:moveTo>
                <a:lnTo>
                  <a:pt x="425" y="584"/>
                </a:lnTo>
                <a:lnTo>
                  <a:pt x="425" y="620"/>
                </a:lnTo>
                <a:lnTo>
                  <a:pt x="425" y="637"/>
                </a:lnTo>
                <a:lnTo>
                  <a:pt x="425" y="673"/>
                </a:lnTo>
                <a:lnTo>
                  <a:pt x="425" y="691"/>
                </a:lnTo>
                <a:lnTo>
                  <a:pt x="408" y="691"/>
                </a:lnTo>
                <a:lnTo>
                  <a:pt x="408" y="708"/>
                </a:lnTo>
                <a:lnTo>
                  <a:pt x="390" y="708"/>
                </a:lnTo>
                <a:lnTo>
                  <a:pt x="390" y="708"/>
                </a:lnTo>
                <a:lnTo>
                  <a:pt x="390" y="691"/>
                </a:lnTo>
                <a:lnTo>
                  <a:pt x="372" y="673"/>
                </a:lnTo>
                <a:lnTo>
                  <a:pt x="355" y="655"/>
                </a:lnTo>
                <a:lnTo>
                  <a:pt x="337" y="620"/>
                </a:lnTo>
                <a:lnTo>
                  <a:pt x="301" y="567"/>
                </a:lnTo>
                <a:lnTo>
                  <a:pt x="284" y="513"/>
                </a:lnTo>
                <a:lnTo>
                  <a:pt x="248" y="460"/>
                </a:lnTo>
                <a:lnTo>
                  <a:pt x="213" y="407"/>
                </a:lnTo>
                <a:lnTo>
                  <a:pt x="195" y="354"/>
                </a:lnTo>
                <a:lnTo>
                  <a:pt x="160" y="301"/>
                </a:lnTo>
                <a:lnTo>
                  <a:pt x="124" y="248"/>
                </a:lnTo>
                <a:lnTo>
                  <a:pt x="107" y="212"/>
                </a:lnTo>
                <a:lnTo>
                  <a:pt x="89" y="177"/>
                </a:lnTo>
                <a:lnTo>
                  <a:pt x="71" y="142"/>
                </a:lnTo>
                <a:lnTo>
                  <a:pt x="53" y="124"/>
                </a:lnTo>
                <a:lnTo>
                  <a:pt x="18" y="71"/>
                </a:lnTo>
                <a:lnTo>
                  <a:pt x="0" y="35"/>
                </a:lnTo>
                <a:lnTo>
                  <a:pt x="0" y="35"/>
                </a:lnTo>
                <a:lnTo>
                  <a:pt x="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18"/>
                </a:lnTo>
                <a:lnTo>
                  <a:pt x="36" y="18"/>
                </a:lnTo>
                <a:lnTo>
                  <a:pt x="36" y="18"/>
                </a:lnTo>
                <a:lnTo>
                  <a:pt x="53" y="35"/>
                </a:lnTo>
                <a:lnTo>
                  <a:pt x="89" y="53"/>
                </a:lnTo>
                <a:lnTo>
                  <a:pt x="107" y="71"/>
                </a:lnTo>
                <a:lnTo>
                  <a:pt x="160" y="124"/>
                </a:lnTo>
                <a:lnTo>
                  <a:pt x="195" y="177"/>
                </a:lnTo>
                <a:lnTo>
                  <a:pt x="248" y="248"/>
                </a:lnTo>
                <a:lnTo>
                  <a:pt x="301" y="319"/>
                </a:lnTo>
                <a:lnTo>
                  <a:pt x="319" y="354"/>
                </a:lnTo>
                <a:lnTo>
                  <a:pt x="337" y="390"/>
                </a:lnTo>
                <a:lnTo>
                  <a:pt x="372" y="443"/>
                </a:lnTo>
                <a:lnTo>
                  <a:pt x="408" y="496"/>
                </a:lnTo>
                <a:lnTo>
                  <a:pt x="425" y="549"/>
                </a:lnTo>
                <a:lnTo>
                  <a:pt x="425" y="549"/>
                </a:lnTo>
              </a:path>
            </a:pathLst>
          </a:custGeom>
          <a:noFill/>
          <a:ln w="115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7051680" y="2133720"/>
            <a:ext cx="554040" cy="2995560"/>
          </a:xfrm>
          <a:custGeom>
            <a:avLst/>
            <a:gdLst/>
            <a:ahLst/>
            <a:rect l="l" t="t" r="r" b="b"/>
            <a:pathLst>
              <a:path w="354" h="1912">
                <a:moveTo>
                  <a:pt x="89" y="1700"/>
                </a:moveTo>
                <a:lnTo>
                  <a:pt x="53" y="1682"/>
                </a:lnTo>
                <a:lnTo>
                  <a:pt x="36" y="1664"/>
                </a:lnTo>
                <a:lnTo>
                  <a:pt x="36" y="1647"/>
                </a:lnTo>
                <a:lnTo>
                  <a:pt x="18" y="1629"/>
                </a:lnTo>
                <a:lnTo>
                  <a:pt x="0" y="1629"/>
                </a:lnTo>
                <a:lnTo>
                  <a:pt x="0" y="1611"/>
                </a:lnTo>
                <a:lnTo>
                  <a:pt x="0" y="1611"/>
                </a:lnTo>
                <a:lnTo>
                  <a:pt x="0" y="1611"/>
                </a:lnTo>
                <a:lnTo>
                  <a:pt x="0" y="1594"/>
                </a:lnTo>
                <a:lnTo>
                  <a:pt x="18" y="1594"/>
                </a:lnTo>
                <a:lnTo>
                  <a:pt x="18" y="1594"/>
                </a:lnTo>
                <a:lnTo>
                  <a:pt x="36" y="1611"/>
                </a:lnTo>
                <a:lnTo>
                  <a:pt x="53" y="1611"/>
                </a:lnTo>
                <a:lnTo>
                  <a:pt x="71" y="1611"/>
                </a:lnTo>
                <a:lnTo>
                  <a:pt x="89" y="1611"/>
                </a:lnTo>
                <a:lnTo>
                  <a:pt x="106" y="1629"/>
                </a:lnTo>
                <a:lnTo>
                  <a:pt x="142" y="1629"/>
                </a:lnTo>
                <a:lnTo>
                  <a:pt x="160" y="1647"/>
                </a:lnTo>
                <a:lnTo>
                  <a:pt x="195" y="1647"/>
                </a:lnTo>
                <a:lnTo>
                  <a:pt x="213" y="1647"/>
                </a:lnTo>
                <a:lnTo>
                  <a:pt x="230" y="1629"/>
                </a:lnTo>
                <a:lnTo>
                  <a:pt x="230" y="1629"/>
                </a:lnTo>
                <a:lnTo>
                  <a:pt x="230" y="1629"/>
                </a:lnTo>
                <a:lnTo>
                  <a:pt x="230" y="1611"/>
                </a:lnTo>
                <a:lnTo>
                  <a:pt x="230" y="1594"/>
                </a:lnTo>
                <a:lnTo>
                  <a:pt x="230" y="1558"/>
                </a:lnTo>
                <a:lnTo>
                  <a:pt x="230" y="1540"/>
                </a:lnTo>
                <a:lnTo>
                  <a:pt x="230" y="1505"/>
                </a:lnTo>
                <a:lnTo>
                  <a:pt x="248" y="1452"/>
                </a:lnTo>
                <a:lnTo>
                  <a:pt x="248" y="1417"/>
                </a:lnTo>
                <a:lnTo>
                  <a:pt x="248" y="1363"/>
                </a:lnTo>
                <a:lnTo>
                  <a:pt x="248" y="1310"/>
                </a:lnTo>
                <a:lnTo>
                  <a:pt x="248" y="1239"/>
                </a:lnTo>
                <a:lnTo>
                  <a:pt x="248" y="1186"/>
                </a:lnTo>
                <a:lnTo>
                  <a:pt x="248" y="1116"/>
                </a:lnTo>
                <a:lnTo>
                  <a:pt x="248" y="1027"/>
                </a:lnTo>
                <a:lnTo>
                  <a:pt x="248" y="956"/>
                </a:lnTo>
                <a:lnTo>
                  <a:pt x="248" y="868"/>
                </a:lnTo>
                <a:lnTo>
                  <a:pt x="248" y="797"/>
                </a:lnTo>
                <a:lnTo>
                  <a:pt x="248" y="726"/>
                </a:lnTo>
                <a:lnTo>
                  <a:pt x="248" y="655"/>
                </a:lnTo>
                <a:lnTo>
                  <a:pt x="230" y="602"/>
                </a:lnTo>
                <a:lnTo>
                  <a:pt x="230" y="531"/>
                </a:lnTo>
                <a:lnTo>
                  <a:pt x="230" y="478"/>
                </a:lnTo>
                <a:lnTo>
                  <a:pt x="230" y="425"/>
                </a:lnTo>
                <a:lnTo>
                  <a:pt x="230" y="390"/>
                </a:lnTo>
                <a:lnTo>
                  <a:pt x="230" y="354"/>
                </a:lnTo>
                <a:lnTo>
                  <a:pt x="230" y="319"/>
                </a:lnTo>
                <a:lnTo>
                  <a:pt x="230" y="283"/>
                </a:lnTo>
                <a:lnTo>
                  <a:pt x="230" y="248"/>
                </a:lnTo>
                <a:lnTo>
                  <a:pt x="230" y="230"/>
                </a:lnTo>
                <a:lnTo>
                  <a:pt x="230" y="212"/>
                </a:lnTo>
                <a:lnTo>
                  <a:pt x="230" y="195"/>
                </a:lnTo>
                <a:lnTo>
                  <a:pt x="230" y="142"/>
                </a:lnTo>
                <a:lnTo>
                  <a:pt x="213" y="106"/>
                </a:lnTo>
                <a:lnTo>
                  <a:pt x="195" y="89"/>
                </a:lnTo>
                <a:lnTo>
                  <a:pt x="195" y="71"/>
                </a:lnTo>
                <a:lnTo>
                  <a:pt x="177" y="53"/>
                </a:lnTo>
                <a:lnTo>
                  <a:pt x="177" y="35"/>
                </a:lnTo>
                <a:lnTo>
                  <a:pt x="177" y="35"/>
                </a:lnTo>
                <a:lnTo>
                  <a:pt x="177" y="18"/>
                </a:lnTo>
                <a:lnTo>
                  <a:pt x="177" y="18"/>
                </a:lnTo>
                <a:lnTo>
                  <a:pt x="195" y="0"/>
                </a:lnTo>
                <a:lnTo>
                  <a:pt x="213" y="18"/>
                </a:lnTo>
                <a:lnTo>
                  <a:pt x="230" y="18"/>
                </a:lnTo>
                <a:lnTo>
                  <a:pt x="266" y="18"/>
                </a:lnTo>
                <a:lnTo>
                  <a:pt x="283" y="35"/>
                </a:lnTo>
                <a:lnTo>
                  <a:pt x="301" y="53"/>
                </a:lnTo>
                <a:lnTo>
                  <a:pt x="337" y="71"/>
                </a:lnTo>
                <a:lnTo>
                  <a:pt x="337" y="89"/>
                </a:lnTo>
                <a:lnTo>
                  <a:pt x="354" y="106"/>
                </a:lnTo>
                <a:lnTo>
                  <a:pt x="354" y="124"/>
                </a:lnTo>
                <a:lnTo>
                  <a:pt x="354" y="142"/>
                </a:lnTo>
                <a:lnTo>
                  <a:pt x="354" y="159"/>
                </a:lnTo>
                <a:lnTo>
                  <a:pt x="337" y="177"/>
                </a:lnTo>
                <a:lnTo>
                  <a:pt x="337" y="212"/>
                </a:lnTo>
                <a:lnTo>
                  <a:pt x="337" y="230"/>
                </a:lnTo>
                <a:lnTo>
                  <a:pt x="337" y="248"/>
                </a:lnTo>
                <a:lnTo>
                  <a:pt x="337" y="266"/>
                </a:lnTo>
                <a:lnTo>
                  <a:pt x="337" y="301"/>
                </a:lnTo>
                <a:lnTo>
                  <a:pt x="337" y="319"/>
                </a:lnTo>
                <a:lnTo>
                  <a:pt x="337" y="354"/>
                </a:lnTo>
                <a:lnTo>
                  <a:pt x="337" y="390"/>
                </a:lnTo>
                <a:lnTo>
                  <a:pt x="337" y="425"/>
                </a:lnTo>
                <a:lnTo>
                  <a:pt x="337" y="478"/>
                </a:lnTo>
                <a:lnTo>
                  <a:pt x="337" y="496"/>
                </a:lnTo>
                <a:lnTo>
                  <a:pt x="337" y="513"/>
                </a:lnTo>
                <a:lnTo>
                  <a:pt x="337" y="549"/>
                </a:lnTo>
                <a:lnTo>
                  <a:pt x="337" y="584"/>
                </a:lnTo>
                <a:lnTo>
                  <a:pt x="337" y="620"/>
                </a:lnTo>
                <a:lnTo>
                  <a:pt x="337" y="655"/>
                </a:lnTo>
                <a:lnTo>
                  <a:pt x="337" y="691"/>
                </a:lnTo>
                <a:lnTo>
                  <a:pt x="337" y="744"/>
                </a:lnTo>
                <a:lnTo>
                  <a:pt x="337" y="779"/>
                </a:lnTo>
                <a:lnTo>
                  <a:pt x="337" y="832"/>
                </a:lnTo>
                <a:lnTo>
                  <a:pt x="337" y="885"/>
                </a:lnTo>
                <a:lnTo>
                  <a:pt x="337" y="938"/>
                </a:lnTo>
                <a:lnTo>
                  <a:pt x="337" y="992"/>
                </a:lnTo>
                <a:lnTo>
                  <a:pt x="337" y="1045"/>
                </a:lnTo>
                <a:lnTo>
                  <a:pt x="337" y="1116"/>
                </a:lnTo>
                <a:lnTo>
                  <a:pt x="337" y="1186"/>
                </a:lnTo>
                <a:lnTo>
                  <a:pt x="337" y="1239"/>
                </a:lnTo>
                <a:lnTo>
                  <a:pt x="337" y="1310"/>
                </a:lnTo>
                <a:lnTo>
                  <a:pt x="337" y="1363"/>
                </a:lnTo>
                <a:lnTo>
                  <a:pt x="337" y="1417"/>
                </a:lnTo>
                <a:lnTo>
                  <a:pt x="337" y="1470"/>
                </a:lnTo>
                <a:lnTo>
                  <a:pt x="337" y="1523"/>
                </a:lnTo>
                <a:lnTo>
                  <a:pt x="337" y="1558"/>
                </a:lnTo>
                <a:lnTo>
                  <a:pt x="337" y="1594"/>
                </a:lnTo>
                <a:lnTo>
                  <a:pt x="337" y="1629"/>
                </a:lnTo>
                <a:lnTo>
                  <a:pt x="337" y="1664"/>
                </a:lnTo>
                <a:lnTo>
                  <a:pt x="337" y="1700"/>
                </a:lnTo>
                <a:lnTo>
                  <a:pt x="337" y="1718"/>
                </a:lnTo>
                <a:lnTo>
                  <a:pt x="337" y="1753"/>
                </a:lnTo>
                <a:lnTo>
                  <a:pt x="337" y="1771"/>
                </a:lnTo>
                <a:lnTo>
                  <a:pt x="319" y="1771"/>
                </a:lnTo>
                <a:lnTo>
                  <a:pt x="319" y="1788"/>
                </a:lnTo>
                <a:lnTo>
                  <a:pt x="319" y="1824"/>
                </a:lnTo>
                <a:lnTo>
                  <a:pt x="301" y="1841"/>
                </a:lnTo>
                <a:lnTo>
                  <a:pt x="283" y="1877"/>
                </a:lnTo>
                <a:lnTo>
                  <a:pt x="266" y="1895"/>
                </a:lnTo>
                <a:lnTo>
                  <a:pt x="248" y="1895"/>
                </a:lnTo>
                <a:lnTo>
                  <a:pt x="230" y="1912"/>
                </a:lnTo>
                <a:lnTo>
                  <a:pt x="213" y="1912"/>
                </a:lnTo>
                <a:lnTo>
                  <a:pt x="213" y="1912"/>
                </a:lnTo>
                <a:lnTo>
                  <a:pt x="195" y="1912"/>
                </a:lnTo>
                <a:lnTo>
                  <a:pt x="177" y="1895"/>
                </a:lnTo>
                <a:lnTo>
                  <a:pt x="177" y="1877"/>
                </a:lnTo>
                <a:lnTo>
                  <a:pt x="177" y="1841"/>
                </a:lnTo>
                <a:lnTo>
                  <a:pt x="177" y="1824"/>
                </a:lnTo>
                <a:lnTo>
                  <a:pt x="160" y="1806"/>
                </a:lnTo>
                <a:lnTo>
                  <a:pt x="160" y="1788"/>
                </a:lnTo>
                <a:lnTo>
                  <a:pt x="142" y="1771"/>
                </a:lnTo>
                <a:lnTo>
                  <a:pt x="142" y="1753"/>
                </a:lnTo>
                <a:lnTo>
                  <a:pt x="124" y="1735"/>
                </a:lnTo>
                <a:lnTo>
                  <a:pt x="106" y="1718"/>
                </a:lnTo>
                <a:lnTo>
                  <a:pt x="89" y="1700"/>
                </a:lnTo>
                <a:lnTo>
                  <a:pt x="89" y="1700"/>
                </a:lnTo>
              </a:path>
            </a:pathLst>
          </a:custGeom>
          <a:noFill/>
          <a:ln w="115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96532E-006 L -0.03698 0.0037 E">
                                      <p:cBhvr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33526E-006 L 0.03888 0.00208 E">
                                      <p:cBhvr>
                                        <p:cTn id="343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4859280" y="1413000"/>
          <a:ext cx="3960720" cy="4103640"/>
        </p:xfrm>
        <a:graphic>
          <a:graphicData uri="http://schemas.openxmlformats.org/drawingml/2006/table">
            <a:tbl>
              <a:tblPr/>
              <a:tblGrid>
                <a:gridCol w="1922400"/>
                <a:gridCol w="2038320"/>
              </a:tblGrid>
              <a:tr h="203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71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4" name="AutoShape 13"/>
          <p:cNvSpPr/>
          <p:nvPr/>
        </p:nvSpPr>
        <p:spPr>
          <a:xfrm>
            <a:off x="5508720" y="1917720"/>
            <a:ext cx="302400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5508360" y="19461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5"/>
          <p:cNvSpPr/>
          <p:nvPr/>
        </p:nvSpPr>
        <p:spPr>
          <a:xfrm>
            <a:off x="5508720" y="1917720"/>
            <a:ext cx="2967120" cy="2967120"/>
          </a:xfrm>
          <a:custGeom>
            <a:avLst/>
            <a:gdLst/>
            <a:ahLst/>
            <a:rect l="l" t="t" r="r" b="b"/>
            <a:pathLst>
              <a:path w="1899" h="1899">
                <a:moveTo>
                  <a:pt x="284" y="1118"/>
                </a:moveTo>
                <a:lnTo>
                  <a:pt x="319" y="1118"/>
                </a:lnTo>
                <a:lnTo>
                  <a:pt x="355" y="1100"/>
                </a:lnTo>
                <a:lnTo>
                  <a:pt x="373" y="1100"/>
                </a:lnTo>
                <a:lnTo>
                  <a:pt x="390" y="1100"/>
                </a:lnTo>
                <a:lnTo>
                  <a:pt x="408" y="1100"/>
                </a:lnTo>
                <a:lnTo>
                  <a:pt x="426" y="1083"/>
                </a:lnTo>
                <a:lnTo>
                  <a:pt x="426" y="1083"/>
                </a:lnTo>
                <a:lnTo>
                  <a:pt x="444" y="1083"/>
                </a:lnTo>
                <a:lnTo>
                  <a:pt x="461" y="1065"/>
                </a:lnTo>
                <a:lnTo>
                  <a:pt x="461" y="1065"/>
                </a:lnTo>
                <a:lnTo>
                  <a:pt x="479" y="1047"/>
                </a:lnTo>
                <a:lnTo>
                  <a:pt x="497" y="1047"/>
                </a:lnTo>
                <a:lnTo>
                  <a:pt x="497" y="1065"/>
                </a:lnTo>
                <a:lnTo>
                  <a:pt x="532" y="1065"/>
                </a:lnTo>
                <a:lnTo>
                  <a:pt x="550" y="1083"/>
                </a:lnTo>
                <a:lnTo>
                  <a:pt x="568" y="1100"/>
                </a:lnTo>
                <a:lnTo>
                  <a:pt x="603" y="1136"/>
                </a:lnTo>
                <a:lnTo>
                  <a:pt x="621" y="1154"/>
                </a:lnTo>
                <a:lnTo>
                  <a:pt x="621" y="1171"/>
                </a:lnTo>
                <a:lnTo>
                  <a:pt x="639" y="1171"/>
                </a:lnTo>
                <a:lnTo>
                  <a:pt x="621" y="1189"/>
                </a:lnTo>
                <a:lnTo>
                  <a:pt x="621" y="1189"/>
                </a:lnTo>
                <a:lnTo>
                  <a:pt x="603" y="1207"/>
                </a:lnTo>
                <a:lnTo>
                  <a:pt x="586" y="1207"/>
                </a:lnTo>
                <a:lnTo>
                  <a:pt x="586" y="1207"/>
                </a:lnTo>
                <a:lnTo>
                  <a:pt x="568" y="1225"/>
                </a:lnTo>
                <a:lnTo>
                  <a:pt x="568" y="1225"/>
                </a:lnTo>
                <a:lnTo>
                  <a:pt x="550" y="1242"/>
                </a:lnTo>
                <a:lnTo>
                  <a:pt x="532" y="1260"/>
                </a:lnTo>
                <a:lnTo>
                  <a:pt x="515" y="1278"/>
                </a:lnTo>
                <a:lnTo>
                  <a:pt x="497" y="1296"/>
                </a:lnTo>
                <a:lnTo>
                  <a:pt x="497" y="1331"/>
                </a:lnTo>
                <a:lnTo>
                  <a:pt x="444" y="1384"/>
                </a:lnTo>
                <a:lnTo>
                  <a:pt x="408" y="1438"/>
                </a:lnTo>
                <a:lnTo>
                  <a:pt x="355" y="1473"/>
                </a:lnTo>
                <a:lnTo>
                  <a:pt x="302" y="1526"/>
                </a:lnTo>
                <a:lnTo>
                  <a:pt x="248" y="1580"/>
                </a:lnTo>
                <a:lnTo>
                  <a:pt x="195" y="1615"/>
                </a:lnTo>
                <a:lnTo>
                  <a:pt x="142" y="1651"/>
                </a:lnTo>
                <a:lnTo>
                  <a:pt x="106" y="1668"/>
                </a:lnTo>
                <a:lnTo>
                  <a:pt x="71" y="1686"/>
                </a:lnTo>
                <a:lnTo>
                  <a:pt x="53" y="1686"/>
                </a:lnTo>
                <a:lnTo>
                  <a:pt x="35" y="1704"/>
                </a:lnTo>
                <a:lnTo>
                  <a:pt x="18" y="1704"/>
                </a:lnTo>
                <a:lnTo>
                  <a:pt x="18" y="1704"/>
                </a:lnTo>
                <a:lnTo>
                  <a:pt x="0" y="1704"/>
                </a:lnTo>
                <a:lnTo>
                  <a:pt x="0" y="1704"/>
                </a:lnTo>
                <a:lnTo>
                  <a:pt x="0" y="1704"/>
                </a:lnTo>
                <a:lnTo>
                  <a:pt x="0" y="1704"/>
                </a:lnTo>
                <a:lnTo>
                  <a:pt x="0" y="1704"/>
                </a:lnTo>
                <a:lnTo>
                  <a:pt x="18" y="1686"/>
                </a:lnTo>
                <a:lnTo>
                  <a:pt x="18" y="1668"/>
                </a:lnTo>
                <a:lnTo>
                  <a:pt x="35" y="1651"/>
                </a:lnTo>
                <a:lnTo>
                  <a:pt x="71" y="1633"/>
                </a:lnTo>
                <a:lnTo>
                  <a:pt x="89" y="1615"/>
                </a:lnTo>
                <a:lnTo>
                  <a:pt x="124" y="1597"/>
                </a:lnTo>
                <a:lnTo>
                  <a:pt x="195" y="1544"/>
                </a:lnTo>
                <a:lnTo>
                  <a:pt x="248" y="1473"/>
                </a:lnTo>
                <a:lnTo>
                  <a:pt x="302" y="1420"/>
                </a:lnTo>
                <a:lnTo>
                  <a:pt x="355" y="1349"/>
                </a:lnTo>
                <a:lnTo>
                  <a:pt x="373" y="1313"/>
                </a:lnTo>
                <a:lnTo>
                  <a:pt x="390" y="1278"/>
                </a:lnTo>
                <a:lnTo>
                  <a:pt x="408" y="1260"/>
                </a:lnTo>
                <a:lnTo>
                  <a:pt x="408" y="1225"/>
                </a:lnTo>
                <a:lnTo>
                  <a:pt x="426" y="1207"/>
                </a:lnTo>
                <a:lnTo>
                  <a:pt x="426" y="1207"/>
                </a:lnTo>
                <a:lnTo>
                  <a:pt x="426" y="1189"/>
                </a:lnTo>
                <a:lnTo>
                  <a:pt x="426" y="1189"/>
                </a:lnTo>
                <a:lnTo>
                  <a:pt x="426" y="1189"/>
                </a:lnTo>
                <a:lnTo>
                  <a:pt x="408" y="1189"/>
                </a:lnTo>
                <a:lnTo>
                  <a:pt x="390" y="1189"/>
                </a:lnTo>
                <a:lnTo>
                  <a:pt x="373" y="1189"/>
                </a:lnTo>
                <a:lnTo>
                  <a:pt x="355" y="1189"/>
                </a:lnTo>
                <a:lnTo>
                  <a:pt x="337" y="1189"/>
                </a:lnTo>
                <a:lnTo>
                  <a:pt x="319" y="1189"/>
                </a:lnTo>
                <a:lnTo>
                  <a:pt x="284" y="1189"/>
                </a:lnTo>
                <a:lnTo>
                  <a:pt x="248" y="1207"/>
                </a:lnTo>
                <a:lnTo>
                  <a:pt x="231" y="1207"/>
                </a:lnTo>
                <a:lnTo>
                  <a:pt x="195" y="1207"/>
                </a:lnTo>
                <a:lnTo>
                  <a:pt x="177" y="1207"/>
                </a:lnTo>
                <a:lnTo>
                  <a:pt x="160" y="1207"/>
                </a:lnTo>
                <a:lnTo>
                  <a:pt x="142" y="1207"/>
                </a:lnTo>
                <a:lnTo>
                  <a:pt x="142" y="1207"/>
                </a:lnTo>
                <a:lnTo>
                  <a:pt x="124" y="1207"/>
                </a:lnTo>
                <a:lnTo>
                  <a:pt x="106" y="1189"/>
                </a:lnTo>
                <a:lnTo>
                  <a:pt x="106" y="1189"/>
                </a:lnTo>
                <a:lnTo>
                  <a:pt x="89" y="1171"/>
                </a:lnTo>
                <a:lnTo>
                  <a:pt x="89" y="1154"/>
                </a:lnTo>
                <a:lnTo>
                  <a:pt x="89" y="1136"/>
                </a:lnTo>
                <a:lnTo>
                  <a:pt x="89" y="1136"/>
                </a:lnTo>
                <a:lnTo>
                  <a:pt x="106" y="1118"/>
                </a:lnTo>
                <a:lnTo>
                  <a:pt x="124" y="1118"/>
                </a:lnTo>
                <a:lnTo>
                  <a:pt x="142" y="1118"/>
                </a:lnTo>
                <a:lnTo>
                  <a:pt x="142" y="1136"/>
                </a:lnTo>
                <a:lnTo>
                  <a:pt x="160" y="1136"/>
                </a:lnTo>
                <a:lnTo>
                  <a:pt x="177" y="1118"/>
                </a:lnTo>
                <a:lnTo>
                  <a:pt x="213" y="1118"/>
                </a:lnTo>
                <a:lnTo>
                  <a:pt x="231" y="1118"/>
                </a:lnTo>
                <a:lnTo>
                  <a:pt x="266" y="1118"/>
                </a:lnTo>
                <a:lnTo>
                  <a:pt x="284" y="1118"/>
                </a:lnTo>
                <a:lnTo>
                  <a:pt x="284" y="1118"/>
                </a:lnTo>
                <a:close/>
                <a:moveTo>
                  <a:pt x="781" y="35"/>
                </a:moveTo>
                <a:lnTo>
                  <a:pt x="763" y="18"/>
                </a:lnTo>
                <a:lnTo>
                  <a:pt x="763" y="18"/>
                </a:lnTo>
                <a:lnTo>
                  <a:pt x="763" y="0"/>
                </a:lnTo>
                <a:lnTo>
                  <a:pt x="781" y="0"/>
                </a:lnTo>
                <a:lnTo>
                  <a:pt x="799" y="0"/>
                </a:lnTo>
                <a:lnTo>
                  <a:pt x="816" y="0"/>
                </a:lnTo>
                <a:lnTo>
                  <a:pt x="834" y="0"/>
                </a:lnTo>
                <a:lnTo>
                  <a:pt x="870" y="18"/>
                </a:lnTo>
                <a:lnTo>
                  <a:pt x="905" y="35"/>
                </a:lnTo>
                <a:lnTo>
                  <a:pt x="923" y="53"/>
                </a:lnTo>
                <a:lnTo>
                  <a:pt x="941" y="71"/>
                </a:lnTo>
                <a:lnTo>
                  <a:pt x="941" y="89"/>
                </a:lnTo>
                <a:lnTo>
                  <a:pt x="941" y="89"/>
                </a:lnTo>
                <a:lnTo>
                  <a:pt x="941" y="106"/>
                </a:lnTo>
                <a:lnTo>
                  <a:pt x="923" y="124"/>
                </a:lnTo>
                <a:lnTo>
                  <a:pt x="923" y="124"/>
                </a:lnTo>
                <a:lnTo>
                  <a:pt x="905" y="142"/>
                </a:lnTo>
                <a:lnTo>
                  <a:pt x="887" y="160"/>
                </a:lnTo>
                <a:lnTo>
                  <a:pt x="852" y="213"/>
                </a:lnTo>
                <a:lnTo>
                  <a:pt x="763" y="284"/>
                </a:lnTo>
                <a:lnTo>
                  <a:pt x="710" y="319"/>
                </a:lnTo>
                <a:lnTo>
                  <a:pt x="657" y="373"/>
                </a:lnTo>
                <a:lnTo>
                  <a:pt x="621" y="390"/>
                </a:lnTo>
                <a:lnTo>
                  <a:pt x="603" y="408"/>
                </a:lnTo>
                <a:lnTo>
                  <a:pt x="586" y="426"/>
                </a:lnTo>
                <a:lnTo>
                  <a:pt x="550" y="426"/>
                </a:lnTo>
                <a:lnTo>
                  <a:pt x="532" y="444"/>
                </a:lnTo>
                <a:lnTo>
                  <a:pt x="515" y="444"/>
                </a:lnTo>
                <a:lnTo>
                  <a:pt x="497" y="461"/>
                </a:lnTo>
                <a:lnTo>
                  <a:pt x="479" y="461"/>
                </a:lnTo>
                <a:lnTo>
                  <a:pt x="532" y="390"/>
                </a:lnTo>
                <a:lnTo>
                  <a:pt x="586" y="337"/>
                </a:lnTo>
                <a:lnTo>
                  <a:pt x="621" y="302"/>
                </a:lnTo>
                <a:lnTo>
                  <a:pt x="657" y="248"/>
                </a:lnTo>
                <a:lnTo>
                  <a:pt x="692" y="213"/>
                </a:lnTo>
                <a:lnTo>
                  <a:pt x="728" y="177"/>
                </a:lnTo>
                <a:lnTo>
                  <a:pt x="745" y="160"/>
                </a:lnTo>
                <a:lnTo>
                  <a:pt x="763" y="124"/>
                </a:lnTo>
                <a:lnTo>
                  <a:pt x="781" y="89"/>
                </a:lnTo>
                <a:lnTo>
                  <a:pt x="781" y="89"/>
                </a:lnTo>
                <a:lnTo>
                  <a:pt x="781" y="71"/>
                </a:lnTo>
                <a:lnTo>
                  <a:pt x="781" y="53"/>
                </a:lnTo>
                <a:lnTo>
                  <a:pt x="781" y="53"/>
                </a:lnTo>
                <a:lnTo>
                  <a:pt x="781" y="35"/>
                </a:lnTo>
                <a:lnTo>
                  <a:pt x="781" y="35"/>
                </a:lnTo>
                <a:lnTo>
                  <a:pt x="781" y="35"/>
                </a:lnTo>
                <a:close/>
                <a:moveTo>
                  <a:pt x="355" y="479"/>
                </a:moveTo>
                <a:lnTo>
                  <a:pt x="337" y="461"/>
                </a:lnTo>
                <a:lnTo>
                  <a:pt x="337" y="444"/>
                </a:lnTo>
                <a:lnTo>
                  <a:pt x="337" y="444"/>
                </a:lnTo>
                <a:lnTo>
                  <a:pt x="337" y="426"/>
                </a:lnTo>
                <a:lnTo>
                  <a:pt x="337" y="426"/>
                </a:lnTo>
                <a:lnTo>
                  <a:pt x="337" y="408"/>
                </a:lnTo>
                <a:lnTo>
                  <a:pt x="355" y="408"/>
                </a:lnTo>
                <a:lnTo>
                  <a:pt x="355" y="408"/>
                </a:lnTo>
                <a:lnTo>
                  <a:pt x="373" y="408"/>
                </a:lnTo>
                <a:lnTo>
                  <a:pt x="373" y="408"/>
                </a:lnTo>
                <a:lnTo>
                  <a:pt x="390" y="408"/>
                </a:lnTo>
                <a:lnTo>
                  <a:pt x="426" y="408"/>
                </a:lnTo>
                <a:lnTo>
                  <a:pt x="444" y="408"/>
                </a:lnTo>
                <a:lnTo>
                  <a:pt x="479" y="426"/>
                </a:lnTo>
                <a:lnTo>
                  <a:pt x="497" y="426"/>
                </a:lnTo>
                <a:lnTo>
                  <a:pt x="515" y="497"/>
                </a:lnTo>
                <a:lnTo>
                  <a:pt x="532" y="550"/>
                </a:lnTo>
                <a:lnTo>
                  <a:pt x="532" y="603"/>
                </a:lnTo>
                <a:lnTo>
                  <a:pt x="550" y="657"/>
                </a:lnTo>
                <a:lnTo>
                  <a:pt x="550" y="710"/>
                </a:lnTo>
                <a:lnTo>
                  <a:pt x="568" y="745"/>
                </a:lnTo>
                <a:lnTo>
                  <a:pt x="568" y="781"/>
                </a:lnTo>
                <a:lnTo>
                  <a:pt x="568" y="816"/>
                </a:lnTo>
                <a:lnTo>
                  <a:pt x="586" y="852"/>
                </a:lnTo>
                <a:lnTo>
                  <a:pt x="586" y="887"/>
                </a:lnTo>
                <a:lnTo>
                  <a:pt x="586" y="905"/>
                </a:lnTo>
                <a:lnTo>
                  <a:pt x="586" y="923"/>
                </a:lnTo>
                <a:lnTo>
                  <a:pt x="586" y="941"/>
                </a:lnTo>
                <a:lnTo>
                  <a:pt x="586" y="941"/>
                </a:lnTo>
                <a:lnTo>
                  <a:pt x="568" y="958"/>
                </a:lnTo>
                <a:lnTo>
                  <a:pt x="568" y="958"/>
                </a:lnTo>
                <a:lnTo>
                  <a:pt x="550" y="958"/>
                </a:lnTo>
                <a:lnTo>
                  <a:pt x="550" y="941"/>
                </a:lnTo>
                <a:lnTo>
                  <a:pt x="532" y="923"/>
                </a:lnTo>
                <a:lnTo>
                  <a:pt x="515" y="905"/>
                </a:lnTo>
                <a:lnTo>
                  <a:pt x="515" y="870"/>
                </a:lnTo>
                <a:lnTo>
                  <a:pt x="497" y="834"/>
                </a:lnTo>
                <a:lnTo>
                  <a:pt x="479" y="781"/>
                </a:lnTo>
                <a:lnTo>
                  <a:pt x="479" y="728"/>
                </a:lnTo>
                <a:lnTo>
                  <a:pt x="461" y="674"/>
                </a:lnTo>
                <a:lnTo>
                  <a:pt x="444" y="639"/>
                </a:lnTo>
                <a:lnTo>
                  <a:pt x="426" y="603"/>
                </a:lnTo>
                <a:lnTo>
                  <a:pt x="426" y="568"/>
                </a:lnTo>
                <a:lnTo>
                  <a:pt x="408" y="532"/>
                </a:lnTo>
                <a:lnTo>
                  <a:pt x="390" y="515"/>
                </a:lnTo>
                <a:lnTo>
                  <a:pt x="373" y="497"/>
                </a:lnTo>
                <a:lnTo>
                  <a:pt x="355" y="479"/>
                </a:lnTo>
                <a:lnTo>
                  <a:pt x="355" y="479"/>
                </a:lnTo>
                <a:close/>
                <a:moveTo>
                  <a:pt x="444" y="426"/>
                </a:moveTo>
                <a:lnTo>
                  <a:pt x="568" y="426"/>
                </a:lnTo>
                <a:lnTo>
                  <a:pt x="674" y="408"/>
                </a:lnTo>
                <a:lnTo>
                  <a:pt x="781" y="390"/>
                </a:lnTo>
                <a:lnTo>
                  <a:pt x="887" y="355"/>
                </a:lnTo>
                <a:lnTo>
                  <a:pt x="941" y="355"/>
                </a:lnTo>
                <a:lnTo>
                  <a:pt x="994" y="337"/>
                </a:lnTo>
                <a:lnTo>
                  <a:pt x="1029" y="337"/>
                </a:lnTo>
                <a:lnTo>
                  <a:pt x="1065" y="319"/>
                </a:lnTo>
                <a:lnTo>
                  <a:pt x="1083" y="319"/>
                </a:lnTo>
                <a:lnTo>
                  <a:pt x="1100" y="302"/>
                </a:lnTo>
                <a:lnTo>
                  <a:pt x="1118" y="302"/>
                </a:lnTo>
                <a:lnTo>
                  <a:pt x="1136" y="284"/>
                </a:lnTo>
                <a:lnTo>
                  <a:pt x="1154" y="284"/>
                </a:lnTo>
                <a:lnTo>
                  <a:pt x="1171" y="284"/>
                </a:lnTo>
                <a:lnTo>
                  <a:pt x="1171" y="284"/>
                </a:lnTo>
                <a:lnTo>
                  <a:pt x="1189" y="284"/>
                </a:lnTo>
                <a:lnTo>
                  <a:pt x="1225" y="302"/>
                </a:lnTo>
                <a:lnTo>
                  <a:pt x="1260" y="302"/>
                </a:lnTo>
                <a:lnTo>
                  <a:pt x="1296" y="337"/>
                </a:lnTo>
                <a:lnTo>
                  <a:pt x="1313" y="337"/>
                </a:lnTo>
                <a:lnTo>
                  <a:pt x="1349" y="355"/>
                </a:lnTo>
                <a:lnTo>
                  <a:pt x="1349" y="373"/>
                </a:lnTo>
                <a:lnTo>
                  <a:pt x="1367" y="373"/>
                </a:lnTo>
                <a:lnTo>
                  <a:pt x="1384" y="390"/>
                </a:lnTo>
                <a:lnTo>
                  <a:pt x="1384" y="390"/>
                </a:lnTo>
                <a:lnTo>
                  <a:pt x="1384" y="390"/>
                </a:lnTo>
                <a:lnTo>
                  <a:pt x="1402" y="408"/>
                </a:lnTo>
                <a:lnTo>
                  <a:pt x="1384" y="408"/>
                </a:lnTo>
                <a:lnTo>
                  <a:pt x="1384" y="426"/>
                </a:lnTo>
                <a:lnTo>
                  <a:pt x="1367" y="444"/>
                </a:lnTo>
                <a:lnTo>
                  <a:pt x="1349" y="444"/>
                </a:lnTo>
                <a:lnTo>
                  <a:pt x="1331" y="461"/>
                </a:lnTo>
                <a:lnTo>
                  <a:pt x="1313" y="461"/>
                </a:lnTo>
                <a:lnTo>
                  <a:pt x="1313" y="479"/>
                </a:lnTo>
                <a:lnTo>
                  <a:pt x="1296" y="515"/>
                </a:lnTo>
                <a:lnTo>
                  <a:pt x="1278" y="532"/>
                </a:lnTo>
                <a:lnTo>
                  <a:pt x="1260" y="568"/>
                </a:lnTo>
                <a:lnTo>
                  <a:pt x="1225" y="621"/>
                </a:lnTo>
                <a:lnTo>
                  <a:pt x="1207" y="657"/>
                </a:lnTo>
                <a:lnTo>
                  <a:pt x="1189" y="692"/>
                </a:lnTo>
                <a:lnTo>
                  <a:pt x="1171" y="745"/>
                </a:lnTo>
                <a:lnTo>
                  <a:pt x="1154" y="763"/>
                </a:lnTo>
                <a:lnTo>
                  <a:pt x="1118" y="799"/>
                </a:lnTo>
                <a:lnTo>
                  <a:pt x="1100" y="816"/>
                </a:lnTo>
                <a:lnTo>
                  <a:pt x="1083" y="834"/>
                </a:lnTo>
                <a:lnTo>
                  <a:pt x="1065" y="834"/>
                </a:lnTo>
                <a:lnTo>
                  <a:pt x="1029" y="852"/>
                </a:lnTo>
                <a:lnTo>
                  <a:pt x="1065" y="763"/>
                </a:lnTo>
                <a:lnTo>
                  <a:pt x="1100" y="692"/>
                </a:lnTo>
                <a:lnTo>
                  <a:pt x="1118" y="639"/>
                </a:lnTo>
                <a:lnTo>
                  <a:pt x="1136" y="586"/>
                </a:lnTo>
                <a:lnTo>
                  <a:pt x="1154" y="532"/>
                </a:lnTo>
                <a:lnTo>
                  <a:pt x="1154" y="515"/>
                </a:lnTo>
                <a:lnTo>
                  <a:pt x="1154" y="479"/>
                </a:lnTo>
                <a:lnTo>
                  <a:pt x="1171" y="479"/>
                </a:lnTo>
                <a:lnTo>
                  <a:pt x="1171" y="461"/>
                </a:lnTo>
                <a:lnTo>
                  <a:pt x="1154" y="444"/>
                </a:lnTo>
                <a:lnTo>
                  <a:pt x="1154" y="426"/>
                </a:lnTo>
                <a:lnTo>
                  <a:pt x="1136" y="408"/>
                </a:lnTo>
                <a:lnTo>
                  <a:pt x="1118" y="390"/>
                </a:lnTo>
                <a:lnTo>
                  <a:pt x="1100" y="390"/>
                </a:lnTo>
                <a:lnTo>
                  <a:pt x="1083" y="390"/>
                </a:lnTo>
                <a:lnTo>
                  <a:pt x="1065" y="390"/>
                </a:lnTo>
                <a:lnTo>
                  <a:pt x="1029" y="390"/>
                </a:lnTo>
                <a:lnTo>
                  <a:pt x="994" y="408"/>
                </a:lnTo>
                <a:lnTo>
                  <a:pt x="958" y="408"/>
                </a:lnTo>
                <a:lnTo>
                  <a:pt x="941" y="426"/>
                </a:lnTo>
                <a:lnTo>
                  <a:pt x="923" y="426"/>
                </a:lnTo>
                <a:lnTo>
                  <a:pt x="905" y="426"/>
                </a:lnTo>
                <a:lnTo>
                  <a:pt x="887" y="426"/>
                </a:lnTo>
                <a:lnTo>
                  <a:pt x="870" y="444"/>
                </a:lnTo>
                <a:lnTo>
                  <a:pt x="834" y="444"/>
                </a:lnTo>
                <a:lnTo>
                  <a:pt x="816" y="444"/>
                </a:lnTo>
                <a:lnTo>
                  <a:pt x="781" y="444"/>
                </a:lnTo>
                <a:lnTo>
                  <a:pt x="745" y="461"/>
                </a:lnTo>
                <a:lnTo>
                  <a:pt x="710" y="461"/>
                </a:lnTo>
                <a:lnTo>
                  <a:pt x="674" y="461"/>
                </a:lnTo>
                <a:lnTo>
                  <a:pt x="639" y="479"/>
                </a:lnTo>
                <a:lnTo>
                  <a:pt x="586" y="479"/>
                </a:lnTo>
                <a:lnTo>
                  <a:pt x="532" y="479"/>
                </a:lnTo>
                <a:lnTo>
                  <a:pt x="497" y="497"/>
                </a:lnTo>
                <a:lnTo>
                  <a:pt x="444" y="497"/>
                </a:lnTo>
                <a:lnTo>
                  <a:pt x="444" y="426"/>
                </a:lnTo>
                <a:lnTo>
                  <a:pt x="444" y="426"/>
                </a:lnTo>
                <a:close/>
                <a:moveTo>
                  <a:pt x="905" y="550"/>
                </a:moveTo>
                <a:lnTo>
                  <a:pt x="923" y="550"/>
                </a:lnTo>
                <a:lnTo>
                  <a:pt x="923" y="568"/>
                </a:lnTo>
                <a:lnTo>
                  <a:pt x="941" y="568"/>
                </a:lnTo>
                <a:lnTo>
                  <a:pt x="958" y="568"/>
                </a:lnTo>
                <a:lnTo>
                  <a:pt x="976" y="586"/>
                </a:lnTo>
                <a:lnTo>
                  <a:pt x="976" y="586"/>
                </a:lnTo>
                <a:lnTo>
                  <a:pt x="994" y="603"/>
                </a:lnTo>
                <a:lnTo>
                  <a:pt x="994" y="603"/>
                </a:lnTo>
                <a:lnTo>
                  <a:pt x="994" y="621"/>
                </a:lnTo>
                <a:lnTo>
                  <a:pt x="976" y="621"/>
                </a:lnTo>
                <a:lnTo>
                  <a:pt x="976" y="621"/>
                </a:lnTo>
                <a:lnTo>
                  <a:pt x="958" y="621"/>
                </a:lnTo>
                <a:lnTo>
                  <a:pt x="941" y="639"/>
                </a:lnTo>
                <a:lnTo>
                  <a:pt x="905" y="639"/>
                </a:lnTo>
                <a:lnTo>
                  <a:pt x="887" y="639"/>
                </a:lnTo>
                <a:lnTo>
                  <a:pt x="852" y="657"/>
                </a:lnTo>
                <a:lnTo>
                  <a:pt x="763" y="657"/>
                </a:lnTo>
                <a:lnTo>
                  <a:pt x="692" y="674"/>
                </a:lnTo>
                <a:lnTo>
                  <a:pt x="603" y="674"/>
                </a:lnTo>
                <a:lnTo>
                  <a:pt x="497" y="674"/>
                </a:lnTo>
                <a:lnTo>
                  <a:pt x="497" y="639"/>
                </a:lnTo>
                <a:lnTo>
                  <a:pt x="550" y="621"/>
                </a:lnTo>
                <a:lnTo>
                  <a:pt x="603" y="621"/>
                </a:lnTo>
                <a:lnTo>
                  <a:pt x="639" y="603"/>
                </a:lnTo>
                <a:lnTo>
                  <a:pt x="674" y="603"/>
                </a:lnTo>
                <a:lnTo>
                  <a:pt x="710" y="586"/>
                </a:lnTo>
                <a:lnTo>
                  <a:pt x="745" y="586"/>
                </a:lnTo>
                <a:lnTo>
                  <a:pt x="763" y="586"/>
                </a:lnTo>
                <a:lnTo>
                  <a:pt x="799" y="568"/>
                </a:lnTo>
                <a:lnTo>
                  <a:pt x="816" y="568"/>
                </a:lnTo>
                <a:lnTo>
                  <a:pt x="834" y="568"/>
                </a:lnTo>
                <a:lnTo>
                  <a:pt x="852" y="568"/>
                </a:lnTo>
                <a:lnTo>
                  <a:pt x="870" y="568"/>
                </a:lnTo>
                <a:lnTo>
                  <a:pt x="887" y="550"/>
                </a:lnTo>
                <a:lnTo>
                  <a:pt x="887" y="550"/>
                </a:lnTo>
                <a:lnTo>
                  <a:pt x="905" y="550"/>
                </a:lnTo>
                <a:lnTo>
                  <a:pt x="905" y="550"/>
                </a:lnTo>
                <a:lnTo>
                  <a:pt x="905" y="550"/>
                </a:lnTo>
                <a:close/>
                <a:moveTo>
                  <a:pt x="568" y="852"/>
                </a:moveTo>
                <a:lnTo>
                  <a:pt x="763" y="834"/>
                </a:lnTo>
                <a:lnTo>
                  <a:pt x="781" y="834"/>
                </a:lnTo>
                <a:lnTo>
                  <a:pt x="816" y="834"/>
                </a:lnTo>
                <a:lnTo>
                  <a:pt x="852" y="816"/>
                </a:lnTo>
                <a:lnTo>
                  <a:pt x="887" y="816"/>
                </a:lnTo>
                <a:lnTo>
                  <a:pt x="923" y="816"/>
                </a:lnTo>
                <a:lnTo>
                  <a:pt x="976" y="799"/>
                </a:lnTo>
                <a:lnTo>
                  <a:pt x="1029" y="799"/>
                </a:lnTo>
                <a:lnTo>
                  <a:pt x="1100" y="781"/>
                </a:lnTo>
                <a:lnTo>
                  <a:pt x="1100" y="816"/>
                </a:lnTo>
                <a:lnTo>
                  <a:pt x="1118" y="834"/>
                </a:lnTo>
                <a:lnTo>
                  <a:pt x="1118" y="852"/>
                </a:lnTo>
                <a:lnTo>
                  <a:pt x="1118" y="852"/>
                </a:lnTo>
                <a:lnTo>
                  <a:pt x="1100" y="870"/>
                </a:lnTo>
                <a:lnTo>
                  <a:pt x="1100" y="870"/>
                </a:lnTo>
                <a:lnTo>
                  <a:pt x="1065" y="870"/>
                </a:lnTo>
                <a:lnTo>
                  <a:pt x="1047" y="870"/>
                </a:lnTo>
                <a:lnTo>
                  <a:pt x="1029" y="870"/>
                </a:lnTo>
                <a:lnTo>
                  <a:pt x="1029" y="870"/>
                </a:lnTo>
                <a:lnTo>
                  <a:pt x="1012" y="870"/>
                </a:lnTo>
                <a:lnTo>
                  <a:pt x="994" y="870"/>
                </a:lnTo>
                <a:lnTo>
                  <a:pt x="976" y="887"/>
                </a:lnTo>
                <a:lnTo>
                  <a:pt x="958" y="887"/>
                </a:lnTo>
                <a:lnTo>
                  <a:pt x="923" y="887"/>
                </a:lnTo>
                <a:lnTo>
                  <a:pt x="905" y="887"/>
                </a:lnTo>
                <a:lnTo>
                  <a:pt x="870" y="887"/>
                </a:lnTo>
                <a:lnTo>
                  <a:pt x="834" y="887"/>
                </a:lnTo>
                <a:lnTo>
                  <a:pt x="799" y="887"/>
                </a:lnTo>
                <a:lnTo>
                  <a:pt x="763" y="905"/>
                </a:lnTo>
                <a:lnTo>
                  <a:pt x="728" y="905"/>
                </a:lnTo>
                <a:lnTo>
                  <a:pt x="674" y="905"/>
                </a:lnTo>
                <a:lnTo>
                  <a:pt x="621" y="905"/>
                </a:lnTo>
                <a:lnTo>
                  <a:pt x="568" y="905"/>
                </a:lnTo>
                <a:lnTo>
                  <a:pt x="568" y="852"/>
                </a:lnTo>
                <a:lnTo>
                  <a:pt x="568" y="852"/>
                </a:lnTo>
                <a:close/>
                <a:moveTo>
                  <a:pt x="728" y="1686"/>
                </a:moveTo>
                <a:lnTo>
                  <a:pt x="745" y="1668"/>
                </a:lnTo>
                <a:lnTo>
                  <a:pt x="745" y="1651"/>
                </a:lnTo>
                <a:lnTo>
                  <a:pt x="745" y="1633"/>
                </a:lnTo>
                <a:lnTo>
                  <a:pt x="745" y="1597"/>
                </a:lnTo>
                <a:lnTo>
                  <a:pt x="763" y="1544"/>
                </a:lnTo>
                <a:lnTo>
                  <a:pt x="763" y="1509"/>
                </a:lnTo>
                <a:lnTo>
                  <a:pt x="763" y="1438"/>
                </a:lnTo>
                <a:lnTo>
                  <a:pt x="763" y="1384"/>
                </a:lnTo>
                <a:lnTo>
                  <a:pt x="763" y="1313"/>
                </a:lnTo>
                <a:lnTo>
                  <a:pt x="763" y="1260"/>
                </a:lnTo>
                <a:lnTo>
                  <a:pt x="763" y="1207"/>
                </a:lnTo>
                <a:lnTo>
                  <a:pt x="763" y="1171"/>
                </a:lnTo>
                <a:lnTo>
                  <a:pt x="763" y="1118"/>
                </a:lnTo>
                <a:lnTo>
                  <a:pt x="763" y="1100"/>
                </a:lnTo>
                <a:lnTo>
                  <a:pt x="763" y="1065"/>
                </a:lnTo>
                <a:lnTo>
                  <a:pt x="763" y="1047"/>
                </a:lnTo>
                <a:lnTo>
                  <a:pt x="763" y="1012"/>
                </a:lnTo>
                <a:lnTo>
                  <a:pt x="745" y="976"/>
                </a:lnTo>
                <a:lnTo>
                  <a:pt x="710" y="941"/>
                </a:lnTo>
                <a:lnTo>
                  <a:pt x="692" y="887"/>
                </a:lnTo>
                <a:lnTo>
                  <a:pt x="728" y="905"/>
                </a:lnTo>
                <a:lnTo>
                  <a:pt x="763" y="923"/>
                </a:lnTo>
                <a:lnTo>
                  <a:pt x="799" y="941"/>
                </a:lnTo>
                <a:lnTo>
                  <a:pt x="816" y="958"/>
                </a:lnTo>
                <a:lnTo>
                  <a:pt x="852" y="958"/>
                </a:lnTo>
                <a:lnTo>
                  <a:pt x="852" y="976"/>
                </a:lnTo>
                <a:lnTo>
                  <a:pt x="870" y="994"/>
                </a:lnTo>
                <a:lnTo>
                  <a:pt x="870" y="994"/>
                </a:lnTo>
                <a:lnTo>
                  <a:pt x="870" y="1012"/>
                </a:lnTo>
                <a:lnTo>
                  <a:pt x="870" y="1029"/>
                </a:lnTo>
                <a:lnTo>
                  <a:pt x="870" y="1047"/>
                </a:lnTo>
                <a:lnTo>
                  <a:pt x="870" y="1065"/>
                </a:lnTo>
                <a:lnTo>
                  <a:pt x="870" y="1083"/>
                </a:lnTo>
                <a:lnTo>
                  <a:pt x="852" y="1118"/>
                </a:lnTo>
                <a:lnTo>
                  <a:pt x="852" y="1136"/>
                </a:lnTo>
                <a:lnTo>
                  <a:pt x="852" y="1171"/>
                </a:lnTo>
                <a:lnTo>
                  <a:pt x="852" y="1260"/>
                </a:lnTo>
                <a:lnTo>
                  <a:pt x="852" y="1331"/>
                </a:lnTo>
                <a:lnTo>
                  <a:pt x="852" y="1420"/>
                </a:lnTo>
                <a:lnTo>
                  <a:pt x="870" y="1491"/>
                </a:lnTo>
                <a:lnTo>
                  <a:pt x="870" y="1544"/>
                </a:lnTo>
                <a:lnTo>
                  <a:pt x="870" y="1580"/>
                </a:lnTo>
                <a:lnTo>
                  <a:pt x="870" y="1615"/>
                </a:lnTo>
                <a:lnTo>
                  <a:pt x="870" y="1651"/>
                </a:lnTo>
                <a:lnTo>
                  <a:pt x="870" y="1686"/>
                </a:lnTo>
                <a:lnTo>
                  <a:pt x="870" y="1704"/>
                </a:lnTo>
                <a:lnTo>
                  <a:pt x="870" y="1722"/>
                </a:lnTo>
                <a:lnTo>
                  <a:pt x="870" y="1739"/>
                </a:lnTo>
                <a:lnTo>
                  <a:pt x="852" y="1775"/>
                </a:lnTo>
                <a:lnTo>
                  <a:pt x="834" y="1810"/>
                </a:lnTo>
                <a:lnTo>
                  <a:pt x="816" y="1846"/>
                </a:lnTo>
                <a:lnTo>
                  <a:pt x="799" y="1864"/>
                </a:lnTo>
                <a:lnTo>
                  <a:pt x="781" y="1881"/>
                </a:lnTo>
                <a:lnTo>
                  <a:pt x="763" y="1899"/>
                </a:lnTo>
                <a:lnTo>
                  <a:pt x="745" y="1899"/>
                </a:lnTo>
                <a:lnTo>
                  <a:pt x="728" y="1899"/>
                </a:lnTo>
                <a:lnTo>
                  <a:pt x="728" y="1899"/>
                </a:lnTo>
                <a:lnTo>
                  <a:pt x="710" y="1881"/>
                </a:lnTo>
                <a:lnTo>
                  <a:pt x="710" y="1864"/>
                </a:lnTo>
                <a:lnTo>
                  <a:pt x="692" y="1846"/>
                </a:lnTo>
                <a:lnTo>
                  <a:pt x="692" y="1810"/>
                </a:lnTo>
                <a:lnTo>
                  <a:pt x="674" y="1775"/>
                </a:lnTo>
                <a:lnTo>
                  <a:pt x="639" y="1757"/>
                </a:lnTo>
                <a:lnTo>
                  <a:pt x="603" y="1722"/>
                </a:lnTo>
                <a:lnTo>
                  <a:pt x="586" y="1704"/>
                </a:lnTo>
                <a:lnTo>
                  <a:pt x="550" y="1704"/>
                </a:lnTo>
                <a:lnTo>
                  <a:pt x="550" y="1686"/>
                </a:lnTo>
                <a:lnTo>
                  <a:pt x="532" y="1668"/>
                </a:lnTo>
                <a:lnTo>
                  <a:pt x="515" y="1668"/>
                </a:lnTo>
                <a:lnTo>
                  <a:pt x="515" y="1668"/>
                </a:lnTo>
                <a:lnTo>
                  <a:pt x="515" y="1651"/>
                </a:lnTo>
                <a:lnTo>
                  <a:pt x="515" y="1651"/>
                </a:lnTo>
                <a:lnTo>
                  <a:pt x="515" y="1651"/>
                </a:lnTo>
                <a:lnTo>
                  <a:pt x="515" y="1651"/>
                </a:lnTo>
                <a:lnTo>
                  <a:pt x="532" y="1651"/>
                </a:lnTo>
                <a:lnTo>
                  <a:pt x="532" y="1651"/>
                </a:lnTo>
                <a:lnTo>
                  <a:pt x="550" y="1651"/>
                </a:lnTo>
                <a:lnTo>
                  <a:pt x="568" y="1668"/>
                </a:lnTo>
                <a:lnTo>
                  <a:pt x="586" y="1668"/>
                </a:lnTo>
                <a:lnTo>
                  <a:pt x="621" y="1686"/>
                </a:lnTo>
                <a:lnTo>
                  <a:pt x="639" y="1686"/>
                </a:lnTo>
                <a:lnTo>
                  <a:pt x="657" y="1704"/>
                </a:lnTo>
                <a:lnTo>
                  <a:pt x="674" y="1704"/>
                </a:lnTo>
                <a:lnTo>
                  <a:pt x="692" y="1704"/>
                </a:lnTo>
                <a:lnTo>
                  <a:pt x="710" y="1704"/>
                </a:lnTo>
                <a:lnTo>
                  <a:pt x="728" y="1704"/>
                </a:lnTo>
                <a:lnTo>
                  <a:pt x="728" y="1686"/>
                </a:lnTo>
                <a:lnTo>
                  <a:pt x="728" y="1686"/>
                </a:lnTo>
                <a:lnTo>
                  <a:pt x="728" y="1686"/>
                </a:lnTo>
                <a:close/>
                <a:moveTo>
                  <a:pt x="1402" y="905"/>
                </a:moveTo>
                <a:lnTo>
                  <a:pt x="1402" y="923"/>
                </a:lnTo>
                <a:lnTo>
                  <a:pt x="1402" y="923"/>
                </a:lnTo>
                <a:lnTo>
                  <a:pt x="1402" y="941"/>
                </a:lnTo>
                <a:lnTo>
                  <a:pt x="1384" y="941"/>
                </a:lnTo>
                <a:lnTo>
                  <a:pt x="1367" y="958"/>
                </a:lnTo>
                <a:lnTo>
                  <a:pt x="1367" y="958"/>
                </a:lnTo>
                <a:lnTo>
                  <a:pt x="1349" y="976"/>
                </a:lnTo>
                <a:lnTo>
                  <a:pt x="1331" y="994"/>
                </a:lnTo>
                <a:lnTo>
                  <a:pt x="1296" y="1012"/>
                </a:lnTo>
                <a:lnTo>
                  <a:pt x="1278" y="1029"/>
                </a:lnTo>
                <a:lnTo>
                  <a:pt x="1242" y="1047"/>
                </a:lnTo>
                <a:lnTo>
                  <a:pt x="1189" y="1065"/>
                </a:lnTo>
                <a:lnTo>
                  <a:pt x="1154" y="1100"/>
                </a:lnTo>
                <a:lnTo>
                  <a:pt x="1100" y="1136"/>
                </a:lnTo>
                <a:lnTo>
                  <a:pt x="1047" y="1171"/>
                </a:lnTo>
                <a:lnTo>
                  <a:pt x="994" y="1207"/>
                </a:lnTo>
                <a:lnTo>
                  <a:pt x="958" y="1171"/>
                </a:lnTo>
                <a:lnTo>
                  <a:pt x="1012" y="1136"/>
                </a:lnTo>
                <a:lnTo>
                  <a:pt x="1065" y="1083"/>
                </a:lnTo>
                <a:lnTo>
                  <a:pt x="1100" y="1047"/>
                </a:lnTo>
                <a:lnTo>
                  <a:pt x="1136" y="1012"/>
                </a:lnTo>
                <a:lnTo>
                  <a:pt x="1171" y="976"/>
                </a:lnTo>
                <a:lnTo>
                  <a:pt x="1189" y="958"/>
                </a:lnTo>
                <a:lnTo>
                  <a:pt x="1207" y="941"/>
                </a:lnTo>
                <a:lnTo>
                  <a:pt x="1225" y="905"/>
                </a:lnTo>
                <a:lnTo>
                  <a:pt x="1242" y="887"/>
                </a:lnTo>
                <a:lnTo>
                  <a:pt x="1260" y="870"/>
                </a:lnTo>
                <a:lnTo>
                  <a:pt x="1260" y="834"/>
                </a:lnTo>
                <a:lnTo>
                  <a:pt x="1260" y="816"/>
                </a:lnTo>
                <a:lnTo>
                  <a:pt x="1242" y="816"/>
                </a:lnTo>
                <a:lnTo>
                  <a:pt x="1242" y="799"/>
                </a:lnTo>
                <a:lnTo>
                  <a:pt x="1242" y="781"/>
                </a:lnTo>
                <a:lnTo>
                  <a:pt x="1260" y="781"/>
                </a:lnTo>
                <a:lnTo>
                  <a:pt x="1260" y="781"/>
                </a:lnTo>
                <a:lnTo>
                  <a:pt x="1278" y="781"/>
                </a:lnTo>
                <a:lnTo>
                  <a:pt x="1313" y="799"/>
                </a:lnTo>
                <a:lnTo>
                  <a:pt x="1331" y="816"/>
                </a:lnTo>
                <a:lnTo>
                  <a:pt x="1367" y="852"/>
                </a:lnTo>
                <a:lnTo>
                  <a:pt x="1384" y="870"/>
                </a:lnTo>
                <a:lnTo>
                  <a:pt x="1402" y="887"/>
                </a:lnTo>
                <a:lnTo>
                  <a:pt x="1402" y="905"/>
                </a:lnTo>
                <a:lnTo>
                  <a:pt x="1402" y="905"/>
                </a:lnTo>
                <a:close/>
                <a:moveTo>
                  <a:pt x="1384" y="1384"/>
                </a:moveTo>
                <a:lnTo>
                  <a:pt x="1473" y="1420"/>
                </a:lnTo>
                <a:lnTo>
                  <a:pt x="1562" y="1455"/>
                </a:lnTo>
                <a:lnTo>
                  <a:pt x="1651" y="1491"/>
                </a:lnTo>
                <a:lnTo>
                  <a:pt x="1739" y="1509"/>
                </a:lnTo>
                <a:lnTo>
                  <a:pt x="1775" y="1509"/>
                </a:lnTo>
                <a:lnTo>
                  <a:pt x="1810" y="1526"/>
                </a:lnTo>
                <a:lnTo>
                  <a:pt x="1846" y="1544"/>
                </a:lnTo>
                <a:lnTo>
                  <a:pt x="1864" y="1544"/>
                </a:lnTo>
                <a:lnTo>
                  <a:pt x="1881" y="1544"/>
                </a:lnTo>
                <a:lnTo>
                  <a:pt x="1899" y="1562"/>
                </a:lnTo>
                <a:lnTo>
                  <a:pt x="1899" y="1562"/>
                </a:lnTo>
                <a:lnTo>
                  <a:pt x="1899" y="1562"/>
                </a:lnTo>
                <a:lnTo>
                  <a:pt x="1899" y="1580"/>
                </a:lnTo>
                <a:lnTo>
                  <a:pt x="1881" y="1580"/>
                </a:lnTo>
                <a:lnTo>
                  <a:pt x="1881" y="1580"/>
                </a:lnTo>
                <a:lnTo>
                  <a:pt x="1864" y="1580"/>
                </a:lnTo>
                <a:lnTo>
                  <a:pt x="1846" y="1580"/>
                </a:lnTo>
                <a:lnTo>
                  <a:pt x="1810" y="1597"/>
                </a:lnTo>
                <a:lnTo>
                  <a:pt x="1793" y="1597"/>
                </a:lnTo>
                <a:lnTo>
                  <a:pt x="1757" y="1597"/>
                </a:lnTo>
                <a:lnTo>
                  <a:pt x="1704" y="1615"/>
                </a:lnTo>
                <a:lnTo>
                  <a:pt x="1651" y="1615"/>
                </a:lnTo>
                <a:lnTo>
                  <a:pt x="1615" y="1615"/>
                </a:lnTo>
                <a:lnTo>
                  <a:pt x="1597" y="1615"/>
                </a:lnTo>
                <a:lnTo>
                  <a:pt x="1580" y="1615"/>
                </a:lnTo>
                <a:lnTo>
                  <a:pt x="1562" y="1615"/>
                </a:lnTo>
                <a:lnTo>
                  <a:pt x="1526" y="1615"/>
                </a:lnTo>
                <a:lnTo>
                  <a:pt x="1509" y="1615"/>
                </a:lnTo>
                <a:lnTo>
                  <a:pt x="1491" y="1615"/>
                </a:lnTo>
                <a:lnTo>
                  <a:pt x="1473" y="1615"/>
                </a:lnTo>
                <a:lnTo>
                  <a:pt x="1455" y="1615"/>
                </a:lnTo>
                <a:lnTo>
                  <a:pt x="1438" y="1615"/>
                </a:lnTo>
                <a:lnTo>
                  <a:pt x="1438" y="1597"/>
                </a:lnTo>
                <a:lnTo>
                  <a:pt x="1420" y="1597"/>
                </a:lnTo>
                <a:lnTo>
                  <a:pt x="1384" y="1580"/>
                </a:lnTo>
                <a:lnTo>
                  <a:pt x="1367" y="1562"/>
                </a:lnTo>
                <a:lnTo>
                  <a:pt x="1349" y="1544"/>
                </a:lnTo>
                <a:lnTo>
                  <a:pt x="1331" y="1526"/>
                </a:lnTo>
                <a:lnTo>
                  <a:pt x="1313" y="1509"/>
                </a:lnTo>
                <a:lnTo>
                  <a:pt x="1296" y="1491"/>
                </a:lnTo>
                <a:lnTo>
                  <a:pt x="1278" y="1473"/>
                </a:lnTo>
                <a:lnTo>
                  <a:pt x="1242" y="1455"/>
                </a:lnTo>
                <a:lnTo>
                  <a:pt x="1225" y="1438"/>
                </a:lnTo>
                <a:lnTo>
                  <a:pt x="1207" y="1420"/>
                </a:lnTo>
                <a:lnTo>
                  <a:pt x="1171" y="1384"/>
                </a:lnTo>
                <a:lnTo>
                  <a:pt x="1136" y="1367"/>
                </a:lnTo>
                <a:lnTo>
                  <a:pt x="1100" y="1331"/>
                </a:lnTo>
                <a:lnTo>
                  <a:pt x="1065" y="1313"/>
                </a:lnTo>
                <a:lnTo>
                  <a:pt x="1029" y="1278"/>
                </a:lnTo>
                <a:lnTo>
                  <a:pt x="976" y="1242"/>
                </a:lnTo>
                <a:lnTo>
                  <a:pt x="941" y="1207"/>
                </a:lnTo>
                <a:lnTo>
                  <a:pt x="887" y="1171"/>
                </a:lnTo>
                <a:lnTo>
                  <a:pt x="834" y="1136"/>
                </a:lnTo>
                <a:lnTo>
                  <a:pt x="799" y="1083"/>
                </a:lnTo>
                <a:lnTo>
                  <a:pt x="799" y="1029"/>
                </a:lnTo>
                <a:lnTo>
                  <a:pt x="834" y="1047"/>
                </a:lnTo>
                <a:lnTo>
                  <a:pt x="852" y="1065"/>
                </a:lnTo>
                <a:lnTo>
                  <a:pt x="870" y="1065"/>
                </a:lnTo>
                <a:lnTo>
                  <a:pt x="870" y="1083"/>
                </a:lnTo>
                <a:lnTo>
                  <a:pt x="887" y="1083"/>
                </a:lnTo>
                <a:lnTo>
                  <a:pt x="887" y="1083"/>
                </a:lnTo>
                <a:lnTo>
                  <a:pt x="905" y="1100"/>
                </a:lnTo>
                <a:lnTo>
                  <a:pt x="923" y="1118"/>
                </a:lnTo>
                <a:lnTo>
                  <a:pt x="941" y="1136"/>
                </a:lnTo>
                <a:lnTo>
                  <a:pt x="976" y="1154"/>
                </a:lnTo>
                <a:lnTo>
                  <a:pt x="1012" y="1171"/>
                </a:lnTo>
                <a:lnTo>
                  <a:pt x="1047" y="1189"/>
                </a:lnTo>
                <a:lnTo>
                  <a:pt x="1118" y="1242"/>
                </a:lnTo>
                <a:lnTo>
                  <a:pt x="1207" y="1296"/>
                </a:lnTo>
                <a:lnTo>
                  <a:pt x="1296" y="1349"/>
                </a:lnTo>
                <a:lnTo>
                  <a:pt x="1384" y="1384"/>
                </a:lnTo>
                <a:lnTo>
                  <a:pt x="1384" y="138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6"/>
          <p:cNvSpPr/>
          <p:nvPr/>
        </p:nvSpPr>
        <p:spPr>
          <a:xfrm>
            <a:off x="5495760" y="3678120"/>
            <a:ext cx="998640" cy="1027080"/>
          </a:xfrm>
          <a:custGeom>
            <a:avLst/>
            <a:gdLst/>
            <a:ahLst/>
            <a:rect l="l" t="t" r="r" b="b"/>
            <a:pathLst>
              <a:path w="639" h="657">
                <a:moveTo>
                  <a:pt x="284" y="71"/>
                </a:moveTo>
                <a:lnTo>
                  <a:pt x="319" y="71"/>
                </a:lnTo>
                <a:lnTo>
                  <a:pt x="355" y="53"/>
                </a:lnTo>
                <a:lnTo>
                  <a:pt x="373" y="53"/>
                </a:lnTo>
                <a:lnTo>
                  <a:pt x="390" y="53"/>
                </a:lnTo>
                <a:lnTo>
                  <a:pt x="408" y="53"/>
                </a:lnTo>
                <a:lnTo>
                  <a:pt x="426" y="36"/>
                </a:lnTo>
                <a:lnTo>
                  <a:pt x="426" y="36"/>
                </a:lnTo>
                <a:lnTo>
                  <a:pt x="444" y="36"/>
                </a:lnTo>
                <a:lnTo>
                  <a:pt x="461" y="18"/>
                </a:lnTo>
                <a:lnTo>
                  <a:pt x="461" y="18"/>
                </a:lnTo>
                <a:lnTo>
                  <a:pt x="479" y="0"/>
                </a:lnTo>
                <a:lnTo>
                  <a:pt x="497" y="0"/>
                </a:lnTo>
                <a:lnTo>
                  <a:pt x="497" y="18"/>
                </a:lnTo>
                <a:lnTo>
                  <a:pt x="532" y="18"/>
                </a:lnTo>
                <a:lnTo>
                  <a:pt x="550" y="36"/>
                </a:lnTo>
                <a:lnTo>
                  <a:pt x="568" y="53"/>
                </a:lnTo>
                <a:lnTo>
                  <a:pt x="603" y="89"/>
                </a:lnTo>
                <a:lnTo>
                  <a:pt x="621" y="107"/>
                </a:lnTo>
                <a:lnTo>
                  <a:pt x="621" y="124"/>
                </a:lnTo>
                <a:lnTo>
                  <a:pt x="639" y="124"/>
                </a:lnTo>
                <a:lnTo>
                  <a:pt x="621" y="142"/>
                </a:lnTo>
                <a:lnTo>
                  <a:pt x="621" y="142"/>
                </a:lnTo>
                <a:lnTo>
                  <a:pt x="603" y="160"/>
                </a:lnTo>
                <a:lnTo>
                  <a:pt x="586" y="160"/>
                </a:lnTo>
                <a:lnTo>
                  <a:pt x="586" y="160"/>
                </a:lnTo>
                <a:lnTo>
                  <a:pt x="568" y="178"/>
                </a:lnTo>
                <a:lnTo>
                  <a:pt x="568" y="178"/>
                </a:lnTo>
                <a:lnTo>
                  <a:pt x="550" y="195"/>
                </a:lnTo>
                <a:lnTo>
                  <a:pt x="532" y="213"/>
                </a:lnTo>
                <a:lnTo>
                  <a:pt x="515" y="231"/>
                </a:lnTo>
                <a:lnTo>
                  <a:pt x="497" y="249"/>
                </a:lnTo>
                <a:lnTo>
                  <a:pt x="497" y="284"/>
                </a:lnTo>
                <a:lnTo>
                  <a:pt x="444" y="337"/>
                </a:lnTo>
                <a:lnTo>
                  <a:pt x="408" y="391"/>
                </a:lnTo>
                <a:lnTo>
                  <a:pt x="355" y="426"/>
                </a:lnTo>
                <a:lnTo>
                  <a:pt x="302" y="479"/>
                </a:lnTo>
                <a:lnTo>
                  <a:pt x="248" y="533"/>
                </a:lnTo>
                <a:lnTo>
                  <a:pt x="195" y="568"/>
                </a:lnTo>
                <a:lnTo>
                  <a:pt x="142" y="604"/>
                </a:lnTo>
                <a:lnTo>
                  <a:pt x="106" y="621"/>
                </a:lnTo>
                <a:lnTo>
                  <a:pt x="71" y="639"/>
                </a:lnTo>
                <a:lnTo>
                  <a:pt x="53" y="639"/>
                </a:lnTo>
                <a:lnTo>
                  <a:pt x="35" y="657"/>
                </a:lnTo>
                <a:lnTo>
                  <a:pt x="18" y="657"/>
                </a:lnTo>
                <a:lnTo>
                  <a:pt x="18" y="657"/>
                </a:lnTo>
                <a:lnTo>
                  <a:pt x="0" y="657"/>
                </a:lnTo>
                <a:lnTo>
                  <a:pt x="0" y="657"/>
                </a:lnTo>
                <a:lnTo>
                  <a:pt x="0" y="657"/>
                </a:lnTo>
                <a:lnTo>
                  <a:pt x="0" y="657"/>
                </a:lnTo>
                <a:lnTo>
                  <a:pt x="0" y="657"/>
                </a:lnTo>
                <a:lnTo>
                  <a:pt x="18" y="639"/>
                </a:lnTo>
                <a:lnTo>
                  <a:pt x="18" y="621"/>
                </a:lnTo>
                <a:lnTo>
                  <a:pt x="35" y="604"/>
                </a:lnTo>
                <a:lnTo>
                  <a:pt x="71" y="586"/>
                </a:lnTo>
                <a:lnTo>
                  <a:pt x="89" y="568"/>
                </a:lnTo>
                <a:lnTo>
                  <a:pt x="124" y="550"/>
                </a:lnTo>
                <a:lnTo>
                  <a:pt x="195" y="497"/>
                </a:lnTo>
                <a:lnTo>
                  <a:pt x="248" y="426"/>
                </a:lnTo>
                <a:lnTo>
                  <a:pt x="302" y="373"/>
                </a:lnTo>
                <a:lnTo>
                  <a:pt x="355" y="302"/>
                </a:lnTo>
                <a:lnTo>
                  <a:pt x="373" y="266"/>
                </a:lnTo>
                <a:lnTo>
                  <a:pt x="390" y="231"/>
                </a:lnTo>
                <a:lnTo>
                  <a:pt x="408" y="213"/>
                </a:lnTo>
                <a:lnTo>
                  <a:pt x="408" y="178"/>
                </a:lnTo>
                <a:lnTo>
                  <a:pt x="426" y="160"/>
                </a:lnTo>
                <a:lnTo>
                  <a:pt x="426" y="160"/>
                </a:lnTo>
                <a:lnTo>
                  <a:pt x="426" y="142"/>
                </a:lnTo>
                <a:lnTo>
                  <a:pt x="426" y="142"/>
                </a:lnTo>
                <a:lnTo>
                  <a:pt x="426" y="142"/>
                </a:lnTo>
                <a:lnTo>
                  <a:pt x="408" y="142"/>
                </a:lnTo>
                <a:lnTo>
                  <a:pt x="390" y="142"/>
                </a:lnTo>
                <a:lnTo>
                  <a:pt x="373" y="142"/>
                </a:lnTo>
                <a:lnTo>
                  <a:pt x="355" y="142"/>
                </a:lnTo>
                <a:lnTo>
                  <a:pt x="337" y="142"/>
                </a:lnTo>
                <a:lnTo>
                  <a:pt x="319" y="142"/>
                </a:lnTo>
                <a:lnTo>
                  <a:pt x="284" y="142"/>
                </a:lnTo>
                <a:lnTo>
                  <a:pt x="248" y="160"/>
                </a:lnTo>
                <a:lnTo>
                  <a:pt x="231" y="160"/>
                </a:lnTo>
                <a:lnTo>
                  <a:pt x="195" y="160"/>
                </a:lnTo>
                <a:lnTo>
                  <a:pt x="177" y="160"/>
                </a:lnTo>
                <a:lnTo>
                  <a:pt x="160" y="160"/>
                </a:lnTo>
                <a:lnTo>
                  <a:pt x="142" y="160"/>
                </a:lnTo>
                <a:lnTo>
                  <a:pt x="142" y="160"/>
                </a:lnTo>
                <a:lnTo>
                  <a:pt x="124" y="160"/>
                </a:lnTo>
                <a:lnTo>
                  <a:pt x="106" y="142"/>
                </a:lnTo>
                <a:lnTo>
                  <a:pt x="106" y="142"/>
                </a:lnTo>
                <a:lnTo>
                  <a:pt x="89" y="124"/>
                </a:lnTo>
                <a:lnTo>
                  <a:pt x="89" y="107"/>
                </a:lnTo>
                <a:lnTo>
                  <a:pt x="89" y="89"/>
                </a:lnTo>
                <a:lnTo>
                  <a:pt x="89" y="89"/>
                </a:lnTo>
                <a:lnTo>
                  <a:pt x="106" y="71"/>
                </a:lnTo>
                <a:lnTo>
                  <a:pt x="124" y="71"/>
                </a:lnTo>
                <a:lnTo>
                  <a:pt x="142" y="71"/>
                </a:lnTo>
                <a:lnTo>
                  <a:pt x="142" y="89"/>
                </a:lnTo>
                <a:lnTo>
                  <a:pt x="160" y="89"/>
                </a:lnTo>
                <a:lnTo>
                  <a:pt x="177" y="71"/>
                </a:lnTo>
                <a:lnTo>
                  <a:pt x="213" y="71"/>
                </a:lnTo>
                <a:lnTo>
                  <a:pt x="231" y="71"/>
                </a:lnTo>
                <a:lnTo>
                  <a:pt x="266" y="71"/>
                </a:lnTo>
                <a:lnTo>
                  <a:pt x="284" y="71"/>
                </a:lnTo>
                <a:lnTo>
                  <a:pt x="284" y="71"/>
                </a:lnTo>
              </a:path>
            </a:pathLst>
          </a:custGeom>
          <a:noFill/>
          <a:ln w="115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7"/>
          <p:cNvSpPr/>
          <p:nvPr/>
        </p:nvSpPr>
        <p:spPr>
          <a:xfrm>
            <a:off x="6257880" y="2014560"/>
            <a:ext cx="722520" cy="720720"/>
          </a:xfrm>
          <a:custGeom>
            <a:avLst/>
            <a:gdLst/>
            <a:ahLst/>
            <a:rect l="l" t="t" r="r" b="b"/>
            <a:pathLst>
              <a:path w="462" h="461">
                <a:moveTo>
                  <a:pt x="302" y="35"/>
                </a:moveTo>
                <a:lnTo>
                  <a:pt x="284" y="18"/>
                </a:lnTo>
                <a:lnTo>
                  <a:pt x="284" y="18"/>
                </a:lnTo>
                <a:lnTo>
                  <a:pt x="284" y="0"/>
                </a:lnTo>
                <a:lnTo>
                  <a:pt x="302" y="0"/>
                </a:lnTo>
                <a:lnTo>
                  <a:pt x="320" y="0"/>
                </a:lnTo>
                <a:lnTo>
                  <a:pt x="337" y="0"/>
                </a:lnTo>
                <a:lnTo>
                  <a:pt x="355" y="0"/>
                </a:lnTo>
                <a:lnTo>
                  <a:pt x="391" y="18"/>
                </a:lnTo>
                <a:lnTo>
                  <a:pt x="426" y="35"/>
                </a:lnTo>
                <a:lnTo>
                  <a:pt x="444" y="53"/>
                </a:lnTo>
                <a:lnTo>
                  <a:pt x="462" y="71"/>
                </a:lnTo>
                <a:lnTo>
                  <a:pt x="462" y="89"/>
                </a:lnTo>
                <a:lnTo>
                  <a:pt x="462" y="89"/>
                </a:lnTo>
                <a:lnTo>
                  <a:pt x="462" y="106"/>
                </a:lnTo>
                <a:lnTo>
                  <a:pt x="444" y="124"/>
                </a:lnTo>
                <a:lnTo>
                  <a:pt x="444" y="124"/>
                </a:lnTo>
                <a:lnTo>
                  <a:pt x="426" y="142"/>
                </a:lnTo>
                <a:lnTo>
                  <a:pt x="408" y="160"/>
                </a:lnTo>
                <a:lnTo>
                  <a:pt x="373" y="213"/>
                </a:lnTo>
                <a:lnTo>
                  <a:pt x="284" y="284"/>
                </a:lnTo>
                <a:lnTo>
                  <a:pt x="231" y="319"/>
                </a:lnTo>
                <a:lnTo>
                  <a:pt x="178" y="373"/>
                </a:lnTo>
                <a:lnTo>
                  <a:pt x="142" y="390"/>
                </a:lnTo>
                <a:lnTo>
                  <a:pt x="124" y="408"/>
                </a:lnTo>
                <a:lnTo>
                  <a:pt x="107" y="426"/>
                </a:lnTo>
                <a:lnTo>
                  <a:pt x="71" y="426"/>
                </a:lnTo>
                <a:lnTo>
                  <a:pt x="53" y="444"/>
                </a:lnTo>
                <a:lnTo>
                  <a:pt x="36" y="444"/>
                </a:lnTo>
                <a:lnTo>
                  <a:pt x="18" y="461"/>
                </a:lnTo>
                <a:lnTo>
                  <a:pt x="0" y="461"/>
                </a:lnTo>
                <a:lnTo>
                  <a:pt x="53" y="390"/>
                </a:lnTo>
                <a:lnTo>
                  <a:pt x="107" y="337"/>
                </a:lnTo>
                <a:lnTo>
                  <a:pt x="142" y="302"/>
                </a:lnTo>
                <a:lnTo>
                  <a:pt x="178" y="248"/>
                </a:lnTo>
                <a:lnTo>
                  <a:pt x="213" y="213"/>
                </a:lnTo>
                <a:lnTo>
                  <a:pt x="249" y="177"/>
                </a:lnTo>
                <a:lnTo>
                  <a:pt x="266" y="160"/>
                </a:lnTo>
                <a:lnTo>
                  <a:pt x="284" y="124"/>
                </a:lnTo>
                <a:lnTo>
                  <a:pt x="302" y="89"/>
                </a:lnTo>
                <a:lnTo>
                  <a:pt x="302" y="89"/>
                </a:lnTo>
                <a:lnTo>
                  <a:pt x="302" y="71"/>
                </a:lnTo>
                <a:lnTo>
                  <a:pt x="302" y="53"/>
                </a:lnTo>
                <a:lnTo>
                  <a:pt x="302" y="53"/>
                </a:lnTo>
                <a:lnTo>
                  <a:pt x="302" y="35"/>
                </a:lnTo>
                <a:lnTo>
                  <a:pt x="302" y="35"/>
                </a:lnTo>
                <a:lnTo>
                  <a:pt x="302" y="35"/>
                </a:lnTo>
              </a:path>
            </a:pathLst>
          </a:custGeom>
          <a:solidFill>
            <a:srgbClr val="ffffff"/>
          </a:solidFill>
          <a:ln w="115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8"/>
          <p:cNvSpPr/>
          <p:nvPr/>
        </p:nvSpPr>
        <p:spPr>
          <a:xfrm>
            <a:off x="6021360" y="2679840"/>
            <a:ext cx="390600" cy="860400"/>
          </a:xfrm>
          <a:custGeom>
            <a:avLst/>
            <a:gdLst/>
            <a:ahLst/>
            <a:rect l="l" t="t" r="r" b="b"/>
            <a:pathLst>
              <a:path w="249" h="550">
                <a:moveTo>
                  <a:pt x="18" y="71"/>
                </a:moveTo>
                <a:lnTo>
                  <a:pt x="0" y="53"/>
                </a:lnTo>
                <a:lnTo>
                  <a:pt x="0" y="36"/>
                </a:lnTo>
                <a:lnTo>
                  <a:pt x="0" y="36"/>
                </a:lnTo>
                <a:lnTo>
                  <a:pt x="0" y="18"/>
                </a:lnTo>
                <a:lnTo>
                  <a:pt x="0" y="18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36" y="0"/>
                </a:lnTo>
                <a:lnTo>
                  <a:pt x="36" y="0"/>
                </a:lnTo>
                <a:lnTo>
                  <a:pt x="53" y="0"/>
                </a:lnTo>
                <a:lnTo>
                  <a:pt x="89" y="0"/>
                </a:lnTo>
                <a:lnTo>
                  <a:pt x="107" y="0"/>
                </a:lnTo>
                <a:lnTo>
                  <a:pt x="142" y="18"/>
                </a:lnTo>
                <a:lnTo>
                  <a:pt x="160" y="18"/>
                </a:lnTo>
                <a:lnTo>
                  <a:pt x="178" y="89"/>
                </a:lnTo>
                <a:lnTo>
                  <a:pt x="195" y="142"/>
                </a:lnTo>
                <a:lnTo>
                  <a:pt x="195" y="195"/>
                </a:lnTo>
                <a:lnTo>
                  <a:pt x="213" y="249"/>
                </a:lnTo>
                <a:lnTo>
                  <a:pt x="213" y="302"/>
                </a:lnTo>
                <a:lnTo>
                  <a:pt x="231" y="337"/>
                </a:lnTo>
                <a:lnTo>
                  <a:pt x="231" y="373"/>
                </a:lnTo>
                <a:lnTo>
                  <a:pt x="231" y="408"/>
                </a:lnTo>
                <a:lnTo>
                  <a:pt x="249" y="444"/>
                </a:lnTo>
                <a:lnTo>
                  <a:pt x="249" y="479"/>
                </a:lnTo>
                <a:lnTo>
                  <a:pt x="249" y="497"/>
                </a:lnTo>
                <a:lnTo>
                  <a:pt x="249" y="515"/>
                </a:lnTo>
                <a:lnTo>
                  <a:pt x="249" y="533"/>
                </a:lnTo>
                <a:lnTo>
                  <a:pt x="249" y="533"/>
                </a:lnTo>
                <a:lnTo>
                  <a:pt x="231" y="550"/>
                </a:lnTo>
                <a:lnTo>
                  <a:pt x="231" y="550"/>
                </a:lnTo>
                <a:lnTo>
                  <a:pt x="213" y="550"/>
                </a:lnTo>
                <a:lnTo>
                  <a:pt x="213" y="533"/>
                </a:lnTo>
                <a:lnTo>
                  <a:pt x="195" y="515"/>
                </a:lnTo>
                <a:lnTo>
                  <a:pt x="178" y="497"/>
                </a:lnTo>
                <a:lnTo>
                  <a:pt x="178" y="462"/>
                </a:lnTo>
                <a:lnTo>
                  <a:pt x="160" y="426"/>
                </a:lnTo>
                <a:lnTo>
                  <a:pt x="142" y="373"/>
                </a:lnTo>
                <a:lnTo>
                  <a:pt x="142" y="320"/>
                </a:lnTo>
                <a:lnTo>
                  <a:pt x="124" y="266"/>
                </a:lnTo>
                <a:lnTo>
                  <a:pt x="107" y="231"/>
                </a:lnTo>
                <a:lnTo>
                  <a:pt x="89" y="195"/>
                </a:lnTo>
                <a:lnTo>
                  <a:pt x="89" y="160"/>
                </a:lnTo>
                <a:lnTo>
                  <a:pt x="71" y="124"/>
                </a:lnTo>
                <a:lnTo>
                  <a:pt x="53" y="107"/>
                </a:lnTo>
                <a:lnTo>
                  <a:pt x="36" y="89"/>
                </a:lnTo>
                <a:lnTo>
                  <a:pt x="18" y="71"/>
                </a:lnTo>
                <a:lnTo>
                  <a:pt x="18" y="71"/>
                </a:lnTo>
              </a:path>
            </a:pathLst>
          </a:custGeom>
          <a:noFill/>
          <a:ln w="115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9"/>
          <p:cNvSpPr/>
          <p:nvPr/>
        </p:nvSpPr>
        <p:spPr>
          <a:xfrm>
            <a:off x="6189840" y="2486160"/>
            <a:ext cx="1496880" cy="888840"/>
          </a:xfrm>
          <a:custGeom>
            <a:avLst/>
            <a:gdLst/>
            <a:ahLst/>
            <a:rect l="l" t="t" r="r" b="b"/>
            <a:pathLst>
              <a:path w="958" h="568">
                <a:moveTo>
                  <a:pt x="0" y="142"/>
                </a:moveTo>
                <a:lnTo>
                  <a:pt x="124" y="142"/>
                </a:lnTo>
                <a:lnTo>
                  <a:pt x="230" y="124"/>
                </a:lnTo>
                <a:lnTo>
                  <a:pt x="337" y="106"/>
                </a:lnTo>
                <a:lnTo>
                  <a:pt x="443" y="71"/>
                </a:lnTo>
                <a:lnTo>
                  <a:pt x="497" y="71"/>
                </a:lnTo>
                <a:lnTo>
                  <a:pt x="550" y="53"/>
                </a:lnTo>
                <a:lnTo>
                  <a:pt x="585" y="53"/>
                </a:lnTo>
                <a:lnTo>
                  <a:pt x="621" y="35"/>
                </a:lnTo>
                <a:lnTo>
                  <a:pt x="639" y="35"/>
                </a:lnTo>
                <a:lnTo>
                  <a:pt x="656" y="18"/>
                </a:lnTo>
                <a:lnTo>
                  <a:pt x="674" y="18"/>
                </a:lnTo>
                <a:lnTo>
                  <a:pt x="692" y="0"/>
                </a:lnTo>
                <a:lnTo>
                  <a:pt x="710" y="0"/>
                </a:lnTo>
                <a:lnTo>
                  <a:pt x="727" y="0"/>
                </a:lnTo>
                <a:lnTo>
                  <a:pt x="727" y="0"/>
                </a:lnTo>
                <a:lnTo>
                  <a:pt x="745" y="0"/>
                </a:lnTo>
                <a:lnTo>
                  <a:pt x="781" y="18"/>
                </a:lnTo>
                <a:lnTo>
                  <a:pt x="816" y="18"/>
                </a:lnTo>
                <a:lnTo>
                  <a:pt x="852" y="53"/>
                </a:lnTo>
                <a:lnTo>
                  <a:pt x="869" y="53"/>
                </a:lnTo>
                <a:lnTo>
                  <a:pt x="905" y="71"/>
                </a:lnTo>
                <a:lnTo>
                  <a:pt x="905" y="89"/>
                </a:lnTo>
                <a:lnTo>
                  <a:pt x="923" y="89"/>
                </a:lnTo>
                <a:lnTo>
                  <a:pt x="940" y="106"/>
                </a:lnTo>
                <a:lnTo>
                  <a:pt x="940" y="106"/>
                </a:lnTo>
                <a:lnTo>
                  <a:pt x="940" y="106"/>
                </a:lnTo>
                <a:lnTo>
                  <a:pt x="958" y="124"/>
                </a:lnTo>
                <a:lnTo>
                  <a:pt x="940" y="124"/>
                </a:lnTo>
                <a:lnTo>
                  <a:pt x="940" y="142"/>
                </a:lnTo>
                <a:lnTo>
                  <a:pt x="923" y="160"/>
                </a:lnTo>
                <a:lnTo>
                  <a:pt x="905" y="160"/>
                </a:lnTo>
                <a:lnTo>
                  <a:pt x="887" y="177"/>
                </a:lnTo>
                <a:lnTo>
                  <a:pt x="869" y="177"/>
                </a:lnTo>
                <a:lnTo>
                  <a:pt x="869" y="195"/>
                </a:lnTo>
                <a:lnTo>
                  <a:pt x="852" y="231"/>
                </a:lnTo>
                <a:lnTo>
                  <a:pt x="834" y="248"/>
                </a:lnTo>
                <a:lnTo>
                  <a:pt x="816" y="284"/>
                </a:lnTo>
                <a:lnTo>
                  <a:pt x="781" y="337"/>
                </a:lnTo>
                <a:lnTo>
                  <a:pt x="763" y="373"/>
                </a:lnTo>
                <a:lnTo>
                  <a:pt x="745" y="408"/>
                </a:lnTo>
                <a:lnTo>
                  <a:pt x="727" y="461"/>
                </a:lnTo>
                <a:lnTo>
                  <a:pt x="710" y="479"/>
                </a:lnTo>
                <a:lnTo>
                  <a:pt x="674" y="515"/>
                </a:lnTo>
                <a:lnTo>
                  <a:pt x="656" y="532"/>
                </a:lnTo>
                <a:lnTo>
                  <a:pt x="639" y="550"/>
                </a:lnTo>
                <a:lnTo>
                  <a:pt x="621" y="550"/>
                </a:lnTo>
                <a:lnTo>
                  <a:pt x="585" y="568"/>
                </a:lnTo>
                <a:lnTo>
                  <a:pt x="621" y="479"/>
                </a:lnTo>
                <a:lnTo>
                  <a:pt x="656" y="408"/>
                </a:lnTo>
                <a:lnTo>
                  <a:pt x="674" y="355"/>
                </a:lnTo>
                <a:lnTo>
                  <a:pt x="692" y="302"/>
                </a:lnTo>
                <a:lnTo>
                  <a:pt x="710" y="248"/>
                </a:lnTo>
                <a:lnTo>
                  <a:pt x="710" y="231"/>
                </a:lnTo>
                <a:lnTo>
                  <a:pt x="710" y="195"/>
                </a:lnTo>
                <a:lnTo>
                  <a:pt x="727" y="195"/>
                </a:lnTo>
                <a:lnTo>
                  <a:pt x="727" y="177"/>
                </a:lnTo>
                <a:lnTo>
                  <a:pt x="710" y="160"/>
                </a:lnTo>
                <a:lnTo>
                  <a:pt x="710" y="142"/>
                </a:lnTo>
                <a:lnTo>
                  <a:pt x="692" y="124"/>
                </a:lnTo>
                <a:lnTo>
                  <a:pt x="674" y="106"/>
                </a:lnTo>
                <a:lnTo>
                  <a:pt x="656" y="106"/>
                </a:lnTo>
                <a:lnTo>
                  <a:pt x="639" y="106"/>
                </a:lnTo>
                <a:lnTo>
                  <a:pt x="621" y="106"/>
                </a:lnTo>
                <a:lnTo>
                  <a:pt x="585" y="106"/>
                </a:lnTo>
                <a:lnTo>
                  <a:pt x="550" y="124"/>
                </a:lnTo>
                <a:lnTo>
                  <a:pt x="514" y="124"/>
                </a:lnTo>
                <a:lnTo>
                  <a:pt x="497" y="142"/>
                </a:lnTo>
                <a:lnTo>
                  <a:pt x="479" y="142"/>
                </a:lnTo>
                <a:lnTo>
                  <a:pt x="461" y="142"/>
                </a:lnTo>
                <a:lnTo>
                  <a:pt x="443" y="142"/>
                </a:lnTo>
                <a:lnTo>
                  <a:pt x="426" y="160"/>
                </a:lnTo>
                <a:lnTo>
                  <a:pt x="390" y="160"/>
                </a:lnTo>
                <a:lnTo>
                  <a:pt x="372" y="160"/>
                </a:lnTo>
                <a:lnTo>
                  <a:pt x="337" y="160"/>
                </a:lnTo>
                <a:lnTo>
                  <a:pt x="301" y="177"/>
                </a:lnTo>
                <a:lnTo>
                  <a:pt x="266" y="177"/>
                </a:lnTo>
                <a:lnTo>
                  <a:pt x="230" y="177"/>
                </a:lnTo>
                <a:lnTo>
                  <a:pt x="195" y="195"/>
                </a:lnTo>
                <a:lnTo>
                  <a:pt x="142" y="195"/>
                </a:lnTo>
                <a:lnTo>
                  <a:pt x="88" y="195"/>
                </a:lnTo>
                <a:lnTo>
                  <a:pt x="53" y="213"/>
                </a:lnTo>
                <a:lnTo>
                  <a:pt x="0" y="213"/>
                </a:lnTo>
                <a:lnTo>
                  <a:pt x="0" y="142"/>
                </a:lnTo>
                <a:lnTo>
                  <a:pt x="0" y="142"/>
                </a:lnTo>
              </a:path>
            </a:pathLst>
          </a:custGeom>
          <a:noFill/>
          <a:ln w="115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0"/>
          <p:cNvSpPr/>
          <p:nvPr/>
        </p:nvSpPr>
        <p:spPr>
          <a:xfrm>
            <a:off x="6272280" y="2901960"/>
            <a:ext cx="776160" cy="193680"/>
          </a:xfrm>
          <a:custGeom>
            <a:avLst/>
            <a:gdLst/>
            <a:ahLst/>
            <a:rect l="l" t="t" r="r" b="b"/>
            <a:pathLst>
              <a:path w="497" h="124">
                <a:moveTo>
                  <a:pt x="408" y="0"/>
                </a:moveTo>
                <a:lnTo>
                  <a:pt x="426" y="0"/>
                </a:lnTo>
                <a:lnTo>
                  <a:pt x="426" y="18"/>
                </a:lnTo>
                <a:lnTo>
                  <a:pt x="444" y="18"/>
                </a:lnTo>
                <a:lnTo>
                  <a:pt x="461" y="18"/>
                </a:lnTo>
                <a:lnTo>
                  <a:pt x="479" y="36"/>
                </a:lnTo>
                <a:lnTo>
                  <a:pt x="479" y="36"/>
                </a:lnTo>
                <a:lnTo>
                  <a:pt x="497" y="53"/>
                </a:lnTo>
                <a:lnTo>
                  <a:pt x="497" y="53"/>
                </a:lnTo>
                <a:lnTo>
                  <a:pt x="497" y="71"/>
                </a:lnTo>
                <a:lnTo>
                  <a:pt x="479" y="71"/>
                </a:lnTo>
                <a:lnTo>
                  <a:pt x="479" y="71"/>
                </a:lnTo>
                <a:lnTo>
                  <a:pt x="461" y="71"/>
                </a:lnTo>
                <a:lnTo>
                  <a:pt x="444" y="89"/>
                </a:lnTo>
                <a:lnTo>
                  <a:pt x="408" y="89"/>
                </a:lnTo>
                <a:lnTo>
                  <a:pt x="390" y="89"/>
                </a:lnTo>
                <a:lnTo>
                  <a:pt x="355" y="107"/>
                </a:lnTo>
                <a:lnTo>
                  <a:pt x="266" y="107"/>
                </a:lnTo>
                <a:lnTo>
                  <a:pt x="195" y="124"/>
                </a:lnTo>
                <a:lnTo>
                  <a:pt x="106" y="124"/>
                </a:lnTo>
                <a:lnTo>
                  <a:pt x="0" y="124"/>
                </a:lnTo>
                <a:lnTo>
                  <a:pt x="0" y="89"/>
                </a:lnTo>
                <a:lnTo>
                  <a:pt x="53" y="71"/>
                </a:lnTo>
                <a:lnTo>
                  <a:pt x="106" y="71"/>
                </a:lnTo>
                <a:lnTo>
                  <a:pt x="142" y="53"/>
                </a:lnTo>
                <a:lnTo>
                  <a:pt x="177" y="53"/>
                </a:lnTo>
                <a:lnTo>
                  <a:pt x="213" y="36"/>
                </a:lnTo>
                <a:lnTo>
                  <a:pt x="248" y="36"/>
                </a:lnTo>
                <a:lnTo>
                  <a:pt x="266" y="36"/>
                </a:lnTo>
                <a:lnTo>
                  <a:pt x="302" y="18"/>
                </a:lnTo>
                <a:lnTo>
                  <a:pt x="319" y="18"/>
                </a:lnTo>
                <a:lnTo>
                  <a:pt x="337" y="18"/>
                </a:lnTo>
                <a:lnTo>
                  <a:pt x="355" y="18"/>
                </a:lnTo>
                <a:lnTo>
                  <a:pt x="373" y="18"/>
                </a:lnTo>
                <a:lnTo>
                  <a:pt x="390" y="0"/>
                </a:lnTo>
                <a:lnTo>
                  <a:pt x="390" y="0"/>
                </a:lnTo>
                <a:lnTo>
                  <a:pt x="408" y="0"/>
                </a:lnTo>
                <a:lnTo>
                  <a:pt x="408" y="0"/>
                </a:lnTo>
                <a:lnTo>
                  <a:pt x="408" y="0"/>
                </a:lnTo>
              </a:path>
            </a:pathLst>
          </a:custGeom>
          <a:noFill/>
          <a:ln w="115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21"/>
          <p:cNvSpPr/>
          <p:nvPr/>
        </p:nvSpPr>
        <p:spPr>
          <a:xfrm>
            <a:off x="6383160" y="3263760"/>
            <a:ext cx="858960" cy="193680"/>
          </a:xfrm>
          <a:custGeom>
            <a:avLst/>
            <a:gdLst/>
            <a:ahLst/>
            <a:rect l="l" t="t" r="r" b="b"/>
            <a:pathLst>
              <a:path w="550" h="124">
                <a:moveTo>
                  <a:pt x="0" y="71"/>
                </a:moveTo>
                <a:lnTo>
                  <a:pt x="195" y="53"/>
                </a:lnTo>
                <a:lnTo>
                  <a:pt x="213" y="53"/>
                </a:lnTo>
                <a:lnTo>
                  <a:pt x="248" y="53"/>
                </a:lnTo>
                <a:lnTo>
                  <a:pt x="284" y="35"/>
                </a:lnTo>
                <a:lnTo>
                  <a:pt x="319" y="35"/>
                </a:lnTo>
                <a:lnTo>
                  <a:pt x="355" y="35"/>
                </a:lnTo>
                <a:lnTo>
                  <a:pt x="408" y="18"/>
                </a:lnTo>
                <a:lnTo>
                  <a:pt x="461" y="18"/>
                </a:lnTo>
                <a:lnTo>
                  <a:pt x="532" y="0"/>
                </a:lnTo>
                <a:lnTo>
                  <a:pt x="532" y="35"/>
                </a:lnTo>
                <a:lnTo>
                  <a:pt x="550" y="53"/>
                </a:lnTo>
                <a:lnTo>
                  <a:pt x="550" y="71"/>
                </a:lnTo>
                <a:lnTo>
                  <a:pt x="550" y="71"/>
                </a:lnTo>
                <a:lnTo>
                  <a:pt x="532" y="89"/>
                </a:lnTo>
                <a:lnTo>
                  <a:pt x="532" y="89"/>
                </a:lnTo>
                <a:lnTo>
                  <a:pt x="497" y="89"/>
                </a:lnTo>
                <a:lnTo>
                  <a:pt x="479" y="89"/>
                </a:lnTo>
                <a:lnTo>
                  <a:pt x="461" y="89"/>
                </a:lnTo>
                <a:lnTo>
                  <a:pt x="461" y="89"/>
                </a:lnTo>
                <a:lnTo>
                  <a:pt x="444" y="89"/>
                </a:lnTo>
                <a:lnTo>
                  <a:pt x="426" y="89"/>
                </a:lnTo>
                <a:lnTo>
                  <a:pt x="408" y="106"/>
                </a:lnTo>
                <a:lnTo>
                  <a:pt x="390" y="106"/>
                </a:lnTo>
                <a:lnTo>
                  <a:pt x="355" y="106"/>
                </a:lnTo>
                <a:lnTo>
                  <a:pt x="337" y="106"/>
                </a:lnTo>
                <a:lnTo>
                  <a:pt x="302" y="106"/>
                </a:lnTo>
                <a:lnTo>
                  <a:pt x="266" y="106"/>
                </a:lnTo>
                <a:lnTo>
                  <a:pt x="231" y="106"/>
                </a:lnTo>
                <a:lnTo>
                  <a:pt x="195" y="124"/>
                </a:lnTo>
                <a:lnTo>
                  <a:pt x="160" y="124"/>
                </a:lnTo>
                <a:lnTo>
                  <a:pt x="106" y="124"/>
                </a:lnTo>
                <a:lnTo>
                  <a:pt x="53" y="124"/>
                </a:lnTo>
                <a:lnTo>
                  <a:pt x="0" y="124"/>
                </a:lnTo>
                <a:lnTo>
                  <a:pt x="0" y="71"/>
                </a:lnTo>
                <a:lnTo>
                  <a:pt x="0" y="71"/>
                </a:lnTo>
              </a:path>
            </a:pathLst>
          </a:custGeom>
          <a:noFill/>
          <a:ln w="115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22"/>
          <p:cNvSpPr/>
          <p:nvPr/>
        </p:nvSpPr>
        <p:spPr>
          <a:xfrm>
            <a:off x="6300720" y="3429000"/>
            <a:ext cx="554040" cy="1581120"/>
          </a:xfrm>
          <a:custGeom>
            <a:avLst/>
            <a:gdLst/>
            <a:ahLst/>
            <a:rect l="l" t="t" r="r" b="b"/>
            <a:pathLst>
              <a:path w="355" h="1012">
                <a:moveTo>
                  <a:pt x="213" y="799"/>
                </a:moveTo>
                <a:lnTo>
                  <a:pt x="230" y="781"/>
                </a:lnTo>
                <a:lnTo>
                  <a:pt x="230" y="764"/>
                </a:lnTo>
                <a:lnTo>
                  <a:pt x="230" y="746"/>
                </a:lnTo>
                <a:lnTo>
                  <a:pt x="230" y="710"/>
                </a:lnTo>
                <a:lnTo>
                  <a:pt x="248" y="657"/>
                </a:lnTo>
                <a:lnTo>
                  <a:pt x="248" y="622"/>
                </a:lnTo>
                <a:lnTo>
                  <a:pt x="248" y="551"/>
                </a:lnTo>
                <a:lnTo>
                  <a:pt x="248" y="497"/>
                </a:lnTo>
                <a:lnTo>
                  <a:pt x="248" y="426"/>
                </a:lnTo>
                <a:lnTo>
                  <a:pt x="248" y="373"/>
                </a:lnTo>
                <a:lnTo>
                  <a:pt x="248" y="320"/>
                </a:lnTo>
                <a:lnTo>
                  <a:pt x="248" y="284"/>
                </a:lnTo>
                <a:lnTo>
                  <a:pt x="248" y="231"/>
                </a:lnTo>
                <a:lnTo>
                  <a:pt x="248" y="213"/>
                </a:lnTo>
                <a:lnTo>
                  <a:pt x="248" y="178"/>
                </a:lnTo>
                <a:lnTo>
                  <a:pt x="248" y="160"/>
                </a:lnTo>
                <a:lnTo>
                  <a:pt x="248" y="125"/>
                </a:lnTo>
                <a:lnTo>
                  <a:pt x="230" y="89"/>
                </a:lnTo>
                <a:lnTo>
                  <a:pt x="195" y="54"/>
                </a:lnTo>
                <a:lnTo>
                  <a:pt x="177" y="0"/>
                </a:lnTo>
                <a:lnTo>
                  <a:pt x="213" y="18"/>
                </a:lnTo>
                <a:lnTo>
                  <a:pt x="248" y="36"/>
                </a:lnTo>
                <a:lnTo>
                  <a:pt x="284" y="54"/>
                </a:lnTo>
                <a:lnTo>
                  <a:pt x="301" y="71"/>
                </a:lnTo>
                <a:lnTo>
                  <a:pt x="337" y="71"/>
                </a:lnTo>
                <a:lnTo>
                  <a:pt x="337" y="89"/>
                </a:lnTo>
                <a:lnTo>
                  <a:pt x="355" y="107"/>
                </a:lnTo>
                <a:lnTo>
                  <a:pt x="355" y="107"/>
                </a:lnTo>
                <a:lnTo>
                  <a:pt x="355" y="125"/>
                </a:lnTo>
                <a:lnTo>
                  <a:pt x="355" y="142"/>
                </a:lnTo>
                <a:lnTo>
                  <a:pt x="355" y="160"/>
                </a:lnTo>
                <a:lnTo>
                  <a:pt x="355" y="178"/>
                </a:lnTo>
                <a:lnTo>
                  <a:pt x="355" y="196"/>
                </a:lnTo>
                <a:lnTo>
                  <a:pt x="337" y="231"/>
                </a:lnTo>
                <a:lnTo>
                  <a:pt x="337" y="249"/>
                </a:lnTo>
                <a:lnTo>
                  <a:pt x="337" y="284"/>
                </a:lnTo>
                <a:lnTo>
                  <a:pt x="337" y="373"/>
                </a:lnTo>
                <a:lnTo>
                  <a:pt x="337" y="444"/>
                </a:lnTo>
                <a:lnTo>
                  <a:pt x="337" y="533"/>
                </a:lnTo>
                <a:lnTo>
                  <a:pt x="355" y="604"/>
                </a:lnTo>
                <a:lnTo>
                  <a:pt x="355" y="657"/>
                </a:lnTo>
                <a:lnTo>
                  <a:pt x="355" y="693"/>
                </a:lnTo>
                <a:lnTo>
                  <a:pt x="355" y="728"/>
                </a:lnTo>
                <a:lnTo>
                  <a:pt x="355" y="764"/>
                </a:lnTo>
                <a:lnTo>
                  <a:pt x="355" y="799"/>
                </a:lnTo>
                <a:lnTo>
                  <a:pt x="355" y="817"/>
                </a:lnTo>
                <a:lnTo>
                  <a:pt x="355" y="835"/>
                </a:lnTo>
                <a:lnTo>
                  <a:pt x="355" y="852"/>
                </a:lnTo>
                <a:lnTo>
                  <a:pt x="337" y="888"/>
                </a:lnTo>
                <a:lnTo>
                  <a:pt x="319" y="923"/>
                </a:lnTo>
                <a:lnTo>
                  <a:pt x="301" y="959"/>
                </a:lnTo>
                <a:lnTo>
                  <a:pt x="284" y="977"/>
                </a:lnTo>
                <a:lnTo>
                  <a:pt x="266" y="994"/>
                </a:lnTo>
                <a:lnTo>
                  <a:pt x="248" y="1012"/>
                </a:lnTo>
                <a:lnTo>
                  <a:pt x="230" y="1012"/>
                </a:lnTo>
                <a:lnTo>
                  <a:pt x="213" y="1012"/>
                </a:lnTo>
                <a:lnTo>
                  <a:pt x="213" y="1012"/>
                </a:lnTo>
                <a:lnTo>
                  <a:pt x="195" y="994"/>
                </a:lnTo>
                <a:lnTo>
                  <a:pt x="195" y="977"/>
                </a:lnTo>
                <a:lnTo>
                  <a:pt x="177" y="959"/>
                </a:lnTo>
                <a:lnTo>
                  <a:pt x="177" y="923"/>
                </a:lnTo>
                <a:lnTo>
                  <a:pt x="159" y="888"/>
                </a:lnTo>
                <a:lnTo>
                  <a:pt x="124" y="870"/>
                </a:lnTo>
                <a:lnTo>
                  <a:pt x="88" y="835"/>
                </a:lnTo>
                <a:lnTo>
                  <a:pt x="71" y="817"/>
                </a:lnTo>
                <a:lnTo>
                  <a:pt x="35" y="817"/>
                </a:lnTo>
                <a:lnTo>
                  <a:pt x="35" y="799"/>
                </a:lnTo>
                <a:lnTo>
                  <a:pt x="17" y="781"/>
                </a:lnTo>
                <a:lnTo>
                  <a:pt x="0" y="781"/>
                </a:lnTo>
                <a:lnTo>
                  <a:pt x="0" y="781"/>
                </a:lnTo>
                <a:lnTo>
                  <a:pt x="0" y="764"/>
                </a:lnTo>
                <a:lnTo>
                  <a:pt x="0" y="764"/>
                </a:lnTo>
                <a:lnTo>
                  <a:pt x="0" y="764"/>
                </a:lnTo>
                <a:lnTo>
                  <a:pt x="0" y="764"/>
                </a:lnTo>
                <a:lnTo>
                  <a:pt x="17" y="764"/>
                </a:lnTo>
                <a:lnTo>
                  <a:pt x="17" y="764"/>
                </a:lnTo>
                <a:lnTo>
                  <a:pt x="35" y="764"/>
                </a:lnTo>
                <a:lnTo>
                  <a:pt x="53" y="781"/>
                </a:lnTo>
                <a:lnTo>
                  <a:pt x="71" y="781"/>
                </a:lnTo>
                <a:lnTo>
                  <a:pt x="106" y="799"/>
                </a:lnTo>
                <a:lnTo>
                  <a:pt x="124" y="799"/>
                </a:lnTo>
                <a:lnTo>
                  <a:pt x="142" y="817"/>
                </a:lnTo>
                <a:lnTo>
                  <a:pt x="159" y="817"/>
                </a:lnTo>
                <a:lnTo>
                  <a:pt x="177" y="817"/>
                </a:lnTo>
                <a:lnTo>
                  <a:pt x="195" y="817"/>
                </a:lnTo>
                <a:lnTo>
                  <a:pt x="213" y="817"/>
                </a:lnTo>
                <a:lnTo>
                  <a:pt x="213" y="799"/>
                </a:lnTo>
                <a:lnTo>
                  <a:pt x="213" y="799"/>
                </a:lnTo>
                <a:lnTo>
                  <a:pt x="213" y="799"/>
                </a:lnTo>
              </a:path>
            </a:pathLst>
          </a:custGeom>
          <a:noFill/>
          <a:ln w="115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23"/>
          <p:cNvSpPr/>
          <p:nvPr/>
        </p:nvSpPr>
        <p:spPr>
          <a:xfrm>
            <a:off x="6978600" y="3238560"/>
            <a:ext cx="693720" cy="665280"/>
          </a:xfrm>
          <a:custGeom>
            <a:avLst/>
            <a:gdLst/>
            <a:ahLst/>
            <a:rect l="l" t="t" r="r" b="b"/>
            <a:pathLst>
              <a:path w="444" h="426">
                <a:moveTo>
                  <a:pt x="444" y="124"/>
                </a:moveTo>
                <a:lnTo>
                  <a:pt x="444" y="142"/>
                </a:lnTo>
                <a:lnTo>
                  <a:pt x="444" y="142"/>
                </a:lnTo>
                <a:lnTo>
                  <a:pt x="444" y="160"/>
                </a:lnTo>
                <a:lnTo>
                  <a:pt x="426" y="160"/>
                </a:lnTo>
                <a:lnTo>
                  <a:pt x="409" y="177"/>
                </a:lnTo>
                <a:lnTo>
                  <a:pt x="409" y="177"/>
                </a:lnTo>
                <a:lnTo>
                  <a:pt x="391" y="195"/>
                </a:lnTo>
                <a:lnTo>
                  <a:pt x="373" y="213"/>
                </a:lnTo>
                <a:lnTo>
                  <a:pt x="338" y="231"/>
                </a:lnTo>
                <a:lnTo>
                  <a:pt x="320" y="248"/>
                </a:lnTo>
                <a:lnTo>
                  <a:pt x="284" y="266"/>
                </a:lnTo>
                <a:lnTo>
                  <a:pt x="231" y="284"/>
                </a:lnTo>
                <a:lnTo>
                  <a:pt x="196" y="319"/>
                </a:lnTo>
                <a:lnTo>
                  <a:pt x="142" y="355"/>
                </a:lnTo>
                <a:lnTo>
                  <a:pt x="89" y="390"/>
                </a:lnTo>
                <a:lnTo>
                  <a:pt x="36" y="426"/>
                </a:lnTo>
                <a:lnTo>
                  <a:pt x="0" y="390"/>
                </a:lnTo>
                <a:lnTo>
                  <a:pt x="54" y="355"/>
                </a:lnTo>
                <a:lnTo>
                  <a:pt x="107" y="302"/>
                </a:lnTo>
                <a:lnTo>
                  <a:pt x="142" y="266"/>
                </a:lnTo>
                <a:lnTo>
                  <a:pt x="178" y="231"/>
                </a:lnTo>
                <a:lnTo>
                  <a:pt x="213" y="195"/>
                </a:lnTo>
                <a:lnTo>
                  <a:pt x="231" y="177"/>
                </a:lnTo>
                <a:lnTo>
                  <a:pt x="249" y="160"/>
                </a:lnTo>
                <a:lnTo>
                  <a:pt x="267" y="124"/>
                </a:lnTo>
                <a:lnTo>
                  <a:pt x="284" y="106"/>
                </a:lnTo>
                <a:lnTo>
                  <a:pt x="302" y="89"/>
                </a:lnTo>
                <a:lnTo>
                  <a:pt x="302" y="53"/>
                </a:lnTo>
                <a:lnTo>
                  <a:pt x="302" y="35"/>
                </a:lnTo>
                <a:lnTo>
                  <a:pt x="284" y="35"/>
                </a:lnTo>
                <a:lnTo>
                  <a:pt x="284" y="18"/>
                </a:lnTo>
                <a:lnTo>
                  <a:pt x="284" y="0"/>
                </a:lnTo>
                <a:lnTo>
                  <a:pt x="302" y="0"/>
                </a:lnTo>
                <a:lnTo>
                  <a:pt x="302" y="0"/>
                </a:lnTo>
                <a:lnTo>
                  <a:pt x="320" y="0"/>
                </a:lnTo>
                <a:lnTo>
                  <a:pt x="355" y="18"/>
                </a:lnTo>
                <a:lnTo>
                  <a:pt x="373" y="35"/>
                </a:lnTo>
                <a:lnTo>
                  <a:pt x="409" y="71"/>
                </a:lnTo>
                <a:lnTo>
                  <a:pt x="426" y="89"/>
                </a:lnTo>
                <a:lnTo>
                  <a:pt x="444" y="106"/>
                </a:lnTo>
                <a:lnTo>
                  <a:pt x="444" y="124"/>
                </a:lnTo>
                <a:lnTo>
                  <a:pt x="444" y="124"/>
                </a:lnTo>
              </a:path>
            </a:pathLst>
          </a:custGeom>
          <a:noFill/>
          <a:ln w="115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24"/>
          <p:cNvSpPr/>
          <p:nvPr/>
        </p:nvSpPr>
        <p:spPr>
          <a:xfrm>
            <a:off x="6743880" y="3651120"/>
            <a:ext cx="1719000" cy="916200"/>
          </a:xfrm>
          <a:custGeom>
            <a:avLst/>
            <a:gdLst/>
            <a:ahLst/>
            <a:rect l="l" t="t" r="r" b="b"/>
            <a:pathLst>
              <a:path w="1100" h="586">
                <a:moveTo>
                  <a:pt x="585" y="355"/>
                </a:moveTo>
                <a:lnTo>
                  <a:pt x="674" y="391"/>
                </a:lnTo>
                <a:lnTo>
                  <a:pt x="763" y="426"/>
                </a:lnTo>
                <a:lnTo>
                  <a:pt x="852" y="462"/>
                </a:lnTo>
                <a:lnTo>
                  <a:pt x="940" y="480"/>
                </a:lnTo>
                <a:lnTo>
                  <a:pt x="976" y="480"/>
                </a:lnTo>
                <a:lnTo>
                  <a:pt x="1011" y="497"/>
                </a:lnTo>
                <a:lnTo>
                  <a:pt x="1047" y="515"/>
                </a:lnTo>
                <a:lnTo>
                  <a:pt x="1065" y="515"/>
                </a:lnTo>
                <a:lnTo>
                  <a:pt x="1082" y="515"/>
                </a:lnTo>
                <a:lnTo>
                  <a:pt x="1100" y="533"/>
                </a:lnTo>
                <a:lnTo>
                  <a:pt x="1100" y="533"/>
                </a:lnTo>
                <a:lnTo>
                  <a:pt x="1100" y="533"/>
                </a:lnTo>
                <a:lnTo>
                  <a:pt x="1100" y="551"/>
                </a:lnTo>
                <a:lnTo>
                  <a:pt x="1082" y="551"/>
                </a:lnTo>
                <a:lnTo>
                  <a:pt x="1082" y="551"/>
                </a:lnTo>
                <a:lnTo>
                  <a:pt x="1065" y="551"/>
                </a:lnTo>
                <a:lnTo>
                  <a:pt x="1047" y="551"/>
                </a:lnTo>
                <a:lnTo>
                  <a:pt x="1011" y="568"/>
                </a:lnTo>
                <a:lnTo>
                  <a:pt x="994" y="568"/>
                </a:lnTo>
                <a:lnTo>
                  <a:pt x="958" y="568"/>
                </a:lnTo>
                <a:lnTo>
                  <a:pt x="905" y="586"/>
                </a:lnTo>
                <a:lnTo>
                  <a:pt x="852" y="586"/>
                </a:lnTo>
                <a:lnTo>
                  <a:pt x="816" y="586"/>
                </a:lnTo>
                <a:lnTo>
                  <a:pt x="798" y="586"/>
                </a:lnTo>
                <a:lnTo>
                  <a:pt x="781" y="586"/>
                </a:lnTo>
                <a:lnTo>
                  <a:pt x="763" y="586"/>
                </a:lnTo>
                <a:lnTo>
                  <a:pt x="727" y="586"/>
                </a:lnTo>
                <a:lnTo>
                  <a:pt x="710" y="586"/>
                </a:lnTo>
                <a:lnTo>
                  <a:pt x="692" y="586"/>
                </a:lnTo>
                <a:lnTo>
                  <a:pt x="674" y="586"/>
                </a:lnTo>
                <a:lnTo>
                  <a:pt x="656" y="586"/>
                </a:lnTo>
                <a:lnTo>
                  <a:pt x="639" y="586"/>
                </a:lnTo>
                <a:lnTo>
                  <a:pt x="639" y="568"/>
                </a:lnTo>
                <a:lnTo>
                  <a:pt x="621" y="568"/>
                </a:lnTo>
                <a:lnTo>
                  <a:pt x="585" y="551"/>
                </a:lnTo>
                <a:lnTo>
                  <a:pt x="568" y="533"/>
                </a:lnTo>
                <a:lnTo>
                  <a:pt x="550" y="515"/>
                </a:lnTo>
                <a:lnTo>
                  <a:pt x="532" y="497"/>
                </a:lnTo>
                <a:lnTo>
                  <a:pt x="514" y="480"/>
                </a:lnTo>
                <a:lnTo>
                  <a:pt x="497" y="462"/>
                </a:lnTo>
                <a:lnTo>
                  <a:pt x="479" y="444"/>
                </a:lnTo>
                <a:lnTo>
                  <a:pt x="443" y="426"/>
                </a:lnTo>
                <a:lnTo>
                  <a:pt x="426" y="409"/>
                </a:lnTo>
                <a:lnTo>
                  <a:pt x="408" y="391"/>
                </a:lnTo>
                <a:lnTo>
                  <a:pt x="372" y="355"/>
                </a:lnTo>
                <a:lnTo>
                  <a:pt x="337" y="338"/>
                </a:lnTo>
                <a:lnTo>
                  <a:pt x="301" y="302"/>
                </a:lnTo>
                <a:lnTo>
                  <a:pt x="266" y="284"/>
                </a:lnTo>
                <a:lnTo>
                  <a:pt x="230" y="249"/>
                </a:lnTo>
                <a:lnTo>
                  <a:pt x="177" y="213"/>
                </a:lnTo>
                <a:lnTo>
                  <a:pt x="142" y="178"/>
                </a:lnTo>
                <a:lnTo>
                  <a:pt x="88" y="142"/>
                </a:lnTo>
                <a:lnTo>
                  <a:pt x="35" y="107"/>
                </a:lnTo>
                <a:lnTo>
                  <a:pt x="0" y="54"/>
                </a:lnTo>
                <a:lnTo>
                  <a:pt x="0" y="0"/>
                </a:lnTo>
                <a:lnTo>
                  <a:pt x="35" y="18"/>
                </a:lnTo>
                <a:lnTo>
                  <a:pt x="53" y="36"/>
                </a:lnTo>
                <a:lnTo>
                  <a:pt x="71" y="36"/>
                </a:lnTo>
                <a:lnTo>
                  <a:pt x="71" y="54"/>
                </a:lnTo>
                <a:lnTo>
                  <a:pt x="88" y="54"/>
                </a:lnTo>
                <a:lnTo>
                  <a:pt x="88" y="54"/>
                </a:lnTo>
                <a:lnTo>
                  <a:pt x="106" y="71"/>
                </a:lnTo>
                <a:lnTo>
                  <a:pt x="124" y="89"/>
                </a:lnTo>
                <a:lnTo>
                  <a:pt x="142" y="107"/>
                </a:lnTo>
                <a:lnTo>
                  <a:pt x="177" y="125"/>
                </a:lnTo>
                <a:lnTo>
                  <a:pt x="213" y="142"/>
                </a:lnTo>
                <a:lnTo>
                  <a:pt x="248" y="160"/>
                </a:lnTo>
                <a:lnTo>
                  <a:pt x="319" y="213"/>
                </a:lnTo>
                <a:lnTo>
                  <a:pt x="408" y="267"/>
                </a:lnTo>
                <a:lnTo>
                  <a:pt x="497" y="320"/>
                </a:lnTo>
                <a:lnTo>
                  <a:pt x="585" y="355"/>
                </a:lnTo>
                <a:lnTo>
                  <a:pt x="585" y="355"/>
                </a:lnTo>
              </a:path>
            </a:pathLst>
          </a:custGeom>
          <a:noFill/>
          <a:ln w="115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11280" y="1413000"/>
          <a:ext cx="3960720" cy="4103640"/>
        </p:xfrm>
        <a:graphic>
          <a:graphicData uri="http://schemas.openxmlformats.org/drawingml/2006/table">
            <a:tbl>
              <a:tblPr/>
              <a:tblGrid>
                <a:gridCol w="1922400"/>
                <a:gridCol w="2038320"/>
              </a:tblGrid>
              <a:tr h="2031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71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7" name="AutoShape 36"/>
          <p:cNvSpPr/>
          <p:nvPr/>
        </p:nvSpPr>
        <p:spPr>
          <a:xfrm>
            <a:off x="1116000" y="2060640"/>
            <a:ext cx="30243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7"/>
          <p:cNvSpPr/>
          <p:nvPr/>
        </p:nvSpPr>
        <p:spPr>
          <a:xfrm>
            <a:off x="1260000" y="19461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8"/>
          <p:cNvSpPr/>
          <p:nvPr/>
        </p:nvSpPr>
        <p:spPr>
          <a:xfrm>
            <a:off x="1258920" y="2060640"/>
            <a:ext cx="2967120" cy="2967120"/>
          </a:xfrm>
          <a:custGeom>
            <a:avLst/>
            <a:gdLst/>
            <a:ahLst/>
            <a:rect l="l" t="t" r="r" b="b"/>
            <a:pathLst>
              <a:path w="1899" h="1899">
                <a:moveTo>
                  <a:pt x="284" y="1118"/>
                </a:moveTo>
                <a:lnTo>
                  <a:pt x="319" y="1118"/>
                </a:lnTo>
                <a:lnTo>
                  <a:pt x="355" y="1100"/>
                </a:lnTo>
                <a:lnTo>
                  <a:pt x="373" y="1100"/>
                </a:lnTo>
                <a:lnTo>
                  <a:pt x="390" y="1100"/>
                </a:lnTo>
                <a:lnTo>
                  <a:pt x="408" y="1100"/>
                </a:lnTo>
                <a:lnTo>
                  <a:pt x="426" y="1083"/>
                </a:lnTo>
                <a:lnTo>
                  <a:pt x="426" y="1083"/>
                </a:lnTo>
                <a:lnTo>
                  <a:pt x="444" y="1083"/>
                </a:lnTo>
                <a:lnTo>
                  <a:pt x="461" y="1065"/>
                </a:lnTo>
                <a:lnTo>
                  <a:pt x="461" y="1065"/>
                </a:lnTo>
                <a:lnTo>
                  <a:pt x="479" y="1047"/>
                </a:lnTo>
                <a:lnTo>
                  <a:pt x="497" y="1047"/>
                </a:lnTo>
                <a:lnTo>
                  <a:pt x="497" y="1065"/>
                </a:lnTo>
                <a:lnTo>
                  <a:pt x="532" y="1065"/>
                </a:lnTo>
                <a:lnTo>
                  <a:pt x="550" y="1083"/>
                </a:lnTo>
                <a:lnTo>
                  <a:pt x="568" y="1100"/>
                </a:lnTo>
                <a:lnTo>
                  <a:pt x="603" y="1136"/>
                </a:lnTo>
                <a:lnTo>
                  <a:pt x="621" y="1154"/>
                </a:lnTo>
                <a:lnTo>
                  <a:pt x="621" y="1171"/>
                </a:lnTo>
                <a:lnTo>
                  <a:pt x="639" y="1171"/>
                </a:lnTo>
                <a:lnTo>
                  <a:pt x="621" y="1189"/>
                </a:lnTo>
                <a:lnTo>
                  <a:pt x="621" y="1189"/>
                </a:lnTo>
                <a:lnTo>
                  <a:pt x="603" y="1207"/>
                </a:lnTo>
                <a:lnTo>
                  <a:pt x="586" y="1207"/>
                </a:lnTo>
                <a:lnTo>
                  <a:pt x="586" y="1207"/>
                </a:lnTo>
                <a:lnTo>
                  <a:pt x="568" y="1225"/>
                </a:lnTo>
                <a:lnTo>
                  <a:pt x="568" y="1225"/>
                </a:lnTo>
                <a:lnTo>
                  <a:pt x="550" y="1242"/>
                </a:lnTo>
                <a:lnTo>
                  <a:pt x="532" y="1260"/>
                </a:lnTo>
                <a:lnTo>
                  <a:pt x="515" y="1278"/>
                </a:lnTo>
                <a:lnTo>
                  <a:pt x="497" y="1296"/>
                </a:lnTo>
                <a:lnTo>
                  <a:pt x="497" y="1331"/>
                </a:lnTo>
                <a:lnTo>
                  <a:pt x="444" y="1384"/>
                </a:lnTo>
                <a:lnTo>
                  <a:pt x="408" y="1438"/>
                </a:lnTo>
                <a:lnTo>
                  <a:pt x="355" y="1473"/>
                </a:lnTo>
                <a:lnTo>
                  <a:pt x="302" y="1526"/>
                </a:lnTo>
                <a:lnTo>
                  <a:pt x="248" y="1580"/>
                </a:lnTo>
                <a:lnTo>
                  <a:pt x="195" y="1615"/>
                </a:lnTo>
                <a:lnTo>
                  <a:pt x="142" y="1651"/>
                </a:lnTo>
                <a:lnTo>
                  <a:pt x="106" y="1668"/>
                </a:lnTo>
                <a:lnTo>
                  <a:pt x="71" y="1686"/>
                </a:lnTo>
                <a:lnTo>
                  <a:pt x="53" y="1686"/>
                </a:lnTo>
                <a:lnTo>
                  <a:pt x="35" y="1704"/>
                </a:lnTo>
                <a:lnTo>
                  <a:pt x="18" y="1704"/>
                </a:lnTo>
                <a:lnTo>
                  <a:pt x="18" y="1704"/>
                </a:lnTo>
                <a:lnTo>
                  <a:pt x="0" y="1704"/>
                </a:lnTo>
                <a:lnTo>
                  <a:pt x="0" y="1704"/>
                </a:lnTo>
                <a:lnTo>
                  <a:pt x="0" y="1704"/>
                </a:lnTo>
                <a:lnTo>
                  <a:pt x="0" y="1704"/>
                </a:lnTo>
                <a:lnTo>
                  <a:pt x="0" y="1704"/>
                </a:lnTo>
                <a:lnTo>
                  <a:pt x="18" y="1686"/>
                </a:lnTo>
                <a:lnTo>
                  <a:pt x="18" y="1668"/>
                </a:lnTo>
                <a:lnTo>
                  <a:pt x="35" y="1651"/>
                </a:lnTo>
                <a:lnTo>
                  <a:pt x="71" y="1633"/>
                </a:lnTo>
                <a:lnTo>
                  <a:pt x="89" y="1615"/>
                </a:lnTo>
                <a:lnTo>
                  <a:pt x="124" y="1597"/>
                </a:lnTo>
                <a:lnTo>
                  <a:pt x="195" y="1544"/>
                </a:lnTo>
                <a:lnTo>
                  <a:pt x="248" y="1473"/>
                </a:lnTo>
                <a:lnTo>
                  <a:pt x="302" y="1420"/>
                </a:lnTo>
                <a:lnTo>
                  <a:pt x="355" y="1349"/>
                </a:lnTo>
                <a:lnTo>
                  <a:pt x="373" y="1313"/>
                </a:lnTo>
                <a:lnTo>
                  <a:pt x="390" y="1278"/>
                </a:lnTo>
                <a:lnTo>
                  <a:pt x="408" y="1260"/>
                </a:lnTo>
                <a:lnTo>
                  <a:pt x="408" y="1225"/>
                </a:lnTo>
                <a:lnTo>
                  <a:pt x="426" y="1207"/>
                </a:lnTo>
                <a:lnTo>
                  <a:pt x="426" y="1207"/>
                </a:lnTo>
                <a:lnTo>
                  <a:pt x="426" y="1189"/>
                </a:lnTo>
                <a:lnTo>
                  <a:pt x="426" y="1189"/>
                </a:lnTo>
                <a:lnTo>
                  <a:pt x="426" y="1189"/>
                </a:lnTo>
                <a:lnTo>
                  <a:pt x="408" y="1189"/>
                </a:lnTo>
                <a:lnTo>
                  <a:pt x="390" y="1189"/>
                </a:lnTo>
                <a:lnTo>
                  <a:pt x="373" y="1189"/>
                </a:lnTo>
                <a:lnTo>
                  <a:pt x="355" y="1189"/>
                </a:lnTo>
                <a:lnTo>
                  <a:pt x="337" y="1189"/>
                </a:lnTo>
                <a:lnTo>
                  <a:pt x="319" y="1189"/>
                </a:lnTo>
                <a:lnTo>
                  <a:pt x="284" y="1189"/>
                </a:lnTo>
                <a:lnTo>
                  <a:pt x="248" y="1207"/>
                </a:lnTo>
                <a:lnTo>
                  <a:pt x="231" y="1207"/>
                </a:lnTo>
                <a:lnTo>
                  <a:pt x="195" y="1207"/>
                </a:lnTo>
                <a:lnTo>
                  <a:pt x="177" y="1207"/>
                </a:lnTo>
                <a:lnTo>
                  <a:pt x="160" y="1207"/>
                </a:lnTo>
                <a:lnTo>
                  <a:pt x="142" y="1207"/>
                </a:lnTo>
                <a:lnTo>
                  <a:pt x="142" y="1207"/>
                </a:lnTo>
                <a:lnTo>
                  <a:pt x="124" y="1207"/>
                </a:lnTo>
                <a:lnTo>
                  <a:pt x="106" y="1189"/>
                </a:lnTo>
                <a:lnTo>
                  <a:pt x="106" y="1189"/>
                </a:lnTo>
                <a:lnTo>
                  <a:pt x="89" y="1171"/>
                </a:lnTo>
                <a:lnTo>
                  <a:pt x="89" y="1154"/>
                </a:lnTo>
                <a:lnTo>
                  <a:pt x="89" y="1136"/>
                </a:lnTo>
                <a:lnTo>
                  <a:pt x="89" y="1136"/>
                </a:lnTo>
                <a:lnTo>
                  <a:pt x="106" y="1118"/>
                </a:lnTo>
                <a:lnTo>
                  <a:pt x="124" y="1118"/>
                </a:lnTo>
                <a:lnTo>
                  <a:pt x="142" y="1118"/>
                </a:lnTo>
                <a:lnTo>
                  <a:pt x="142" y="1136"/>
                </a:lnTo>
                <a:lnTo>
                  <a:pt x="160" y="1136"/>
                </a:lnTo>
                <a:lnTo>
                  <a:pt x="177" y="1118"/>
                </a:lnTo>
                <a:lnTo>
                  <a:pt x="213" y="1118"/>
                </a:lnTo>
                <a:lnTo>
                  <a:pt x="231" y="1118"/>
                </a:lnTo>
                <a:lnTo>
                  <a:pt x="266" y="1118"/>
                </a:lnTo>
                <a:lnTo>
                  <a:pt x="284" y="1118"/>
                </a:lnTo>
                <a:lnTo>
                  <a:pt x="284" y="1118"/>
                </a:lnTo>
                <a:close/>
                <a:moveTo>
                  <a:pt x="781" y="35"/>
                </a:moveTo>
                <a:lnTo>
                  <a:pt x="763" y="18"/>
                </a:lnTo>
                <a:lnTo>
                  <a:pt x="763" y="18"/>
                </a:lnTo>
                <a:lnTo>
                  <a:pt x="763" y="0"/>
                </a:lnTo>
                <a:lnTo>
                  <a:pt x="781" y="0"/>
                </a:lnTo>
                <a:lnTo>
                  <a:pt x="799" y="0"/>
                </a:lnTo>
                <a:lnTo>
                  <a:pt x="816" y="0"/>
                </a:lnTo>
                <a:lnTo>
                  <a:pt x="834" y="0"/>
                </a:lnTo>
                <a:lnTo>
                  <a:pt x="870" y="18"/>
                </a:lnTo>
                <a:lnTo>
                  <a:pt x="905" y="35"/>
                </a:lnTo>
                <a:lnTo>
                  <a:pt x="923" y="53"/>
                </a:lnTo>
                <a:lnTo>
                  <a:pt x="941" y="71"/>
                </a:lnTo>
                <a:lnTo>
                  <a:pt x="941" y="89"/>
                </a:lnTo>
                <a:lnTo>
                  <a:pt x="941" y="89"/>
                </a:lnTo>
                <a:lnTo>
                  <a:pt x="941" y="106"/>
                </a:lnTo>
                <a:lnTo>
                  <a:pt x="923" y="124"/>
                </a:lnTo>
                <a:lnTo>
                  <a:pt x="923" y="124"/>
                </a:lnTo>
                <a:lnTo>
                  <a:pt x="905" y="142"/>
                </a:lnTo>
                <a:lnTo>
                  <a:pt x="887" y="160"/>
                </a:lnTo>
                <a:lnTo>
                  <a:pt x="852" y="213"/>
                </a:lnTo>
                <a:lnTo>
                  <a:pt x="763" y="284"/>
                </a:lnTo>
                <a:lnTo>
                  <a:pt x="710" y="319"/>
                </a:lnTo>
                <a:lnTo>
                  <a:pt x="657" y="373"/>
                </a:lnTo>
                <a:lnTo>
                  <a:pt x="621" y="390"/>
                </a:lnTo>
                <a:lnTo>
                  <a:pt x="603" y="408"/>
                </a:lnTo>
                <a:lnTo>
                  <a:pt x="586" y="426"/>
                </a:lnTo>
                <a:lnTo>
                  <a:pt x="550" y="426"/>
                </a:lnTo>
                <a:lnTo>
                  <a:pt x="532" y="444"/>
                </a:lnTo>
                <a:lnTo>
                  <a:pt x="515" y="444"/>
                </a:lnTo>
                <a:lnTo>
                  <a:pt x="497" y="461"/>
                </a:lnTo>
                <a:lnTo>
                  <a:pt x="479" y="461"/>
                </a:lnTo>
                <a:lnTo>
                  <a:pt x="532" y="390"/>
                </a:lnTo>
                <a:lnTo>
                  <a:pt x="586" y="337"/>
                </a:lnTo>
                <a:lnTo>
                  <a:pt x="621" y="302"/>
                </a:lnTo>
                <a:lnTo>
                  <a:pt x="657" y="248"/>
                </a:lnTo>
                <a:lnTo>
                  <a:pt x="692" y="213"/>
                </a:lnTo>
                <a:lnTo>
                  <a:pt x="728" y="177"/>
                </a:lnTo>
                <a:lnTo>
                  <a:pt x="745" y="160"/>
                </a:lnTo>
                <a:lnTo>
                  <a:pt x="763" y="124"/>
                </a:lnTo>
                <a:lnTo>
                  <a:pt x="781" y="89"/>
                </a:lnTo>
                <a:lnTo>
                  <a:pt x="781" y="89"/>
                </a:lnTo>
                <a:lnTo>
                  <a:pt x="781" y="71"/>
                </a:lnTo>
                <a:lnTo>
                  <a:pt x="781" y="53"/>
                </a:lnTo>
                <a:lnTo>
                  <a:pt x="781" y="53"/>
                </a:lnTo>
                <a:lnTo>
                  <a:pt x="781" y="35"/>
                </a:lnTo>
                <a:lnTo>
                  <a:pt x="781" y="35"/>
                </a:lnTo>
                <a:lnTo>
                  <a:pt x="781" y="35"/>
                </a:lnTo>
                <a:close/>
                <a:moveTo>
                  <a:pt x="355" y="479"/>
                </a:moveTo>
                <a:lnTo>
                  <a:pt x="337" y="461"/>
                </a:lnTo>
                <a:lnTo>
                  <a:pt x="337" y="444"/>
                </a:lnTo>
                <a:lnTo>
                  <a:pt x="337" y="444"/>
                </a:lnTo>
                <a:lnTo>
                  <a:pt x="337" y="426"/>
                </a:lnTo>
                <a:lnTo>
                  <a:pt x="337" y="426"/>
                </a:lnTo>
                <a:lnTo>
                  <a:pt x="337" y="408"/>
                </a:lnTo>
                <a:lnTo>
                  <a:pt x="355" y="408"/>
                </a:lnTo>
                <a:lnTo>
                  <a:pt x="355" y="408"/>
                </a:lnTo>
                <a:lnTo>
                  <a:pt x="373" y="408"/>
                </a:lnTo>
                <a:lnTo>
                  <a:pt x="373" y="408"/>
                </a:lnTo>
                <a:lnTo>
                  <a:pt x="390" y="408"/>
                </a:lnTo>
                <a:lnTo>
                  <a:pt x="426" y="408"/>
                </a:lnTo>
                <a:lnTo>
                  <a:pt x="444" y="408"/>
                </a:lnTo>
                <a:lnTo>
                  <a:pt x="479" y="426"/>
                </a:lnTo>
                <a:lnTo>
                  <a:pt x="497" y="426"/>
                </a:lnTo>
                <a:lnTo>
                  <a:pt x="515" y="497"/>
                </a:lnTo>
                <a:lnTo>
                  <a:pt x="532" y="550"/>
                </a:lnTo>
                <a:lnTo>
                  <a:pt x="532" y="603"/>
                </a:lnTo>
                <a:lnTo>
                  <a:pt x="550" y="657"/>
                </a:lnTo>
                <a:lnTo>
                  <a:pt x="550" y="710"/>
                </a:lnTo>
                <a:lnTo>
                  <a:pt x="568" y="745"/>
                </a:lnTo>
                <a:lnTo>
                  <a:pt x="568" y="781"/>
                </a:lnTo>
                <a:lnTo>
                  <a:pt x="568" y="816"/>
                </a:lnTo>
                <a:lnTo>
                  <a:pt x="586" y="852"/>
                </a:lnTo>
                <a:lnTo>
                  <a:pt x="586" y="887"/>
                </a:lnTo>
                <a:lnTo>
                  <a:pt x="586" y="905"/>
                </a:lnTo>
                <a:lnTo>
                  <a:pt x="586" y="923"/>
                </a:lnTo>
                <a:lnTo>
                  <a:pt x="586" y="941"/>
                </a:lnTo>
                <a:lnTo>
                  <a:pt x="586" y="941"/>
                </a:lnTo>
                <a:lnTo>
                  <a:pt x="568" y="958"/>
                </a:lnTo>
                <a:lnTo>
                  <a:pt x="568" y="958"/>
                </a:lnTo>
                <a:lnTo>
                  <a:pt x="550" y="958"/>
                </a:lnTo>
                <a:lnTo>
                  <a:pt x="550" y="941"/>
                </a:lnTo>
                <a:lnTo>
                  <a:pt x="532" y="923"/>
                </a:lnTo>
                <a:lnTo>
                  <a:pt x="515" y="905"/>
                </a:lnTo>
                <a:lnTo>
                  <a:pt x="515" y="870"/>
                </a:lnTo>
                <a:lnTo>
                  <a:pt x="497" y="834"/>
                </a:lnTo>
                <a:lnTo>
                  <a:pt x="479" y="781"/>
                </a:lnTo>
                <a:lnTo>
                  <a:pt x="479" y="728"/>
                </a:lnTo>
                <a:lnTo>
                  <a:pt x="461" y="674"/>
                </a:lnTo>
                <a:lnTo>
                  <a:pt x="444" y="639"/>
                </a:lnTo>
                <a:lnTo>
                  <a:pt x="426" y="603"/>
                </a:lnTo>
                <a:lnTo>
                  <a:pt x="426" y="568"/>
                </a:lnTo>
                <a:lnTo>
                  <a:pt x="408" y="532"/>
                </a:lnTo>
                <a:lnTo>
                  <a:pt x="390" y="515"/>
                </a:lnTo>
                <a:lnTo>
                  <a:pt x="373" y="497"/>
                </a:lnTo>
                <a:lnTo>
                  <a:pt x="355" y="479"/>
                </a:lnTo>
                <a:lnTo>
                  <a:pt x="355" y="479"/>
                </a:lnTo>
                <a:close/>
                <a:moveTo>
                  <a:pt x="444" y="426"/>
                </a:moveTo>
                <a:lnTo>
                  <a:pt x="568" y="426"/>
                </a:lnTo>
                <a:lnTo>
                  <a:pt x="674" y="408"/>
                </a:lnTo>
                <a:lnTo>
                  <a:pt x="781" y="390"/>
                </a:lnTo>
                <a:lnTo>
                  <a:pt x="887" y="355"/>
                </a:lnTo>
                <a:lnTo>
                  <a:pt x="941" y="355"/>
                </a:lnTo>
                <a:lnTo>
                  <a:pt x="994" y="337"/>
                </a:lnTo>
                <a:lnTo>
                  <a:pt x="1029" y="337"/>
                </a:lnTo>
                <a:lnTo>
                  <a:pt x="1065" y="319"/>
                </a:lnTo>
                <a:lnTo>
                  <a:pt x="1083" y="319"/>
                </a:lnTo>
                <a:lnTo>
                  <a:pt x="1100" y="302"/>
                </a:lnTo>
                <a:lnTo>
                  <a:pt x="1118" y="302"/>
                </a:lnTo>
                <a:lnTo>
                  <a:pt x="1136" y="284"/>
                </a:lnTo>
                <a:lnTo>
                  <a:pt x="1154" y="284"/>
                </a:lnTo>
                <a:lnTo>
                  <a:pt x="1171" y="284"/>
                </a:lnTo>
                <a:lnTo>
                  <a:pt x="1171" y="284"/>
                </a:lnTo>
                <a:lnTo>
                  <a:pt x="1189" y="284"/>
                </a:lnTo>
                <a:lnTo>
                  <a:pt x="1225" y="302"/>
                </a:lnTo>
                <a:lnTo>
                  <a:pt x="1260" y="302"/>
                </a:lnTo>
                <a:lnTo>
                  <a:pt x="1296" y="337"/>
                </a:lnTo>
                <a:lnTo>
                  <a:pt x="1313" y="337"/>
                </a:lnTo>
                <a:lnTo>
                  <a:pt x="1349" y="355"/>
                </a:lnTo>
                <a:lnTo>
                  <a:pt x="1349" y="373"/>
                </a:lnTo>
                <a:lnTo>
                  <a:pt x="1367" y="373"/>
                </a:lnTo>
                <a:lnTo>
                  <a:pt x="1384" y="390"/>
                </a:lnTo>
                <a:lnTo>
                  <a:pt x="1384" y="390"/>
                </a:lnTo>
                <a:lnTo>
                  <a:pt x="1384" y="390"/>
                </a:lnTo>
                <a:lnTo>
                  <a:pt x="1402" y="408"/>
                </a:lnTo>
                <a:lnTo>
                  <a:pt x="1384" y="408"/>
                </a:lnTo>
                <a:lnTo>
                  <a:pt x="1384" y="426"/>
                </a:lnTo>
                <a:lnTo>
                  <a:pt x="1367" y="444"/>
                </a:lnTo>
                <a:lnTo>
                  <a:pt x="1349" y="444"/>
                </a:lnTo>
                <a:lnTo>
                  <a:pt x="1331" y="461"/>
                </a:lnTo>
                <a:lnTo>
                  <a:pt x="1313" y="461"/>
                </a:lnTo>
                <a:lnTo>
                  <a:pt x="1313" y="479"/>
                </a:lnTo>
                <a:lnTo>
                  <a:pt x="1296" y="515"/>
                </a:lnTo>
                <a:lnTo>
                  <a:pt x="1278" y="532"/>
                </a:lnTo>
                <a:lnTo>
                  <a:pt x="1260" y="568"/>
                </a:lnTo>
                <a:lnTo>
                  <a:pt x="1225" y="621"/>
                </a:lnTo>
                <a:lnTo>
                  <a:pt x="1207" y="657"/>
                </a:lnTo>
                <a:lnTo>
                  <a:pt x="1189" y="692"/>
                </a:lnTo>
                <a:lnTo>
                  <a:pt x="1171" y="745"/>
                </a:lnTo>
                <a:lnTo>
                  <a:pt x="1154" y="763"/>
                </a:lnTo>
                <a:lnTo>
                  <a:pt x="1118" y="799"/>
                </a:lnTo>
                <a:lnTo>
                  <a:pt x="1100" y="816"/>
                </a:lnTo>
                <a:lnTo>
                  <a:pt x="1083" y="834"/>
                </a:lnTo>
                <a:lnTo>
                  <a:pt x="1065" y="834"/>
                </a:lnTo>
                <a:lnTo>
                  <a:pt x="1029" y="852"/>
                </a:lnTo>
                <a:lnTo>
                  <a:pt x="1065" y="763"/>
                </a:lnTo>
                <a:lnTo>
                  <a:pt x="1100" y="692"/>
                </a:lnTo>
                <a:lnTo>
                  <a:pt x="1118" y="639"/>
                </a:lnTo>
                <a:lnTo>
                  <a:pt x="1136" y="586"/>
                </a:lnTo>
                <a:lnTo>
                  <a:pt x="1154" y="532"/>
                </a:lnTo>
                <a:lnTo>
                  <a:pt x="1154" y="515"/>
                </a:lnTo>
                <a:lnTo>
                  <a:pt x="1154" y="479"/>
                </a:lnTo>
                <a:lnTo>
                  <a:pt x="1171" y="479"/>
                </a:lnTo>
                <a:lnTo>
                  <a:pt x="1171" y="461"/>
                </a:lnTo>
                <a:lnTo>
                  <a:pt x="1154" y="444"/>
                </a:lnTo>
                <a:lnTo>
                  <a:pt x="1154" y="426"/>
                </a:lnTo>
                <a:lnTo>
                  <a:pt x="1136" y="408"/>
                </a:lnTo>
                <a:lnTo>
                  <a:pt x="1118" y="390"/>
                </a:lnTo>
                <a:lnTo>
                  <a:pt x="1100" y="390"/>
                </a:lnTo>
                <a:lnTo>
                  <a:pt x="1083" y="390"/>
                </a:lnTo>
                <a:lnTo>
                  <a:pt x="1065" y="390"/>
                </a:lnTo>
                <a:lnTo>
                  <a:pt x="1029" y="390"/>
                </a:lnTo>
                <a:lnTo>
                  <a:pt x="994" y="408"/>
                </a:lnTo>
                <a:lnTo>
                  <a:pt x="958" y="408"/>
                </a:lnTo>
                <a:lnTo>
                  <a:pt x="941" y="426"/>
                </a:lnTo>
                <a:lnTo>
                  <a:pt x="923" y="426"/>
                </a:lnTo>
                <a:lnTo>
                  <a:pt x="905" y="426"/>
                </a:lnTo>
                <a:lnTo>
                  <a:pt x="887" y="426"/>
                </a:lnTo>
                <a:lnTo>
                  <a:pt x="870" y="444"/>
                </a:lnTo>
                <a:lnTo>
                  <a:pt x="834" y="444"/>
                </a:lnTo>
                <a:lnTo>
                  <a:pt x="816" y="444"/>
                </a:lnTo>
                <a:lnTo>
                  <a:pt x="781" y="444"/>
                </a:lnTo>
                <a:lnTo>
                  <a:pt x="745" y="461"/>
                </a:lnTo>
                <a:lnTo>
                  <a:pt x="710" y="461"/>
                </a:lnTo>
                <a:lnTo>
                  <a:pt x="674" y="461"/>
                </a:lnTo>
                <a:lnTo>
                  <a:pt x="639" y="479"/>
                </a:lnTo>
                <a:lnTo>
                  <a:pt x="586" y="479"/>
                </a:lnTo>
                <a:lnTo>
                  <a:pt x="532" y="479"/>
                </a:lnTo>
                <a:lnTo>
                  <a:pt x="497" y="497"/>
                </a:lnTo>
                <a:lnTo>
                  <a:pt x="444" y="497"/>
                </a:lnTo>
                <a:lnTo>
                  <a:pt x="444" y="426"/>
                </a:lnTo>
                <a:lnTo>
                  <a:pt x="444" y="426"/>
                </a:lnTo>
                <a:close/>
                <a:moveTo>
                  <a:pt x="905" y="550"/>
                </a:moveTo>
                <a:lnTo>
                  <a:pt x="923" y="550"/>
                </a:lnTo>
                <a:lnTo>
                  <a:pt x="923" y="568"/>
                </a:lnTo>
                <a:lnTo>
                  <a:pt x="941" y="568"/>
                </a:lnTo>
                <a:lnTo>
                  <a:pt x="958" y="568"/>
                </a:lnTo>
                <a:lnTo>
                  <a:pt x="976" y="586"/>
                </a:lnTo>
                <a:lnTo>
                  <a:pt x="976" y="586"/>
                </a:lnTo>
                <a:lnTo>
                  <a:pt x="994" y="603"/>
                </a:lnTo>
                <a:lnTo>
                  <a:pt x="994" y="603"/>
                </a:lnTo>
                <a:lnTo>
                  <a:pt x="994" y="621"/>
                </a:lnTo>
                <a:lnTo>
                  <a:pt x="976" y="621"/>
                </a:lnTo>
                <a:lnTo>
                  <a:pt x="976" y="621"/>
                </a:lnTo>
                <a:lnTo>
                  <a:pt x="958" y="621"/>
                </a:lnTo>
                <a:lnTo>
                  <a:pt x="941" y="639"/>
                </a:lnTo>
                <a:lnTo>
                  <a:pt x="905" y="639"/>
                </a:lnTo>
                <a:lnTo>
                  <a:pt x="887" y="639"/>
                </a:lnTo>
                <a:lnTo>
                  <a:pt x="852" y="657"/>
                </a:lnTo>
                <a:lnTo>
                  <a:pt x="763" y="657"/>
                </a:lnTo>
                <a:lnTo>
                  <a:pt x="692" y="674"/>
                </a:lnTo>
                <a:lnTo>
                  <a:pt x="603" y="674"/>
                </a:lnTo>
                <a:lnTo>
                  <a:pt x="497" y="674"/>
                </a:lnTo>
                <a:lnTo>
                  <a:pt x="497" y="639"/>
                </a:lnTo>
                <a:lnTo>
                  <a:pt x="550" y="621"/>
                </a:lnTo>
                <a:lnTo>
                  <a:pt x="603" y="621"/>
                </a:lnTo>
                <a:lnTo>
                  <a:pt x="639" y="603"/>
                </a:lnTo>
                <a:lnTo>
                  <a:pt x="674" y="603"/>
                </a:lnTo>
                <a:lnTo>
                  <a:pt x="710" y="586"/>
                </a:lnTo>
                <a:lnTo>
                  <a:pt x="745" y="586"/>
                </a:lnTo>
                <a:lnTo>
                  <a:pt x="763" y="586"/>
                </a:lnTo>
                <a:lnTo>
                  <a:pt x="799" y="568"/>
                </a:lnTo>
                <a:lnTo>
                  <a:pt x="816" y="568"/>
                </a:lnTo>
                <a:lnTo>
                  <a:pt x="834" y="568"/>
                </a:lnTo>
                <a:lnTo>
                  <a:pt x="852" y="568"/>
                </a:lnTo>
                <a:lnTo>
                  <a:pt x="870" y="568"/>
                </a:lnTo>
                <a:lnTo>
                  <a:pt x="887" y="550"/>
                </a:lnTo>
                <a:lnTo>
                  <a:pt x="887" y="550"/>
                </a:lnTo>
                <a:lnTo>
                  <a:pt x="905" y="550"/>
                </a:lnTo>
                <a:lnTo>
                  <a:pt x="905" y="550"/>
                </a:lnTo>
                <a:lnTo>
                  <a:pt x="905" y="550"/>
                </a:lnTo>
                <a:close/>
                <a:moveTo>
                  <a:pt x="568" y="852"/>
                </a:moveTo>
                <a:lnTo>
                  <a:pt x="763" y="834"/>
                </a:lnTo>
                <a:lnTo>
                  <a:pt x="781" y="834"/>
                </a:lnTo>
                <a:lnTo>
                  <a:pt x="816" y="834"/>
                </a:lnTo>
                <a:lnTo>
                  <a:pt x="852" y="816"/>
                </a:lnTo>
                <a:lnTo>
                  <a:pt x="887" y="816"/>
                </a:lnTo>
                <a:lnTo>
                  <a:pt x="923" y="816"/>
                </a:lnTo>
                <a:lnTo>
                  <a:pt x="976" y="799"/>
                </a:lnTo>
                <a:lnTo>
                  <a:pt x="1029" y="799"/>
                </a:lnTo>
                <a:lnTo>
                  <a:pt x="1100" y="781"/>
                </a:lnTo>
                <a:lnTo>
                  <a:pt x="1100" y="816"/>
                </a:lnTo>
                <a:lnTo>
                  <a:pt x="1118" y="834"/>
                </a:lnTo>
                <a:lnTo>
                  <a:pt x="1118" y="852"/>
                </a:lnTo>
                <a:lnTo>
                  <a:pt x="1118" y="852"/>
                </a:lnTo>
                <a:lnTo>
                  <a:pt x="1100" y="870"/>
                </a:lnTo>
                <a:lnTo>
                  <a:pt x="1100" y="870"/>
                </a:lnTo>
                <a:lnTo>
                  <a:pt x="1065" y="870"/>
                </a:lnTo>
                <a:lnTo>
                  <a:pt x="1047" y="870"/>
                </a:lnTo>
                <a:lnTo>
                  <a:pt x="1029" y="870"/>
                </a:lnTo>
                <a:lnTo>
                  <a:pt x="1029" y="870"/>
                </a:lnTo>
                <a:lnTo>
                  <a:pt x="1012" y="870"/>
                </a:lnTo>
                <a:lnTo>
                  <a:pt x="994" y="870"/>
                </a:lnTo>
                <a:lnTo>
                  <a:pt x="976" y="887"/>
                </a:lnTo>
                <a:lnTo>
                  <a:pt x="958" y="887"/>
                </a:lnTo>
                <a:lnTo>
                  <a:pt x="923" y="887"/>
                </a:lnTo>
                <a:lnTo>
                  <a:pt x="905" y="887"/>
                </a:lnTo>
                <a:lnTo>
                  <a:pt x="870" y="887"/>
                </a:lnTo>
                <a:lnTo>
                  <a:pt x="834" y="887"/>
                </a:lnTo>
                <a:lnTo>
                  <a:pt x="799" y="887"/>
                </a:lnTo>
                <a:lnTo>
                  <a:pt x="763" y="905"/>
                </a:lnTo>
                <a:lnTo>
                  <a:pt x="728" y="905"/>
                </a:lnTo>
                <a:lnTo>
                  <a:pt x="674" y="905"/>
                </a:lnTo>
                <a:lnTo>
                  <a:pt x="621" y="905"/>
                </a:lnTo>
                <a:lnTo>
                  <a:pt x="568" y="905"/>
                </a:lnTo>
                <a:lnTo>
                  <a:pt x="568" y="852"/>
                </a:lnTo>
                <a:lnTo>
                  <a:pt x="568" y="852"/>
                </a:lnTo>
                <a:close/>
                <a:moveTo>
                  <a:pt x="728" y="1686"/>
                </a:moveTo>
                <a:lnTo>
                  <a:pt x="745" y="1668"/>
                </a:lnTo>
                <a:lnTo>
                  <a:pt x="745" y="1651"/>
                </a:lnTo>
                <a:lnTo>
                  <a:pt x="745" y="1633"/>
                </a:lnTo>
                <a:lnTo>
                  <a:pt x="745" y="1597"/>
                </a:lnTo>
                <a:lnTo>
                  <a:pt x="763" y="1544"/>
                </a:lnTo>
                <a:lnTo>
                  <a:pt x="763" y="1509"/>
                </a:lnTo>
                <a:lnTo>
                  <a:pt x="763" y="1438"/>
                </a:lnTo>
                <a:lnTo>
                  <a:pt x="763" y="1384"/>
                </a:lnTo>
                <a:lnTo>
                  <a:pt x="763" y="1313"/>
                </a:lnTo>
                <a:lnTo>
                  <a:pt x="763" y="1260"/>
                </a:lnTo>
                <a:lnTo>
                  <a:pt x="763" y="1207"/>
                </a:lnTo>
                <a:lnTo>
                  <a:pt x="763" y="1171"/>
                </a:lnTo>
                <a:lnTo>
                  <a:pt x="763" y="1118"/>
                </a:lnTo>
                <a:lnTo>
                  <a:pt x="763" y="1100"/>
                </a:lnTo>
                <a:lnTo>
                  <a:pt x="763" y="1065"/>
                </a:lnTo>
                <a:lnTo>
                  <a:pt x="763" y="1047"/>
                </a:lnTo>
                <a:lnTo>
                  <a:pt x="763" y="1012"/>
                </a:lnTo>
                <a:lnTo>
                  <a:pt x="745" y="976"/>
                </a:lnTo>
                <a:lnTo>
                  <a:pt x="710" y="941"/>
                </a:lnTo>
                <a:lnTo>
                  <a:pt x="692" y="887"/>
                </a:lnTo>
                <a:lnTo>
                  <a:pt x="728" y="905"/>
                </a:lnTo>
                <a:lnTo>
                  <a:pt x="763" y="923"/>
                </a:lnTo>
                <a:lnTo>
                  <a:pt x="799" y="941"/>
                </a:lnTo>
                <a:lnTo>
                  <a:pt x="816" y="958"/>
                </a:lnTo>
                <a:lnTo>
                  <a:pt x="852" y="958"/>
                </a:lnTo>
                <a:lnTo>
                  <a:pt x="852" y="976"/>
                </a:lnTo>
                <a:lnTo>
                  <a:pt x="870" y="994"/>
                </a:lnTo>
                <a:lnTo>
                  <a:pt x="870" y="994"/>
                </a:lnTo>
                <a:lnTo>
                  <a:pt x="870" y="1012"/>
                </a:lnTo>
                <a:lnTo>
                  <a:pt x="870" y="1029"/>
                </a:lnTo>
                <a:lnTo>
                  <a:pt x="870" y="1047"/>
                </a:lnTo>
                <a:lnTo>
                  <a:pt x="870" y="1065"/>
                </a:lnTo>
                <a:lnTo>
                  <a:pt x="870" y="1083"/>
                </a:lnTo>
                <a:lnTo>
                  <a:pt x="852" y="1118"/>
                </a:lnTo>
                <a:lnTo>
                  <a:pt x="852" y="1136"/>
                </a:lnTo>
                <a:lnTo>
                  <a:pt x="852" y="1171"/>
                </a:lnTo>
                <a:lnTo>
                  <a:pt x="852" y="1260"/>
                </a:lnTo>
                <a:lnTo>
                  <a:pt x="852" y="1331"/>
                </a:lnTo>
                <a:lnTo>
                  <a:pt x="852" y="1420"/>
                </a:lnTo>
                <a:lnTo>
                  <a:pt x="870" y="1491"/>
                </a:lnTo>
                <a:lnTo>
                  <a:pt x="870" y="1544"/>
                </a:lnTo>
                <a:lnTo>
                  <a:pt x="870" y="1580"/>
                </a:lnTo>
                <a:lnTo>
                  <a:pt x="870" y="1615"/>
                </a:lnTo>
                <a:lnTo>
                  <a:pt x="870" y="1651"/>
                </a:lnTo>
                <a:lnTo>
                  <a:pt x="870" y="1686"/>
                </a:lnTo>
                <a:lnTo>
                  <a:pt x="870" y="1704"/>
                </a:lnTo>
                <a:lnTo>
                  <a:pt x="870" y="1722"/>
                </a:lnTo>
                <a:lnTo>
                  <a:pt x="870" y="1739"/>
                </a:lnTo>
                <a:lnTo>
                  <a:pt x="852" y="1775"/>
                </a:lnTo>
                <a:lnTo>
                  <a:pt x="834" y="1810"/>
                </a:lnTo>
                <a:lnTo>
                  <a:pt x="816" y="1846"/>
                </a:lnTo>
                <a:lnTo>
                  <a:pt x="799" y="1864"/>
                </a:lnTo>
                <a:lnTo>
                  <a:pt x="781" y="1881"/>
                </a:lnTo>
                <a:lnTo>
                  <a:pt x="763" y="1899"/>
                </a:lnTo>
                <a:lnTo>
                  <a:pt x="745" y="1899"/>
                </a:lnTo>
                <a:lnTo>
                  <a:pt x="728" y="1899"/>
                </a:lnTo>
                <a:lnTo>
                  <a:pt x="728" y="1899"/>
                </a:lnTo>
                <a:lnTo>
                  <a:pt x="710" y="1881"/>
                </a:lnTo>
                <a:lnTo>
                  <a:pt x="710" y="1864"/>
                </a:lnTo>
                <a:lnTo>
                  <a:pt x="692" y="1846"/>
                </a:lnTo>
                <a:lnTo>
                  <a:pt x="692" y="1810"/>
                </a:lnTo>
                <a:lnTo>
                  <a:pt x="674" y="1775"/>
                </a:lnTo>
                <a:lnTo>
                  <a:pt x="639" y="1757"/>
                </a:lnTo>
                <a:lnTo>
                  <a:pt x="603" y="1722"/>
                </a:lnTo>
                <a:lnTo>
                  <a:pt x="586" y="1704"/>
                </a:lnTo>
                <a:lnTo>
                  <a:pt x="550" y="1704"/>
                </a:lnTo>
                <a:lnTo>
                  <a:pt x="550" y="1686"/>
                </a:lnTo>
                <a:lnTo>
                  <a:pt x="532" y="1668"/>
                </a:lnTo>
                <a:lnTo>
                  <a:pt x="515" y="1668"/>
                </a:lnTo>
                <a:lnTo>
                  <a:pt x="515" y="1668"/>
                </a:lnTo>
                <a:lnTo>
                  <a:pt x="515" y="1651"/>
                </a:lnTo>
                <a:lnTo>
                  <a:pt x="515" y="1651"/>
                </a:lnTo>
                <a:lnTo>
                  <a:pt x="515" y="1651"/>
                </a:lnTo>
                <a:lnTo>
                  <a:pt x="515" y="1651"/>
                </a:lnTo>
                <a:lnTo>
                  <a:pt x="532" y="1651"/>
                </a:lnTo>
                <a:lnTo>
                  <a:pt x="532" y="1651"/>
                </a:lnTo>
                <a:lnTo>
                  <a:pt x="550" y="1651"/>
                </a:lnTo>
                <a:lnTo>
                  <a:pt x="568" y="1668"/>
                </a:lnTo>
                <a:lnTo>
                  <a:pt x="586" y="1668"/>
                </a:lnTo>
                <a:lnTo>
                  <a:pt x="621" y="1686"/>
                </a:lnTo>
                <a:lnTo>
                  <a:pt x="639" y="1686"/>
                </a:lnTo>
                <a:lnTo>
                  <a:pt x="657" y="1704"/>
                </a:lnTo>
                <a:lnTo>
                  <a:pt x="674" y="1704"/>
                </a:lnTo>
                <a:lnTo>
                  <a:pt x="692" y="1704"/>
                </a:lnTo>
                <a:lnTo>
                  <a:pt x="710" y="1704"/>
                </a:lnTo>
                <a:lnTo>
                  <a:pt x="728" y="1704"/>
                </a:lnTo>
                <a:lnTo>
                  <a:pt x="728" y="1686"/>
                </a:lnTo>
                <a:lnTo>
                  <a:pt x="728" y="1686"/>
                </a:lnTo>
                <a:lnTo>
                  <a:pt x="728" y="1686"/>
                </a:lnTo>
                <a:close/>
                <a:moveTo>
                  <a:pt x="1402" y="905"/>
                </a:moveTo>
                <a:lnTo>
                  <a:pt x="1402" y="923"/>
                </a:lnTo>
                <a:lnTo>
                  <a:pt x="1402" y="923"/>
                </a:lnTo>
                <a:lnTo>
                  <a:pt x="1402" y="941"/>
                </a:lnTo>
                <a:lnTo>
                  <a:pt x="1384" y="941"/>
                </a:lnTo>
                <a:lnTo>
                  <a:pt x="1367" y="958"/>
                </a:lnTo>
                <a:lnTo>
                  <a:pt x="1367" y="958"/>
                </a:lnTo>
                <a:lnTo>
                  <a:pt x="1349" y="976"/>
                </a:lnTo>
                <a:lnTo>
                  <a:pt x="1331" y="994"/>
                </a:lnTo>
                <a:lnTo>
                  <a:pt x="1296" y="1012"/>
                </a:lnTo>
                <a:lnTo>
                  <a:pt x="1278" y="1029"/>
                </a:lnTo>
                <a:lnTo>
                  <a:pt x="1242" y="1047"/>
                </a:lnTo>
                <a:lnTo>
                  <a:pt x="1189" y="1065"/>
                </a:lnTo>
                <a:lnTo>
                  <a:pt x="1154" y="1100"/>
                </a:lnTo>
                <a:lnTo>
                  <a:pt x="1100" y="1136"/>
                </a:lnTo>
                <a:lnTo>
                  <a:pt x="1047" y="1171"/>
                </a:lnTo>
                <a:lnTo>
                  <a:pt x="994" y="1207"/>
                </a:lnTo>
                <a:lnTo>
                  <a:pt x="958" y="1171"/>
                </a:lnTo>
                <a:lnTo>
                  <a:pt x="1012" y="1136"/>
                </a:lnTo>
                <a:lnTo>
                  <a:pt x="1065" y="1083"/>
                </a:lnTo>
                <a:lnTo>
                  <a:pt x="1100" y="1047"/>
                </a:lnTo>
                <a:lnTo>
                  <a:pt x="1136" y="1012"/>
                </a:lnTo>
                <a:lnTo>
                  <a:pt x="1171" y="976"/>
                </a:lnTo>
                <a:lnTo>
                  <a:pt x="1189" y="958"/>
                </a:lnTo>
                <a:lnTo>
                  <a:pt x="1207" y="941"/>
                </a:lnTo>
                <a:lnTo>
                  <a:pt x="1225" y="905"/>
                </a:lnTo>
                <a:lnTo>
                  <a:pt x="1242" y="887"/>
                </a:lnTo>
                <a:lnTo>
                  <a:pt x="1260" y="870"/>
                </a:lnTo>
                <a:lnTo>
                  <a:pt x="1260" y="834"/>
                </a:lnTo>
                <a:lnTo>
                  <a:pt x="1260" y="816"/>
                </a:lnTo>
                <a:lnTo>
                  <a:pt x="1242" y="816"/>
                </a:lnTo>
                <a:lnTo>
                  <a:pt x="1242" y="799"/>
                </a:lnTo>
                <a:lnTo>
                  <a:pt x="1242" y="781"/>
                </a:lnTo>
                <a:lnTo>
                  <a:pt x="1260" y="781"/>
                </a:lnTo>
                <a:lnTo>
                  <a:pt x="1260" y="781"/>
                </a:lnTo>
                <a:lnTo>
                  <a:pt x="1278" y="781"/>
                </a:lnTo>
                <a:lnTo>
                  <a:pt x="1313" y="799"/>
                </a:lnTo>
                <a:lnTo>
                  <a:pt x="1331" y="816"/>
                </a:lnTo>
                <a:lnTo>
                  <a:pt x="1367" y="852"/>
                </a:lnTo>
                <a:lnTo>
                  <a:pt x="1384" y="870"/>
                </a:lnTo>
                <a:lnTo>
                  <a:pt x="1402" y="887"/>
                </a:lnTo>
                <a:lnTo>
                  <a:pt x="1402" y="905"/>
                </a:lnTo>
                <a:lnTo>
                  <a:pt x="1402" y="905"/>
                </a:lnTo>
                <a:close/>
                <a:moveTo>
                  <a:pt x="1384" y="1384"/>
                </a:moveTo>
                <a:lnTo>
                  <a:pt x="1473" y="1420"/>
                </a:lnTo>
                <a:lnTo>
                  <a:pt x="1562" y="1455"/>
                </a:lnTo>
                <a:lnTo>
                  <a:pt x="1651" y="1491"/>
                </a:lnTo>
                <a:lnTo>
                  <a:pt x="1739" y="1509"/>
                </a:lnTo>
                <a:lnTo>
                  <a:pt x="1775" y="1509"/>
                </a:lnTo>
                <a:lnTo>
                  <a:pt x="1810" y="1526"/>
                </a:lnTo>
                <a:lnTo>
                  <a:pt x="1846" y="1544"/>
                </a:lnTo>
                <a:lnTo>
                  <a:pt x="1864" y="1544"/>
                </a:lnTo>
                <a:lnTo>
                  <a:pt x="1881" y="1544"/>
                </a:lnTo>
                <a:lnTo>
                  <a:pt x="1899" y="1562"/>
                </a:lnTo>
                <a:lnTo>
                  <a:pt x="1899" y="1562"/>
                </a:lnTo>
                <a:lnTo>
                  <a:pt x="1899" y="1562"/>
                </a:lnTo>
                <a:lnTo>
                  <a:pt x="1899" y="1580"/>
                </a:lnTo>
                <a:lnTo>
                  <a:pt x="1881" y="1580"/>
                </a:lnTo>
                <a:lnTo>
                  <a:pt x="1881" y="1580"/>
                </a:lnTo>
                <a:lnTo>
                  <a:pt x="1864" y="1580"/>
                </a:lnTo>
                <a:lnTo>
                  <a:pt x="1846" y="1580"/>
                </a:lnTo>
                <a:lnTo>
                  <a:pt x="1810" y="1597"/>
                </a:lnTo>
                <a:lnTo>
                  <a:pt x="1793" y="1597"/>
                </a:lnTo>
                <a:lnTo>
                  <a:pt x="1757" y="1597"/>
                </a:lnTo>
                <a:lnTo>
                  <a:pt x="1704" y="1615"/>
                </a:lnTo>
                <a:lnTo>
                  <a:pt x="1651" y="1615"/>
                </a:lnTo>
                <a:lnTo>
                  <a:pt x="1615" y="1615"/>
                </a:lnTo>
                <a:lnTo>
                  <a:pt x="1597" y="1615"/>
                </a:lnTo>
                <a:lnTo>
                  <a:pt x="1580" y="1615"/>
                </a:lnTo>
                <a:lnTo>
                  <a:pt x="1562" y="1615"/>
                </a:lnTo>
                <a:lnTo>
                  <a:pt x="1526" y="1615"/>
                </a:lnTo>
                <a:lnTo>
                  <a:pt x="1509" y="1615"/>
                </a:lnTo>
                <a:lnTo>
                  <a:pt x="1491" y="1615"/>
                </a:lnTo>
                <a:lnTo>
                  <a:pt x="1473" y="1615"/>
                </a:lnTo>
                <a:lnTo>
                  <a:pt x="1455" y="1615"/>
                </a:lnTo>
                <a:lnTo>
                  <a:pt x="1438" y="1615"/>
                </a:lnTo>
                <a:lnTo>
                  <a:pt x="1438" y="1597"/>
                </a:lnTo>
                <a:lnTo>
                  <a:pt x="1420" y="1597"/>
                </a:lnTo>
                <a:lnTo>
                  <a:pt x="1384" y="1580"/>
                </a:lnTo>
                <a:lnTo>
                  <a:pt x="1367" y="1562"/>
                </a:lnTo>
                <a:lnTo>
                  <a:pt x="1349" y="1544"/>
                </a:lnTo>
                <a:lnTo>
                  <a:pt x="1331" y="1526"/>
                </a:lnTo>
                <a:lnTo>
                  <a:pt x="1313" y="1509"/>
                </a:lnTo>
                <a:lnTo>
                  <a:pt x="1296" y="1491"/>
                </a:lnTo>
                <a:lnTo>
                  <a:pt x="1278" y="1473"/>
                </a:lnTo>
                <a:lnTo>
                  <a:pt x="1242" y="1455"/>
                </a:lnTo>
                <a:lnTo>
                  <a:pt x="1225" y="1438"/>
                </a:lnTo>
                <a:lnTo>
                  <a:pt x="1207" y="1420"/>
                </a:lnTo>
                <a:lnTo>
                  <a:pt x="1171" y="1384"/>
                </a:lnTo>
                <a:lnTo>
                  <a:pt x="1136" y="1367"/>
                </a:lnTo>
                <a:lnTo>
                  <a:pt x="1100" y="1331"/>
                </a:lnTo>
                <a:lnTo>
                  <a:pt x="1065" y="1313"/>
                </a:lnTo>
                <a:lnTo>
                  <a:pt x="1029" y="1278"/>
                </a:lnTo>
                <a:lnTo>
                  <a:pt x="976" y="1242"/>
                </a:lnTo>
                <a:lnTo>
                  <a:pt x="941" y="1207"/>
                </a:lnTo>
                <a:lnTo>
                  <a:pt x="887" y="1171"/>
                </a:lnTo>
                <a:lnTo>
                  <a:pt x="834" y="1136"/>
                </a:lnTo>
                <a:lnTo>
                  <a:pt x="799" y="1083"/>
                </a:lnTo>
                <a:lnTo>
                  <a:pt x="799" y="1029"/>
                </a:lnTo>
                <a:lnTo>
                  <a:pt x="834" y="1047"/>
                </a:lnTo>
                <a:lnTo>
                  <a:pt x="852" y="1065"/>
                </a:lnTo>
                <a:lnTo>
                  <a:pt x="870" y="1065"/>
                </a:lnTo>
                <a:lnTo>
                  <a:pt x="870" y="1083"/>
                </a:lnTo>
                <a:lnTo>
                  <a:pt x="887" y="1083"/>
                </a:lnTo>
                <a:lnTo>
                  <a:pt x="887" y="1083"/>
                </a:lnTo>
                <a:lnTo>
                  <a:pt x="905" y="1100"/>
                </a:lnTo>
                <a:lnTo>
                  <a:pt x="923" y="1118"/>
                </a:lnTo>
                <a:lnTo>
                  <a:pt x="941" y="1136"/>
                </a:lnTo>
                <a:lnTo>
                  <a:pt x="976" y="1154"/>
                </a:lnTo>
                <a:lnTo>
                  <a:pt x="1012" y="1171"/>
                </a:lnTo>
                <a:lnTo>
                  <a:pt x="1047" y="1189"/>
                </a:lnTo>
                <a:lnTo>
                  <a:pt x="1118" y="1242"/>
                </a:lnTo>
                <a:lnTo>
                  <a:pt x="1207" y="1296"/>
                </a:lnTo>
                <a:lnTo>
                  <a:pt x="1296" y="1349"/>
                </a:lnTo>
                <a:lnTo>
                  <a:pt x="1384" y="1384"/>
                </a:lnTo>
                <a:lnTo>
                  <a:pt x="1384" y="1384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"/>
          <p:cNvSpPr/>
          <p:nvPr/>
        </p:nvSpPr>
        <p:spPr>
          <a:xfrm>
            <a:off x="1060560" y="6086520"/>
            <a:ext cx="56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1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1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2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4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5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6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Object 3" descr=""/>
          <p:cNvPicPr/>
          <p:nvPr/>
        </p:nvPicPr>
        <p:blipFill>
          <a:blip r:embed="rId1"/>
          <a:stretch/>
        </p:blipFill>
        <p:spPr>
          <a:xfrm>
            <a:off x="-324000" y="3573360"/>
            <a:ext cx="2519640" cy="2376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5797440" y="1989000"/>
            <a:ext cx="2521080" cy="3705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3"/>
          <a:stretch/>
        </p:blipFill>
        <p:spPr>
          <a:xfrm>
            <a:off x="2773440" y="1917720"/>
            <a:ext cx="2160360" cy="2673360"/>
          </a:xfrm>
          <a:prstGeom prst="rect">
            <a:avLst/>
          </a:prstGeom>
          <a:ln w="0">
            <a:noFill/>
          </a:ln>
        </p:spPr>
      </p:pic>
      <p:pic>
        <p:nvPicPr>
          <p:cNvPr id="194" name="Object 6" descr=""/>
          <p:cNvPicPr/>
          <p:nvPr/>
        </p:nvPicPr>
        <p:blipFill>
          <a:blip r:embed="rId4"/>
          <a:stretch/>
        </p:blipFill>
        <p:spPr>
          <a:xfrm>
            <a:off x="1116000" y="2709720"/>
            <a:ext cx="3384720" cy="3645000"/>
          </a:xfrm>
          <a:prstGeom prst="rect">
            <a:avLst/>
          </a:prstGeom>
          <a:ln w="0">
            <a:noFill/>
          </a:ln>
        </p:spPr>
      </p:pic>
      <p:pic>
        <p:nvPicPr>
          <p:cNvPr id="195" name="Object 7" descr=""/>
          <p:cNvPicPr/>
          <p:nvPr/>
        </p:nvPicPr>
        <p:blipFill>
          <a:blip r:embed="rId5"/>
          <a:stretch/>
        </p:blipFill>
        <p:spPr>
          <a:xfrm>
            <a:off x="6070680" y="2278080"/>
            <a:ext cx="3362400" cy="4319640"/>
          </a:xfrm>
          <a:prstGeom prst="rect">
            <a:avLst/>
          </a:prstGeom>
          <a:ln w="0">
            <a:noFill/>
          </a:ln>
        </p:spPr>
      </p:pic>
      <p:pic>
        <p:nvPicPr>
          <p:cNvPr id="196" name="Object 8" descr=""/>
          <p:cNvPicPr/>
          <p:nvPr/>
        </p:nvPicPr>
        <p:blipFill>
          <a:blip r:embed="rId6"/>
          <a:stretch/>
        </p:blipFill>
        <p:spPr>
          <a:xfrm>
            <a:off x="4140360" y="2925720"/>
            <a:ext cx="3384360" cy="374508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9" descr=""/>
          <p:cNvPicPr/>
          <p:nvPr/>
        </p:nvPicPr>
        <p:blipFill>
          <a:blip r:embed="rId7"/>
          <a:stretch/>
        </p:blipFill>
        <p:spPr>
          <a:xfrm>
            <a:off x="2557440" y="3141720"/>
            <a:ext cx="3384720" cy="3213000"/>
          </a:xfrm>
          <a:prstGeom prst="rect">
            <a:avLst/>
          </a:prstGeom>
          <a:ln w="0">
            <a:noFill/>
          </a:ln>
        </p:spPr>
      </p:pic>
      <p:sp>
        <p:nvSpPr>
          <p:cNvPr id="198" name="Freeform 10"/>
          <p:cNvSpPr/>
          <p:nvPr/>
        </p:nvSpPr>
        <p:spPr>
          <a:xfrm>
            <a:off x="4068720" y="3213000"/>
            <a:ext cx="4824360" cy="3384720"/>
          </a:xfrm>
          <a:custGeom>
            <a:avLst/>
            <a:gdLst/>
            <a:ahLst/>
            <a:rect l="l" t="t" r="r" b="b"/>
            <a:pathLst>
              <a:path w="3841" h="2690">
                <a:moveTo>
                  <a:pt x="3841" y="2368"/>
                </a:moveTo>
                <a:cubicBezTo>
                  <a:pt x="3826" y="2322"/>
                  <a:pt x="3810" y="2336"/>
                  <a:pt x="3768" y="2322"/>
                </a:cubicBezTo>
                <a:cubicBezTo>
                  <a:pt x="3392" y="2335"/>
                  <a:pt x="3600" y="2310"/>
                  <a:pt x="3448" y="2359"/>
                </a:cubicBezTo>
                <a:cubicBezTo>
                  <a:pt x="3417" y="2451"/>
                  <a:pt x="3331" y="2476"/>
                  <a:pt x="3247" y="2496"/>
                </a:cubicBezTo>
                <a:cubicBezTo>
                  <a:pt x="2993" y="2485"/>
                  <a:pt x="3113" y="2498"/>
                  <a:pt x="2991" y="2459"/>
                </a:cubicBezTo>
                <a:cubicBezTo>
                  <a:pt x="2811" y="2468"/>
                  <a:pt x="2852" y="2447"/>
                  <a:pt x="2763" y="2496"/>
                </a:cubicBezTo>
                <a:cubicBezTo>
                  <a:pt x="2659" y="2553"/>
                  <a:pt x="2757" y="2516"/>
                  <a:pt x="2653" y="2551"/>
                </a:cubicBezTo>
                <a:cubicBezTo>
                  <a:pt x="2644" y="2554"/>
                  <a:pt x="2625" y="2560"/>
                  <a:pt x="2625" y="2560"/>
                </a:cubicBezTo>
                <a:cubicBezTo>
                  <a:pt x="2538" y="2690"/>
                  <a:pt x="2613" y="2595"/>
                  <a:pt x="2232" y="2578"/>
                </a:cubicBezTo>
                <a:cubicBezTo>
                  <a:pt x="2210" y="2577"/>
                  <a:pt x="2189" y="2566"/>
                  <a:pt x="2168" y="2560"/>
                </a:cubicBezTo>
                <a:cubicBezTo>
                  <a:pt x="2149" y="2555"/>
                  <a:pt x="2113" y="2542"/>
                  <a:pt x="2113" y="2542"/>
                </a:cubicBezTo>
                <a:cubicBezTo>
                  <a:pt x="2067" y="2510"/>
                  <a:pt x="2031" y="2471"/>
                  <a:pt x="1985" y="2441"/>
                </a:cubicBezTo>
                <a:cubicBezTo>
                  <a:pt x="1966" y="2385"/>
                  <a:pt x="1993" y="2440"/>
                  <a:pt x="1940" y="2404"/>
                </a:cubicBezTo>
                <a:cubicBezTo>
                  <a:pt x="1931" y="2398"/>
                  <a:pt x="1929" y="2385"/>
                  <a:pt x="1921" y="2377"/>
                </a:cubicBezTo>
                <a:cubicBezTo>
                  <a:pt x="1913" y="2369"/>
                  <a:pt x="1903" y="2365"/>
                  <a:pt x="1894" y="2359"/>
                </a:cubicBezTo>
                <a:cubicBezTo>
                  <a:pt x="1820" y="2054"/>
                  <a:pt x="2114" y="2190"/>
                  <a:pt x="1437" y="2176"/>
                </a:cubicBezTo>
                <a:cubicBezTo>
                  <a:pt x="1428" y="2173"/>
                  <a:pt x="1416" y="2174"/>
                  <a:pt x="1409" y="2167"/>
                </a:cubicBezTo>
                <a:cubicBezTo>
                  <a:pt x="1402" y="2160"/>
                  <a:pt x="1404" y="2148"/>
                  <a:pt x="1400" y="2139"/>
                </a:cubicBezTo>
                <a:cubicBezTo>
                  <a:pt x="1384" y="2107"/>
                  <a:pt x="1386" y="2113"/>
                  <a:pt x="1355" y="2103"/>
                </a:cubicBezTo>
                <a:cubicBezTo>
                  <a:pt x="1268" y="2044"/>
                  <a:pt x="1211" y="2071"/>
                  <a:pt x="1080" y="2066"/>
                </a:cubicBezTo>
                <a:cubicBezTo>
                  <a:pt x="1007" y="2051"/>
                  <a:pt x="1057" y="2070"/>
                  <a:pt x="1016" y="2039"/>
                </a:cubicBezTo>
                <a:cubicBezTo>
                  <a:pt x="998" y="2026"/>
                  <a:pt x="961" y="2002"/>
                  <a:pt x="961" y="2002"/>
                </a:cubicBezTo>
                <a:cubicBezTo>
                  <a:pt x="939" y="1970"/>
                  <a:pt x="920" y="1969"/>
                  <a:pt x="888" y="1947"/>
                </a:cubicBezTo>
                <a:cubicBezTo>
                  <a:pt x="845" y="1881"/>
                  <a:pt x="868" y="1907"/>
                  <a:pt x="824" y="1865"/>
                </a:cubicBezTo>
                <a:cubicBezTo>
                  <a:pt x="808" y="1817"/>
                  <a:pt x="800" y="1768"/>
                  <a:pt x="788" y="1719"/>
                </a:cubicBezTo>
                <a:cubicBezTo>
                  <a:pt x="790" y="1700"/>
                  <a:pt x="807" y="1610"/>
                  <a:pt x="788" y="1582"/>
                </a:cubicBezTo>
                <a:cubicBezTo>
                  <a:pt x="775" y="1564"/>
                  <a:pt x="733" y="1545"/>
                  <a:pt x="733" y="1545"/>
                </a:cubicBezTo>
                <a:cubicBezTo>
                  <a:pt x="684" y="1397"/>
                  <a:pt x="340" y="1473"/>
                  <a:pt x="303" y="1472"/>
                </a:cubicBezTo>
                <a:cubicBezTo>
                  <a:pt x="261" y="1464"/>
                  <a:pt x="241" y="1448"/>
                  <a:pt x="203" y="1435"/>
                </a:cubicBezTo>
                <a:cubicBezTo>
                  <a:pt x="177" y="1410"/>
                  <a:pt x="155" y="1407"/>
                  <a:pt x="120" y="1399"/>
                </a:cubicBezTo>
                <a:cubicBezTo>
                  <a:pt x="114" y="1393"/>
                  <a:pt x="109" y="1385"/>
                  <a:pt x="102" y="1380"/>
                </a:cubicBezTo>
                <a:cubicBezTo>
                  <a:pt x="94" y="1375"/>
                  <a:pt x="81" y="1378"/>
                  <a:pt x="75" y="1371"/>
                </a:cubicBezTo>
                <a:cubicBezTo>
                  <a:pt x="67" y="1361"/>
                  <a:pt x="70" y="1346"/>
                  <a:pt x="65" y="1335"/>
                </a:cubicBezTo>
                <a:cubicBezTo>
                  <a:pt x="61" y="1325"/>
                  <a:pt x="52" y="1317"/>
                  <a:pt x="47" y="1307"/>
                </a:cubicBezTo>
                <a:cubicBezTo>
                  <a:pt x="43" y="1298"/>
                  <a:pt x="41" y="1289"/>
                  <a:pt x="38" y="1280"/>
                </a:cubicBezTo>
                <a:cubicBezTo>
                  <a:pt x="29" y="1213"/>
                  <a:pt x="0" y="1122"/>
                  <a:pt x="65" y="1079"/>
                </a:cubicBezTo>
                <a:cubicBezTo>
                  <a:pt x="92" y="1041"/>
                  <a:pt x="121" y="1007"/>
                  <a:pt x="148" y="969"/>
                </a:cubicBezTo>
                <a:cubicBezTo>
                  <a:pt x="164" y="920"/>
                  <a:pt x="146" y="962"/>
                  <a:pt x="175" y="923"/>
                </a:cubicBezTo>
                <a:cubicBezTo>
                  <a:pt x="188" y="905"/>
                  <a:pt x="212" y="868"/>
                  <a:pt x="212" y="868"/>
                </a:cubicBezTo>
                <a:cubicBezTo>
                  <a:pt x="233" y="806"/>
                  <a:pt x="205" y="881"/>
                  <a:pt x="248" y="804"/>
                </a:cubicBezTo>
                <a:cubicBezTo>
                  <a:pt x="253" y="796"/>
                  <a:pt x="252" y="785"/>
                  <a:pt x="257" y="777"/>
                </a:cubicBezTo>
                <a:cubicBezTo>
                  <a:pt x="262" y="770"/>
                  <a:pt x="271" y="766"/>
                  <a:pt x="276" y="759"/>
                </a:cubicBezTo>
                <a:cubicBezTo>
                  <a:pt x="305" y="720"/>
                  <a:pt x="317" y="700"/>
                  <a:pt x="349" y="667"/>
                </a:cubicBezTo>
                <a:cubicBezTo>
                  <a:pt x="355" y="648"/>
                  <a:pt x="375" y="632"/>
                  <a:pt x="376" y="612"/>
                </a:cubicBezTo>
                <a:cubicBezTo>
                  <a:pt x="381" y="476"/>
                  <a:pt x="401" y="414"/>
                  <a:pt x="321" y="338"/>
                </a:cubicBezTo>
                <a:cubicBezTo>
                  <a:pt x="309" y="303"/>
                  <a:pt x="298" y="294"/>
                  <a:pt x="267" y="274"/>
                </a:cubicBezTo>
                <a:cubicBezTo>
                  <a:pt x="232" y="224"/>
                  <a:pt x="220" y="161"/>
                  <a:pt x="184" y="110"/>
                </a:cubicBezTo>
                <a:cubicBezTo>
                  <a:pt x="160" y="38"/>
                  <a:pt x="166" y="74"/>
                  <a:pt x="166" y="0"/>
                </a:cubicBezTo>
              </a:path>
            </a:pathLst>
          </a:custGeom>
          <a:noFill/>
          <a:ln w="7632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"/>
          <p:cNvSpPr/>
          <p:nvPr/>
        </p:nvSpPr>
        <p:spPr>
          <a:xfrm>
            <a:off x="-252360" y="3500280"/>
            <a:ext cx="3025800" cy="2305080"/>
          </a:xfrm>
          <a:custGeom>
            <a:avLst/>
            <a:gdLst/>
            <a:ahLst/>
            <a:rect l="l" t="t" r="r" b="b"/>
            <a:pathLst>
              <a:path w="1215" h="1911">
                <a:moveTo>
                  <a:pt x="0" y="1911"/>
                </a:moveTo>
                <a:cubicBezTo>
                  <a:pt x="65" y="1889"/>
                  <a:pt x="171" y="1823"/>
                  <a:pt x="238" y="1819"/>
                </a:cubicBezTo>
                <a:cubicBezTo>
                  <a:pt x="326" y="1814"/>
                  <a:pt x="415" y="1813"/>
                  <a:pt x="503" y="1810"/>
                </a:cubicBezTo>
                <a:cubicBezTo>
                  <a:pt x="521" y="1804"/>
                  <a:pt x="540" y="1798"/>
                  <a:pt x="558" y="1792"/>
                </a:cubicBezTo>
                <a:cubicBezTo>
                  <a:pt x="567" y="1789"/>
                  <a:pt x="585" y="1783"/>
                  <a:pt x="585" y="1783"/>
                </a:cubicBezTo>
                <a:cubicBezTo>
                  <a:pt x="615" y="1762"/>
                  <a:pt x="643" y="1760"/>
                  <a:pt x="676" y="1746"/>
                </a:cubicBezTo>
                <a:cubicBezTo>
                  <a:pt x="689" y="1741"/>
                  <a:pt x="701" y="1735"/>
                  <a:pt x="713" y="1728"/>
                </a:cubicBezTo>
                <a:cubicBezTo>
                  <a:pt x="722" y="1723"/>
                  <a:pt x="730" y="1714"/>
                  <a:pt x="740" y="1710"/>
                </a:cubicBezTo>
                <a:cubicBezTo>
                  <a:pt x="773" y="1695"/>
                  <a:pt x="798" y="1690"/>
                  <a:pt x="832" y="1682"/>
                </a:cubicBezTo>
                <a:cubicBezTo>
                  <a:pt x="876" y="1660"/>
                  <a:pt x="927" y="1660"/>
                  <a:pt x="969" y="1636"/>
                </a:cubicBezTo>
                <a:cubicBezTo>
                  <a:pt x="982" y="1628"/>
                  <a:pt x="995" y="1619"/>
                  <a:pt x="1006" y="1609"/>
                </a:cubicBezTo>
                <a:cubicBezTo>
                  <a:pt x="1022" y="1595"/>
                  <a:pt x="1051" y="1563"/>
                  <a:pt x="1051" y="1563"/>
                </a:cubicBezTo>
                <a:cubicBezTo>
                  <a:pt x="1054" y="1554"/>
                  <a:pt x="1060" y="1545"/>
                  <a:pt x="1060" y="1536"/>
                </a:cubicBezTo>
                <a:cubicBezTo>
                  <a:pt x="1060" y="1471"/>
                  <a:pt x="1018" y="1479"/>
                  <a:pt x="969" y="1463"/>
                </a:cubicBezTo>
                <a:cubicBezTo>
                  <a:pt x="899" y="1440"/>
                  <a:pt x="987" y="1469"/>
                  <a:pt x="914" y="1444"/>
                </a:cubicBezTo>
                <a:cubicBezTo>
                  <a:pt x="905" y="1441"/>
                  <a:pt x="887" y="1435"/>
                  <a:pt x="887" y="1435"/>
                </a:cubicBezTo>
                <a:cubicBezTo>
                  <a:pt x="873" y="1422"/>
                  <a:pt x="866" y="1401"/>
                  <a:pt x="850" y="1390"/>
                </a:cubicBezTo>
                <a:cubicBezTo>
                  <a:pt x="832" y="1377"/>
                  <a:pt x="808" y="1372"/>
                  <a:pt x="786" y="1371"/>
                </a:cubicBezTo>
                <a:cubicBezTo>
                  <a:pt x="652" y="1365"/>
                  <a:pt x="518" y="1365"/>
                  <a:pt x="384" y="1362"/>
                </a:cubicBezTo>
                <a:cubicBezTo>
                  <a:pt x="353" y="1352"/>
                  <a:pt x="323" y="1345"/>
                  <a:pt x="292" y="1335"/>
                </a:cubicBezTo>
                <a:cubicBezTo>
                  <a:pt x="257" y="1281"/>
                  <a:pt x="195" y="1274"/>
                  <a:pt x="137" y="1252"/>
                </a:cubicBezTo>
                <a:cubicBezTo>
                  <a:pt x="122" y="1206"/>
                  <a:pt x="110" y="1163"/>
                  <a:pt x="100" y="1115"/>
                </a:cubicBezTo>
                <a:cubicBezTo>
                  <a:pt x="104" y="1030"/>
                  <a:pt x="78" y="860"/>
                  <a:pt x="192" y="823"/>
                </a:cubicBezTo>
                <a:cubicBezTo>
                  <a:pt x="235" y="793"/>
                  <a:pt x="274" y="759"/>
                  <a:pt x="311" y="722"/>
                </a:cubicBezTo>
                <a:cubicBezTo>
                  <a:pt x="337" y="696"/>
                  <a:pt x="388" y="671"/>
                  <a:pt x="420" y="649"/>
                </a:cubicBezTo>
                <a:cubicBezTo>
                  <a:pt x="441" y="635"/>
                  <a:pt x="558" y="603"/>
                  <a:pt x="585" y="594"/>
                </a:cubicBezTo>
                <a:cubicBezTo>
                  <a:pt x="647" y="573"/>
                  <a:pt x="706" y="541"/>
                  <a:pt x="768" y="521"/>
                </a:cubicBezTo>
                <a:cubicBezTo>
                  <a:pt x="834" y="477"/>
                  <a:pt x="751" y="528"/>
                  <a:pt x="832" y="494"/>
                </a:cubicBezTo>
                <a:cubicBezTo>
                  <a:pt x="875" y="476"/>
                  <a:pt x="926" y="451"/>
                  <a:pt x="969" y="430"/>
                </a:cubicBezTo>
                <a:cubicBezTo>
                  <a:pt x="994" y="404"/>
                  <a:pt x="1009" y="391"/>
                  <a:pt x="1042" y="375"/>
                </a:cubicBezTo>
                <a:cubicBezTo>
                  <a:pt x="1081" y="333"/>
                  <a:pt x="1113" y="288"/>
                  <a:pt x="1161" y="256"/>
                </a:cubicBezTo>
                <a:cubicBezTo>
                  <a:pt x="1215" y="172"/>
                  <a:pt x="1207" y="102"/>
                  <a:pt x="1207" y="0"/>
                </a:cubicBezTo>
              </a:path>
            </a:pathLst>
          </a:custGeom>
          <a:noFill/>
          <a:ln w="7632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828720" y="11592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重 重 叠 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757080" y="765000"/>
            <a:ext cx="37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曲 曲 环 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565440" y="407664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5076720" y="537372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6"/>
          <p:cNvSpPr/>
          <p:nvPr/>
        </p:nvSpPr>
        <p:spPr>
          <a:xfrm>
            <a:off x="8785080" y="6426360"/>
            <a:ext cx="648000" cy="431640"/>
          </a:xfrm>
          <a:custGeom>
            <a:avLst/>
            <a:gdLst>
              <a:gd name="textAreaLeft" fmla="*/ 27720 w 648000"/>
              <a:gd name="textAreaRight" fmla="*/ 620280 w 64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18" h="21600">
                <a:moveTo>
                  <a:pt x="0" y="0"/>
                </a:moveTo>
                <a:lnTo>
                  <a:pt x="32418" y="0"/>
                </a:lnTo>
                <a:lnTo>
                  <a:pt x="32418" y="21600"/>
                </a:lnTo>
                <a:lnTo>
                  <a:pt x="0" y="21600"/>
                </a:lnTo>
                <a:close/>
              </a:path>
              <a:path fill="lightenLess" w="32418" h="21600">
                <a:moveTo>
                  <a:pt x="0" y="0"/>
                </a:moveTo>
                <a:lnTo>
                  <a:pt x="32418" y="0"/>
                </a:lnTo>
                <a:lnTo>
                  <a:pt x="31018" y="1400"/>
                </a:lnTo>
                <a:lnTo>
                  <a:pt x="1400" y="1400"/>
                </a:lnTo>
                <a:close/>
              </a:path>
              <a:path fill="darken" w="32418" h="21600">
                <a:moveTo>
                  <a:pt x="32418" y="0"/>
                </a:moveTo>
                <a:lnTo>
                  <a:pt x="32418" y="21600"/>
                </a:lnTo>
                <a:lnTo>
                  <a:pt x="31018" y="20200"/>
                </a:lnTo>
                <a:lnTo>
                  <a:pt x="31018" y="1400"/>
                </a:lnTo>
                <a:close/>
              </a:path>
              <a:path fill="darkenLess" w="32418" h="21600">
                <a:moveTo>
                  <a:pt x="32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8" y="20200"/>
                </a:lnTo>
                <a:close/>
              </a:path>
              <a:path fill="lighten" w="32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temp_53_21775_6484b05b1771ca5.mp3" descr=""/>
          <p:cNvPicPr/>
          <p:nvPr/>
        </p:nvPicPr>
        <p:blipFill>
          <a:blip r:embed="rId8"/>
          <a:stretch/>
        </p:blipFill>
        <p:spPr>
          <a:xfrm>
            <a:off x="8244000" y="655308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18"/>
          <p:cNvGrpSpPr/>
          <p:nvPr/>
        </p:nvGrpSpPr>
        <p:grpSpPr>
          <a:xfrm>
            <a:off x="684360" y="2781360"/>
            <a:ext cx="8208360" cy="3573360"/>
            <a:chOff x="684360" y="2781360"/>
            <a:chExt cx="8208360" cy="3573360"/>
          </a:xfrm>
        </p:grpSpPr>
        <p:pic>
          <p:nvPicPr>
            <p:cNvPr id="207" name="Object 19" descr=""/>
            <p:cNvPicPr/>
            <p:nvPr/>
          </p:nvPicPr>
          <p:blipFill>
            <a:blip r:embed="rId9"/>
            <a:stretch/>
          </p:blipFill>
          <p:spPr>
            <a:xfrm>
              <a:off x="3554280" y="4294080"/>
              <a:ext cx="1626840" cy="16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Object 20" descr=""/>
            <p:cNvPicPr/>
            <p:nvPr/>
          </p:nvPicPr>
          <p:blipFill>
            <a:blip r:embed="rId10"/>
            <a:stretch/>
          </p:blipFill>
          <p:spPr>
            <a:xfrm>
              <a:off x="6343200" y="3141720"/>
              <a:ext cx="254952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Object 21" descr=""/>
            <p:cNvPicPr/>
            <p:nvPr/>
          </p:nvPicPr>
          <p:blipFill>
            <a:blip r:embed="rId11"/>
            <a:stretch/>
          </p:blipFill>
          <p:spPr>
            <a:xfrm>
              <a:off x="684360" y="2781360"/>
              <a:ext cx="3437280" cy="357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Group 22"/>
          <p:cNvGrpSpPr/>
          <p:nvPr/>
        </p:nvGrpSpPr>
        <p:grpSpPr>
          <a:xfrm>
            <a:off x="250920" y="4365720"/>
            <a:ext cx="9144000" cy="2491920"/>
            <a:chOff x="250920" y="4365720"/>
            <a:chExt cx="9144000" cy="2491920"/>
          </a:xfrm>
        </p:grpSpPr>
        <p:pic>
          <p:nvPicPr>
            <p:cNvPr id="211" name="Picture 23" descr="20050522181308557"/>
            <p:cNvPicPr/>
            <p:nvPr/>
          </p:nvPicPr>
          <p:blipFill>
            <a:blip r:embed="rId12"/>
            <a:stretch/>
          </p:blipFill>
          <p:spPr>
            <a:xfrm>
              <a:off x="4030920" y="4552200"/>
              <a:ext cx="2201760" cy="211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24" descr="20050522181308557"/>
            <p:cNvPicPr/>
            <p:nvPr/>
          </p:nvPicPr>
          <p:blipFill>
            <a:blip r:embed="rId13"/>
            <a:stretch/>
          </p:blipFill>
          <p:spPr>
            <a:xfrm>
              <a:off x="1654200" y="4740480"/>
              <a:ext cx="1787760" cy="20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5" descr="20050522181308557"/>
            <p:cNvPicPr/>
            <p:nvPr/>
          </p:nvPicPr>
          <p:blipFill>
            <a:blip r:embed="rId14"/>
            <a:stretch/>
          </p:blipFill>
          <p:spPr>
            <a:xfrm>
              <a:off x="3022560" y="4802400"/>
              <a:ext cx="1787760" cy="20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6" descr="20050522181308557"/>
            <p:cNvPicPr/>
            <p:nvPr/>
          </p:nvPicPr>
          <p:blipFill>
            <a:blip r:embed="rId15"/>
            <a:stretch/>
          </p:blipFill>
          <p:spPr>
            <a:xfrm>
              <a:off x="7607520" y="4552200"/>
              <a:ext cx="1787400" cy="20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27" descr="20050522181308557"/>
            <p:cNvPicPr/>
            <p:nvPr/>
          </p:nvPicPr>
          <p:blipFill>
            <a:blip r:embed="rId16"/>
            <a:stretch/>
          </p:blipFill>
          <p:spPr>
            <a:xfrm>
              <a:off x="250920" y="4802400"/>
              <a:ext cx="1787400" cy="20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28" descr="20050522181308557"/>
            <p:cNvPicPr/>
            <p:nvPr/>
          </p:nvPicPr>
          <p:blipFill>
            <a:blip r:embed="rId17"/>
            <a:stretch/>
          </p:blipFill>
          <p:spPr>
            <a:xfrm>
              <a:off x="5470560" y="4802400"/>
              <a:ext cx="1787760" cy="20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29" descr="20050522181308557"/>
            <p:cNvPicPr/>
            <p:nvPr/>
          </p:nvPicPr>
          <p:blipFill>
            <a:blip r:embed="rId18"/>
            <a:stretch/>
          </p:blipFill>
          <p:spPr>
            <a:xfrm>
              <a:off x="6551640" y="4365720"/>
              <a:ext cx="1787760" cy="20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Group 30"/>
          <p:cNvGrpSpPr/>
          <p:nvPr/>
        </p:nvGrpSpPr>
        <p:grpSpPr>
          <a:xfrm>
            <a:off x="0" y="1916280"/>
            <a:ext cx="9235080" cy="3442320"/>
            <a:chOff x="0" y="1916280"/>
            <a:chExt cx="9235080" cy="3442320"/>
          </a:xfrm>
        </p:grpSpPr>
        <p:pic>
          <p:nvPicPr>
            <p:cNvPr id="219" name="Picture 31" descr="20050516085927915"/>
            <p:cNvPicPr/>
            <p:nvPr/>
          </p:nvPicPr>
          <p:blipFill>
            <a:blip r:embed="rId19"/>
            <a:stretch/>
          </p:blipFill>
          <p:spPr>
            <a:xfrm>
              <a:off x="3511800" y="1916280"/>
              <a:ext cx="75852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32" descr="20050516085927915"/>
            <p:cNvPicPr/>
            <p:nvPr/>
          </p:nvPicPr>
          <p:blipFill>
            <a:blip r:embed="rId20"/>
            <a:stretch/>
          </p:blipFill>
          <p:spPr>
            <a:xfrm>
              <a:off x="4159440" y="3284280"/>
              <a:ext cx="758880" cy="11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1" name="Group 33"/>
            <p:cNvGrpSpPr/>
            <p:nvPr/>
          </p:nvGrpSpPr>
          <p:grpSpPr>
            <a:xfrm>
              <a:off x="0" y="2420640"/>
              <a:ext cx="9235080" cy="2937960"/>
              <a:chOff x="0" y="2420640"/>
              <a:chExt cx="9235080" cy="2937960"/>
            </a:xfrm>
          </p:grpSpPr>
          <p:pic>
            <p:nvPicPr>
              <p:cNvPr id="222" name="Picture 34" descr="20050516085927915"/>
              <p:cNvPicPr/>
              <p:nvPr/>
            </p:nvPicPr>
            <p:blipFill>
              <a:blip r:embed="rId21"/>
              <a:stretch/>
            </p:blipFill>
            <p:spPr>
              <a:xfrm>
                <a:off x="631800" y="3788640"/>
                <a:ext cx="758880" cy="1136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3" name="Group 35"/>
              <p:cNvGrpSpPr/>
              <p:nvPr/>
            </p:nvGrpSpPr>
            <p:grpSpPr>
              <a:xfrm>
                <a:off x="0" y="2420640"/>
                <a:ext cx="9235080" cy="2937960"/>
                <a:chOff x="0" y="2420640"/>
                <a:chExt cx="9235080" cy="2937960"/>
              </a:xfrm>
            </p:grpSpPr>
            <p:pic>
              <p:nvPicPr>
                <p:cNvPr id="224" name="Picture 36" descr="20050516085927915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0" y="4220640"/>
                  <a:ext cx="760320" cy="1137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25" name="Group 37"/>
                <p:cNvGrpSpPr/>
                <p:nvPr/>
              </p:nvGrpSpPr>
              <p:grpSpPr>
                <a:xfrm>
                  <a:off x="1784160" y="2420640"/>
                  <a:ext cx="7450920" cy="2651040"/>
                  <a:chOff x="1784160" y="2420640"/>
                  <a:chExt cx="7450920" cy="2651040"/>
                </a:xfrm>
              </p:grpSpPr>
              <p:pic>
                <p:nvPicPr>
                  <p:cNvPr id="226" name="Picture 38" descr="20050516085927915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784160" y="3861720"/>
                    <a:ext cx="75888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27" name="Group 39"/>
                  <p:cNvGrpSpPr/>
                  <p:nvPr/>
                </p:nvGrpSpPr>
                <p:grpSpPr>
                  <a:xfrm>
                    <a:off x="3152520" y="2420640"/>
                    <a:ext cx="6082560" cy="2651040"/>
                    <a:chOff x="3152520" y="2420640"/>
                    <a:chExt cx="6082560" cy="2651040"/>
                  </a:xfrm>
                </p:grpSpPr>
                <p:pic>
                  <p:nvPicPr>
                    <p:cNvPr id="228" name="Picture 40" descr="20050516085927915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152520" y="3788640"/>
                      <a:ext cx="760680" cy="11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229" name="Group 41"/>
                    <p:cNvGrpSpPr/>
                    <p:nvPr/>
                  </p:nvGrpSpPr>
                  <p:grpSpPr>
                    <a:xfrm>
                      <a:off x="5024160" y="2420640"/>
                      <a:ext cx="4210920" cy="2651040"/>
                      <a:chOff x="5024160" y="2420640"/>
                      <a:chExt cx="4210920" cy="2651040"/>
                    </a:xfrm>
                  </p:grpSpPr>
                  <p:grpSp>
                    <p:nvGrpSpPr>
                      <p:cNvPr id="230" name="Group 42"/>
                      <p:cNvGrpSpPr/>
                      <p:nvPr/>
                    </p:nvGrpSpPr>
                    <p:grpSpPr>
                      <a:xfrm>
                        <a:off x="6032520" y="2420640"/>
                        <a:ext cx="3202560" cy="2651040"/>
                        <a:chOff x="6032520" y="2420640"/>
                        <a:chExt cx="3202560" cy="2651040"/>
                      </a:xfrm>
                    </p:grpSpPr>
                    <p:grpSp>
                      <p:nvGrpSpPr>
                        <p:cNvPr id="231" name="Group 43"/>
                        <p:cNvGrpSpPr/>
                        <p:nvPr/>
                      </p:nvGrpSpPr>
                      <p:grpSpPr>
                        <a:xfrm>
                          <a:off x="6608520" y="2420640"/>
                          <a:ext cx="2626560" cy="2651040"/>
                          <a:chOff x="6608520" y="2420640"/>
                          <a:chExt cx="2626560" cy="2651040"/>
                        </a:xfrm>
                      </p:grpSpPr>
                      <p:pic>
                        <p:nvPicPr>
                          <p:cNvPr id="232" name="Picture 44" descr="20050516085927915"/>
                          <p:cNvPicPr/>
                          <p:nvPr/>
                        </p:nvPicPr>
                        <p:blipFill>
                          <a:blip r:embed="rId25"/>
                          <a:stretch/>
                        </p:blipFill>
                        <p:spPr>
                          <a:xfrm>
                            <a:off x="8476560" y="3933360"/>
                            <a:ext cx="758520" cy="1138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  <p:pic>
                        <p:nvPicPr>
                          <p:cNvPr id="233" name="Picture 45" descr="20050516085927915"/>
                          <p:cNvPicPr/>
                          <p:nvPr/>
                        </p:nvPicPr>
                        <p:blipFill>
                          <a:blip r:embed="rId26"/>
                          <a:stretch/>
                        </p:blipFill>
                        <p:spPr>
                          <a:xfrm>
                            <a:off x="6608520" y="2420640"/>
                            <a:ext cx="758520" cy="1137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grpSp>
                    <p:pic>
                      <p:nvPicPr>
                        <p:cNvPr id="234" name="Picture 46" descr="20050516085927915"/>
                        <p:cNvPicPr/>
                        <p:nvPr/>
                      </p:nvPicPr>
                      <p:blipFill>
                        <a:blip r:embed="rId27"/>
                        <a:stretch/>
                      </p:blipFill>
                      <p:spPr>
                        <a:xfrm>
                          <a:off x="6032520" y="3860280"/>
                          <a:ext cx="574560" cy="860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pic>
                    <p:nvPicPr>
                      <p:cNvPr id="235" name="Picture 47" descr="20050516085927915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5024160" y="3861720"/>
                        <a:ext cx="571680" cy="855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</p:grpSp>
          </p:grpSp>
        </p:grpSp>
      </p:grpSp>
      <p:sp>
        <p:nvSpPr>
          <p:cNvPr id="236" name="Rectangle 48"/>
          <p:cNvSpPr/>
          <p:nvPr/>
        </p:nvSpPr>
        <p:spPr>
          <a:xfrm>
            <a:off x="755640" y="148428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叮 叮 咚 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9"/>
          <p:cNvGrpSpPr/>
          <p:nvPr/>
        </p:nvGrpSpPr>
        <p:grpSpPr>
          <a:xfrm>
            <a:off x="216000" y="1989000"/>
            <a:ext cx="8927640" cy="4320720"/>
            <a:chOff x="216000" y="1989000"/>
            <a:chExt cx="8927640" cy="4320720"/>
          </a:xfrm>
        </p:grpSpPr>
        <p:grpSp>
          <p:nvGrpSpPr>
            <p:cNvPr id="238" name="Group 50"/>
            <p:cNvGrpSpPr/>
            <p:nvPr/>
          </p:nvGrpSpPr>
          <p:grpSpPr>
            <a:xfrm>
              <a:off x="1548000" y="1989000"/>
              <a:ext cx="7595640" cy="4320720"/>
              <a:chOff x="1548000" y="1989000"/>
              <a:chExt cx="7595640" cy="4320720"/>
            </a:xfrm>
          </p:grpSpPr>
          <p:grpSp>
            <p:nvGrpSpPr>
              <p:cNvPr id="239" name="Group 51"/>
              <p:cNvGrpSpPr/>
              <p:nvPr/>
            </p:nvGrpSpPr>
            <p:grpSpPr>
              <a:xfrm>
                <a:off x="1548000" y="1989000"/>
                <a:ext cx="7595640" cy="4320720"/>
                <a:chOff x="1548000" y="1989000"/>
                <a:chExt cx="7595640" cy="4320720"/>
              </a:xfrm>
            </p:grpSpPr>
            <p:grpSp>
              <p:nvGrpSpPr>
                <p:cNvPr id="240" name="Group 52"/>
                <p:cNvGrpSpPr/>
                <p:nvPr/>
              </p:nvGrpSpPr>
              <p:grpSpPr>
                <a:xfrm>
                  <a:off x="1548000" y="2781000"/>
                  <a:ext cx="2199960" cy="3528720"/>
                  <a:chOff x="1548000" y="2781000"/>
                  <a:chExt cx="2199960" cy="3528720"/>
                </a:xfrm>
              </p:grpSpPr>
              <p:pic>
                <p:nvPicPr>
                  <p:cNvPr id="241" name="Picture 53" descr="2007130918401792_2"/>
                  <p:cNvPicPr/>
                  <p:nvPr/>
                </p:nvPicPr>
                <p:blipFill>
                  <a:blip r:embed="rId29"/>
                  <a:srcRect l="0" t="0" r="-13795" b="0"/>
                  <a:stretch/>
                </p:blipFill>
                <p:spPr>
                  <a:xfrm>
                    <a:off x="1895040" y="3420720"/>
                    <a:ext cx="1852920" cy="28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42" name="Picture 54" descr="2007130918401792_2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548000" y="2781000"/>
                    <a:ext cx="1911600" cy="160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43" name="Picture 55" descr="2007130918401792_2"/>
                <p:cNvPicPr/>
                <p:nvPr/>
              </p:nvPicPr>
              <p:blipFill>
                <a:blip r:embed="rId31"/>
                <a:srcRect l="0" t="0" r="-2135" b="0"/>
                <a:stretch/>
              </p:blipFill>
              <p:spPr>
                <a:xfrm>
                  <a:off x="3678840" y="1989000"/>
                  <a:ext cx="1922760" cy="143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Picture 56" descr="2007130918401792_2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5191200" y="3068280"/>
                  <a:ext cx="1648800" cy="158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57" descr="2007130918401792_2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7631280" y="2997000"/>
                  <a:ext cx="1512360" cy="1584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6" name="Picture 58" descr="2007130918401792_2"/>
              <p:cNvPicPr/>
              <p:nvPr/>
            </p:nvPicPr>
            <p:blipFill>
              <a:blip r:embed="rId34"/>
              <a:srcRect l="0" t="0" r="-2135" b="0"/>
              <a:stretch/>
            </p:blipFill>
            <p:spPr>
              <a:xfrm>
                <a:off x="6299280" y="3573360"/>
                <a:ext cx="2014200" cy="143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59" descr="2007130918401792_2"/>
              <p:cNvPicPr/>
              <p:nvPr/>
            </p:nvPicPr>
            <p:blipFill>
              <a:blip r:embed="rId35"/>
              <a:srcRect l="0" t="0" r="-2135" b="0"/>
              <a:stretch/>
            </p:blipFill>
            <p:spPr>
              <a:xfrm>
                <a:off x="6372000" y="2131920"/>
                <a:ext cx="2014200" cy="143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Picture 60" descr="2007130918401792_2"/>
              <p:cNvPicPr/>
              <p:nvPr/>
            </p:nvPicPr>
            <p:blipFill>
              <a:blip r:embed="rId36"/>
              <a:srcRect l="0" t="0" r="-2135" b="0"/>
              <a:stretch/>
            </p:blipFill>
            <p:spPr>
              <a:xfrm>
                <a:off x="3274920" y="3139920"/>
                <a:ext cx="2014200" cy="1439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9" name="Picture 61" descr="2007130918401792_2"/>
            <p:cNvPicPr/>
            <p:nvPr/>
          </p:nvPicPr>
          <p:blipFill>
            <a:blip r:embed="rId37"/>
            <a:srcRect l="0" t="0" r="-2135" b="0"/>
            <a:stretch/>
          </p:blipFill>
          <p:spPr>
            <a:xfrm>
              <a:off x="216000" y="3285720"/>
              <a:ext cx="2014560" cy="14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Text Box 62"/>
          <p:cNvSpPr/>
          <p:nvPr/>
        </p:nvSpPr>
        <p:spPr>
          <a:xfrm>
            <a:off x="5364000" y="314172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3"/>
          <p:cNvSpPr/>
          <p:nvPr/>
        </p:nvSpPr>
        <p:spPr>
          <a:xfrm>
            <a:off x="755640" y="206064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高 高 下 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4"/>
          <p:cNvSpPr/>
          <p:nvPr/>
        </p:nvSpPr>
        <p:spPr>
          <a:xfrm>
            <a:off x="7165800" y="45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"/>
                            </p:stCondLst>
                            <p:childTnLst>
                              <p:par>
                                <p:cTn id="487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2"/>
                            </p:stCondLst>
                            <p:childTnLst>
                              <p:par>
                                <p:cTn id="490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3"/>
                            </p:stCondLst>
                            <p:childTnLst>
                              <p:par>
                                <p:cTn id="493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04"/>
                            </p:stCondLst>
                            <p:childTnLst>
                              <p:par>
                                <p:cTn id="4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1042 L 0.03142 -0.57616 E">
                                      <p:cBhvr>
                                        <p:cTn id="504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37E-006 L -0.12986 -0.68125 E">
                                      <p:cBhvr>
                                        <p:cTn id="525" dur="5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9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96296E-006 L -0.36632 -0.47129 E">
                                      <p:cBhvr>
                                        <p:cTn id="543" dur="5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1042 L -0.16927 -0.17732 E">
                                      <p:cBhvr>
                                        <p:cTn id="568" dur="5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3"/>
          <p:cNvGrpSpPr/>
          <p:nvPr/>
        </p:nvGrpSpPr>
        <p:grpSpPr>
          <a:xfrm>
            <a:off x="0" y="0"/>
            <a:ext cx="4641840" cy="7100640"/>
            <a:chOff x="0" y="0"/>
            <a:chExt cx="4641840" cy="7100640"/>
          </a:xfrm>
        </p:grpSpPr>
        <p:pic>
          <p:nvPicPr>
            <p:cNvPr id="52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500720" cy="690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1" descr="ljadfs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37160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2" descr="LAJ'LHHJ"/>
            <p:cNvPicPr/>
            <p:nvPr/>
          </p:nvPicPr>
          <p:blipFill>
            <a:blip r:embed="rId3"/>
            <a:stretch/>
          </p:blipFill>
          <p:spPr>
            <a:xfrm>
              <a:off x="3780000" y="6426000"/>
              <a:ext cx="861840" cy="6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5" descr="2"/>
          <p:cNvPicPr/>
          <p:nvPr/>
        </p:nvPicPr>
        <p:blipFill>
          <a:blip r:embed="rId4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2268360" y="1413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九溪十八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【为欧元【"/>
          <p:cNvPicPr/>
          <p:nvPr/>
        </p:nvPicPr>
        <p:blipFill>
          <a:blip r:embed="rId5"/>
          <a:stretch/>
        </p:blipFill>
        <p:spPr>
          <a:xfrm>
            <a:off x="7164360" y="5753160"/>
            <a:ext cx="1368360" cy="1104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【为欧元【"/>
          <p:cNvPicPr/>
          <p:nvPr/>
        </p:nvPicPr>
        <p:blipFill>
          <a:blip r:embed="rId6"/>
          <a:stretch/>
        </p:blipFill>
        <p:spPr>
          <a:xfrm>
            <a:off x="7775640" y="5753160"/>
            <a:ext cx="1368360" cy="1104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【为欧元【"/>
          <p:cNvPicPr/>
          <p:nvPr/>
        </p:nvPicPr>
        <p:blipFill>
          <a:blip r:embed="rId7"/>
          <a:stretch/>
        </p:blipFill>
        <p:spPr>
          <a:xfrm>
            <a:off x="7380360" y="5969160"/>
            <a:ext cx="1368360" cy="1104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【为欧元【"/>
          <p:cNvPicPr/>
          <p:nvPr/>
        </p:nvPicPr>
        <p:blipFill>
          <a:blip r:embed="rId8"/>
          <a:stretch/>
        </p:blipFill>
        <p:spPr>
          <a:xfrm>
            <a:off x="8172360" y="5753160"/>
            <a:ext cx="136836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5A36-CC16-4A26-A11B-040FBC7427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24000" y="620640"/>
            <a:ext cx="161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50920" y="27082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宋体"/>
              </a:rPr>
              <a:t>x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292720" y="549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435640" y="263700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q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421240" y="4581360"/>
            <a:ext cx="112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宋体"/>
              </a:rPr>
              <a:t>q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492360" y="62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19280" y="620640"/>
            <a:ext cx="161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332000" y="270828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新宋体"/>
              </a:rPr>
              <a:t>chó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1405080" y="4794120"/>
            <a:ext cx="204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30d0d"/>
                </a:solidFill>
                <a:latin typeface="Arial"/>
              </a:rPr>
              <a:t>zhò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635280" y="26370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宋体"/>
              </a:rPr>
              <a:t>di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7093080" y="5493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6877080" y="2565360"/>
            <a:ext cx="17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宋体"/>
              </a:rPr>
              <a:t>huá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animMotion origin="layout" path="M -5.55556E-007 -3.7037E-007 L -0.00573 0.47245 E">
                                      <p:cBhvr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animMotion origin="layout" path="M 4.72222E-006 -2.22222E-006 L 0.01597 0.49352 E">
                                      <p:cBhvr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animMotion origin="layout" path="M -1.38889E-006 -3.7037E-007 L 0.01007 0.48287 E">
                                      <p:cBhvr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animMotion origin="layout" path="M 1.94444E-006 -2.22222E-006 L 0.01406 0.47246 E">
                                      <p:cBhvr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ing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ing.wav"/>
                                        </p:tgtEl>
                                      </p:cMediaNode>
                                    </p:audio>
                                    <p:animMotion origin="layout" path="M -0.00018 -3.7037E-006 L 0.00781 0.50417 E">
                                      <p:cBhvr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"/>
          <p:cNvSpPr/>
          <p:nvPr/>
        </p:nvSpPr>
        <p:spPr>
          <a:xfrm>
            <a:off x="2421000" y="620640"/>
            <a:ext cx="6035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625760" y="1557360"/>
            <a:ext cx="647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d25b5"/>
                </a:solidFill>
                <a:latin typeface="楷体_GB2312"/>
                <a:ea typeface="楷体_GB2312"/>
              </a:rPr>
              <a:t>重 重 叠 叠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3421080" y="16286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5437440" y="16286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8"/>
          <p:cNvSpPr/>
          <p:nvPr/>
        </p:nvSpPr>
        <p:spPr>
          <a:xfrm>
            <a:off x="5510160" y="28526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"/>
          <p:cNvSpPr/>
          <p:nvPr/>
        </p:nvSpPr>
        <p:spPr>
          <a:xfrm>
            <a:off x="3494160" y="28526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"/>
          <p:cNvSpPr/>
          <p:nvPr/>
        </p:nvSpPr>
        <p:spPr>
          <a:xfrm>
            <a:off x="5365800" y="40766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3494160" y="53006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3349800" y="40766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5365800" y="52293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4"/>
          <p:cNvSpPr/>
          <p:nvPr/>
        </p:nvSpPr>
        <p:spPr>
          <a:xfrm>
            <a:off x="6247440" y="522936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</a:rPr>
              <a:t>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5"/>
          <p:cNvSpPr/>
          <p:nvPr/>
        </p:nvSpPr>
        <p:spPr>
          <a:xfrm>
            <a:off x="5724360" y="4005360"/>
            <a:ext cx="18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</a:rPr>
              <a:t>泉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6"/>
          <p:cNvSpPr/>
          <p:nvPr/>
        </p:nvSpPr>
        <p:spPr>
          <a:xfrm>
            <a:off x="6247440" y="285264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</a:rPr>
              <a:t>路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5724360" y="162864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</a:rPr>
              <a:t>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8"/>
          <p:cNvSpPr/>
          <p:nvPr/>
        </p:nvSpPr>
        <p:spPr>
          <a:xfrm>
            <a:off x="2697120" y="47628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d25b5"/>
                </a:solidFill>
                <a:latin typeface="Arial"/>
                <a:ea typeface="楷体_GB2312"/>
              </a:rPr>
              <a:t>九溪十八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1"/>
          <p:cNvSpPr/>
          <p:nvPr/>
        </p:nvSpPr>
        <p:spPr>
          <a:xfrm>
            <a:off x="1619280" y="4005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d25b5"/>
                </a:solidFill>
                <a:latin typeface="楷体_GB2312"/>
                <a:ea typeface="楷体_GB2312"/>
              </a:rPr>
              <a:t>叮 叮 咚 咚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2"/>
          <p:cNvSpPr/>
          <p:nvPr/>
        </p:nvSpPr>
        <p:spPr>
          <a:xfrm>
            <a:off x="1619280" y="278136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d25b5"/>
                </a:solidFill>
                <a:latin typeface="楷体_GB2312"/>
                <a:ea typeface="楷体_GB2312"/>
              </a:rPr>
              <a:t>曲 曲 环 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3"/>
          <p:cNvSpPr/>
          <p:nvPr/>
        </p:nvSpPr>
        <p:spPr>
          <a:xfrm>
            <a:off x="1619280" y="515772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d25b5"/>
                </a:solidFill>
                <a:latin typeface="楷体_GB2312"/>
                <a:ea typeface="楷体_GB2312"/>
              </a:rPr>
              <a:t>高 高 下 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9"/>
          <p:cNvSpPr/>
          <p:nvPr/>
        </p:nvSpPr>
        <p:spPr>
          <a:xfrm>
            <a:off x="-1946160" y="1268280"/>
            <a:ext cx="99136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九溪十八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重重叠叠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曲曲环环路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叮叮咚咚泉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高高下下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5"/>
          <p:cNvGrpSpPr/>
          <p:nvPr/>
        </p:nvGrpSpPr>
        <p:grpSpPr>
          <a:xfrm>
            <a:off x="8496360" y="0"/>
            <a:ext cx="647640" cy="6857280"/>
            <a:chOff x="8496360" y="0"/>
            <a:chExt cx="647640" cy="6857280"/>
          </a:xfrm>
        </p:grpSpPr>
        <p:sp>
          <p:nvSpPr>
            <p:cNvPr id="93" name="Rectangle 16"/>
            <p:cNvSpPr/>
            <p:nvPr/>
          </p:nvSpPr>
          <p:spPr>
            <a:xfrm>
              <a:off x="8640720" y="347760"/>
              <a:ext cx="360360" cy="6278760"/>
            </a:xfrm>
            <a:prstGeom prst="rect">
              <a:avLst/>
            </a:prstGeom>
            <a:gradFill rotWithShape="0">
              <a:gsLst>
                <a:gs pos="0">
                  <a:srgbClr val="996600">
                    <a:alpha val="98039"/>
                  </a:srgbClr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7"/>
            <p:cNvSpPr/>
            <p:nvPr/>
          </p:nvSpPr>
          <p:spPr>
            <a:xfrm>
              <a:off x="8496360" y="0"/>
              <a:ext cx="647640" cy="34776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3ce4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8"/>
            <p:cNvSpPr/>
            <p:nvPr/>
          </p:nvSpPr>
          <p:spPr>
            <a:xfrm>
              <a:off x="8496360" y="6508800"/>
              <a:ext cx="647640" cy="34848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3ce4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0"/>
          <p:cNvGrpSpPr/>
          <p:nvPr/>
        </p:nvGrpSpPr>
        <p:grpSpPr>
          <a:xfrm>
            <a:off x="0" y="0"/>
            <a:ext cx="647640" cy="6857280"/>
            <a:chOff x="0" y="0"/>
            <a:chExt cx="647640" cy="6857280"/>
          </a:xfrm>
        </p:grpSpPr>
        <p:sp>
          <p:nvSpPr>
            <p:cNvPr id="97" name="Rectangle 21"/>
            <p:cNvSpPr/>
            <p:nvPr/>
          </p:nvSpPr>
          <p:spPr>
            <a:xfrm>
              <a:off x="144360" y="347760"/>
              <a:ext cx="360360" cy="6278760"/>
            </a:xfrm>
            <a:prstGeom prst="rect">
              <a:avLst/>
            </a:prstGeom>
            <a:gradFill rotWithShape="0">
              <a:gsLst>
                <a:gs pos="0">
                  <a:srgbClr val="996600">
                    <a:alpha val="98039"/>
                  </a:srgbClr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2"/>
            <p:cNvSpPr/>
            <p:nvPr/>
          </p:nvSpPr>
          <p:spPr>
            <a:xfrm>
              <a:off x="0" y="0"/>
              <a:ext cx="647640" cy="34776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3ce4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3"/>
            <p:cNvSpPr/>
            <p:nvPr/>
          </p:nvSpPr>
          <p:spPr>
            <a:xfrm>
              <a:off x="0" y="6508800"/>
              <a:ext cx="647640" cy="34848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3ce4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wjn3.mid" descr=""/>
          <p:cNvPicPr/>
          <p:nvPr/>
        </p:nvPicPr>
        <p:blipFill>
          <a:blip r:embed="rId1"/>
          <a:stretch/>
        </p:blipFill>
        <p:spPr>
          <a:xfrm>
            <a:off x="79567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73128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890280" y="1711800"/>
            <a:ext cx="191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重重叠叠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797920" y="2779200"/>
            <a:ext cx="427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强调不是一座山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有高有低，有前有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座连一座连绵起伏，你遮我挡的群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6"/>
          <p:cNvSpPr/>
          <p:nvPr/>
        </p:nvSpPr>
        <p:spPr>
          <a:xfrm>
            <a:off x="1173600" y="422640"/>
            <a:ext cx="191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曲曲环环路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3354840" y="1773360"/>
            <a:ext cx="66996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56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弯弯曲曲、蜿蜒回环的小路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漫步在曲折蜿蜒的山间小路上，你还看到了什么？怎样的泉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068920" y="292320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听到叮叮咚咚的声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841400" y="400500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叮叮咚咚就像是泉水在干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还听到过哪些美妙的声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9528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重重叠叠的山中有多少山涧呀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真的是十八条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689720" y="177228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这里的十八不是真的有十八条，而是指很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210400" y="2780280"/>
            <a:ext cx="43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看这么多条山涧里流淌的泉水汇集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起就变成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178360" y="5296680"/>
            <a:ext cx="419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对了，这里的“九”也是一个大概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数字，表示多，而不是真的就有九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030040" y="39337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多少小溪呢？真是九条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2:30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6:49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