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db5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73EB-DA13-4B01-8602-928F878854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1C38-284D-4BA3-8DE0-5A8E3849DC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440-301F-4668-BEB0-644EF13D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7E7-946F-4FE4-80E0-B4C90353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14E7-9FDB-429B-8F7D-014285E2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50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6FD-D2F9-426B-A6B2-AFF52143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51A8-279B-423D-A767-11DCD58B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187F-8F68-4B10-A097-17DD2CF5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55F1-E768-463E-9ACE-6136C51B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3937-DF98-4464-B096-EA5FE746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4237-BF00-4E3E-A722-AF240B41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64FB-B772-4D12-B47F-B894263F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0BD7-EC24-43F3-B34C-7D50FF47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A0C-35D3-4126-8EAB-EC490FB8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8A26-0B5D-42EA-88E7-332798E9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50FA-4547-4637-9D5C-DD204FCB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7DEE-7BF3-484B-9432-11053B89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EE30-E882-48EF-B4B9-312315EF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50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CEA3-CCFF-4BA5-A9D5-5E38D9DC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26C-8A2F-4ADC-8EAE-7E1E44F6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76E-44CC-414E-BAE6-3583B6F1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992-BBA6-48E1-9883-D18A8572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B38-7E60-4B35-9D44-33478D25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9F7-B98E-43EA-89E4-CBF958BF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002-2445-47A6-9409-D9D757B4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246-B74C-4E8E-8A8C-31D88F27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db5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F6C0-114D-47B0-A159-518F0BD798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db5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771E-71F1-4856-939B-E9B12A5C9A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40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0000"/>
                </a:solidFill>
                <a:latin typeface="Arial"/>
                <a:ea typeface="华文行楷"/>
              </a:rPr>
              <a:t>捐赠天堂</a:t>
            </a:r>
            <a:endParaRPr b="0" lang="en-US" sz="115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182700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8db5"/>
                </a:solidFill>
                <a:latin typeface="Arial"/>
                <a:ea typeface="隶书"/>
              </a:rPr>
              <a:t>作者按照什么顺序的文章</a:t>
            </a:r>
            <a:endParaRPr b="0" lang="en-US" sz="32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808080"/>
                </a:solidFill>
                <a:latin typeface="Arial"/>
                <a:ea typeface="隶书"/>
              </a:rPr>
              <a:t>倒叙</a:t>
            </a:r>
            <a:endParaRPr b="0" lang="en-US" sz="17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8db5"/>
                </a:solidFill>
                <a:latin typeface="Arial"/>
              </a:rPr>
              <a:t>第一自然段中“是我求妈妈一定把它们送给你的”，为什么说是“求”？</a:t>
            </a:r>
            <a:endParaRPr b="0" lang="en-US" sz="36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1773000"/>
            <a:ext cx="8351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从求字可以看出，并不是妈妈舍不得送，妈妈捐赠了“一大包四季的衣服”又怎能舍不得送小玩具呢？只是在大人眼里，那些玩具、发带对灾区的小朋友没有用处。而孩子的心是相通的，只有孩子懂得灾区的孩子不仅需要物质的帮助，更需要心灵的安慰。童心的世界里需要童趣。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8db5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8db5"/>
                </a:solidFill>
                <a:latin typeface="Arial"/>
              </a:rPr>
              <a:t>他分到的书很新，翻开第一页，里面竟有两张剪纸！他高兴得欢呼起来。”这句话中为什么用“竟”？</a:t>
            </a:r>
            <a:endParaRPr b="0" lang="en-US" sz="28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773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这个“竟”体现出灾区孩子对捐赠物的出乎意料，孩子意外的惊喜。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高兴得欢呼起来”在那个废墟掩埋了一切的世界，两张剪纸带给孩子的绝对是一份奢侈的快乐，这样的快乐是其他的物质帮助所代替不了的，带给孩子们的是“一个快乐至极的天堂”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8db5"/>
                </a:solidFill>
                <a:latin typeface="Arial"/>
              </a:rPr>
              <a:t>理解“一颗童心给另一颗童心捐赠了一个真正的天堂”对于孩子们来说什么是“真正的天堂”</a:t>
            </a:r>
            <a:endParaRPr b="0" lang="en-US" sz="28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80"/>
                </a:solidFill>
                <a:latin typeface="Arial"/>
              </a:rPr>
              <a:t>这小小的毛毛熊和发带代表的是一个小朋友的友爱和深情，带给灾区小朋友的是欢乐和幸福。灾区小朋友不光需要物质上的帮助，也需要精神上的帮助。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8db5"/>
                </a:solidFill>
                <a:latin typeface="Arial"/>
              </a:rPr>
              <a:t>捐赠天堂的含义</a:t>
            </a:r>
            <a:endParaRPr b="0" lang="en-US" sz="36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Arial"/>
              </a:rPr>
              <a:t>指小朋友捐赠的童真与快乐，这才是真正的天堂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8db5"/>
                </a:solidFill>
                <a:latin typeface="Arial"/>
              </a:rPr>
              <a:t>使用规范说明</a:t>
            </a:r>
            <a:endParaRPr b="0" lang="en-US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5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5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5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5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5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5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5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5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F906-F9E8-4358-95E8-4D4038E599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007640"/>
            <a:ext cx="822960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Arial"/>
              </a:rPr>
              <a:t>1976</a:t>
            </a:r>
            <a:r>
              <a:rPr b="0" lang="zh-CN" sz="3600" spc="-1" strike="noStrike">
                <a:solidFill>
                  <a:srgbClr val="808080"/>
                </a:solidFill>
                <a:latin typeface="Arial"/>
              </a:rPr>
              <a:t>年</a:t>
            </a:r>
            <a:r>
              <a:rPr b="0" lang="zh-CN" sz="3600" spc="-1" strike="noStrike">
                <a:solidFill>
                  <a:srgbClr val="80808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zh-CN" sz="3600" spc="-1" strike="noStrike">
                <a:solidFill>
                  <a:srgbClr val="808080"/>
                </a:solidFill>
                <a:latin typeface="Arial"/>
              </a:rPr>
              <a:t>28</a:t>
            </a:r>
            <a:r>
              <a:rPr b="0" lang="zh-CN" sz="3600" spc="-1" strike="noStrike">
                <a:solidFill>
                  <a:srgbClr val="808080"/>
                </a:solidFill>
                <a:latin typeface="Arial"/>
              </a:rPr>
              <a:t>日凌晨</a:t>
            </a:r>
            <a:r>
              <a:rPr b="0" lang="zh-CN" sz="36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80808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808080"/>
                </a:solidFill>
                <a:latin typeface="Arial"/>
              </a:rPr>
              <a:t>42</a:t>
            </a:r>
            <a:r>
              <a:rPr b="0" lang="zh-CN" sz="3600" spc="-1" strike="noStrike">
                <a:solidFill>
                  <a:srgbClr val="808080"/>
                </a:solidFill>
                <a:latin typeface="Arial"/>
              </a:rPr>
              <a:t>，河北省唐山市发生了</a:t>
            </a:r>
            <a:r>
              <a:rPr b="0" lang="zh-CN" sz="3600" spc="-1" strike="noStrike">
                <a:solidFill>
                  <a:srgbClr val="808080"/>
                </a:solidFill>
                <a:latin typeface="Arial"/>
              </a:rPr>
              <a:t>7.8</a:t>
            </a:r>
            <a:r>
              <a:rPr b="0" lang="zh-CN" sz="3600" spc="-1" strike="noStrike">
                <a:solidFill>
                  <a:srgbClr val="808080"/>
                </a:solidFill>
                <a:latin typeface="Arial"/>
              </a:rPr>
              <a:t>级大地震，在蓝光闪过的顷刻间，百万人口的城市被夷为平地，无数家庭因此破碎……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文本框 1"/>
          <p:cNvSpPr/>
          <p:nvPr/>
        </p:nvSpPr>
        <p:spPr>
          <a:xfrm>
            <a:off x="1382760" y="5864400"/>
            <a:ext cx="52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http://www.eeppt.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6"/>
          <p:cNvSpPr/>
          <p:nvPr/>
        </p:nvSpPr>
        <p:spPr>
          <a:xfrm>
            <a:off x="1835280" y="285264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8db5"/>
                </a:solidFill>
                <a:latin typeface="Arial"/>
              </a:rPr>
              <a:t>文章讲了几个小故事</a:t>
            </a:r>
            <a:endParaRPr b="0" lang="en-US" sz="3200" spc="-1" strike="noStrike">
              <a:solidFill>
                <a:srgbClr val="ff8db5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412640"/>
            <a:ext cx="822960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80"/>
                </a:solidFill>
                <a:latin typeface="Arial"/>
              </a:rPr>
              <a:t>我在整理灾区捐赠的物品时，发现一只毛毛熊和一条发带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80"/>
                </a:solidFill>
                <a:latin typeface="Arial"/>
              </a:rPr>
              <a:t>我联想到与丈夫的关于剪纸的交谈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80"/>
                </a:solidFill>
                <a:latin typeface="Arial"/>
              </a:rPr>
              <a:t>我听丈夫讲述关于两张剪纸的故事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3:53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