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DE36-DDAE-438B-83E4-7E43C1A36F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C0E4-E3AE-47A7-A51C-EAA7783E41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184-9E8F-4C13-8D1B-70D464DC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3C0-4F60-402C-84B5-67087CB7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1F0-B6E7-4397-A410-ECE62CE9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D3D-E5D8-4202-8131-448C0C8D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B63-1B13-4252-9C84-FF2EDA03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035-C4E9-4AD7-90E0-511953A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5B0-59F3-46A7-91E1-E0CCAF17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45E-6458-4EBB-8A7C-41A4D0E8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D40-B39F-4CF6-862E-7974BE8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A8E-FC00-4147-AD5F-D9AE87C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AC6-D5AE-4061-B2F6-1B4B1A7B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962-1F11-41F5-A0EC-C21A1BF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0E9-C567-4811-9254-11BFA2AD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57480" y="181620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乐的足球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00480" y="3581280"/>
            <a:ext cx="441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664640" y="55054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457200" y="182880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班展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学友展示自己观点，小老师补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其他同学予以质疑，完善答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457200" y="121932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点特别：在河边长满了青草的空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式特别：不贴海报，不卖门票，不用约定时间，比赛时间不用看表，不计比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裁判特别：每个队员都是裁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球门特别：平时用书包，这次用没上学的“小豆豆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14400" y="1371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检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31640" y="28195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快乐的足球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特别在什么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980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第三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2590920"/>
            <a:ext cx="83818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提炼写法，进行仿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能正确书写本课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生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90440" y="1387440"/>
            <a:ext cx="883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一）再读课文体会作者的写作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找出本课生字巧记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独立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找出依据（划出有关语句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生字巧记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把答案写在课堂练习本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57200" y="380880"/>
            <a:ext cx="243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80880" y="98892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老师和小学友说一说。小学友先发言，小老师完善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四人小组讨论，统一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展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学友展示自己观点，小老师补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其他同学予以质疑，完善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83808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的写作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叙事儿童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形式新颖，风格幽默风趣。充满了童真童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导书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认读本课生字卡片，组词，并说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小组讨论如何记忆字形，如何把字写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指导重点字的书写：“裁”注意与“载、栽”区别字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凌、澡、摔：这三个字都是左窄右宽，笔画比较多，在书写时要注意笔画间的紧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学生独立描红书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57200" y="380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检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182880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一比，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裁        锋        供       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栽        峰        哄       暂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1382760" y="551484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0A5-83F3-475B-830E-C54CF051E5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41200" y="114300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正确认读文中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生字。掌握多音字：着、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正确、流利、有感情地朗读课文。联系上下文理解“裁判、暂停、捧腹大笑、摔跤、前锋”等词语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整体感知文章大意，理清文章脉络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52280" y="9907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一）通读课文，自学字词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再读课文，思考：本文主要讲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理清文章脉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自由读课文，借助拼音读准生字读音，读通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独立思考，用简练的语言概括课文大意。给课文划分段落，把段意写在课堂练习本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04920" y="10414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通读课文，自学字词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再读课文，思考：本文主要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理清文章脉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005f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ea005f"/>
                </a:solidFill>
                <a:latin typeface="Arial"/>
              </a:rPr>
              <a:t>议</a:t>
            </a:r>
            <a:r>
              <a:rPr b="1" lang="en-US" sz="3200" spc="-1" strike="noStrike">
                <a:solidFill>
                  <a:srgbClr val="ea005f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ea005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ea005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ea005f"/>
                </a:solidFill>
                <a:latin typeface="Arial"/>
              </a:rPr>
              <a:t>分钟（</a:t>
            </a:r>
            <a:r>
              <a:rPr b="1" lang="zh-CN" sz="3200" spc="-1" strike="noStrike">
                <a:solidFill>
                  <a:srgbClr val="ea005f"/>
                </a:solidFill>
                <a:latin typeface="Arial"/>
              </a:rPr>
              <a:t>7:</a:t>
            </a:r>
            <a:r>
              <a:rPr b="1" lang="en-US" sz="3200" spc="-1" strike="noStrike">
                <a:solidFill>
                  <a:srgbClr val="ea005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ea005f"/>
                </a:solidFill>
                <a:latin typeface="Arial"/>
              </a:rPr>
              <a:t>3—7:</a:t>
            </a:r>
            <a:r>
              <a:rPr b="1" lang="en-US" sz="3200" spc="-1" strike="noStrike">
                <a:solidFill>
                  <a:srgbClr val="ea005f"/>
                </a:solidFill>
                <a:latin typeface="Arial"/>
              </a:rPr>
              <a:t>58</a:t>
            </a:r>
            <a:r>
              <a:rPr b="1" lang="zh-CN" sz="3200" spc="-1" strike="noStrike">
                <a:solidFill>
                  <a:srgbClr val="ea005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005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同桌互相读课文，学友先读。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小组内互相解释不理解的词语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。（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讨论本文大意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。（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给课文分出层次。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分钟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小组长根据本组实际情况自主组织。要求：人人发言，抓紧时间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1828800" y="3809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9144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课件出示字词，检查初读效果，指名小学友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裁判、精彩、暂停、捧腹大笑、凌空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摔跤、前锋、起哄、洗澡、叼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理解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指名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举手回答第二、第三个问题，语言要简练。后发言的不能重复前面同学的话，但可以补充或发表新的见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80880" y="129528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内容：本文记叙了一场快乐而特殊的足球比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段：比赛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段：比赛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段：比赛结束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44600" y="960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检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19040" y="22096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快乐的足球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给你留下了怎样的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95360" y="1066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22096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抓住文中重点词语理解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能用自己的语言说出这场足球赛给你留下的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感情地朗读课文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444600" y="838080"/>
            <a:ext cx="83818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心问题：读了这首诗歌，你觉得这场比赛是不是很特别？从哪些地方能看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朗读课文，独立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划出有关语句，把读后感受和体会写在练习本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感情地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老师和小学友互相说一说。小学友先发言，小老师帮其完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二人小组解决不了的，四人小组讨论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46:46Z</dcterms:created>
  <dc:creator>第一PPT模板网-WWW.1PPT.COM</dc:creator>
  <dc:description>第一PPT模板网-WWW.1PPT.COM
第一PPT模板网-WWW.1PPT.COM
</dc:description>
  <cp:keywords>第一PPT模板网-WWW.1PPT.COM</cp:keywords>
  <dc:language>en-US</dc:language>
  <cp:lastModifiedBy>xinxing</cp:lastModifiedBy>
  <dcterms:modified xsi:type="dcterms:W3CDTF">2017-04-17T00:15:17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