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8F65-5D5F-4F76-966A-C790EF4E20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21C1-DE9B-433C-9C17-7C21DE95F7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707-3E19-4B3D-957E-779FBF13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5BF-C18B-4158-A1DB-F9968879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11B-9388-4883-BACB-D616CAAF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7BC-6152-42B5-A6CD-81D9C0B5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8C0-478B-47DE-9A15-BE46E693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C66-45F2-4F59-B2C4-6158AC25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700-D942-46F6-B1D1-1A352A58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DEC-A169-4748-ADB8-A9E4E16B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9DD-BC11-4F6B-9350-CF2C7770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009-083C-4C25-A173-ABDB66CA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1F7-D95C-4FC2-9359-CE180BCD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37E-F4E1-4225-9A4B-1003A001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5144-BE87-41B8-844A-99B950C241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627280" y="2276640"/>
            <a:ext cx="3703680" cy="16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看戏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34840" y="5157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20B1-445C-4AFC-A9BB-98EADC7204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74560" y="620280"/>
            <a:ext cx="856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暑气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石阶    诚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铿锵   轻盈     婀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圆润    歌喉    逼近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优雅   情绪  一笑一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晚上，暑气并没有收敛，没有风。公园里那些屹立着的古树是静静的，露天的剧场也是静静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85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晚上，暑气并没有收敛，没有风。公园里那些屹立着的古树是静静的，露天的剧场也是静静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8920" y="2997000"/>
            <a:ext cx="87138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剧场里并不是没有人，相反地，每个角落里都是人，连走路的石阶上都坐着人，从前面一排向后面一望，简直是一个人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2050920" y="2781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68360" y="83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阅读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50920" y="1484280"/>
            <a:ext cx="85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分析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该段中女主角穆桂英扮演者的精彩表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55640" y="141300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开始唱了，那圆润的歌喉在夜空中颤动，听起来似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辽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而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逼近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柔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而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铿锵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。唱词像珠子似的从一笑一颦中，从优雅的“水袖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中，从婀娜的身段中，一粒一粒地滚下来，滴在地上，溅到空中，落进每一个人的心里，引起一片深远的回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83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阅读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 rot="21432000">
            <a:off x="755640" y="2204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340000" y="26028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364000" y="2708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804000" y="2708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1476360" y="3141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3276720" y="3141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78920" y="620280"/>
            <a:ext cx="8604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他们不约而同地从座位上站立起来，像潮水一样，涌到这位艺人的面前。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492360" y="1197000"/>
            <a:ext cx="10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2467080" y="4681440"/>
            <a:ext cx="64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78920" y="479700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的这位艺术家是谁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84360" y="53928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他就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梅兰芳先生</a:t>
            </a:r>
            <a:r>
              <a:rPr b="0" lang="zh-CN" sz="3600" spc="-1" strike="noStrike">
                <a:solidFill>
                  <a:srgbClr val="40404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24000" y="40464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403280" y="765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0023aea9e73e0e20b4a411"/>
          <p:cNvPicPr/>
          <p:nvPr/>
        </p:nvPicPr>
        <p:blipFill>
          <a:blip r:embed="rId1"/>
          <a:stretch/>
        </p:blipFill>
        <p:spPr>
          <a:xfrm>
            <a:off x="539640" y="189000"/>
            <a:ext cx="3592800" cy="468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01300000271069124245633229650"/>
          <p:cNvPicPr/>
          <p:nvPr/>
        </p:nvPicPr>
        <p:blipFill>
          <a:blip r:embed="rId2"/>
          <a:stretch/>
        </p:blipFill>
        <p:spPr>
          <a:xfrm>
            <a:off x="4427640" y="189000"/>
            <a:ext cx="3457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539640" y="83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68360" y="1557360"/>
            <a:ext cx="79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、课后收集一些关于梅兰芳和京剧的资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、学习课文描写环境的方法，写一写今天我们这个课堂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2:35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4:44Z</dcterms:modified>
  <cp:revision>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