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346-BB3C-40EC-860A-786BCCCBD4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86A-3662-4EE1-A9D3-B299A2F129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ED2-0F96-4F02-867E-6BEC076A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4A3-2570-4DD9-8456-A651361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7B6-0A60-484D-AA5B-815096E3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A2B-C27C-4F07-96C3-24333607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95B-D13D-418C-9243-056D6A3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94F-9316-493A-AA5A-E69547D6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EEC-C991-44B1-A600-E7A9D04A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BE0-C0F4-491A-BA95-22CBF30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F1C-C42A-4A26-836A-E3EB0454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85C-DA4F-4D43-B89C-5B91DA2F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558-B34F-49E4-96ED-7FD789D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B2E-0620-49DA-9B4E-B7D19E6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5E33-B28E-47DA-B2A2-C5F6CF481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60640" y="17524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孔子让路</a:t>
            </a:r>
            <a:r>
              <a:rPr b="1" lang="en-US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17280" y="5504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u=2250481932,3695679039&amp;fm=21&amp;gp=0"/>
          <p:cNvPicPr/>
          <p:nvPr/>
        </p:nvPicPr>
        <p:blipFill>
          <a:blip r:embed="rId1"/>
          <a:stretch/>
        </p:blipFill>
        <p:spPr>
          <a:xfrm>
            <a:off x="6019920" y="1752480"/>
            <a:ext cx="2981160" cy="444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990720" y="1371600"/>
            <a:ext cx="4952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三人行，必有我师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三个人一起走路，其中必定有可以做我的老师。指的是人各有所长，应该不耻下问，虚心学习他人的长处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从这个故事中，你懂得什么？你认为孔子是怎样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8ABE-2447-404B-8FF9-78BD5B3594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u=3087433900,2719932429&amp;fm=21&amp;gp=0"/>
          <p:cNvPicPr/>
          <p:nvPr/>
        </p:nvPicPr>
        <p:blipFill>
          <a:blip r:embed="rId1"/>
          <a:stretch/>
        </p:blipFill>
        <p:spPr>
          <a:xfrm>
            <a:off x="3733920" y="1981080"/>
            <a:ext cx="541008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7760" y="304920"/>
            <a:ext cx="7313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人之初，性本善。性相近，习相远。苟不教，性乃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你们知道这是出自哪本书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三字经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中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昔仲尼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师项橐（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tu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。古圣贤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尚勤学。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句话，你们知道这讲的是一个谁和谁的故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14440" y="1143000"/>
            <a:ext cx="43434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孔子（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5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名丘，字仲尼。他是春秋末期的思想家、政治家、教育家，儒家学派的创始人。首创私人讲学，弟子相传有三千人，其中贤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皆为当时各国栋梁。孔子还提出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核心的学说。他的思想对后世影响极大。中国历代王朝统治者一直把他奉为圣人。门人根据他的言行，编著为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孔子1"/>
          <p:cNvPicPr/>
          <p:nvPr/>
        </p:nvPicPr>
        <p:blipFill>
          <a:blip r:embed="rId1"/>
          <a:stretch/>
        </p:blipFill>
        <p:spPr>
          <a:xfrm>
            <a:off x="1066680" y="1447920"/>
            <a:ext cx="2819520" cy="50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3733920" y="2438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3805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楷体_GBK"/>
              </a:rPr>
              <a:t>今天我们就来通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方正楷体_GBK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楷体_GBK"/>
              </a:rPr>
              <a:t>孔子让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方正楷体_GBK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楷体_GBK"/>
              </a:rPr>
              <a:t>这篇课文来一起学习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u=858497363,339399932&amp;fm=21&amp;gp=0"/>
          <p:cNvPicPr/>
          <p:nvPr/>
        </p:nvPicPr>
        <p:blipFill>
          <a:blip r:embed="rId1"/>
          <a:stretch/>
        </p:blipFill>
        <p:spPr>
          <a:xfrm>
            <a:off x="2514600" y="1860480"/>
            <a:ext cx="6629400" cy="499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8"/>
          <p:cNvPicPr/>
          <p:nvPr/>
        </p:nvPicPr>
        <p:blipFill>
          <a:blip r:embed="rId1"/>
          <a:stretch/>
        </p:blipFill>
        <p:spPr>
          <a:xfrm>
            <a:off x="1371600" y="990720"/>
            <a:ext cx="6222960" cy="48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孔子让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88"/>
          <p:cNvPicPr/>
          <p:nvPr/>
        </p:nvPicPr>
        <p:blipFill>
          <a:blip r:embed="rId1"/>
          <a:stretch/>
        </p:blipFill>
        <p:spPr>
          <a:xfrm>
            <a:off x="1371600" y="990720"/>
            <a:ext cx="6222960" cy="482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6840" y="380880"/>
            <a:ext cx="861228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讲述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121932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ēi    kǎi     wǎ     qì    dǎ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碑     楷      瓦      砌      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èi   wù    bó    chàng  q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喂     误      博      倡       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8"/>
          <p:cNvPicPr/>
          <p:nvPr/>
        </p:nvPicPr>
        <p:blipFill>
          <a:blip r:embed="rId1"/>
          <a:stretch/>
        </p:blipFill>
        <p:spPr>
          <a:xfrm>
            <a:off x="1371600" y="990720"/>
            <a:ext cx="6222960" cy="4822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5200" y="794880"/>
            <a:ext cx="8915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课文中画出这两句话，朗读比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喂，小孩，快让开，我们的车要过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孩子，给我们的车让让路，好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课文中再找到下面两个句子，体会朗读，分析孔子和项橐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孩子，你怎么不懂礼节，你挡住了车，误了我们赶路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不懂礼节？那么世上是车给城让路还是城给车让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1587600" y="558324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33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30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