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69C9-50F5-4FDE-AD4F-CF533D61FB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6EEF-ED5E-41B4-9ABB-22609AA82A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69C-94F4-4C21-9775-1FAE96D4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C13-9DC9-46FC-9149-A4DABE63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212-56F0-4C85-831C-A2B03004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183-0A69-49D5-A0CD-1994667B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1AB-0843-4FB3-BB2A-5DBD2AFA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092-20E0-4FCC-B7C3-40DC5BA2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47B1-4514-4CD3-986E-A231CD52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7D9-83C0-4C1E-BF40-40E8849E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3D2-5F29-4F95-ABC3-DDF82417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671-E822-4EED-8361-62384CF5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93A-D870-4756-9709-C296A5EF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0D9-D27E-49B3-BC2B-B7D00EE6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2846-4639-4884-9C9F-94BDD3CB3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3"/>
          <p:cNvSpPr txBox="1"/>
          <p:nvPr/>
        </p:nvSpPr>
        <p:spPr>
          <a:xfrm>
            <a:off x="755640" y="1628640"/>
            <a:ext cx="5761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中宋"/>
              </a:rPr>
              <a:t>柳笛和榆钱</a:t>
            </a:r>
            <a:endParaRPr b="1" lang="en-US" sz="2400" spc="-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925200" y="51451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39640" y="62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小结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童年的趣事令人回味，令人向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189000"/>
            <a:ext cx="655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回读全文，讨论解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什么开头写柳树、榆树的样子？与做柳笛、吹柳笛、吃榆钱有什么联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810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总结全文，谈收获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907920"/>
            <a:ext cx="66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学习组材方法：先总后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情感体验：对故乡的眷恋之情，对大自然的热爱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1"/>
          <p:cNvSpPr/>
          <p:nvPr/>
        </p:nvSpPr>
        <p:spPr>
          <a:xfrm>
            <a:off x="33480" y="478008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2602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如何学习略读课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初读，了解大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自学生字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提出不懂问题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着问题，默读课文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理解课文内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决不懂问题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感悟重点语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积累好词佳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拓展延伸积累实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560" y="1268280"/>
            <a:ext cx="8101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柳树和榆树给春天里的孩子们带来了很多的乐趣，你还知道还有哪些游戏活动给春天增添了色彩，给孩子们带来了欢乐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积累文中描写生动的词语或句子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F192-0393-4724-9F29-7F8C0BF2D3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46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560" y="105264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正确、流利、有感情的朗读课文，品味重点词语、句子、积累语言，增强语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解文章通过对童年趣事的描写，抒发了作者热爱家乡生活的美好情感，培养同学们对美好生活的热爱、对家乡无比眷恋的真挚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12536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想课文主要写了什么事？按什么顺序写的？先写什么，后写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想柳笛和榆钱给孩子们的生活带来了哪些欢乐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25200" y="404280"/>
            <a:ext cx="22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行楷"/>
                <a:ea typeface="华文行楷"/>
              </a:rPr>
              <a:t>自读课文</a:t>
            </a:r>
            <a:r>
              <a:rPr b="0" lang="zh-CN" sz="3600" spc="-1" strike="noStrike">
                <a:solidFill>
                  <a:srgbClr val="ff3399"/>
                </a:solidFill>
                <a:latin typeface="华文行楷"/>
                <a:ea typeface="华文行楷"/>
              </a:rPr>
              <a:t>思考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611280" y="69228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课文主要是写童年时期做柳笛、吹柳笛，吃榆钱的欢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按总分的方法记叙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000" y="260280"/>
            <a:ext cx="705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做柳笛带来哪些欢乐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找出描写做柳笛动作的词语，读一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你从做柳笛的动作中感悟到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自由朗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9640" y="115560"/>
            <a:ext cx="662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ff3399"/>
                </a:solidFill>
                <a:latin typeface="隶书"/>
                <a:ea typeface="隶书"/>
              </a:rPr>
              <a:t>吹柳笛带来哪些欢乐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课文通过以下几点体现欢乐之情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愿怎么吹就怎么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吹出的音色各不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们的样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边读边说自己从中怎么体会到这份欢乐之情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400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小组合作读。（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方面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春天把自己的歌声藏在柳树的枝叶里，每个孩子都有本事把这歌声找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3640" y="333000"/>
            <a:ext cx="70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你联系上下文谈谈自己对这句话的理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（要点：春天无处不在，柳笛吹出的歌声正是那藏在柳树枝叶里春天的歌声。是孩子们用吹柳笛的办法让人们听到这美妙的歌声。从中可以看出故乡的柳笛美、故乡的孩子聪明、可爱。体会到作者对家乡的眷恋、热爱之情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己读读这段话，感受这份情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4000" y="115560"/>
            <a:ext cx="79930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榆钱给孩子们带来怎样的欢乐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摘榆钱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出描写榆钱样子的句子读一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：这样写说明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感受到了孩子们的心情是怎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　　 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02:43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0:04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