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34.png" ContentType="image/pn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ADC6-047C-4E39-82FA-61221D56368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065F-6000-422B-9B0B-AD63F505FA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37EE-8746-4BAA-9CBC-51496F89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086-4D5E-4E60-8C6A-4F218A80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C932-A666-45E6-966D-41FAB73F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6D4-388A-415C-B3AC-CD6C0BE8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5BE-F9BE-492A-B7E2-944093A9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AEE-08C2-4465-BE2C-B570AF74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CF8-0617-4A99-81FC-BA131C35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54A-9245-4EFE-A7A6-72327351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BF5-FA88-4C00-B5B0-5768D71F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1C0-6216-432B-AE77-ACA8EEB1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3DE5-8E0E-4941-B01F-4553C8D3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7C0-ED68-4874-B7BD-7A9C0A6F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D86B-FE36-4180-824C-E4715D3752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6.png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9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jpe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9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9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9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file:///&#26446;&#23068;%20%20&#38738;&#34255;&#39640;&#21407;.flv" TargetMode="External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2.jpeg"/><Relationship Id="rId3" Type="http://schemas.openxmlformats.org/officeDocument/2006/relationships/slide" Target="slide22.xml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907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华文中宋"/>
                <a:ea typeface="华文中宋"/>
              </a:rPr>
              <a:t>拉萨的天空</a:t>
            </a:r>
            <a:r>
              <a:rPr b="1" lang="zh-CN" sz="8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954800" y="600408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06_07_18_1656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14048img2006927181237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2007522182054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637080" y="-9540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神往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9640" y="11174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拉萨的天空蓝得让人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神往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，它把你的视线紧紧吸引，让你久久不忍移开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自己喜欢的方式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然段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波浪线画出你喜欢的句子，然后大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，谈谈你的想法和感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小学语文（散文）02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58920" y="836640"/>
            <a:ext cx="2592360" cy="6508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4365720" y="314172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123920" y="5308560"/>
            <a:ext cx="4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>
            <a:hlinkClick r:id="rId4" action="ppaction://hlinksldjump"/>
          </p:cNvPr>
          <p:cNvSpPr/>
          <p:nvPr/>
        </p:nvSpPr>
        <p:spPr>
          <a:xfrm>
            <a:off x="1908000" y="5302080"/>
            <a:ext cx="42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700360" y="5302080"/>
            <a:ext cx="95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8">
            <a:hlinkClick r:id="rId7" action="ppaction://hlinksldjump"/>
          </p:cNvPr>
          <p:cNvSpPr/>
          <p:nvPr/>
        </p:nvSpPr>
        <p:spPr>
          <a:xfrm>
            <a:off x="8172360" y="6310440"/>
            <a:ext cx="576360" cy="360360"/>
          </a:xfrm>
          <a:prstGeom prst="rightArrow">
            <a:avLst>
              <a:gd name="adj1" fmla="val 50000"/>
              <a:gd name="adj2" fmla="val 3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声音能碰到蓝天，伸出手来能摸到蓝天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79280" y="62064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在拉萨，人们说话的声音能碰到蓝天，伸出手来能摸到蓝天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2" action="ppaction://hlinksldjump"/>
          </p:cNvPr>
          <p:cNvSpPr/>
          <p:nvPr/>
        </p:nvSpPr>
        <p:spPr>
          <a:xfrm>
            <a:off x="7669080" y="6094440"/>
            <a:ext cx="719280" cy="360360"/>
          </a:xfrm>
          <a:prstGeom prst="leftArrow">
            <a:avLst>
              <a:gd name="adj1" fmla="val 50000"/>
              <a:gd name="adj2" fmla="val 49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79280" y="1052640"/>
            <a:ext cx="885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有人说“           </a:t>
            </a:r>
            <a:r>
              <a:rPr b="1" lang="zh-CN" sz="4400" spc="-1" strike="noStrike">
                <a:solidFill>
                  <a:srgbClr val="ff9900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”，这话真是太   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124000" y="105264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掬一捧蓝天可以洗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132000" y="1773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53802img200882510054013"/>
          <p:cNvPicPr/>
          <p:nvPr/>
        </p:nvPicPr>
        <p:blipFill>
          <a:blip r:embed="rId1"/>
          <a:stretch/>
        </p:blipFill>
        <p:spPr>
          <a:xfrm>
            <a:off x="0" y="-817560"/>
            <a:ext cx="9144000" cy="7675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200761610166541"/>
          <p:cNvPicPr/>
          <p:nvPr/>
        </p:nvPicPr>
        <p:blipFill>
          <a:blip r:embed="rId2"/>
          <a:stretch/>
        </p:blipFill>
        <p:spPr>
          <a:xfrm>
            <a:off x="0" y="-96840"/>
            <a:ext cx="9144000" cy="6954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00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7"/>
          <p:cNvSpPr/>
          <p:nvPr/>
        </p:nvSpPr>
        <p:spPr>
          <a:xfrm>
            <a:off x="1476360" y="90792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7"/>
                </a:solidFill>
                <a:latin typeface="Times New Roman"/>
              </a:rPr>
              <a:t>“ </a:t>
            </a:r>
            <a:r>
              <a:rPr b="1" lang="zh-CN" sz="3600" spc="-1" strike="noStrike">
                <a:solidFill>
                  <a:srgbClr val="ffff57"/>
                </a:solidFill>
                <a:latin typeface="Times New Roman"/>
              </a:rPr>
              <a:t>掬一捧蓝天可以洗脸 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57"/>
                </a:solidFill>
                <a:latin typeface="Times New Roman"/>
              </a:rPr>
              <a:t>拉萨的天空真（        ）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6">
            <a:hlinkClick r:id="rId4" action="ppaction://hlinksldjump"/>
          </p:cNvPr>
          <p:cNvSpPr/>
          <p:nvPr/>
        </p:nvSpPr>
        <p:spPr>
          <a:xfrm>
            <a:off x="7885080" y="6237360"/>
            <a:ext cx="792360" cy="433440"/>
          </a:xfrm>
          <a:prstGeom prst="leftArrow">
            <a:avLst>
              <a:gd name="adj1" fmla="val 50000"/>
              <a:gd name="adj2" fmla="val 456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8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53802img2008825100540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76212824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rkz-a1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38160" y="405000"/>
            <a:ext cx="56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有贴着山顶的白云映衬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湛蓝的天空显得越发纯净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95280" y="41101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imes New Roman"/>
              </a:rPr>
              <a:t>有拉萨河畔草地的对照，湛蓝的天空显得更加明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6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8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53802img2008825100540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76212824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rkz-a1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38160" y="405000"/>
            <a:ext cx="56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有贴着山顶的白云映衬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湛蓝的天空显得越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纯净</a:t>
            </a:r>
            <a:r>
              <a:rPr b="1" lang="zh-CN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395280" y="411012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imes New Roman"/>
              </a:rPr>
              <a:t>有拉萨河畔草地的对照，湛蓝的天空显得更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明洁</a:t>
            </a:r>
            <a:r>
              <a:rPr b="1" lang="zh-CN" sz="3600" spc="-1" strike="noStrike">
                <a:solidFill>
                  <a:srgbClr val="ffff99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8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53802img2008825100540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76212824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rkz-a1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9"/>
          <p:cNvSpPr/>
          <p:nvPr/>
        </p:nvSpPr>
        <p:spPr>
          <a:xfrm>
            <a:off x="38160" y="405000"/>
            <a:ext cx="56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有贴着山顶的白云映衬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湛蓝的天空显得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越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纯净</a:t>
            </a:r>
            <a:r>
              <a:rPr b="1" lang="zh-CN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395280" y="411012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imes New Roman"/>
              </a:rPr>
              <a:t>有拉萨河畔草地的对照，湛蓝的天空显得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更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明洁</a:t>
            </a:r>
            <a:r>
              <a:rPr b="1" lang="zh-CN" sz="3600" spc="-1" strike="noStrike">
                <a:solidFill>
                  <a:srgbClr val="ffff99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1280" y="1483920"/>
            <a:ext cx="907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说写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园里的花朵有了绿叶的映衬显得更加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     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湖边的树丛有了假山的对照显得更加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   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仿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能仿照上面的句子再写一句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7956720" y="6238800"/>
            <a:ext cx="792000" cy="574920"/>
          </a:xfrm>
          <a:prstGeom prst="leftArrow">
            <a:avLst>
              <a:gd name="adj1" fmla="val 50000"/>
              <a:gd name="adj2" fmla="val 344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图片1"/>
          <p:cNvPicPr/>
          <p:nvPr/>
        </p:nvPicPr>
        <p:blipFill>
          <a:blip r:embed="rId1"/>
          <a:stretch/>
        </p:blipFill>
        <p:spPr>
          <a:xfrm>
            <a:off x="34920" y="44280"/>
            <a:ext cx="9252000" cy="6813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325440" y="406440"/>
            <a:ext cx="878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一年四季中，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不管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是隆冬还是盛夏，布达拉宫的上空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总是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蓝晶晶的。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6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700360" y="127008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湛蓝  透亮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2"/>
          <p:cNvPicPr/>
          <p:nvPr/>
        </p:nvPicPr>
        <p:blipFill>
          <a:blip r:embed="rId2"/>
          <a:stretch/>
        </p:blipFill>
        <p:spPr>
          <a:xfrm>
            <a:off x="-33480" y="-22320"/>
            <a:ext cx="9142560" cy="6653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1"/>
          <p:cNvPicPr/>
          <p:nvPr/>
        </p:nvPicPr>
        <p:blipFill>
          <a:blip r:embed="rId3"/>
          <a:stretch/>
        </p:blipFill>
        <p:spPr>
          <a:xfrm>
            <a:off x="0" y="-2376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468360" y="98100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有了这蓝天，依山而建的布达拉宫显得更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伟、壮丽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dur="indefinite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20055119454642"/>
          <p:cNvPicPr/>
          <p:nvPr/>
        </p:nvPicPr>
        <p:blipFill>
          <a:blip r:embed="rId1"/>
          <a:stretch/>
        </p:blipFill>
        <p:spPr>
          <a:xfrm>
            <a:off x="4429080" y="746280"/>
            <a:ext cx="4390920" cy="3341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450972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a8"/>
                </a:solidFill>
                <a:latin typeface="Times New Roman"/>
              </a:rPr>
              <a:t>在藏语中，拉萨是圣地的意思，那么，这湛蓝的天就是圣地的窗帘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56720" y="5445000"/>
            <a:ext cx="618840" cy="8478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4932360" y="451008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圣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1146963579800"/>
          <p:cNvPicPr/>
          <p:nvPr/>
        </p:nvPicPr>
        <p:blipFill>
          <a:blip r:embed="rId4"/>
          <a:stretch/>
        </p:blipFill>
        <p:spPr>
          <a:xfrm>
            <a:off x="152280" y="746280"/>
            <a:ext cx="4267440" cy="334152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1"/>
          <p:cNvSpPr/>
          <p:nvPr/>
        </p:nvSpPr>
        <p:spPr>
          <a:xfrm>
            <a:off x="1403280" y="5716440"/>
            <a:ext cx="68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2f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947240" y="228600"/>
            <a:ext cx="487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选择自己喜欢的图片，挑选文章的句子配上解说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好好读一读，记一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20059219273262"/>
          <p:cNvPicPr/>
          <p:nvPr/>
        </p:nvPicPr>
        <p:blipFill>
          <a:blip r:embed="rId1"/>
          <a:stretch/>
        </p:blipFill>
        <p:spPr>
          <a:xfrm>
            <a:off x="533520" y="1143000"/>
            <a:ext cx="3733560" cy="2595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762128246"/>
          <p:cNvPicPr/>
          <p:nvPr/>
        </p:nvPicPr>
        <p:blipFill>
          <a:blip r:embed="rId2"/>
          <a:stretch/>
        </p:blipFill>
        <p:spPr>
          <a:xfrm>
            <a:off x="4876920" y="9907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3520" y="3886200"/>
            <a:ext cx="3733560" cy="2751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aoyuancaodi2_211"/>
          <p:cNvPicPr/>
          <p:nvPr/>
        </p:nvPicPr>
        <p:blipFill>
          <a:blip r:embed="rId5"/>
          <a:stretch/>
        </p:blipFill>
        <p:spPr>
          <a:xfrm>
            <a:off x="4724280" y="3886200"/>
            <a:ext cx="4114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4920" y="1987200"/>
            <a:ext cx="84978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①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把这篇课文背诵给家长听，让他们感受和分享拉萨天空的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摘抄文中优美句子；写两个打比方的句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③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仿写家乡的一景（一棵树、一片草、一条小河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④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了解拉萨的其他知识，做一份拉萨知识小报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0" descr="小学语文（散文）02-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692280"/>
            <a:ext cx="30956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B31B-6A11-4E42-85EE-BAC0019BB0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7"/>
          <p:cNvSpPr/>
          <p:nvPr/>
        </p:nvSpPr>
        <p:spPr>
          <a:xfrm>
            <a:off x="2484360" y="2997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20075914514966716b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573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250920" y="393372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那里的天空总是那么湛蓝、透亮，好像用清水洗过的蓝宝石一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8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8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8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9000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d0ff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95,10575,6254712"/>
          <p:cNvPicPr/>
          <p:nvPr/>
        </p:nvPicPr>
        <p:blipFill>
          <a:blip r:embed="rId1"/>
          <a:stretch/>
        </p:blipFill>
        <p:spPr>
          <a:xfrm>
            <a:off x="179280" y="3502080"/>
            <a:ext cx="449604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2005101311522"/>
          <p:cNvPicPr/>
          <p:nvPr/>
        </p:nvPicPr>
        <p:blipFill>
          <a:blip r:embed="rId2"/>
          <a:stretch/>
        </p:blipFill>
        <p:spPr>
          <a:xfrm>
            <a:off x="4861080" y="3502080"/>
            <a:ext cx="4073400" cy="3352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无标题"/>
          <p:cNvPicPr/>
          <p:nvPr/>
        </p:nvPicPr>
        <p:blipFill>
          <a:blip r:embed="rId3"/>
          <a:stretch/>
        </p:blipFill>
        <p:spPr>
          <a:xfrm>
            <a:off x="4800600" y="0"/>
            <a:ext cx="411480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60gd"/>
          <p:cNvPicPr/>
          <p:nvPr/>
        </p:nvPicPr>
        <p:blipFill>
          <a:blip r:embed="rId4"/>
          <a:stretch/>
        </p:blipFill>
        <p:spPr>
          <a:xfrm>
            <a:off x="228600" y="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ll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6000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0:23:04Z</dcterms:modified>
  <cp:revision>1</cp:revision>
  <dc:subject/>
  <dc:title>幻灯片 1</dc:title>
</cp:coreProperties>
</file>