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B3D0-D5B1-4BFE-B05A-2D1DD00FD2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8A89-21A4-4B1F-94D9-33B6CBAF69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FC7-1A18-453E-8A83-1716D3A0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CA6-FBC1-4014-B4FE-9A38203B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345-930B-4EE5-8DA3-3C0C7194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5DB-DABA-45A1-8546-F5CFBB0C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7C4-952B-49BD-9CF8-DEA5AD1A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1B6-6FD5-4D45-9105-98CE37B3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4E8-1CDA-4F47-92A9-FB3636A2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D95-C62A-406A-B2A7-01113708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580-7509-4194-893B-63D80B91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0BB-9218-4FA4-A239-2FCC8F8C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BD9-8493-4003-A02F-09576897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CB2-658F-417E-8029-C4654C18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5758-47B5-4D70-8825-2A8F5DB8E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038240" y="2276640"/>
            <a:ext cx="70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老师读作文的时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20520" y="5373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684360" y="1052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32000" y="3213000"/>
            <a:ext cx="66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楷体_GB2312"/>
              </a:rPr>
              <a:t>我”是个热爱学习，敢于面对生活中的难题，并认真地解决难题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258920" y="1989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楷体_GB2312"/>
              </a:rPr>
              <a:t>我”是一个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255600" y="5640480"/>
            <a:ext cx="67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562120" y="25653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读了这篇课文你有怎样的体会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55640" y="1125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746E-CB99-4893-B2C4-030349CF41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"/>
          <p:cNvSpPr/>
          <p:nvPr/>
        </p:nvSpPr>
        <p:spPr>
          <a:xfrm>
            <a:off x="2340000" y="4365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4067280" y="1096920"/>
            <a:ext cx="46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毕淑敏，女，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952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年出生于新疆，中学就读于北京外国语学院附属学校。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969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年入伍，在喜马拉雅山、冈底斯山、喀喇昆仑山交汇的西藏阿里高原部队当兵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1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年。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98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年转业回北京。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  <a:ea typeface="楷体_GB2312"/>
              </a:rPr>
              <a:t> 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　　从事医学工作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年后，开始专业写作，共发表作品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万字。曾获庄重文文学奖、小说月报第四、五、六届百花奖、当代文学奖、陈伯吹文学大奖、北京文学奖、昆仑文学奖、解放军文艺奖、青年文学奖、台湾第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6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届中国时报文学奖、台湾第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7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届联合报文学奖等各种文学奖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余次。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  <a:ea typeface="楷体_GB2312"/>
              </a:rPr>
              <a:t> 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　　国家一级作家，内科主治医师。北师大文学硕士。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W020070423348592175772"/>
          <p:cNvPicPr/>
          <p:nvPr/>
        </p:nvPicPr>
        <p:blipFill>
          <a:blip r:embed="rId1"/>
          <a:stretch/>
        </p:blipFill>
        <p:spPr>
          <a:xfrm>
            <a:off x="692280" y="1268280"/>
            <a:ext cx="316836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31640" y="1989000"/>
            <a:ext cx="87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．正确认读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个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．正确、流利、有感情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．了解课文内容，培养默读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通过自读自悟，了解课文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学会正确地面对生活，较好地解决生活中的难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9640" y="98100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116000" y="1268280"/>
            <a:ext cx="7128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重点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楷体_GB2312"/>
              </a:rPr>
              <a:t>弄清“我”请求老师读作文时不念自己名字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11280" y="9810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初读课文，感知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042920" y="292428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楷体_GB2312"/>
              </a:rPr>
              <a:t>思考：课文主要讲了一件怎样的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9640" y="90792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精读课文，思考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71640" y="1773360"/>
            <a:ext cx="698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当老师念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作文的时候，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情绪有怎样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同学们对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态度有怎样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什么请求教师在读作文时不念自己的名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读了这篇课文你有怎样的体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11280" y="9208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当老师念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作文的时候，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情绪变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900000" y="1628640"/>
            <a:ext cx="583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甜甜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怪怪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孤独（像揣着一块石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快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476360" y="213372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1476360" y="335772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1476360" y="465300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154240" y="1268280"/>
            <a:ext cx="38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同学们对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态度有怎样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187280" y="2421000"/>
            <a:ext cx="504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神情怪怪的、不跟“我”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好奇、越玩越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411280" y="292428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11280" y="105264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什么请求教师在读作文时不念自己的名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755640" y="1989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因为虽然“我”的作文写得好，但如果老师长期只提一个人的名字，会让其他同学觉得老师忽略了他们的存在。如果老师念作文时不指名是谁写的，不仅可以激发同学们的好奇心，还顾及了一大部分同学的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4:11:5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5:12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