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ype.wav" ContentType="audio/x-wav"/>
  <Override PartName="/ppt/media/image8.jpeg" ContentType="image/jpeg"/>
  <Override PartName="/ppt/media/camera.wav" ContentType="audio/x-wav"/>
  <Override PartName="/ppt/media/hammer.wav" ContentType="audio/x-wav"/>
  <Override PartName="/ppt/media/image6.wmf" ContentType="image/x-wmf"/>
  <Override PartName="/ppt/media/chimes.wav" ContentType="audio/x-wav"/>
  <Override PartName="/ppt/media/image2.jpeg" ContentType="image/jpeg"/>
  <Override PartName="/ppt/media/image3.jpeg" ContentType="image/jpeg"/>
  <Override PartName="/ppt/media/drumroll.wav" ContentType="audio/x-wav"/>
  <Override PartName="/ppt/media/image4.jpeg" ContentType="image/jpeg"/>
  <Override PartName="/ppt/media/laser.wav" ContentType="audio/x-wav"/>
  <Override PartName="/ppt/media/image5.jpeg" ContentType="image/jpeg"/>
  <Override PartName="/ppt/media/image9.wmf" ContentType="image/x-wmf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0DC1-D82E-40AC-BC75-E33C76A302E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8251-CA65-4E5A-B77D-3156DD5B80C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98F4-8516-4E54-AC4E-5795CEAE3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DAD5-38FA-4030-ABD0-69F8FB02C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5235-9B9D-47A5-B161-9FF8FD424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3684-D380-4567-8F7C-580DAC442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3494-EFC4-42AF-AA0F-B4F6EB05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1736-4A0E-43B5-8DEC-AACD21EE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C0A6-9A90-4625-82E9-7EC654AC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F95F-7F11-41AA-ABED-852FE051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1DB0-7E4D-473A-9BCD-6C425ED1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DCFF-9975-4930-8ED2-2A3C5B7D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75E2-178B-42EA-A860-0B4E7404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5341-EF38-4850-B4F9-0E7BFAFD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7DA3-5107-44EF-B878-DA4991FD4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type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69525488f8bb9a3c9f2fb46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609480" y="304812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.</a:t>
            </a:r>
            <a:r>
              <a:rPr b="1" i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狼牙山五壮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/>
          <p:cNvSpPr/>
          <p:nvPr/>
        </p:nvSpPr>
        <p:spPr>
          <a:xfrm>
            <a:off x="1896840" y="58672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wuzhuangshi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533520" y="1143000"/>
            <a:ext cx="8381880" cy="34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五壮士胜利地完成了任务之后，他们带着（     ），带着（    ），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带着（         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昂首挺胸，相继从悬崖上往下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838080" y="68580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英勇跳崖”部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09120" y="144792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我会造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请你用“斩钉截铁”说一句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533520" y="2971800"/>
            <a:ext cx="7848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挑战理解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“跳崖前，班长把那枝从敌人手里夺来的枪砸碎”这个材料中，我感受到（                      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我能感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学了这篇课文，想对五壮士说（             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1"/>
          <p:cNvSpPr/>
          <p:nvPr/>
        </p:nvSpPr>
        <p:spPr>
          <a:xfrm>
            <a:off x="1744560" y="4543560"/>
            <a:ext cx="53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完成练习册第十二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把狼牙山五壮士故事讲给你的朋友和父母听，让他们也能感受到五壮士的革命精神和英雄气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629F-9A0F-4977-AFE7-9EC36741E56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7885080" y="1125360"/>
            <a:ext cx="4287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79280" y="54936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回顾上节课回答问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762120" y="14479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按照事情发展的顺序，给课文分为五部分，请用小标题的形式概括这五部分内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762120" y="3352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五壮士是在什么情况下接受任务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838080" y="41148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从诱敌上山部分中，五壮士的心情、动作、神态描写中你体会到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引上绝路”部分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9480" y="23619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读一读第三段，找一找哪些语句表现了他们壮烈的行为，画下来多读两遍，说说自己的感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4149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引上绝路”部分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0520" y="2133720"/>
            <a:ext cx="8541000" cy="3657600"/>
          </a:xfrm>
          <a:prstGeom prst="rect">
            <a:avLst/>
          </a:prstGeom>
          <a:solidFill>
            <a:srgbClr val="99ccff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为了不让敌人发现群众和连队主力，班长马宝玉斩钉截铁地说了一声“走！”带头向棋盘陀走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顶峰歼敌部分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228600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默读第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—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自然段，思考：在顶峰歼敌的战斗中，写的最详细的，五壮士最令你感动的举动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u=1242802682,2757569765&amp;fm=23&amp;gp=0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4192560" y="220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533520" y="304920"/>
            <a:ext cx="289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顶峰歼敌部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609480" y="1295280"/>
            <a:ext cx="8264520" cy="703440"/>
          </a:xfrm>
          <a:prstGeom prst="rect">
            <a:avLst/>
          </a:prstGeom>
          <a:solidFill>
            <a:srgbClr val="99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他刚要拧开盖子，马宝玉抢前一步，夺过手榴弹插在腰间，他猛地举起一块磨盘大的石头，大声喊道：“同志们！用石头砸！”顿时，石头像雹子一样，带着五位壮士的决心，带着中国人民的仇恨，向敌人头上砸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wen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1166760" y="554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369720" y="1752480"/>
            <a:ext cx="877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顿时，石头像雹子一样，带着五位壮士的决心，带着中国人民的仇恨，向敌人头上砸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1095480" y="2209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2608200" y="1851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4264200" y="1778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1743120" y="2354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4264200" y="2282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6135840" y="2209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447984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1"/>
          <p:cNvSpPr/>
          <p:nvPr/>
        </p:nvSpPr>
        <p:spPr>
          <a:xfrm>
            <a:off x="7719840" y="2714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3"/>
          <p:cNvSpPr/>
          <p:nvPr/>
        </p:nvSpPr>
        <p:spPr>
          <a:xfrm>
            <a:off x="1239840" y="3146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石头像雹子一样，带着五位壮士的决心，带着中国人民的仇恨，向敌人头上砸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石头向敌人砸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168133580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566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533520" y="1143000"/>
            <a:ext cx="829440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日本侵略军为了扑灭中国共产党领导下的抗日武装力量，对抗日根据地进行了疯狂的扫荡。对根据地人民的屠杀非常凶残。例如，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1943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年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月，日军对晋察冀边区北县区进行了三个月的“秋季大扫荡”，仅三个月的时间，日军残杀我国人民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6674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人，烧房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54779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间，抢掠与焚毁粮食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2934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万斤，抢走耕畜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19300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余头，毁农具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172600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余件，使北岳人民受到了严重损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钢琴曲 - 神秘园之歌.mp3" descr=""/>
          <p:cNvPicPr/>
          <p:nvPr/>
        </p:nvPicPr>
        <p:blipFill>
          <a:blip r:embed="rId3"/>
          <a:stretch/>
        </p:blipFill>
        <p:spPr>
          <a:xfrm>
            <a:off x="7696080" y="54864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214759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4T12:37:4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6:37Z</dcterms:modified>
  <cp:revision>1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