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27B-0DFE-4BB4-937B-271A9D8505FB}" type="slidenum">
              <a:rPr b="0" lang="zh-CN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296-4429-4A97-9F43-67116E416D6C}" type="slidenum">
              <a:rPr b="0" lang="zh-CN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2B8-56F9-4879-9DA5-D3519047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3AB-5B16-4184-BA52-81FE983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59E-675E-429B-B5BD-6DB6F79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9F0-4A1C-411D-83CE-C163480F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EAF8-9E93-4387-991D-A53798C1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9302-0071-401A-ACD7-8C560F7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9808-A7E3-40BF-8435-D28EFF55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B9E2-8D4F-4F6C-8CCA-28404AE3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704-3635-4067-AAB0-F8D30C0B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790-427B-46E0-BB16-F50E497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9BE2-8912-4AD7-9F67-70514F2A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480-8BB8-4137-A9BB-C420AA8E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27F-2CEB-4E6F-855D-042C3D6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C93-9DC3-4F93-BDEA-23B5DB1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AABC-0DB9-4CD2-BBF3-05AB69A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EF1C-753B-4DF6-B405-3596675E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2B9-9502-4874-AA79-E5F223B9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FD9-DB89-412D-9DA3-8AD6821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4A4-2B99-4902-BB02-BA9D8F7D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DDF-49FE-43CF-BE03-7F7D7A15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C0E-909E-4992-A49C-63D84E4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8F9-DE83-4414-AFED-67F484F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161-D8D7-4EEC-9785-F81F789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F86-58E0-4F2E-A892-B1F541B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50B-F71F-42E9-B712-B211B5A1D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C75-9ED4-41AF-A77E-A4A1583E9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H:/&#32993;&#20891;&#35838;&#20214;/&#20061;&#12304;&#19979;&#12305;/&#31532;&#19971;&#21333;&#20803;/&#20937;&#24030;&#35789;.swf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835280" y="1197000"/>
            <a:ext cx="5688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800000"/>
                </a:solidFill>
                <a:latin typeface="隶书体"/>
                <a:ea typeface="黑体"/>
              </a:rPr>
              <a:t>凉州词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0000"/>
                </a:solidFill>
                <a:latin typeface="隶书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唐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黑体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王翰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857960" y="55897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“作悲伤语读便浅”呢？因为它不是在宣扬战争的可怕，也不是表现对戎马生涯的厌恶，更不是对生命不保的哀叹。让我们再回过头去看看那欢宴的场面吧：耳听着阵阵欢快、激越的琵琶声，将士们真是兴致飞扬，你斟我酌，一阵痛饮之后，便醉意微微了。也许有人想放杯了吧，这时座中便有人高叫：怕什么，醉就醉吧，就是醉卧沙场，也请诸位莫笑，“古来征战几人回”，我们不是早将生死置之度外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9280" y="98100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见这三、四两句正是席间的劝酒之词，而并不是什么悲伤之情，它虽有几分“谐谑”，却也为尽情酣醉寻得了最具有环境和性格特征的“理由”。“醉卧沙场”，表现出来的不仅是豪放、开朗、兴奋的感情，而且还有着视死如归的勇气，这和豪华的筵席所显示的热烈气氛是一致的。这是一个欢乐的盛宴，那场面和意境决不是一两个人在那儿浅斟低酌，借酒浇愁。它那明快的语言、跳动跌宕的节奏所反映出来的情绪是奔放的，狂热的；它给人的是一种激动和向往的艺术魅力，这正是盛唐边塞诗的特色。千百年来，这首诗一直为人们所传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260280"/>
            <a:ext cx="338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Rounded MT Bold"/>
              </a:rPr>
              <a:t>疑难解答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840" y="1125360"/>
            <a:ext cx="907416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</a:rPr>
              <a:t>、题目中的“词”应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</a:rPr>
              <a:t>、从首句中提到的“酒”“杯”你能够想到一个怎样的场面？前两句描绘的是军中的  情景，营造了怎样的氛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</a:rPr>
              <a:t>、说说你对后两句的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</a:rPr>
              <a:t>、在朗读时，如何把握全诗的感情基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644400" y="6058080"/>
            <a:ext cx="65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920" y="117000"/>
            <a:ext cx="68421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 Rounded MT Bold"/>
              </a:rPr>
              <a:t>参考答案：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6360" y="1054080"/>
            <a:ext cx="90014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这里的“词”不是文学体裁中的“词”指的是有组织的语言、文字，因此本诗仍是属于诗的范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一“酒”一“杯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读者仿佛看到军人们豪饮的热闹场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第二句有使我们仿佛听到了催促出征的琵琶号角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寥寥几笔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了边关即热闹又紧张的、悲壮的氛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这两句诗的意思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使喝醉了躺卧在沙场上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们也不要见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古以来出征的将士有几个能够返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朝有酒就让自己痛饮沉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使醉卧沙场也毫不在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及时行乐的洒脱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是对生命的达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有厌恶战争的悲愤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两句诗生动地表现了边关将士们的豪放和为国战斗、视死如归的气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该诗描写边塞生活，即暗示古代战争生活的热烈紧张，更凸显诗人慷慨豪迈的悲壮意味。全诗充满昂扬向上的情调。阅读时注意，后两句尤其要读得音韵悠长，感情激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5311-5089-4D69-880E-C690B585DD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909720"/>
            <a:ext cx="3600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作者简介</a:t>
            </a: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33480" y="15796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213372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王翰：字子羽，晋阳</a:t>
            </a:r>
            <a:r>
              <a:rPr b="0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今山西太原</a:t>
            </a:r>
            <a:r>
              <a:rPr b="0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人。生卒年不详。唐代著名的边塞诗人，</a:t>
            </a:r>
            <a:r>
              <a:rPr b="0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凉州词二首</a:t>
            </a:r>
            <a:r>
              <a:rPr b="0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是唐代边塞诗中传诵千古的名篇。他恃才不羁，性情豪放，以豪放之情写军中生活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47640" y="549000"/>
            <a:ext cx="223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体"/>
              </a:rPr>
              <a:t>凉州词</a:t>
            </a:r>
            <a:br>
              <a:rPr sz="4800"/>
            </a:br>
            <a:r>
              <a:rPr b="1" lang="en-US" sz="2400" spc="-1" strike="noStrike">
                <a:solidFill>
                  <a:srgbClr val="ff0000"/>
                </a:solidFill>
                <a:latin typeface="隶书体"/>
                <a:ea typeface="新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新宋体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新宋体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新宋体"/>
              </a:rPr>
              <a:t>王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043000" y="2292480"/>
            <a:ext cx="5553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476360" y="1917720"/>
            <a:ext cx="698508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美酒夜葡萄光杯，欲饮琵琶马上催；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醉卧沙场君末笑，古来征战几人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523280" y="5541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新宋体"/>
                <a:hlinkClick r:id="rId1"/>
              </a:rPr>
              <a:t>朗读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7"/>
          <p:cNvSpPr/>
          <p:nvPr/>
        </p:nvSpPr>
        <p:spPr>
          <a:xfrm>
            <a:off x="1692360" y="5373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333000"/>
            <a:ext cx="2521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Rounded MT Bold"/>
              </a:rPr>
              <a:t>注释：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0540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夜光杯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传说中周穆王时西域胡人用晶莹的白玉精制而成的酒杯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有如光明夜照故称夜光杯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这里泛指西域用白玉制成的酒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琵琶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弹拨乐器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原流行于波拉伯等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汉代经西域传入我国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军中弹奏琵琶常在马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9280" y="3645000"/>
            <a:ext cx="864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译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800000"/>
                </a:solidFill>
                <a:latin typeface="新宋体"/>
                <a:ea typeface="黑体"/>
              </a:rPr>
              <a:t>新酿成的葡萄美酒</a:t>
            </a:r>
            <a:r>
              <a:rPr b="0" lang="en-US" sz="2800" spc="-1" strike="noStrike">
                <a:solidFill>
                  <a:srgbClr val="800000"/>
                </a:solidFill>
                <a:latin typeface="新宋体"/>
                <a:ea typeface="黑体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新宋体"/>
                <a:ea typeface="黑体"/>
              </a:rPr>
              <a:t>盛满了白玉制成的酒杯</a:t>
            </a:r>
            <a:r>
              <a:rPr b="0" lang="en-US" sz="2800" spc="-1" strike="noStrike">
                <a:solidFill>
                  <a:srgbClr val="800000"/>
                </a:solidFill>
                <a:latin typeface="新宋体"/>
                <a:ea typeface="黑体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正想开怀畅饮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马上琵琶声频催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.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即使醉倒沙场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也请诸君不要见笑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自古男儿出征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.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有几个活着回来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8640"/>
            <a:ext cx="856908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诗歌简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凉州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豪放的风格写了征戍战士饮酒作乐的情景，具有浓厚的边塞军营生活色彩。本诗在表达方式上是以赋的形式以了景写哀景，语言平实，通俗易懂，但主题鲜明深刻，表现的是一种悲壮的豪迈。诗文以边塞生活为体裁，但诗人对于所要表达的观点，却是从侧面衬托显示出来。先写美酒宝杯，次写欲饮不能尽兴，由平静中一下转入紧张激昂的气氛中去了。第三、四句的潜台词，诗人以豪迈的语言表达出沉痛的心情，显示出诗人旷达的胸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地荒寒艰苦的环境，紧张动荡的征戍生活，使得边塞将士很难得到一次欢聚的酒宴。有幸遇到那么一次，那激昂兴奋的情绪，那开怀痛饮、一醉方休的场面，是不难想象的。这首诗正是这种生活和感情的写照。诗中的酒，是西域盛产的葡萄美酒；杯，相传是周穆王时代，西胡以白玉精制成的酒杯，有如“光明夜照”，故称“夜光杯”；乐器则是胡人用的琵琶；还有“沙场”、“征战”等等词语。这一切都表现出一种浓郁的边地色彩和军营生活的风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以饱蘸激情的笔触，用铿锵激越的音调，奇丽耀眼的词语，定下这开篇的第一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葡萄美酒夜光杯”，犹如突然间拉开帷幕，在人们的眼前展现出五光十色、琳琅满目、酒香四溢的盛大筵席。这景象使人惊喜，使人兴奋，为全诗的抒情创造了气氛，定下了基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260280"/>
            <a:ext cx="8820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句开头的“欲饮”二字，渲染出这美酒佳肴盛宴的不凡的诱人魅力，表现出将士们那种豪爽开朗的性格。正在大家“欲饮”未得之时，乐队奏起了琵琶，酒宴开始了，那急促欢快的旋律，象是在催促将士们举杯痛饮，使已经热烈的气氛顿时沸腾起来。这句诗改变了七字句习用的音节，采取上二下五的句法，更增强了它的感染力。这里的“催字”，有人说是催出发，和下文似乎难以贯通。有人解释为：催尽管催，饮还是照饮。这也不切合将士们豪放俊爽的精神状态。“马上”二字，往往又使人联想到“出发”，其实在西域胡人中，琵琶本来就是骑在马上弹奏的。“琵琶马上催”，是着意渲染一种欢快宴饮的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的三、四句是写筵席上的畅饮和劝酒。过去曾有人认为这两句“作旷达语，倍觉悲痛”。还有人说：“故作豪饮之词，然悲感已极”。话虽不同，但都离不开一个“悲”字。后来更有用低沉、悲凉、感伤、反战等等词语来概括这首诗的思想感情的，依据也是三四两句，特别是末句。“古来征战几人回”，显然是一种夸张的说法。清代施补华说这两句诗：“作悲伤语读便浅，作谐谑语读便妙，在学人领悟。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岘傭说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9:04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5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