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F640-B233-4E05-BE81-053CFB0FA7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3E8E-7AD0-4C84-A1CD-EB52E7E0AC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FA6-64F2-4192-A34F-05CBCFDC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1E6-2D84-48F7-8EFB-7522139F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CC6-524C-4B18-832F-BF8218EA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A70-2E6B-456D-AC29-D5F52CF8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1FE-B9C6-41FB-ADB4-604551E7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769-F892-4C32-B0CA-DEF28445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5F9-6C4F-4B8E-B0B7-B441DAF0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C49-7EE1-487E-BBE3-43D21436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58D-919A-4AFA-ACE9-85225FD7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2E1-4756-43CA-AB09-FB5E015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082-B7DF-40B0-9C0B-A6CD8BE7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32A-7CC5-4041-B754-94E5F8C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02EB-0A4B-4C03-B4FD-5644F9E864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6400" y="1600200"/>
            <a:ext cx="647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华文隶书"/>
                <a:ea typeface="华文隶书"/>
              </a:rPr>
              <a:t>留住今天的太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299960" y="5029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6781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热爱生命吗？那么别浪费时间，因为时间是构成生命的材料。                          ——富兰克林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抛弃时间的人，时间也抛弃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。            ——莎士比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天不不播种，夏天就不生长，秋天就不能收割，冬天就不能品尝。                                   ——海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伟大的牺牲，就是牺牲时间。            ——希腊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304920" y="76212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那以后，我总是用这种办法留住太阳。我知道，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尽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可能永远留住太阳，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可以比太阳走得快一步，甚至两步、三步。这几步看起来微不足道，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却非常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20372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直接连接符 4"/>
          <p:cNvSpPr/>
          <p:nvPr/>
        </p:nvSpPr>
        <p:spPr>
          <a:xfrm>
            <a:off x="3675240" y="228600"/>
            <a:ext cx="72720" cy="5904000"/>
          </a:xfrm>
          <a:prstGeom prst="line">
            <a:avLst/>
          </a:prstGeom>
          <a:ln w="9360">
            <a:solidFill>
              <a:srgbClr val="00cc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740040" y="522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乏了，到山那边去睡觉哩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3762360" y="1638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好孩子，等你长大了，就知道怎样留住太阳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3743280" y="33624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好吧，要是你能在太阳落山前做完作业，我就告诉你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3924360" y="51166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不是已经把它留住了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468360" y="476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穿开裆裤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539640" y="17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产生了一个奇怪的念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611280" y="350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央求外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755640" y="5300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埋头做起作业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482760" y="1131840"/>
            <a:ext cx="7367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一天，我照例对着窗户，边做作业，边望着太阳一步步望山坳里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秋的夜晚，我坐在窗前，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82760" y="40176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照样子，把句子填写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20372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"/>
          <p:cNvSpPr/>
          <p:nvPr/>
        </p:nvSpPr>
        <p:spPr>
          <a:xfrm>
            <a:off x="765000" y="5162400"/>
            <a:ext cx="62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C470-0A03-4865-8B4B-C15DAAFFC7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叙述了一个（         ）的孩子萌生了（           ）的念头。最后在外婆的提示下，他用（                   ）这个实际行动留住今天的太阳办法，懂得了（             ）的重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20372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1"/>
          <p:cNvSpPr/>
          <p:nvPr/>
        </p:nvSpPr>
        <p:spPr>
          <a:xfrm>
            <a:off x="1373400" y="1143000"/>
            <a:ext cx="520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还是穿着开裆裤的时候，我就爱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在霞光里，看着夕阳一寸一寸地沉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坳里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7409160" y="1600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551160" y="38098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>
            <a:off x="7391520" y="1752480"/>
            <a:ext cx="57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335268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渐渐地，我知道太阳落山并不是累了，而是一天过完了。尽管明天还会旭日东升，但永远不会是今天的太阳。于是，我产生了一个奇怪的念头：留住今天的太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74040" y="5028480"/>
            <a:ext cx="60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作者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   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想：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         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将我搂在怀里，说：“好孩子，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长大了，就知道怎样留住太阳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685800"/>
            <a:ext cx="70106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天，我照例对着窗户，边做作业，边望着太阳一步步往山坳里走，心里不只是焦躁，还带着几分悲戚，禁不住再次央求外婆：“告诉我怎样留住太阳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914400" y="3733920"/>
            <a:ext cx="5943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吧，要是你能在太阳落山前做完作业，我就告诉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14400" y="8380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眨巴着眼睛看着外婆，尽管一时还不太明白她的话，但我知道，自己今天的确留住了太阳，因为往日每次做完作业，太阳都下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295280" y="30481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、留住太阳到底指留住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95280" y="38098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、我用什么方法留住了太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295280" y="46483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、为什么之前我一直没有留住太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304920" y="76212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那以后，我总是用这种办法留住太阳。我知道，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尽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可能永远留住太阳，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可以比太阳走得快一步，甚至两步、三步。这几步看起来微不足道，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却非常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20372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01028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下列表示时间的名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就像海绵里的水，只要愿挤，总还是有的。——鲁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盛年不再来，一日难再晨。及时当勉励，岁月不待人。       ——陶渊明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是由分秒积成的，善于利用零星时间的人，才会做出更大的成绩来。                                   ——华罗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20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3:04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