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EE7F-F561-4B3D-8F3B-4C9243F5B9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6163-5819-49DB-BB79-AD217396EF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DF8-E31F-48B1-AFFD-2651458D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0C8-6A05-4DF9-BB17-9698D5DE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EA2-26ED-45C6-82F3-A0BA65C9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1AD-A383-4025-9B84-E6C0FFD7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CA5-0B75-47CC-AAAD-8FC565D4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4F6-CEEC-4453-BDD2-BBCE71CA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809-61AE-405C-A73A-14BF4BFF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578-0B02-4A1B-AF8D-54019CDE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B78-E87E-435E-BDB5-CB330D4C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111-262F-4134-B1E6-CE19ABED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F8A-4C38-4015-9960-44AB5C8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ADA-18D7-4635-84E1-ADE07F0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8E29-8B40-481E-AF91-3FD51382B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87280" y="96984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湘教版小学语文第一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佳的日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79640" y="966960"/>
            <a:ext cx="61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5300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52360" y="515880"/>
            <a:ext cx="89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 天　来 了，米 佳 在 绿 茸 茸  的 草 地 上 看 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，追　蝴 蝶。他 快  乐 地 写 下 日 记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 天  真 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希 望 永 远  是  春  天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55640" y="260280"/>
            <a:ext cx="81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chūn tiān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lái le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mǐ jiā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zài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lǜ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rónɡ rónɡ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de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cǎo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dì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shɑnɡ kàn hu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50920" y="981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duǒ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zhuī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hú dié   tā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kuà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lè  de  xiě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xià r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jì    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chūn tiān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zhēn </a:t>
            </a:r>
            <a:r>
              <a:rPr b="0" lang="en-US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mě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69640" y="1700280"/>
            <a:ext cx="42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wǒ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xī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wànɡ yǒnɡ yuǎn  shì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chūn  tiā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160200" y="692280"/>
            <a:ext cx="91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 天  到 了，米 佳 捉  小  鱼， 采 野 果，在 树 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 翻 跟 头。他 开 心 地 写 下 日 记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 天  真  快 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希　望  永  远  是  夏  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40464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xià tiān 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dà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le 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mǐ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jiā zhuō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xiǎo  yú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cǎi  yě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ɡuǒ 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zài shù yī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8000" y="1147680"/>
            <a:ext cx="88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xi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fān ɡēn </a:t>
            </a:r>
            <a:r>
              <a:rPr b="0" lang="en-US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tou   </a:t>
            </a:r>
            <a:r>
              <a:rPr b="0" lang="en-US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tā  kāi  xīn  de  xiě  xià  rì jì       xià tiān  zhēn   kuài  l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38920" y="1868400"/>
            <a:ext cx="39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wǒ  </a:t>
            </a:r>
            <a:r>
              <a:rPr b="0" lang="en-US" sz="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xī  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wànɡ  yǒnɡ  yuǎn   shì   xià   tiā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50840" y="4824360"/>
            <a:ext cx="91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了 秋 天，果  园 里 苹  果 红  艳 艳 的，梨 子 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澄  澄 的。米 佳 满 意 地 写 下 日 记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 天  真 可 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希 望  永  远 是 秋 天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55640" y="4537080"/>
            <a:ext cx="83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dào  le  qiū tiān   ɡuǒ  yuán  li  ping  ɡuǒ hónɡ  yàn  yàn  de   lí  zi  huán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4920" y="5229360"/>
            <a:ext cx="90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dēnɡ  dēnɡ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de    </a:t>
            </a:r>
            <a:r>
              <a:rPr b="0" lang="en-US" sz="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mǐ jiā  mǎn  yì  de  xiě   xià  rì  jì     qiū  tiān  zhēn  kě   à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79280" y="60213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wǒ  xī  wànɡ  yǒnɡ  yuǎn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shì qiū tiā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  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兴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快乐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开心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满意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2008121194852365_2"/>
          <p:cNvPicPr/>
          <p:nvPr/>
        </p:nvPicPr>
        <p:blipFill>
          <a:blip r:embed="rId2"/>
          <a:stretch/>
        </p:blipFill>
        <p:spPr>
          <a:xfrm>
            <a:off x="1403280" y="711360"/>
            <a:ext cx="6316560" cy="4589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3236040" y="5661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女孩</a:t>
            </a:r>
            <a:r>
              <a:rPr b="0" lang="zh-CN" sz="3600" spc="-1" strike="noStrike">
                <a:solidFill>
                  <a:srgbClr val="fa0000"/>
                </a:solidFill>
                <a:latin typeface="Arial"/>
                <a:ea typeface="楷体_GB2312"/>
              </a:rPr>
              <a:t>高兴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放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0070705173911742"/>
          <p:cNvPicPr/>
          <p:nvPr/>
        </p:nvPicPr>
        <p:blipFill>
          <a:blip r:embed="rId2"/>
          <a:stretch/>
        </p:blipFill>
        <p:spPr>
          <a:xfrm>
            <a:off x="1008000" y="620640"/>
            <a:ext cx="7093080" cy="4743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484800" y="5811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家</a:t>
            </a:r>
            <a:r>
              <a:rPr b="0" lang="zh-CN" sz="3600" spc="-1" strike="noStrike">
                <a:solidFill>
                  <a:srgbClr val="fa0000"/>
                </a:solidFill>
                <a:latin typeface="Arial"/>
                <a:ea typeface="楷体_GB2312"/>
              </a:rPr>
              <a:t>快乐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滑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23"/>
          <p:cNvPicPr/>
          <p:nvPr/>
        </p:nvPicPr>
        <p:blipFill>
          <a:blip r:embed="rId2"/>
          <a:stretch/>
        </p:blipFill>
        <p:spPr>
          <a:xfrm>
            <a:off x="1187280" y="1052640"/>
            <a:ext cx="6702480" cy="4222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236040" y="5661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伙伴们</a:t>
            </a:r>
            <a:r>
              <a:rPr b="0" lang="zh-CN" sz="3600" spc="-1" strike="noStrike">
                <a:solidFill>
                  <a:srgbClr val="fa0000"/>
                </a:solidFill>
                <a:latin typeface="Arial"/>
                <a:ea typeface="楷体_GB2312"/>
              </a:rPr>
              <a:t>开心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游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009073114432615"/>
          <p:cNvPicPr/>
          <p:nvPr/>
        </p:nvPicPr>
        <p:blipFill>
          <a:blip r:embed="rId2"/>
          <a:stretch/>
        </p:blipFill>
        <p:spPr>
          <a:xfrm>
            <a:off x="1692360" y="928800"/>
            <a:ext cx="5734080" cy="4300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915640" y="57340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农民伯伯</a:t>
            </a:r>
            <a:r>
              <a:rPr b="0" lang="zh-CN" sz="3600" spc="-1" strike="noStrike">
                <a:solidFill>
                  <a:srgbClr val="fa0000"/>
                </a:solidFill>
                <a:latin typeface="Arial"/>
                <a:ea typeface="楷体_GB2312"/>
              </a:rPr>
              <a:t>满意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收割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说米佳的日记里写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05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冬天真有趣，我希望永远是冬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春天真美，我希望永远是春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夏天真快乐，我希望永远是夏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秋天真可爱，我希望永远是秋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我希望＿＿＿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1127160" y="4935600"/>
            <a:ext cx="58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491796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教学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创设情境，认识四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生字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品读课文，理解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感情朗读，以声传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4339080" y="3076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783440" y="15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冬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784880" y="2516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784880" y="3451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784880" y="436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秋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580400" y="2276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hū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594440" y="314172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xi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黑体"/>
              </a:rPr>
              <a:t>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590480" y="41004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qi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230000" y="2924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zhē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7347600" y="15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7349040" y="2516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美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7349040" y="3451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7349040" y="436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7213320" y="2276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mě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7698960" y="4100400"/>
            <a:ext cx="41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黑体"/>
              </a:rPr>
              <a:t>à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7693560" y="12682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黑体"/>
              </a:rPr>
              <a:t>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>
            <a:off x="2484360" y="1773360"/>
            <a:ext cx="1800360" cy="143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>
            <a:off x="2411280" y="2781360"/>
            <a:ext cx="187344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 flipV="1">
            <a:off x="2484360" y="3213000"/>
            <a:ext cx="1800360" cy="503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6"/>
          <p:cNvSpPr/>
          <p:nvPr/>
        </p:nvSpPr>
        <p:spPr>
          <a:xfrm flipV="1">
            <a:off x="2484360" y="3212640"/>
            <a:ext cx="1800360" cy="1368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4859280" y="1773360"/>
            <a:ext cx="2449440" cy="143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 flipV="1">
            <a:off x="4859280" y="2781000"/>
            <a:ext cx="237672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4859280" y="3213000"/>
            <a:ext cx="230508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4859280" y="3213000"/>
            <a:ext cx="2449440" cy="1368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F5DB-112E-4240-87BB-8AC4606740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38240" y="4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377600" y="630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983ac7a47"/>
          <p:cNvPicPr/>
          <p:nvPr/>
        </p:nvPicPr>
        <p:blipFill>
          <a:blip r:embed="rId2"/>
          <a:stretch/>
        </p:blipFill>
        <p:spPr>
          <a:xfrm>
            <a:off x="971640" y="549360"/>
            <a:ext cx="7345440" cy="550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u=2518637872,2534940690&amp;fm=15&amp;gp=0"/>
          <p:cNvPicPr/>
          <p:nvPr/>
        </p:nvPicPr>
        <p:blipFill>
          <a:blip r:embed="rId3"/>
          <a:stretch/>
        </p:blipFill>
        <p:spPr>
          <a:xfrm>
            <a:off x="395280" y="469800"/>
            <a:ext cx="8353440" cy="55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0080620_4f21dcf367b89956013dgXfSaAqOOd6E"/>
          <p:cNvPicPr/>
          <p:nvPr/>
        </p:nvPicPr>
        <p:blipFill>
          <a:blip r:embed="rId2"/>
          <a:stretch/>
        </p:blipFill>
        <p:spPr>
          <a:xfrm>
            <a:off x="611280" y="533520"/>
            <a:ext cx="8137440" cy="5410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304880" y="609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夏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05"/>
          <p:cNvPicPr/>
          <p:nvPr/>
        </p:nvPicPr>
        <p:blipFill>
          <a:blip r:embed="rId2"/>
          <a:stretch/>
        </p:blipFill>
        <p:spPr>
          <a:xfrm>
            <a:off x="762120" y="306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34448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877335_100539055913_2"/>
          <p:cNvPicPr/>
          <p:nvPr/>
        </p:nvPicPr>
        <p:blipFill>
          <a:blip r:embed="rId3"/>
          <a:stretch/>
        </p:blipFill>
        <p:spPr>
          <a:xfrm>
            <a:off x="468360" y="260280"/>
            <a:ext cx="820908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08"/>
          <p:cNvPicPr/>
          <p:nvPr/>
        </p:nvPicPr>
        <p:blipFill>
          <a:blip r:embed="rId2"/>
          <a:stretch/>
        </p:blipFill>
        <p:spPr>
          <a:xfrm>
            <a:off x="762120" y="333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344480" y="623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冬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3527640" y="2479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米佳的日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25600" y="2295360"/>
            <a:ext cx="36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米   冬天    他们    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47640" y="36511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永远   兴趣    美好    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87960" y="40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a0000"/>
                </a:solidFill>
                <a:latin typeface="Arial"/>
                <a:ea typeface="隶书"/>
              </a:rPr>
              <a:t>我会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4920" y="698400"/>
            <a:ext cx="921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  天，米 佳 坐 雪  橇  从  山 坡 上  滑 下 来，又 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伙 伴 们 到 河 面  上  溜 冰。他 高  兴 地 写 下 日 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  天  真  有 趣，我 希 望  永  远  是  冬 天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9640" y="404640"/>
            <a:ext cx="8856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dōnɡ tiān  </a:t>
            </a:r>
            <a:r>
              <a:rPr b="0" lang="zh-CN" sz="17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mǐ jiā zuò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xuě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qiāo cónɡ 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shān pō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shɑnɡ huá</a:t>
            </a:r>
            <a:r>
              <a:rPr b="0" lang="zh-CN" sz="17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xià lái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yòu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tónɡ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4920" y="1131840"/>
            <a:ext cx="892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huǒ bàn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men dào hé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miàn shɑnɡ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zh-CN" sz="5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liū</a:t>
            </a:r>
            <a:r>
              <a:rPr b="0" lang="en-US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bīnɡ 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tā  ɡāo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xìnɡ</a:t>
            </a:r>
            <a:r>
              <a:rPr b="0" lang="en-US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de</a:t>
            </a:r>
            <a:r>
              <a:rPr b="0" lang="en-US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xiě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xià  rì 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Times New Roman"/>
              </a:rPr>
              <a:t>jì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-11880" y="1874880"/>
            <a:ext cx="81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dōn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tiā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zhēn  yǒu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qù  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wǒ  xī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wànɡ</a:t>
            </a:r>
            <a:r>
              <a:rPr b="0" lang="en-US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yǒnɡ</a:t>
            </a:r>
            <a:r>
              <a:rPr b="0" lang="en-US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yuǎn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shì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dōnɡ tiān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1:19:23Z</dcterms:modified>
  <cp:revision>1</cp:revision>
  <dc:subject/>
  <dc:title>幻灯片 1</dc:title>
</cp:coreProperties>
</file>