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21.png" ContentType="image/png"/>
  <Override PartName="/ppt/media/image14.jpeg" ContentType="image/jpeg"/>
  <Override PartName="/ppt/media/image19.wmf" ContentType="image/x-wmf"/>
  <Override PartName="/ppt/media/image18.jpeg" ContentType="image/jpeg"/>
  <Override PartName="/ppt/media/image16.jpeg" ContentType="image/jpeg"/>
  <Override PartName="/ppt/media/image15.png" ContentType="image/png"/>
  <Override PartName="/ppt/media/image1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46F4-A7EF-4DB6-A45E-7CEA4546058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6A56-70E8-41CF-8906-5AD7C3304FE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47E-9554-48DD-BAEF-6EBE6E93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26EF-0D63-4717-B41A-C38F85BE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55F8-9EA6-4B5C-8A6E-576A8EF9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EBDB-7F37-4EC1-B4CA-2FD3FB82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6037-ADA3-4B92-910B-382667DA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03FE-5336-47A9-AC60-63C1CAB8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00A-AB48-4ED8-952D-23C9D058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174-01D9-41CB-8AEA-0A149448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FB7A-A07B-4D8B-93E2-A0E4E90F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BC0-D753-44DF-8448-943A133C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C8D-29F5-4C88-A7EB-E91F6BA5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D5E0-998D-4A7C-AEFE-8F0D560A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37B4-58C8-4FE0-BF80-48294F535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7"/>
          <p:cNvSpPr/>
          <p:nvPr/>
        </p:nvSpPr>
        <p:spPr>
          <a:xfrm>
            <a:off x="0" y="2421000"/>
            <a:ext cx="9144000" cy="2232000"/>
          </a:xfrm>
          <a:prstGeom prst="rect">
            <a:avLst/>
          </a:prstGeom>
          <a:solidFill>
            <a:srgbClr val="ffc000">
              <a:alpha val="38000"/>
            </a:srgbClr>
          </a:soli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5323320" y="228600"/>
            <a:ext cx="3106440" cy="5227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木兰从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矩形 5" descr=""/>
          <p:cNvPicPr/>
          <p:nvPr/>
        </p:nvPicPr>
        <p:blipFill>
          <a:blip r:embed="rId2"/>
          <a:stretch/>
        </p:blipFill>
        <p:spPr>
          <a:xfrm>
            <a:off x="1865160" y="6029280"/>
            <a:ext cx="55008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4724280" y="45720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国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代有一位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英雄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名叫花木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483480" y="4724280"/>
            <a:ext cx="779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花木兰是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5"/>
          <p:cNvSpPr/>
          <p:nvPr/>
        </p:nvSpPr>
        <p:spPr>
          <a:xfrm flipH="1">
            <a:off x="2286000" y="6858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5559480" y="48276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我国古代的一位女英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thumbnail_400_400"/>
          <p:cNvPicPr/>
          <p:nvPr/>
        </p:nvPicPr>
        <p:blipFill>
          <a:blip r:embed="rId1"/>
          <a:stretch/>
        </p:blipFill>
        <p:spPr>
          <a:xfrm>
            <a:off x="762120" y="0"/>
            <a:ext cx="2923920" cy="38098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2467080" y="4038480"/>
            <a:ext cx="464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心目中的英雄是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为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4724280" y="457200"/>
            <a:ext cx="304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国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代有一位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英雄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名叫花木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900000" y="333360"/>
            <a:ext cx="77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读第二自然段思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花木兰为什么要去从军？</a:t>
            </a:r>
            <a:r>
              <a:rPr b="1" lang="zh-CN" sz="3200" spc="-1" strike="noStrike">
                <a:solidFill>
                  <a:srgbClr val="c0504d"/>
                </a:solidFill>
                <a:latin typeface="Times New Roman"/>
                <a:ea typeface="宋体"/>
              </a:rPr>
              <a:t>边读边画出有关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80520" y="1904760"/>
            <a:ext cx="75596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父亲年老多病，难以出征；弟弟又小，还不够当兵年龄。自己理应为国为家分忧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685800" y="4724280"/>
            <a:ext cx="601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609480" y="46483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其中哪一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最能体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木兰为什么要从军的一句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01300000328622123385972627228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/>
          <p:cNvSpPr/>
          <p:nvPr/>
        </p:nvSpPr>
        <p:spPr>
          <a:xfrm>
            <a:off x="0" y="981000"/>
            <a:ext cx="493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自己理应</a:t>
            </a:r>
            <a:r>
              <a:rPr b="1" lang="zh-CN" sz="8000" spc="-1" strike="noStrike">
                <a:solidFill>
                  <a:srgbClr val="cc0000"/>
                </a:solidFill>
                <a:latin typeface="Arial"/>
                <a:ea typeface="楷体_GB2312"/>
              </a:rPr>
              <a:t>为国为家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分忧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8" descr=""/>
          <p:cNvPicPr/>
          <p:nvPr/>
        </p:nvPicPr>
        <p:blipFill>
          <a:blip r:embed="rId1"/>
          <a:stretch/>
        </p:blipFill>
        <p:spPr>
          <a:xfrm>
            <a:off x="0" y="3733920"/>
            <a:ext cx="3225960" cy="31226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609480" y="609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国忧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828800" y="14479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那时候，北方经常发生战争。一天，朝廷下达了紧急征兵的文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981080" y="32004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当时边境的少数民族经常派兵侵犯我国北方地区，抢劫财物，老百姓深受其害。朝廷规定每家必须出一名男子上前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886200" y="49528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爱国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8" descr=""/>
          <p:cNvPicPr/>
          <p:nvPr/>
        </p:nvPicPr>
        <p:blipFill>
          <a:blip r:embed="rId1"/>
          <a:stretch/>
        </p:blipFill>
        <p:spPr>
          <a:xfrm>
            <a:off x="0" y="3733920"/>
            <a:ext cx="3225960" cy="3122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609480" y="609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家忧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828800" y="1673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木兰见到上面有父亲的名字，焦急万分。她想：父亲年老多病，难以出征；弟弟又小，还不够当兵的年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114800" y="518148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爱家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2971800" y="396252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因为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……   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所以 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…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  <a:ea typeface="楷体_GB2312"/>
              </a:rPr>
              <a:t>读句子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朝廷下达了</a:t>
            </a:r>
            <a:r>
              <a:rPr b="1" lang="zh-CN" sz="4000" spc="-1" strike="noStrike">
                <a:solidFill>
                  <a:srgbClr val="f43b1c"/>
                </a:solidFill>
                <a:latin typeface="Calibri"/>
                <a:ea typeface="楷体_GB2312"/>
              </a:rPr>
              <a:t>紧急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征兵的文书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木兰见到上面有父亲的名字，</a:t>
            </a:r>
            <a:r>
              <a:rPr b="1" lang="zh-CN" sz="4000" spc="-1" strike="noStrike">
                <a:solidFill>
                  <a:srgbClr val="ff3300"/>
                </a:solidFill>
                <a:latin typeface="Calibri"/>
                <a:ea typeface="楷体_GB2312"/>
              </a:rPr>
              <a:t>焦急万分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914400" y="396252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紧急：是指情况、形势，必须立即采取行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焦急：是描写心情的，着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1197000" y="593640"/>
            <a:ext cx="68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她想：父亲年老多病，难以出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；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弟弟又小，还不够当兵的年龄。自己理应为国为家分忧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467000" y="3608280"/>
            <a:ext cx="6435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一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父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弟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195920" y="2209680"/>
            <a:ext cx="569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（     ）的花木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560520" y="380988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演一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木兰如何说服父亲、弟弟、母亲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6002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057400" y="19810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838080" y="228600"/>
            <a:ext cx="741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花木兰女扮男装替父从军，她的家人会同意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533520" y="1477800"/>
            <a:ext cx="70563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她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楷体_GB2312"/>
              </a:rPr>
              <a:t>说服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了家人，女扮男装，替父从军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showimg"/>
          <p:cNvPicPr/>
          <p:nvPr/>
        </p:nvPicPr>
        <p:blipFill>
          <a:blip r:embed="rId1"/>
          <a:stretch/>
        </p:blipFill>
        <p:spPr>
          <a:xfrm>
            <a:off x="304920" y="380880"/>
            <a:ext cx="3200400" cy="4649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29" name="Picture 5" descr="showimg2"/>
          <p:cNvPicPr/>
          <p:nvPr/>
        </p:nvPicPr>
        <p:blipFill>
          <a:blip r:embed="rId2"/>
          <a:stretch/>
        </p:blipFill>
        <p:spPr>
          <a:xfrm>
            <a:off x="5867280" y="380880"/>
            <a:ext cx="2971800" cy="4648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30" name="Text Box 7"/>
          <p:cNvSpPr/>
          <p:nvPr/>
        </p:nvSpPr>
        <p:spPr>
          <a:xfrm>
            <a:off x="3035160" y="1020600"/>
            <a:ext cx="2374920" cy="30942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华文新魏"/>
              </a:rPr>
              <a:t>花木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622960" y="5334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将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7880760" y="5257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姑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152280" y="53341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英勇善战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410080" y="5257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文静俊美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图片 9" descr=""/>
          <p:cNvPicPr/>
          <p:nvPr/>
        </p:nvPicPr>
        <p:blipFill>
          <a:blip r:embed="rId1"/>
          <a:stretch/>
        </p:blipFill>
        <p:spPr>
          <a:xfrm>
            <a:off x="0" y="4362480"/>
            <a:ext cx="3225960" cy="24940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-76320" y="0"/>
            <a:ext cx="9448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母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木兰，你是一个女孩子，怎么能去当兵呢？被人家知道了是要被杀头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木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父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木兰，打仗多危险，你一个女孩子怎么让人放心，还是我去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木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弟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姐姐，我是男子汉，让我去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木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"/>
          <p:cNvSpPr/>
          <p:nvPr/>
        </p:nvSpPr>
        <p:spPr>
          <a:xfrm>
            <a:off x="1371600" y="1600200"/>
            <a:ext cx="701028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1371600" y="3200400"/>
            <a:ext cx="708660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7"/>
          <p:cNvSpPr/>
          <p:nvPr/>
        </p:nvSpPr>
        <p:spPr>
          <a:xfrm>
            <a:off x="1447920" y="4267080"/>
            <a:ext cx="701028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3251520" y="4876920"/>
            <a:ext cx="43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                    )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花木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花木兰2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5"/>
          <p:cNvSpPr/>
          <p:nvPr/>
        </p:nvSpPr>
        <p:spPr>
          <a:xfrm>
            <a:off x="152280" y="1216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木兰告别了亲人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战袍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骏马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黄河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燕山，来到了前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2067840" y="1219320"/>
            <a:ext cx="50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多年的征战中，为国立下了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赫赫战功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3"/>
          <p:cNvSpPr/>
          <p:nvPr/>
        </p:nvSpPr>
        <p:spPr>
          <a:xfrm>
            <a:off x="755640" y="981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木兰随着队伍，到了北方边境。她担心自己女扮男装的秘密被人发现，故此处处加倍小心。白天行军，木兰紧紧地跟上队伍，从不敢掉队。夜晚宿营，她从来不敢脱衣服。作战的时候，她凭着一身好武艺，总是冲杀在前。在边疆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年中，木兰机智勇敢，一次又一次的立功，一次又一次的提升，她做了将军，带领军队打败了敌人的许多次侵略，为国家立下了许多大的战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1835280" y="476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资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684360" y="1486080"/>
            <a:ext cx="7775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木兰告别了家乡和亲人，（   ）战袍，（    ）骏马，（   ）黄河，（    ）燕山，来到了前线。在多年的征战中，为国立下了（       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84360" y="1851480"/>
            <a:ext cx="799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木兰告别了家乡和亲人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披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战袍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骏马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渡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黄河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过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燕山，来到了前线。在多年的征战中，为 国 立 下了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赫赫战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3023280" y="4495680"/>
            <a:ext cx="451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                     )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花木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2514600" y="441972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英勇善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胜利回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Untitled-2花木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4"/>
          <p:cNvSpPr/>
          <p:nvPr/>
        </p:nvSpPr>
        <p:spPr>
          <a:xfrm>
            <a:off x="746280" y="4694400"/>
            <a:ext cx="801036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木兰胜利回乡后，脱下了战袍，穿上了心爱的女装。将士们前来探望她，这才惊讶地发现昔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英勇善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花将军，竟是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文静俊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姑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4088880" y="15228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               )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花木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990720" y="609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惊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MB00194587"/>
          <p:cNvPicPr/>
          <p:nvPr/>
        </p:nvPicPr>
        <p:blipFill>
          <a:blip r:embed="rId1"/>
          <a:stretch/>
        </p:blipFill>
        <p:spPr>
          <a:xfrm>
            <a:off x="4281480" y="0"/>
            <a:ext cx="4862520" cy="6858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2acbefc97008390b7f3e6fca"/>
          <p:cNvPicPr/>
          <p:nvPr/>
        </p:nvPicPr>
        <p:blipFill>
          <a:blip r:embed="rId2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1845000" y="5700600"/>
            <a:ext cx="5529960" cy="916920"/>
          </a:xfrm>
          <a:prstGeom prst="rect">
            <a:avLst/>
          </a:prstGeom>
          <a:solidFill>
            <a:srgbClr val="bbe0e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的花木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1682640" y="1600200"/>
            <a:ext cx="583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将士们知道了会怎么想？怎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说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图片1"/>
          <p:cNvPicPr/>
          <p:nvPr/>
        </p:nvPicPr>
        <p:blipFill>
          <a:blip r:embed="rId1"/>
          <a:srcRect l="2613" t="8777" r="14193" b="8752"/>
          <a:stretch/>
        </p:blipFill>
        <p:spPr>
          <a:xfrm>
            <a:off x="0" y="4343400"/>
            <a:ext cx="3505320" cy="25146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4"/>
          <p:cNvSpPr/>
          <p:nvPr/>
        </p:nvSpPr>
        <p:spPr>
          <a:xfrm>
            <a:off x="609480" y="23623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花木兰真是一位（         ）的女英雄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WordArt 6"/>
          <p:cNvSpPr txBox="1"/>
          <p:nvPr/>
        </p:nvSpPr>
        <p:spPr>
          <a:xfrm>
            <a:off x="1828800" y="685800"/>
            <a:ext cx="27432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夸夸她</a:t>
            </a:r>
            <a:endParaRPr b="0" lang="en-US" sz="72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FR_001"/>
          <p:cNvPicPr/>
          <p:nvPr/>
        </p:nvPicPr>
        <p:blipFill>
          <a:blip r:embed="rId1"/>
          <a:stretch/>
        </p:blipFill>
        <p:spPr>
          <a:xfrm>
            <a:off x="0" y="0"/>
            <a:ext cx="861048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1476360" y="1295280"/>
            <a:ext cx="4408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木兰是英雄，因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-360" y="414000"/>
            <a:ext cx="8458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ē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 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   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征 兵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父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   年老多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   s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ì         ji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扮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装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胜利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    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      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  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朝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龄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披战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渡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黄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  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è                      jiā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燕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 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赫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赫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战功    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将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611280" y="2924280"/>
            <a:ext cx="755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跨）骏马     （  ）黄河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燕山     （  ）战袍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军装     （  ）桌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979640" y="26028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照样子填一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5477400" y="2924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300680" y="3645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77400" y="3645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300680" y="4292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477400" y="4292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1229400" y="5013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词语搭配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286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英勇善战的         姑娘                   批               骏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心爱的               花将军                 跨               战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文静俊美的        女装                    渡               黄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4"/>
          <p:cNvSpPr/>
          <p:nvPr/>
        </p:nvSpPr>
        <p:spPr>
          <a:xfrm>
            <a:off x="2286000" y="1981080"/>
            <a:ext cx="838080" cy="76212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1523880" y="3048120"/>
            <a:ext cx="1676520" cy="106668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6"/>
          <p:cNvSpPr/>
          <p:nvPr/>
        </p:nvSpPr>
        <p:spPr>
          <a:xfrm flipV="1">
            <a:off x="2209680" y="1981080"/>
            <a:ext cx="990720" cy="198144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6172200" y="1905120"/>
            <a:ext cx="1447920" cy="114300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 flipV="1">
            <a:off x="6095880" y="1904760"/>
            <a:ext cx="1371600" cy="99036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6248520" y="41148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"/>
          <p:cNvSpPr/>
          <p:nvPr/>
        </p:nvSpPr>
        <p:spPr>
          <a:xfrm>
            <a:off x="446040" y="5278320"/>
            <a:ext cx="57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一学组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（         ）             将（         ）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征（         ）             士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兵（         ）             胜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父（         ）             利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病（         ）             弟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男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752480" y="1752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名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905120" y="2362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征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29718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征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1828800" y="3581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1752480" y="4114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病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1828800" y="48006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男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6019920" y="57150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5562720" y="18288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将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5638680" y="2438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士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5410080" y="2971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胜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5486400" y="3581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利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5562720" y="4191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弟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名  名字  有名   闻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征  征兵  出征   征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兵  士兵  兵法   步兵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父  父亲  师父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病  生病  毛病   年老多病  病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男  男孩  男人   男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胜  胜利   胜地   得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利  有利  利用    锋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470B-7E33-43E7-B5A4-581ECF71DC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61640" y="323640"/>
            <a:ext cx="8458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征 兵   父亲   年老多病    弟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扮男装    胜利     将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朝廷   年龄   披战袍   渡黄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燕山  赫赫战功     将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多音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85800" y="1752480"/>
            <a:ext cx="80773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燕（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） （        ）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  （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将（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   （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  （        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362320" y="1752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286000" y="2743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362320" y="47242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ā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362320" y="57150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5943600" y="190512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5943600" y="16765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燕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5943600" y="57150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将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943600" y="26668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燕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943600" y="47242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将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一读，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木兰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什么木兰会从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哪里可以看出军情紧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军回来的木兰是怎么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3200400" y="990720"/>
            <a:ext cx="990720" cy="1143000"/>
          </a:xfrm>
          <a:prstGeom prst="wedgeRoundRectCallout">
            <a:avLst>
              <a:gd name="adj1" fmla="val -88782"/>
              <a:gd name="adj2" fmla="val 40694"/>
              <a:gd name="adj3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女英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4267080" y="2057400"/>
            <a:ext cx="2133720" cy="914400"/>
          </a:xfrm>
          <a:prstGeom prst="wedgeRectCallout">
            <a:avLst>
              <a:gd name="adj1" fmla="val -38763"/>
              <a:gd name="adj2" fmla="val 652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父亲年老弟弟年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己理应为国为家分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477120" y="3276720"/>
            <a:ext cx="1218960" cy="990360"/>
          </a:xfrm>
          <a:prstGeom prst="borderCallout2">
            <a:avLst>
              <a:gd name="adj1" fmla="val 18750"/>
              <a:gd name="adj2" fmla="val -8333"/>
              <a:gd name="adj3" fmla="val 11537"/>
              <a:gd name="adj4" fmla="val -35027"/>
              <a:gd name="adj5" fmla="val 78365"/>
              <a:gd name="adj6" fmla="val -921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朝廷下达了紧急征兵的文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5943600" y="4572000"/>
            <a:ext cx="2057400" cy="990720"/>
          </a:xfrm>
          <a:prstGeom prst="wedgeEllipseCallout">
            <a:avLst>
              <a:gd name="adj1" fmla="val -49537"/>
              <a:gd name="adj2" fmla="val 358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静俊美的姑娘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0"/>
          <p:cNvSpPr/>
          <p:nvPr/>
        </p:nvSpPr>
        <p:spPr>
          <a:xfrm>
            <a:off x="1538280" y="236232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showimg"/>
          <p:cNvPicPr/>
          <p:nvPr/>
        </p:nvPicPr>
        <p:blipFill>
          <a:blip r:embed="rId1"/>
          <a:stretch/>
        </p:blipFill>
        <p:spPr>
          <a:xfrm>
            <a:off x="304920" y="379440"/>
            <a:ext cx="3200400" cy="5335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156" name="Picture 3" descr="showimg2"/>
          <p:cNvPicPr/>
          <p:nvPr/>
        </p:nvPicPr>
        <p:blipFill>
          <a:blip r:embed="rId2"/>
          <a:stretch/>
        </p:blipFill>
        <p:spPr>
          <a:xfrm>
            <a:off x="5867280" y="380880"/>
            <a:ext cx="2971800" cy="533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57" name="Text Box 4"/>
          <p:cNvSpPr/>
          <p:nvPr/>
        </p:nvSpPr>
        <p:spPr>
          <a:xfrm>
            <a:off x="2747160" y="990720"/>
            <a:ext cx="2009160" cy="358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替父从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80040" y="2133720"/>
            <a:ext cx="458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5027760" y="2362320"/>
            <a:ext cx="4586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3890160" y="990720"/>
            <a:ext cx="2009160" cy="358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女扮男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57400"/>
            <a:ext cx="68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会认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143000" y="685800"/>
            <a:ext cx="1371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200400" y="685800"/>
            <a:ext cx="1371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5257800" y="685800"/>
            <a:ext cx="1371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7315200" y="685800"/>
            <a:ext cx="1371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143000" y="2666880"/>
            <a:ext cx="13716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1143000" y="4800600"/>
            <a:ext cx="1371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3200400" y="2743200"/>
            <a:ext cx="1371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5257800" y="2743200"/>
            <a:ext cx="12952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7315200" y="2743200"/>
            <a:ext cx="1371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3048120" y="4724280"/>
            <a:ext cx="13716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1828800" y="685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1143000" y="1371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3200400" y="1371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3886200" y="685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5943600" y="685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5257800" y="1371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7315200" y="1371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1"/>
          <p:cNvSpPr/>
          <p:nvPr/>
        </p:nvSpPr>
        <p:spPr>
          <a:xfrm>
            <a:off x="8001000" y="685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11430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3"/>
          <p:cNvSpPr/>
          <p:nvPr/>
        </p:nvSpPr>
        <p:spPr>
          <a:xfrm>
            <a:off x="1828800" y="2666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32004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>
            <a:off x="3886200" y="2743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5257800" y="3429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5943600" y="2743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>
            <a:off x="73152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9"/>
          <p:cNvSpPr/>
          <p:nvPr/>
        </p:nvSpPr>
        <p:spPr>
          <a:xfrm>
            <a:off x="8001000" y="2743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1143000" y="54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1828800" y="4800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4"/>
          <p:cNvSpPr/>
          <p:nvPr/>
        </p:nvSpPr>
        <p:spPr>
          <a:xfrm>
            <a:off x="304812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5"/>
          <p:cNvSpPr/>
          <p:nvPr/>
        </p:nvSpPr>
        <p:spPr>
          <a:xfrm>
            <a:off x="37339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6"/>
          <p:cNvSpPr/>
          <p:nvPr/>
        </p:nvSpPr>
        <p:spPr>
          <a:xfrm>
            <a:off x="1371600" y="8380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7"/>
          <p:cNvSpPr/>
          <p:nvPr/>
        </p:nvSpPr>
        <p:spPr>
          <a:xfrm>
            <a:off x="3429000" y="8380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8"/>
          <p:cNvSpPr/>
          <p:nvPr/>
        </p:nvSpPr>
        <p:spPr>
          <a:xfrm>
            <a:off x="5486400" y="8380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9"/>
          <p:cNvSpPr/>
          <p:nvPr/>
        </p:nvSpPr>
        <p:spPr>
          <a:xfrm>
            <a:off x="7391520" y="8380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0"/>
          <p:cNvSpPr/>
          <p:nvPr/>
        </p:nvSpPr>
        <p:spPr>
          <a:xfrm>
            <a:off x="1295280" y="28195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1"/>
          <p:cNvSpPr/>
          <p:nvPr/>
        </p:nvSpPr>
        <p:spPr>
          <a:xfrm>
            <a:off x="3276720" y="28954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5486400" y="28954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3"/>
          <p:cNvSpPr/>
          <p:nvPr/>
        </p:nvSpPr>
        <p:spPr>
          <a:xfrm>
            <a:off x="7391520" y="289548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4"/>
          <p:cNvSpPr/>
          <p:nvPr/>
        </p:nvSpPr>
        <p:spPr>
          <a:xfrm>
            <a:off x="1371600" y="48769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6"/>
          <p:cNvSpPr/>
          <p:nvPr/>
        </p:nvSpPr>
        <p:spPr>
          <a:xfrm>
            <a:off x="3124080" y="48769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7"/>
          <p:cNvSpPr/>
          <p:nvPr/>
        </p:nvSpPr>
        <p:spPr>
          <a:xfrm>
            <a:off x="1219320" y="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í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8"/>
          <p:cNvSpPr/>
          <p:nvPr/>
        </p:nvSpPr>
        <p:spPr>
          <a:xfrm>
            <a:off x="3124080" y="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hē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9"/>
          <p:cNvSpPr/>
          <p:nvPr/>
        </p:nvSpPr>
        <p:spPr>
          <a:xfrm>
            <a:off x="5181480" y="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ī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0"/>
          <p:cNvSpPr/>
          <p:nvPr/>
        </p:nvSpPr>
        <p:spPr>
          <a:xfrm>
            <a:off x="7391520" y="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1"/>
          <p:cNvSpPr/>
          <p:nvPr/>
        </p:nvSpPr>
        <p:spPr>
          <a:xfrm>
            <a:off x="1143000" y="2133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ì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2"/>
          <p:cNvSpPr/>
          <p:nvPr/>
        </p:nvSpPr>
        <p:spPr>
          <a:xfrm flipV="1">
            <a:off x="7238880" y="53888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3"/>
          <p:cNvSpPr/>
          <p:nvPr/>
        </p:nvSpPr>
        <p:spPr>
          <a:xfrm>
            <a:off x="3200400" y="2209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5181480" y="2209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è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5"/>
          <p:cNvSpPr/>
          <p:nvPr/>
        </p:nvSpPr>
        <p:spPr>
          <a:xfrm>
            <a:off x="7315200" y="2209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1066680" y="41911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i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8"/>
          <p:cNvSpPr/>
          <p:nvPr/>
        </p:nvSpPr>
        <p:spPr>
          <a:xfrm>
            <a:off x="3048120" y="41148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61640" y="323640"/>
            <a:ext cx="8458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征 兵   父亲   年老多病    弟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扮男装    胜利     将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朝廷   年龄   披战袍   渡黄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燕山  赫赫战功     将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6:45:23Z</dcterms:created>
  <dc:creator/>
  <dc:description/>
  <cp:keywords/>
  <dc:language>en-US</dc:language>
  <cp:lastModifiedBy>xinxing</cp:lastModifiedBy>
  <dcterms:modified xsi:type="dcterms:W3CDTF">2017-04-17T00:38:02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