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media/image1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AAA57-D227-4695-89EE-8337F56DD305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9BAA0-328A-4DFE-ABCA-DFFB717F4B2D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EA4AF-ACD2-46A7-BF61-8CC98C2A3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D7424-D071-4D31-9712-C025402AE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FA243-D806-4F6A-8DAE-AC7EE4D23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8149C-C97F-4796-BC9F-18C65E455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B4EF2-6ABB-4967-BB46-3A6253259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440CC-2F64-45A0-B4C6-220DBA797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DC69E-5911-4909-8AD6-5BBF3200B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E44E2-399C-4BDD-86D0-881A2CFE2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F4CCB-7A69-4018-98AB-85DF26972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F197A-6A38-4D9C-A501-2C4E17CFD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08768-0BA1-47D3-B7E4-2518ADB3C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6A338-B8A9-466C-B573-901A2C644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A76F1-EB19-46A1-9E4D-E9024ACA38F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019240" y="2971440"/>
            <a:ext cx="510552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蒙蒙细雨</a:t>
            </a:r>
            <a:r>
              <a:rPr b="1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457200" y="1203480"/>
            <a:ext cx="548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湘教版三年级语文下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6"/>
          <p:cNvSpPr/>
          <p:nvPr/>
        </p:nvSpPr>
        <p:spPr>
          <a:xfrm>
            <a:off x="1866600" y="570564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藏文"/>
          <p:cNvPicPr/>
          <p:nvPr/>
        </p:nvPicPr>
        <p:blipFill>
          <a:blip r:embed="rId1"/>
          <a:stretch/>
        </p:blipFill>
        <p:spPr>
          <a:xfrm>
            <a:off x="2438280" y="914400"/>
            <a:ext cx="3543480" cy="49528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小学生2"/>
          <p:cNvPicPr/>
          <p:nvPr/>
        </p:nvPicPr>
        <p:blipFill>
          <a:blip r:embed="rId1"/>
          <a:stretch/>
        </p:blipFill>
        <p:spPr>
          <a:xfrm>
            <a:off x="-73080" y="0"/>
            <a:ext cx="9217080" cy="69152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45720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        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思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图上画的是什么地方？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图上画的是什么人？在干什么？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7"/>
          <p:cNvPicPr/>
          <p:nvPr/>
        </p:nvPicPr>
        <p:blipFill>
          <a:blip r:embed="rId1"/>
          <a:stretch/>
        </p:blipFill>
        <p:spPr>
          <a:xfrm>
            <a:off x="0" y="0"/>
            <a:ext cx="4419720" cy="68580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3" descr="8"/>
          <p:cNvPicPr/>
          <p:nvPr/>
        </p:nvPicPr>
        <p:blipFill>
          <a:blip r:embed="rId2"/>
          <a:stretch/>
        </p:blipFill>
        <p:spPr>
          <a:xfrm>
            <a:off x="4419720" y="-15840"/>
            <a:ext cx="4724280" cy="68738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小学生"/>
          <p:cNvPicPr/>
          <p:nvPr/>
        </p:nvPicPr>
        <p:blipFill>
          <a:blip r:embed="rId1"/>
          <a:stretch/>
        </p:blipFill>
        <p:spPr>
          <a:xfrm>
            <a:off x="0" y="0"/>
            <a:ext cx="9448920" cy="6858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457200" y="118908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学习课文，体会情感</a:t>
            </a:r>
            <a:br>
              <a:rPr sz="3200"/>
            </a:b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读读，画画重点词，探究沐浴着蒙蒙细雨的藏族美景。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自由快速默读课文第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自然段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·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画出描写自然界春雨的有关句子，读一读，说说自己的感受。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交流学习心得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再读这些句子，体会到作者的用词精确。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　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捧着  挂着   戴着</a:t>
            </a:r>
            <a:br>
              <a:rPr sz="40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理解重点句：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举目望去，春雨中的藏族山村，像一个缀满珍珠宝石的童话世界。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这句话把山村比作什么？作者为什么把春雨中的山村如此作比较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请同学们找出直接描写图画的自然段。（第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自然段）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老师要请一位同学来读第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自然段，其他同学用“”画出直接描写图画的句子。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　　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啊！书声琅琅的教室里，不也在下着一场融融春雨吗？那辛勤的藏族女教师，正在播洒着科学文化的雨露，孩子们红扑扑的脸蛋儿，每过雨露中的桃花，清脆的读书声，赛过那云雀的歌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你感受到了什么？说给大家听听　。　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课堂小结</a:t>
            </a:r>
            <a:br>
              <a:rPr sz="36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　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们知道这位辛勤的藏族女教师是如何播洒科学文化的雨露的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春雨中的藏族山村，不仅景色美，人更美。你们体会得到吗？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文本框 1"/>
          <p:cNvSpPr/>
          <p:nvPr/>
        </p:nvSpPr>
        <p:spPr>
          <a:xfrm>
            <a:off x="684360" y="714240"/>
            <a:ext cx="538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533520" y="274320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-246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认识、学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3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生字。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能正确流利有感情地朗读课文，背诵全文。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领略藏族山村初春的美丽景色，体会文中蕴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情感。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1828800" y="160020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学习目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3886200" y="1219320"/>
            <a:ext cx="4114800" cy="483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藏族女教师给孩子们上课，传播着科学文化知识，就像是春雨一样滋润着春天的万物。这场春雨，就是科学文化知识，是一场人们难以察觉的雨，而孩子们红扑扑的脸蛋，美过那雨雾中的桃花，孩子们的清脆的读书声，赛过那云雀的歌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3" descr="藏族"/>
          <p:cNvPicPr/>
          <p:nvPr/>
        </p:nvPicPr>
        <p:blipFill>
          <a:blip r:embed="rId1"/>
          <a:stretch/>
        </p:blipFill>
        <p:spPr>
          <a:xfrm>
            <a:off x="1004760" y="1093680"/>
            <a:ext cx="3218040" cy="48103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西藏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38120" y="3809520"/>
            <a:ext cx="4800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00"/>
                </a:solidFill>
                <a:latin typeface="Arial"/>
              </a:rPr>
              <a:t>谢谢指导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FB458-CFEC-4B19-945F-FB329EB62D3F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457200" y="15998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春天，是万物复苏、作物生长的季节；春天，更是孩子们沐浴科学雨露的大好时光。老师为了孩子们的健康成长，呕心沥血，默默无闻地奉献，留下了一个个动人的故事。今天，我们就来学习《蒙蒙细雨》这篇文章。看看藏族的孩子们是如何学习的。首先，我们先看几幅图，注意认真观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7720" y="8377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学习生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09480" y="2209680"/>
            <a:ext cx="792504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méng màn   bàn     biàn    dài    zàng    ch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蒙    漫   瓣   辫   戴   藏    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ｄ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ī   mù  liú  biàn  lù   wù   cu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滴   幕   留   辨   露   雾   脆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矩形 6"/>
          <p:cNvSpPr/>
          <p:nvPr/>
        </p:nvSpPr>
        <p:spPr>
          <a:xfrm>
            <a:off x="3276720" y="2971800"/>
            <a:ext cx="734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认识新朋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漫步　开幕　分辨　融融　清脆　眺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布达拉宫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布达拉宫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布达拉宫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雪山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5T05:43:48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1:30:19Z</dcterms:modified>
  <cp:revision>22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  <property fmtid="{D5CDD505-2E9C-101B-9397-08002B2CF9AE}" pid="3" name="Version">
    <vt:r8>1</vt:r8>
  </property>
</Properties>
</file>