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2BB5-AEE4-434A-A330-C99B1D58EC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705E-ECCB-4247-85D2-7DEFA52BFE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D5C-023F-4CB9-A53C-4FDF7209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775-137A-4156-A053-B76191E2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D80-4A04-4B16-92B9-760B9858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130-BA8A-4821-A9BA-99E7C0C2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41B-31AB-41F1-B5BD-06CF740B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2C84-6C2E-4849-AD17-1858E6A0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B54-56B7-46E9-936C-60656A04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1CE-9441-4B71-A004-BB40CDAF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30D-86C3-4A4A-A44D-B4A260F4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C06-2521-414D-9C35-A411EE5C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C9A-F84D-4F2E-A998-6917BC34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731-2C68-45E9-9FD7-5A3ACED2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177840" y="6381720"/>
            <a:ext cx="32418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63C5-659C-4EF6-9EE7-4B7B8E6FC2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xiyou.cntv.cn/v-b3397062-570a-11e2-b091-a4badb4696b6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2184480" y="2563920"/>
            <a:ext cx="4916520" cy="3278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8348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方正姚体"/>
                <a:ea typeface="方正姚体"/>
              </a:rPr>
              <a:t>木偶戏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1896840" y="60228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出木偶戏的简陋与奇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几个艺人，三两挑子，有时甚或一个人也就够了。重要的是挑子里挑着一个奇异的世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你认为敲锣人怎么样？我们该用怎样的速度读这一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敲锣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手脚并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浑如奇巧的机器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脚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踏着响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脚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踢着响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膝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屈直之间也响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手中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对槌子，翻动如飞花流星，发出乱箭一般震慑四方的轰响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口中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还衔一枚锐利的竹叫子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只一个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便制造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千军万马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动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些蜷曲在灰扑扑的布口袋里的木偶，一旦让艺人们从口袋里掏出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朗朗天日之下，生生地见着这些神人，起来，下去，出来，进去，天和地翻过来覆过去地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258920" y="501336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258920" y="4581360"/>
            <a:ext cx="731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木偶本没有生命，但是通过艺人灵巧的双手一表演，木偶便拥有了灵魂，成为戏中一个个栩栩如生的人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200" y="691920"/>
            <a:ext cx="83012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木偶的喜怒哀乐的表现形式是怎样的？艺人如何在脸的问题上懂心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3840" y="242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木偶表演喜怒哀乐，总是以固定的程序动作全身。笑的时候，或仰面向天，或弯腰捧腹，配合全身有节奏的抖颤，让人看不见它的脸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它登场就开开合合地表演，兴高采烈、自由自主地说着唱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艺人是怎样表演木偶戏的呢？他们是否给木偶装了什么机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木偶戏艺人的每一个指关节都不可思议的机巧，俨如机器中那些最奥妙的部件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正因为他不现身，鬼才成其为鬼，神才成其为神，英雄方能平定天下，霸主方能统摄四方，木偶方能摆布看客，看客方能叹服木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5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觉得艺人精湛的技艺是一朝一夕的功夫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466560" y="573876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什么是木偶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木偶来表演故事的戏剧。表演时，演员在幕后一边操纵木偶，一边演唱，并配以音乐。根据木偶形体和操纵技术的不同，有布袋木偶、提线木偶、杖头木偶、铁线木偶等。 木偶戏是由演员在幕后操纵木制玩偶进行表演的戏剧形式。在中国古代又称傀儡戏。中国木偶戏历史悠久，三国时已有偶人可进行杂技表演，隋代则开始用偶人表演故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5063-1F18-46D5-987A-509B006B51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89240" y="547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7030a0"/>
                </a:solidFill>
                <a:latin typeface="方正水柱简体"/>
                <a:ea typeface="方正水柱简体"/>
              </a:rPr>
              <a:t>木偶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8200" y="155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4f6128"/>
              </a:buClr>
              <a:buFont typeface="方正水柱简体"/>
              <a:buChar char="•"/>
            </a:pPr>
            <a:r>
              <a:rPr b="0" lang="zh-CN" sz="4000" spc="-1" strike="noStrike">
                <a:solidFill>
                  <a:srgbClr val="4f6128"/>
                </a:solidFill>
                <a:latin typeface="方正水柱简体"/>
                <a:ea typeface="方正水柱简体"/>
              </a:rPr>
              <a:t>同学们都喜欢看动画片吧！很早的时候，有一种戏的表演就似动画，非常有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内容占位符 8" descr="u=382370688,3086170178&amp;fm=52&amp;gp=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43520" y="2500200"/>
            <a:ext cx="3300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0c0"/>
                </a:solidFill>
                <a:latin typeface="方正琥珀_GBK"/>
                <a:ea typeface="方正琥珀_GBK"/>
              </a:rPr>
              <a:t>多音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方正琥珀_GBK"/>
              </a:rPr>
              <a:t>·</a:t>
            </a:r>
            <a:r>
              <a:rPr b="0" lang="zh-CN" sz="4400" spc="-1" strike="noStrike">
                <a:solidFill>
                  <a:srgbClr val="ff0000"/>
                </a:solidFill>
                <a:latin typeface="方正琥珀_GBK"/>
                <a:ea typeface="方正琥珀_GBK"/>
              </a:rPr>
              <a:t>挑</a:t>
            </a:r>
            <a:r>
              <a:rPr b="0" lang="zh-CN" sz="4400" spc="-1" strike="noStrike">
                <a:solidFill>
                  <a:srgbClr val="000000"/>
                </a:solidFill>
                <a:latin typeface="方正琥珀_GBK"/>
                <a:ea typeface="方正琥珀_GBK"/>
              </a:rPr>
              <a:t>剔（</a:t>
            </a:r>
            <a:r>
              <a:rPr b="0" lang="en-US" sz="4400" spc="-1" strike="noStrike">
                <a:solidFill>
                  <a:srgbClr val="ff0000"/>
                </a:solidFill>
                <a:latin typeface="方正琥珀_GBK"/>
                <a:ea typeface="方正琥珀_GBK"/>
              </a:rPr>
              <a:t>tiāo</a:t>
            </a:r>
            <a:r>
              <a:rPr b="0" lang="zh-CN" sz="4400" spc="-1" strike="noStrike">
                <a:solidFill>
                  <a:srgbClr val="000000"/>
                </a:solidFill>
                <a:latin typeface="方正琥珀_GBK"/>
                <a:ea typeface="方正琥珀_GBK"/>
              </a:rPr>
              <a:t>）</a:t>
            </a:r>
            <a:r>
              <a:rPr b="0" lang="zh-CN" sz="4400" spc="-1" strike="noStrike">
                <a:solidFill>
                  <a:srgbClr val="ff0000"/>
                </a:solidFill>
                <a:latin typeface="方正琥珀_GBK"/>
                <a:ea typeface="方正琥珀_GBK"/>
              </a:rPr>
              <a:t>挑</a:t>
            </a:r>
            <a:r>
              <a:rPr b="0" lang="zh-CN" sz="4400" spc="-1" strike="noStrike">
                <a:solidFill>
                  <a:srgbClr val="000000"/>
                </a:solidFill>
                <a:latin typeface="方正琥珀_GBK"/>
                <a:ea typeface="方正琥珀_GBK"/>
              </a:rPr>
              <a:t>肥拣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方正琥珀_GBK"/>
                <a:ea typeface="方正琥珀_GBK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方正琥珀_GBK"/>
                <a:ea typeface="方正琥珀_GBK"/>
              </a:rPr>
              <a:t>挑</a:t>
            </a:r>
            <a:r>
              <a:rPr b="0" lang="zh-CN" sz="4400" spc="-1" strike="noStrike">
                <a:solidFill>
                  <a:srgbClr val="000000"/>
                </a:solidFill>
                <a:latin typeface="方正琥珀_GBK"/>
                <a:ea typeface="方正琥珀_GBK"/>
              </a:rPr>
              <a:t>起（</a:t>
            </a:r>
            <a:r>
              <a:rPr b="0" lang="en-US" sz="4400" spc="-1" strike="noStrike">
                <a:solidFill>
                  <a:srgbClr val="ff0000"/>
                </a:solidFill>
                <a:latin typeface="方正琥珀_GBK"/>
                <a:ea typeface="方正琥珀_GBK"/>
              </a:rPr>
              <a:t>tiǎo</a:t>
            </a:r>
            <a:r>
              <a:rPr b="0" lang="zh-CN" sz="4400" spc="-1" strike="noStrike">
                <a:solidFill>
                  <a:srgbClr val="000000"/>
                </a:solidFill>
                <a:latin typeface="方正琥珀_GBK"/>
                <a:ea typeface="方正琥珀_GBK"/>
              </a:rPr>
              <a:t>）</a:t>
            </a:r>
            <a:r>
              <a:rPr b="0" lang="zh-CN" sz="4400" spc="-1" strike="noStrike">
                <a:solidFill>
                  <a:srgbClr val="ff0000"/>
                </a:solidFill>
                <a:latin typeface="方正琥珀_GBK"/>
                <a:ea typeface="方正琥珀_GBK"/>
              </a:rPr>
              <a:t>挑</a:t>
            </a:r>
            <a:r>
              <a:rPr b="0" lang="zh-CN" sz="4400" spc="-1" strike="noStrike">
                <a:solidFill>
                  <a:srgbClr val="000000"/>
                </a:solidFill>
                <a:latin typeface="方正琥珀_GBK"/>
                <a:ea typeface="方正琥珀_GBK"/>
              </a:rPr>
              <a:t>拨离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方正琥珀_GBK"/>
              </a:rPr>
              <a:t>·</a:t>
            </a:r>
            <a:r>
              <a:rPr b="0" lang="zh-CN" sz="4400" spc="-1" strike="noStrike">
                <a:solidFill>
                  <a:srgbClr val="ff0000"/>
                </a:solidFill>
                <a:latin typeface="方正琥珀_GBK"/>
                <a:ea typeface="方正琥珀_GBK"/>
              </a:rPr>
              <a:t>系</a:t>
            </a:r>
            <a:r>
              <a:rPr b="0" lang="zh-CN" sz="4400" spc="-1" strike="noStrike">
                <a:solidFill>
                  <a:srgbClr val="000000"/>
                </a:solidFill>
                <a:latin typeface="方正琥珀_GBK"/>
                <a:ea typeface="方正琥珀_GBK"/>
              </a:rPr>
              <a:t>鞋带（</a:t>
            </a:r>
            <a:r>
              <a:rPr b="0" lang="en-US" sz="4400" spc="-1" strike="noStrike">
                <a:solidFill>
                  <a:srgbClr val="ff0000"/>
                </a:solidFill>
                <a:latin typeface="方正琥珀_GBK"/>
                <a:ea typeface="方正琥珀_GBK"/>
              </a:rPr>
              <a:t>j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方正琥珀_GBK"/>
              </a:rPr>
              <a:t>ì</a:t>
            </a:r>
            <a:r>
              <a:rPr b="0" lang="zh-CN" sz="4400" spc="-1" strike="noStrike">
                <a:solidFill>
                  <a:srgbClr val="000000"/>
                </a:solidFill>
                <a:latin typeface="方正琥珀_GBK"/>
                <a:ea typeface="方正琥珀_GBK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琥珀_GBK"/>
                <a:ea typeface="方正琥珀_GBK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方正琥珀_GBK"/>
                <a:ea typeface="方正琥珀_GBK"/>
              </a:rPr>
              <a:t>联</a:t>
            </a:r>
            <a:r>
              <a:rPr b="0" lang="zh-CN" sz="4400" spc="-1" strike="noStrike">
                <a:solidFill>
                  <a:srgbClr val="ff0000"/>
                </a:solidFill>
                <a:latin typeface="方正琥珀_GBK"/>
                <a:ea typeface="方正琥珀_GBK"/>
              </a:rPr>
              <a:t>系</a:t>
            </a:r>
            <a:r>
              <a:rPr b="0" lang="zh-CN" sz="4400" spc="-1" strike="noStrike">
                <a:solidFill>
                  <a:srgbClr val="000000"/>
                </a:solidFill>
                <a:latin typeface="方正琥珀_GBK"/>
                <a:ea typeface="方正琥珀_GBK"/>
              </a:rPr>
              <a:t>（</a:t>
            </a:r>
            <a:r>
              <a:rPr b="0" lang="en-US" sz="4400" spc="-1" strike="noStrike">
                <a:solidFill>
                  <a:srgbClr val="ff0000"/>
                </a:solidFill>
                <a:latin typeface="方正琥珀_GBK"/>
                <a:ea typeface="方正琥珀_GBK"/>
              </a:rPr>
              <a:t>x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方正琥珀_GBK"/>
              </a:rPr>
              <a:t>ì</a:t>
            </a:r>
            <a:r>
              <a:rPr b="0" lang="zh-CN" sz="4400" spc="-1" strike="noStrike">
                <a:solidFill>
                  <a:srgbClr val="000000"/>
                </a:solidFill>
                <a:latin typeface="方正琥珀_GBK"/>
                <a:ea typeface="方正琥珀_GBK"/>
              </a:rPr>
              <a:t>）心</a:t>
            </a:r>
            <a:r>
              <a:rPr b="0" lang="zh-CN" sz="4400" spc="-1" strike="noStrike">
                <a:solidFill>
                  <a:srgbClr val="ff0000"/>
                </a:solidFill>
                <a:latin typeface="方正琥珀_GBK"/>
                <a:ea typeface="方正琥珀_GBK"/>
              </a:rPr>
              <a:t>系</a:t>
            </a:r>
            <a:r>
              <a:rPr b="0" lang="zh-CN" sz="4400" spc="-1" strike="noStrike">
                <a:solidFill>
                  <a:srgbClr val="000000"/>
                </a:solidFill>
                <a:latin typeface="方正琥珀_GBK"/>
                <a:ea typeface="方正琥珀_GBK"/>
              </a:rPr>
              <a:t>祖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生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108360" y="1600200"/>
            <a:ext cx="936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震慑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震动使害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小幡小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各种小旗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石破天惊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形容声音新奇惊人，出人意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物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零零碎碎的用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简述课文的主要内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4"/>
          <p:cNvSpPr/>
          <p:nvPr/>
        </p:nvSpPr>
        <p:spPr>
          <a:xfrm>
            <a:off x="3419640" y="313992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带着下列问题，自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为什么说木偶戏比较简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你认为木偶戏最有趣的地方在哪里？标记有关的句子仔细品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那一连串令人眼花缭乱的木偶表演，作者是怎样描绘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方正毡笔黑简体"/>
                <a:ea typeface="方正毡笔黑简体"/>
              </a:rPr>
              <a:t>课文分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方正毡笔黑简体"/>
                <a:ea typeface="方正毡笔黑简体"/>
              </a:rPr>
              <a:t>第一部分（</a:t>
            </a:r>
            <a:r>
              <a:rPr b="0" lang="en-US" sz="5400" spc="-1" strike="noStrike">
                <a:solidFill>
                  <a:srgbClr val="c00000"/>
                </a:solidFill>
                <a:latin typeface="方正毡笔黑简体"/>
                <a:ea typeface="方正毡笔黑简体"/>
              </a:rPr>
              <a:t>1~~3</a:t>
            </a:r>
            <a:r>
              <a:rPr b="0" lang="zh-CN" sz="5400" spc="-1" strike="noStrike">
                <a:solidFill>
                  <a:srgbClr val="c00000"/>
                </a:solidFill>
                <a:latin typeface="方正毡笔黑简体"/>
                <a:ea typeface="方正毡笔黑简体"/>
              </a:rPr>
              <a:t>段）介绍木偶戏及戏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4" descr="u=412215196,1472117289&amp;fm=52&amp;gp=0.jpg"/>
          <p:cNvPicPr/>
          <p:nvPr/>
        </p:nvPicPr>
        <p:blipFill>
          <a:blip r:embed="rId1"/>
          <a:stretch/>
        </p:blipFill>
        <p:spPr>
          <a:xfrm>
            <a:off x="1714680" y="3500280"/>
            <a:ext cx="321444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方正毡笔黑简体"/>
                <a:ea typeface="方正毡笔黑简体"/>
              </a:rPr>
              <a:t>第二部分（</a:t>
            </a:r>
            <a:r>
              <a:rPr b="0" lang="en-US" sz="5400" spc="-1" strike="noStrike">
                <a:solidFill>
                  <a:srgbClr val="c00000"/>
                </a:solidFill>
                <a:latin typeface="方正毡笔黑简体"/>
                <a:ea typeface="方正毡笔黑简体"/>
              </a:rPr>
              <a:t>4~~9</a:t>
            </a:r>
            <a:r>
              <a:rPr b="0" lang="zh-CN" sz="5400" spc="-1" strike="noStrike">
                <a:solidFill>
                  <a:srgbClr val="c00000"/>
                </a:solidFill>
                <a:latin typeface="方正毡笔黑简体"/>
                <a:ea typeface="方正毡笔黑简体"/>
              </a:rPr>
              <a:t>段）描写木偶戏最有趣的地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6" descr="u=1809271870,2342512472&amp;fm=52&amp;gp=0.jpg"/>
          <p:cNvPicPr/>
          <p:nvPr/>
        </p:nvPicPr>
        <p:blipFill>
          <a:blip r:embed="rId1"/>
          <a:stretch/>
        </p:blipFill>
        <p:spPr>
          <a:xfrm>
            <a:off x="1714680" y="3643200"/>
            <a:ext cx="271440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方正毡笔黑简体"/>
                <a:ea typeface="方正毡笔黑简体"/>
              </a:rPr>
              <a:t>第三部分（</a:t>
            </a:r>
            <a:r>
              <a:rPr b="0" lang="en-US" sz="4800" spc="-1" strike="noStrike">
                <a:solidFill>
                  <a:srgbClr val="c00000"/>
                </a:solidFill>
                <a:latin typeface="方正毡笔黑简体"/>
                <a:ea typeface="方正毡笔黑简体"/>
              </a:rPr>
              <a:t>10~~11</a:t>
            </a:r>
            <a:r>
              <a:rPr b="0" lang="zh-CN" sz="4800" spc="-1" strike="noStrike">
                <a:solidFill>
                  <a:srgbClr val="c00000"/>
                </a:solidFill>
                <a:latin typeface="方正毡笔黑简体"/>
                <a:ea typeface="方正毡笔黑简体"/>
              </a:rPr>
              <a:t>段）赞扬木偶戏艺人高超的表演艺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4" descr="u=1508230135,616825636&amp;fm=52&amp;gp=0.jpg"/>
          <p:cNvPicPr/>
          <p:nvPr/>
        </p:nvPicPr>
        <p:blipFill>
          <a:blip r:embed="rId1"/>
          <a:stretch/>
        </p:blipFill>
        <p:spPr>
          <a:xfrm>
            <a:off x="1857240" y="3786120"/>
            <a:ext cx="3030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14:26:4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7:25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