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89FA-7341-4B3E-8420-BE837AD9D8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E0CA-7A27-4230-A05D-CE4BD9CD8E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612-D6B6-40EB-9AB2-3865FC2F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1F3-8AD3-4AB1-B435-BE6A705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657-20F7-4ACF-9EF2-64E6548B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0D0-8B12-4247-A934-5FA581A8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78E-E731-4817-B276-B44D61A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370-A482-429E-A724-37A3723A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EB9-EBA4-4DC7-8DA0-5511768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D67-FF56-4CB1-AFE6-D154E9E0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7F7-9305-4B14-AC2E-8ADF628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4A1-B77F-46C4-A5E9-C2FFBB40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2D1-5354-45B9-8F87-A9B36BE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7DE-BDA4-4699-A9C6-FE34E88C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87D3-0674-4FE1-89E3-74F73C3D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秋色 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774800" y="2286000"/>
            <a:ext cx="5791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中宋"/>
              </a:rPr>
              <a:t>迷人的秋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1779480" y="5778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读课文，自主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，要求：读准生字的音，读通课文的句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互相检查生字的读音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56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7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字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突   灿   烂   固   遍   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称   赞   逗   帅   串   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蓝猫"/>
          <p:cNvPicPr/>
          <p:nvPr/>
        </p:nvPicPr>
        <p:blipFill>
          <a:blip r:embed="rId1"/>
          <a:stretch/>
        </p:blipFill>
        <p:spPr>
          <a:xfrm>
            <a:off x="380880" y="411120"/>
            <a:ext cx="2895840" cy="228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1294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掌握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66320" y="281952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突然　　灿烂　　固然　　遍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简直　　称赞　　缀满　　玛瑙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米老鼠"/>
          <p:cNvPicPr/>
          <p:nvPr/>
        </p:nvPicPr>
        <p:blipFill>
          <a:blip r:embed="rId1"/>
          <a:stretch/>
        </p:blipFill>
        <p:spPr>
          <a:xfrm>
            <a:off x="380880" y="609480"/>
            <a:ext cx="1828800" cy="32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再读课文，了解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齐读课文，思考：课文主要写了什么内容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讨论交流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默读全文，找出课文的中心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“迷人”是什么意思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 这句话表达了作者怎样的感情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写生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生字，选择喜欢的方式记生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老师给大家示范书写这些字，请同学们认真观察，分析生字的间架结构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几位同学来练习写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课文，深入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一自然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１）自由读课文，说说知道了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２）“啊，秋色更浓了”表达了作者怎样的感情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二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１）读本自然段，说说这一段写了什么样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２）理解：“固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意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习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５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１）瓜果遍地的秋色更加使人喜欢，作者具体写了哪些水果？自由读４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５自然段，用笔画出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２）分组学习，讨论：作者抓住了每种水果的哪些特点？怎样写具体的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柿子"/>
          <p:cNvPicPr/>
          <p:nvPr/>
        </p:nvPicPr>
        <p:blipFill>
          <a:blip r:embed="rId2"/>
          <a:stretch/>
        </p:blipFill>
        <p:spPr>
          <a:xfrm>
            <a:off x="914400" y="6858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苹果"/>
          <p:cNvPicPr/>
          <p:nvPr/>
        </p:nvPicPr>
        <p:blipFill>
          <a:blip r:embed="rId3"/>
          <a:stretch/>
        </p:blipFill>
        <p:spPr>
          <a:xfrm>
            <a:off x="4419720" y="685800"/>
            <a:ext cx="3733560" cy="282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山楂果"/>
          <p:cNvPicPr/>
          <p:nvPr/>
        </p:nvPicPr>
        <p:blipFill>
          <a:blip r:embed="rId4"/>
          <a:stretch/>
        </p:blipFill>
        <p:spPr>
          <a:xfrm>
            <a:off x="914400" y="3505320"/>
            <a:ext cx="3505320" cy="253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葡萄"/>
          <p:cNvPicPr/>
          <p:nvPr/>
        </p:nvPicPr>
        <p:blipFill>
          <a:blip r:embed="rId5"/>
          <a:stretch/>
        </p:blipFill>
        <p:spPr>
          <a:xfrm>
            <a:off x="4419720" y="350532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47960" y="17521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581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峻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原名孙俊卿，当代作家。山东海阳县人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生。幼年家贫，只读了几年小学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便去工厂当童工。抗日战争爆发后参加革命工作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写出第一篇作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风雪之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后担任报纸的记者和编辑工作。解放后任文艺界领导工作。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起写了一系列优秀短篇小说，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黎明的河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员登记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本文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迷人的秋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选自散文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秋色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峻青"/>
          <p:cNvPicPr/>
          <p:nvPr/>
        </p:nvPicPr>
        <p:blipFill>
          <a:blip r:embed="rId1"/>
          <a:stretch/>
        </p:blipFill>
        <p:spPr>
          <a:xfrm>
            <a:off x="0" y="28440"/>
            <a:ext cx="4038480" cy="294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柿子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红得简直像火一片火。与枫叶作比较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苹果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红、艳、逗人喜爱、金光闪闪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山楂果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红玛瑙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葡萄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晶莹透明、圆润可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深入讨论：秋色多姿多彩，作者为什么只选取了“瓜果遍地”的秋景来写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秋天还会有哪些迷人的景色呢？仿照课文表达方式说一说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学习这一课，你有什么收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人物"/>
          <p:cNvPicPr/>
          <p:nvPr/>
        </p:nvPicPr>
        <p:blipFill>
          <a:blip r:embed="rId1"/>
          <a:stretch/>
        </p:blipFill>
        <p:spPr>
          <a:xfrm>
            <a:off x="5257800" y="2438280"/>
            <a:ext cx="3282840" cy="308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随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一、写反义词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增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　　　　）　　　　喜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透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　　　　）　　　　特色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二、填一填。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灿烂的（　　）　　紫色的（　　）　　红红的（　　）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三、我会造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串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91F-CA90-42B3-A7A5-813259A058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2654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学习目标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认识、会写本课生字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感情地朗读、背诵课文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理解课文内容， 在读中感悟语言美，热爱秋天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叮当"/>
          <p:cNvPicPr/>
          <p:nvPr/>
        </p:nvPicPr>
        <p:blipFill>
          <a:blip r:embed="rId1"/>
          <a:stretch/>
        </p:blipFill>
        <p:spPr>
          <a:xfrm>
            <a:off x="4648320" y="304920"/>
            <a:ext cx="2533680" cy="264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设情境，引出课题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同学们，春、夏、秋、冬，你喜欢哪个季节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d936a0af013f17db7cd92a9e"/>
          <p:cNvPicPr/>
          <p:nvPr/>
        </p:nvPicPr>
        <p:blipFill>
          <a:blip r:embed="rId2"/>
          <a:stretch/>
        </p:blipFill>
        <p:spPr>
          <a:xfrm>
            <a:off x="2209680" y="25909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573120" y="307800"/>
            <a:ext cx="82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花木灿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286000" y="53352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花木灿烂　　　春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夏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590920" y="53316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枝繁叶茂　　　夏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白雪皑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191120" y="5331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白雪皑皑　　冬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83035170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年四季真是各有特色，那你知道现在是什么季节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，今天，我们就来学１５课，相信你们会喜欢秋天的景色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3:30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34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