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5.png" ContentType="image/png"/>
  <Override PartName="/ppt/media/image3.jpeg" ContentType="image/jpeg"/>
  <Override PartName="/ppt/media/image30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A450-D30C-4568-93AD-9085CFD61B7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3F4-8A40-4635-9D50-DF8E606333F2}" type="slidenum">
              <a:rPr b="1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351-F8EA-4681-BD94-D039912D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8FD-82C3-4488-9E6F-C1E564F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64A-3FCC-44F9-B516-462AD379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D22-204F-45B9-BBBD-F13F1AFA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616D-6BE9-413D-8BF0-2529701B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FDF7-21E1-4809-B506-AD6801D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25A-4741-4F4E-BCE4-F335807D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2CF-B711-4C45-9EB3-B3ABF9C8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8CD0-4750-4A22-ADA5-E605198B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535C-3848-4169-B34C-72778B48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E33-8A3F-4FEC-B4BB-F5086E1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875-8407-41C2-950D-BF572B5E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D84-5928-4839-BC81-9F510619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54F1-A020-4968-8BD3-C0B00DCC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3653-148E-47CA-B328-09F52610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44FF-ECB5-41D2-B414-E825DDE4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401-E9C9-47AD-9E5B-7190662C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6F9-C85F-4366-9DAA-7E501C7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E33-2609-45EA-8B6B-9874EED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C50-F3BC-490C-A116-370A524C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702-DFFA-4165-953A-D0C578F2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B0B-64CC-4A37-AEC2-CADC0A0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8AD-CE5D-4E45-BA0B-3E67B495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4D7-48AD-4EDB-80FB-4B3D93C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6F3D-8832-45D1-B093-00E2619A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C231-BA10-427C-867C-93476EF70CED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0" descr="13瞎子摸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334760" y="41400"/>
            <a:ext cx="40806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盲人摸象 </a:t>
            </a: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</a:t>
            </a:r>
            <a:endParaRPr b="1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1827000" y="607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981080"/>
            <a:ext cx="854064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认识本课的十三个生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理解课文内容，懂得“盲人摸象”字面的意思和它其中的内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正确、流利地朗读课文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170050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8"/>
          <p:cNvSpPr/>
          <p:nvPr/>
        </p:nvSpPr>
        <p:spPr>
          <a:xfrm>
            <a:off x="1332000" y="2845080"/>
            <a:ext cx="56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盲人摸象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有一天，四个盲人坐在树下乘凉。有个人牵着大象走过来，大声喊着：“象来了，请让开一点儿！”一个盲人说：“象是什么样子的？让我们摸一摸吧！”另外三个盲人也说：“对，摸一摸就知道象是什么样了。”牵象的人把象拴在树上，他们就去摸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1" descr="0170050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0"/>
          <p:cNvSpPr/>
          <p:nvPr/>
        </p:nvSpPr>
        <p:spPr>
          <a:xfrm>
            <a:off x="3132000" y="1844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059280" y="18334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4140360" y="47628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xi3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71640" y="684360"/>
            <a:ext cx="7056360" cy="64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着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身子，就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说：“我知道了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原来像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堵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墙。”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着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齿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就说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跟又圆又光滑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子一样。”第三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着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腿，就说：“你们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俩说得都不对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柱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差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多。”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最后一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到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尾巴，就大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叫起来：“你们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错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了！象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绳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子一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个样！”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2484360" y="476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1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692360" y="1700280"/>
            <a:ext cx="790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1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258920" y="2997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1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195640" y="429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1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3132000" y="476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ō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411280" y="17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ō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2050920" y="2997360"/>
            <a:ext cx="5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ō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3059280" y="429264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mō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564000" y="105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xi3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327672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xi3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1042920" y="23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xi3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298764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xi3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419640" y="364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xi3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4067280" y="429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xi3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5364000" y="112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dǔ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4427640" y="1700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ch@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3995640" y="234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ɡ&amp;n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414036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zh&amp;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3635280" y="49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cuò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292720" y="4941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sh9nɡ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85928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GB Pinyinok-C"/>
                <a:ea typeface="GB Pinyinok-C"/>
              </a:rPr>
              <a:t>ch3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0170050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971640" y="1125360"/>
            <a:ext cx="7200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着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身子，就说：“我知道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原来像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堵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墙。”一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着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就说：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跟又圆又光滑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一样。”第三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着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腿，就说：“你们俩说得都不对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差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多。”最后一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到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尾巴，就大叫起来：“你们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了！象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绳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子一个样！”</a:t>
            </a:r>
            <a:br>
              <a:rPr sz="3200"/>
            </a:br>
            <a:br>
              <a:rPr sz="2000"/>
            </a:b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3564000" y="242100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差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835280" y="2349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绳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24720" y="2565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棍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Picture 5" descr="u=618407109,2560212260&amp;fm=0&amp;gp=36"/>
          <p:cNvPicPr/>
          <p:nvPr/>
        </p:nvPicPr>
        <p:blipFill>
          <a:blip r:embed="rId2"/>
          <a:stretch/>
        </p:blipFill>
        <p:spPr>
          <a:xfrm>
            <a:off x="3059280" y="2133720"/>
            <a:ext cx="1777680" cy="1307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395280" y="38606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栓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11" descr="u=3575947577,1403129385&amp;fm=0&amp;gp=36"/>
          <p:cNvPicPr/>
          <p:nvPr/>
        </p:nvPicPr>
        <p:blipFill>
          <a:blip r:embed="rId3"/>
          <a:stretch/>
        </p:blipFill>
        <p:spPr>
          <a:xfrm>
            <a:off x="0" y="333360"/>
            <a:ext cx="1486080" cy="1778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2340000" y="522936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堵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8" descr="u=1175974211,2624389648&amp;fm=0&amp;gp=38"/>
          <p:cNvPicPr/>
          <p:nvPr/>
        </p:nvPicPr>
        <p:blipFill>
          <a:blip r:embed="rId4"/>
          <a:stretch/>
        </p:blipFill>
        <p:spPr>
          <a:xfrm>
            <a:off x="1619280" y="2133720"/>
            <a:ext cx="1473120" cy="1346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6948360" y="4005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齿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Picture 7" descr="u=1344675394,1204594405&amp;fm=0&amp;gp=6"/>
          <p:cNvPicPr/>
          <p:nvPr/>
        </p:nvPicPr>
        <p:blipFill>
          <a:blip r:embed="rId5"/>
          <a:stretch/>
        </p:blipFill>
        <p:spPr>
          <a:xfrm>
            <a:off x="6877080" y="2133720"/>
            <a:ext cx="1778040" cy="1460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8"/>
          <p:cNvSpPr/>
          <p:nvPr/>
        </p:nvSpPr>
        <p:spPr>
          <a:xfrm>
            <a:off x="4356000" y="522936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象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Picture 9" descr="u=2972602648,1534224923&amp;fm=0&amp;gp=38"/>
          <p:cNvPicPr/>
          <p:nvPr/>
        </p:nvPicPr>
        <p:blipFill>
          <a:blip r:embed="rId6"/>
          <a:stretch/>
        </p:blipFill>
        <p:spPr>
          <a:xfrm>
            <a:off x="6659640" y="3645000"/>
            <a:ext cx="1320840" cy="1473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9"/>
          <p:cNvSpPr/>
          <p:nvPr/>
        </p:nvSpPr>
        <p:spPr>
          <a:xfrm>
            <a:off x="468360" y="2276640"/>
            <a:ext cx="72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盲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5148360" y="3933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乘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3492360" y="393372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错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212400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服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593640" y="5157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摸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Picture 10" descr="u=3193367982,3967635981&amp;fm=0&amp;gp=48"/>
          <p:cNvPicPr/>
          <p:nvPr/>
        </p:nvPicPr>
        <p:blipFill>
          <a:blip r:embed="rId7"/>
          <a:stretch/>
        </p:blipFill>
        <p:spPr>
          <a:xfrm>
            <a:off x="0" y="2205000"/>
            <a:ext cx="1547640" cy="1360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1"/>
          <p:cNvSpPr/>
          <p:nvPr/>
        </p:nvSpPr>
        <p:spPr>
          <a:xfrm>
            <a:off x="5580000" y="2421000"/>
            <a:ext cx="7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柱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2" name="Picture 6" descr="u=766300376,4120414337&amp;fm=0&amp;gp=38"/>
          <p:cNvPicPr/>
          <p:nvPr/>
        </p:nvPicPr>
        <p:blipFill>
          <a:blip r:embed="rId8"/>
          <a:stretch/>
        </p:blipFill>
        <p:spPr>
          <a:xfrm>
            <a:off x="5076720" y="2276640"/>
            <a:ext cx="1473480" cy="121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u=618407109,2560212260&amp;fm=0&amp;gp=36"/>
          <p:cNvPicPr/>
          <p:nvPr/>
        </p:nvPicPr>
        <p:blipFill>
          <a:blip r:embed="rId9"/>
          <a:stretch/>
        </p:blipFill>
        <p:spPr>
          <a:xfrm>
            <a:off x="3059280" y="3718080"/>
            <a:ext cx="1777680" cy="130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7" descr="u=1175974211,2624389648&amp;fm=0&amp;gp=38"/>
          <p:cNvPicPr/>
          <p:nvPr/>
        </p:nvPicPr>
        <p:blipFill>
          <a:blip r:embed="rId10"/>
          <a:stretch/>
        </p:blipFill>
        <p:spPr>
          <a:xfrm>
            <a:off x="1619280" y="3718080"/>
            <a:ext cx="1473120" cy="1346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u=3193367982,3967635981&amp;fm=0&amp;gp=48"/>
          <p:cNvPicPr/>
          <p:nvPr/>
        </p:nvPicPr>
        <p:blipFill>
          <a:blip r:embed="rId11"/>
          <a:stretch/>
        </p:blipFill>
        <p:spPr>
          <a:xfrm>
            <a:off x="-108000" y="3789360"/>
            <a:ext cx="1548000" cy="1360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0" descr="u=766300376,4120414337&amp;fm=0&amp;gp=38"/>
          <p:cNvPicPr/>
          <p:nvPr/>
        </p:nvPicPr>
        <p:blipFill>
          <a:blip r:embed="rId12"/>
          <a:stretch/>
        </p:blipFill>
        <p:spPr>
          <a:xfrm>
            <a:off x="4859280" y="37162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u=618407109,2560212260&amp;fm=0&amp;gp=36"/>
          <p:cNvPicPr/>
          <p:nvPr/>
        </p:nvPicPr>
        <p:blipFill>
          <a:blip r:embed="rId13"/>
          <a:stretch/>
        </p:blipFill>
        <p:spPr>
          <a:xfrm>
            <a:off x="3708360" y="4869000"/>
            <a:ext cx="1778040" cy="1307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2" descr="u=1175974211,2624389648&amp;fm=0&amp;gp=38"/>
          <p:cNvPicPr/>
          <p:nvPr/>
        </p:nvPicPr>
        <p:blipFill>
          <a:blip r:embed="rId14"/>
          <a:stretch/>
        </p:blipFill>
        <p:spPr>
          <a:xfrm>
            <a:off x="1965240" y="4869000"/>
            <a:ext cx="1473120" cy="1346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4" descr="u=3193367982,3967635981&amp;fm=0&amp;gp=48"/>
          <p:cNvPicPr/>
          <p:nvPr/>
        </p:nvPicPr>
        <p:blipFill>
          <a:blip r:embed="rId15"/>
          <a:stretch/>
        </p:blipFill>
        <p:spPr>
          <a:xfrm>
            <a:off x="-181080" y="5013360"/>
            <a:ext cx="1548000" cy="1360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5" descr="u=766300376,4120414337&amp;fm=0&amp;gp=38"/>
          <p:cNvPicPr/>
          <p:nvPr/>
        </p:nvPicPr>
        <p:blipFill>
          <a:blip r:embed="rId16"/>
          <a:stretch/>
        </p:blipFill>
        <p:spPr>
          <a:xfrm>
            <a:off x="5724360" y="5229360"/>
            <a:ext cx="147348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684360" y="1341360"/>
            <a:ext cx="5184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习提示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听读课文，说说几个盲人各自摸到了象的哪个部位？他们心中的大象分别是什么样的？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13瞎子~1"/>
          <p:cNvPicPr/>
          <p:nvPr/>
        </p:nvPicPr>
        <p:blipFill>
          <a:blip r:embed="rId1"/>
          <a:stretch/>
        </p:blipFill>
        <p:spPr>
          <a:xfrm>
            <a:off x="6732720" y="4941720"/>
            <a:ext cx="2016000" cy="14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324000" y="981000"/>
          <a:ext cx="8208720" cy="3521160"/>
        </p:xfrm>
        <a:graphic>
          <a:graphicData uri="http://schemas.openxmlformats.org/drawingml/2006/table">
            <a:tbl>
              <a:tblPr/>
              <a:tblGrid>
                <a:gridCol w="2808000"/>
                <a:gridCol w="2352600"/>
                <a:gridCol w="3048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ˎ̥"/>
                        </a:rPr>
                        <a:t>人物</a:t>
                      </a:r>
                      <a:endParaRPr b="1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ˎ̥"/>
                        </a:rPr>
                        <a:t>摸象的部位</a:t>
                      </a:r>
                      <a:endParaRPr b="1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ˎ̥"/>
                        </a:rPr>
                        <a:t>得出的结论</a:t>
                      </a:r>
                      <a:endParaRPr b="1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第一个盲人</a:t>
                      </a:r>
                      <a:endParaRPr b="1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第二个盲人</a:t>
                      </a:r>
                      <a:endParaRPr b="1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第三个盲人</a:t>
                      </a:r>
                      <a:endParaRPr b="1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ˎ̥"/>
                        </a:rPr>
                        <a:t>第四个盲人</a:t>
                      </a:r>
                      <a:endParaRPr b="1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01"/>
          <p:cNvSpPr/>
          <p:nvPr/>
        </p:nvSpPr>
        <p:spPr>
          <a:xfrm>
            <a:off x="468360" y="189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我会填：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216"/>
          <p:cNvSpPr/>
          <p:nvPr/>
        </p:nvSpPr>
        <p:spPr>
          <a:xfrm>
            <a:off x="3203640" y="170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的身子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217"/>
          <p:cNvSpPr/>
          <p:nvPr/>
        </p:nvSpPr>
        <p:spPr>
          <a:xfrm>
            <a:off x="3203640" y="24224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的牙齿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218"/>
          <p:cNvSpPr/>
          <p:nvPr/>
        </p:nvSpPr>
        <p:spPr>
          <a:xfrm>
            <a:off x="3376440" y="3141720"/>
            <a:ext cx="22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的腿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219"/>
          <p:cNvSpPr/>
          <p:nvPr/>
        </p:nvSpPr>
        <p:spPr>
          <a:xfrm>
            <a:off x="3132000" y="3789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的尾巴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220"/>
          <p:cNvSpPr/>
          <p:nvPr/>
        </p:nvSpPr>
        <p:spPr>
          <a:xfrm>
            <a:off x="5479920" y="1773360"/>
            <a:ext cx="34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像一堵墙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221"/>
          <p:cNvSpPr/>
          <p:nvPr/>
        </p:nvSpPr>
        <p:spPr>
          <a:xfrm>
            <a:off x="5487840" y="2422440"/>
            <a:ext cx="31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像棍子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222"/>
          <p:cNvSpPr/>
          <p:nvPr/>
        </p:nvSpPr>
        <p:spPr>
          <a:xfrm>
            <a:off x="5508720" y="314172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像柱子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223"/>
          <p:cNvSpPr/>
          <p:nvPr/>
        </p:nvSpPr>
        <p:spPr>
          <a:xfrm>
            <a:off x="5487840" y="3790800"/>
            <a:ext cx="28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大象像绳子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228"/>
          <p:cNvSpPr/>
          <p:nvPr/>
        </p:nvSpPr>
        <p:spPr>
          <a:xfrm>
            <a:off x="324000" y="4581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考：他们摸的是同一头大象，为什么得出和结论不一样呢？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229"/>
          <p:cNvSpPr/>
          <p:nvPr/>
        </p:nvSpPr>
        <p:spPr>
          <a:xfrm>
            <a:off x="324000" y="566100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PMingLiU"/>
              </a:rPr>
              <a:t>2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PMingLiU"/>
              </a:rPr>
              <a:t>练习用“大象的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PMingLiU"/>
              </a:rPr>
              <a:t>……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PMingLiU"/>
              </a:rPr>
              <a:t>像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PMingLiU"/>
              </a:rPr>
              <a:t>……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PMingLiU"/>
              </a:rPr>
              <a:t>来说话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539640" y="1052640"/>
            <a:ext cx="5688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习提示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在小组中合作读第三自然段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画出牵象人说的话，读一读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讨论、交流：盲人说的对不对？为什么？他们错在哪里？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13瞎子~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2400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们不能只了解事物的某一方面，就妄下结论，要对事物进行全面的了解，才能得出正确的结论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我会写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1800000" cy="258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1800360" cy="255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1800000" cy="257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6804000" y="1268280"/>
            <a:ext cx="1800360" cy="2560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1800000" cy="2637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6"/>
          <a:stretch/>
        </p:blipFill>
        <p:spPr>
          <a:xfrm>
            <a:off x="2340000" y="3933720"/>
            <a:ext cx="1800360" cy="257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7"/>
          <a:stretch/>
        </p:blipFill>
        <p:spPr>
          <a:xfrm>
            <a:off x="4500720" y="3933720"/>
            <a:ext cx="1800000" cy="25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8"/>
          <a:stretch/>
        </p:blipFill>
        <p:spPr>
          <a:xfrm>
            <a:off x="6804000" y="3933720"/>
            <a:ext cx="18003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8121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成语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981080"/>
            <a:ext cx="85406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自相矛盾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刻舟求剑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掩耳盗铃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4" action="ppaction://hlinksldjump"/>
              </a:rPr>
              <a:t>守株待兔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5" action="ppaction://hlinksldjump"/>
              </a:rPr>
              <a:t>拔苗助长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6" action="ppaction://hlinksldjump"/>
              </a:rPr>
              <a:t>狐假虎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>
            <a:hlinkClick r:id="rId1" action="ppaction://hlinksldjump"/>
          </p:cNvPr>
          <p:cNvSpPr/>
          <p:nvPr/>
        </p:nvSpPr>
        <p:spPr>
          <a:xfrm>
            <a:off x="611280" y="333360"/>
            <a:ext cx="813744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成语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：自相矛盾</a:t>
            </a:r>
            <a:br>
              <a:rPr sz="4000"/>
            </a:b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　　战国时楚国有一个卖盾和矛的人，他夸说自己所卖的盾坚固无比，没有东西能把它刺穿；又夸说自己所卖的矛十分锋利，没有东西不被它刺穿。路上有人听见后，忍不住说：“如果用你的矛去刺你的盾，结果会如何？”楚国人立刻瞠目结舌，无法回答他的问题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>
            <a:hlinkClick r:id="rId1" action="ppaction://hlinksldjump"/>
          </p:cNvPr>
          <p:cNvSpPr/>
          <p:nvPr/>
        </p:nvSpPr>
        <p:spPr>
          <a:xfrm>
            <a:off x="39528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成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刻舟求剑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战国时，楚国有个人坐船渡江。船到江心，他一不小心，把随身携带的一把宝剑掉落江中。他赶紧去抓，已经来不及了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船上的人对此感到非常惋惜，但那楚人似乎胸有成竹，马上掏出一把小刀，在船舷上刻上一个记号，并向大家说：这是我宝剑落水的地方，所以我要刻上一个记号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大家都不理解他为什么这样做，也不再去问他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船靠岸后那楚人立即在船上刻记号的地方下水，去捞取掉落的宝剑。捞了半天，不见宝剑的影子。他觉得很奇怪，自言自语说：我的宝剑不就是在这里掉下去吗？我还在这里刻了记号呢，怎么会找不到的呢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至此，船上的人纷纷大笑起来，说：船一直在行进，而你的宝剑却沉入了水底不动，你怎么找得到你的剑呢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其实，剑掉落在江中后，船继续行驶，而宝剑却不会再移动。像他这样去找剑，真是太愚蠢可笑了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>
            <a:hlinkClick r:id="rId1" action="ppaction://hlinksldjump"/>
          </p:cNvPr>
          <p:cNvSpPr/>
          <p:nvPr/>
        </p:nvSpPr>
        <p:spPr>
          <a:xfrm>
            <a:off x="250920" y="4762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成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掩耳盗铃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故事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从前有一个人，看见人家门口有一口大钟，就想把它偷去。可这钟太重，没法背走，他就取来一个铁锤，想敲碎后一块块偷走。可是还有一个问题，用铁椎砸钟会发出很大的声音，肯定会被人抓做的。他转念一想：钟一响耳朵就能听见，可是如果把耳朵蒙起来，就什么都听不到了！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掩耳盗铃：比喻蠢人自己欺骗自己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>
            <a:hlinkClick r:id="rId1" action="ppaction://hlinksldjump"/>
          </p:cNvPr>
          <p:cNvSpPr/>
          <p:nvPr/>
        </p:nvSpPr>
        <p:spPr>
          <a:xfrm>
            <a:off x="539640" y="404640"/>
            <a:ext cx="813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成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守株待兔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故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春秋时代有位宋国的农夫，他每天早上很早就到田里工作，一直到太阳下山才收拾农具准备回家。有一天，农夫正在田里辛苦的工作，突然却远远跑来一只兔子。这只兔子跑得又急又快，一个不小心，兔子撞上稻田旁边的大树，这一撞，撞断了兔子的颈部，兔子当场倒地死亡。一旁的农夫看到之后，急忙跑上前将死了的兔子一手抓起，然后很开心的收拾农具准备回家把这只兔子煮来吃。农夫心想，天底下既然有这么好的事，自己又何必每天辛苦的耕田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从此以后，他整天守在大树旁，希望能再等到不小心撞死的兔子。可是许多天过去了，他都没等到撞死在大树下的兔子，反而因为他不处理农田的事，因此田里长满了杂草，一天比一天更荒芜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1717560" y="5781600"/>
            <a:ext cx="57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>
            <a:hlinkClick r:id="rId1" action="ppaction://hlinksldjump"/>
          </p:cNvPr>
          <p:cNvSpPr/>
          <p:nvPr/>
        </p:nvSpPr>
        <p:spPr>
          <a:xfrm>
            <a:off x="826920" y="54936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成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拔苗助长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故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拔苗助长这则成语的意思是将苗拔起，帮助它生长。比喻不顾事物发展的规律，强求速成，结果反而把事情弄糟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宋国有一个农夫，他担心自己田里的禾苗长不高，就天天到田边去看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 可是，一天、两天、三天，禾苗好象一点儿也没有往上长。他在田边焦急地转来转去，自言自语地说：我得想办法帮助它们生长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一天，他终于想出了办法，急忙奔到田里，把禾苗一棵棵地拔，从早上一直忙到太阳落山，弄得精疲力尽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 他回到家里，十分疲劳，气喘吁吁地说：今天可把我累坏了，力气总算没白费，我帮禾苗都长高了一大截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他的儿子听了，急忙跑到田里一看，禾苗全都枯死了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>
            <a:hlinkClick r:id="rId1" action="ppaction://hlinksldjump"/>
          </p:cNvPr>
          <p:cNvSpPr/>
          <p:nvPr/>
        </p:nvSpPr>
        <p:spPr>
          <a:xfrm>
            <a:off x="539640" y="22536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成语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狐假虎威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故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  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 从前在某个山洞中有一只老虎，因为肚子饿了，便跑到外面寻觅食物。当他走到一片茂密的森林时，忽然看到前面有只狐狸正在散步。他觉得这正是个千载难逢的好机会，于是，便一跃身扑过去，毫不费力的将他擒过来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可是当它张开嘴巴，正准备把那只狐狸吃进肚子里的时候，狡黠的狐狸怪声怪气地说：“你不敢吃我？我是天上派来的百兽之王。”老虎听了不以为然。狐狸又说：“不信你跟着走，看百兽见了我会怎样”。说完狐狸大摇大摆地向前走去，老虎半信半疑地跟在后面东张西望。只见很多野兽见到狐狸来了都吓得跑了。老虎却不知道野兽实际上是怕自已而不是怕狐狸。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C003-C3FF-4174-80F0-BBBFB5AF4B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745184daxiang2_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x2_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008101513565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20071123033838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daxiang2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555432daxiang2_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x2_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8:51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36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