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85B7-4416-486A-A1F7-93941887BD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BA08-5E03-4FDC-AD94-E8054C6D12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209-6E58-4C5C-B1B4-020F884A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58D-F7AD-4FA1-8B1A-5AE51A1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FCF-8E48-414B-B643-FEA1357A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D1B-2866-41E7-A2D2-D23E5674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9EC-5492-4939-A4F1-00F7B24D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762-82ED-42D3-B8CC-D862F15A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D98-B4E1-4BDC-93C7-EF8D4D93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C0B-15A7-4A00-B4A6-23E5295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A38-1584-4DC4-9A5F-22232205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791-30EE-4DB1-B233-708C927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C99-84B4-48FF-8A4D-7253B29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E8A-FC5D-4A92-B9C8-8AEFA5D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C93A-48EC-4825-9303-C36321036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112760" y="2627280"/>
            <a:ext cx="6918480" cy="2881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765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毛遂自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653480" y="6021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读课文，思考讨论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遂自荐给了我们什么启示？在今天有何现实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要求：有文采、有哲理地表达你的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11280" y="1125360"/>
            <a:ext cx="73454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论做红花，还是当绿叶，只要表现出色，哪怕只有一分钟的时间来表现，那都是优秀的。在充满竞争的舞台上，机会大家均等。是千里马，就应迎风长鸣；是龙种，就应冲腾起舞。明年的此时，我们会向高考推荐自己，所以，到底什么在青春中是无悔的？那就是勇敢地活出我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布置作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773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《真正的勇敢》为题目，写一篇《毛遂自荐》的读后感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左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940360" y="4797360"/>
            <a:ext cx="273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2203560" y="595008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348-C8F8-481D-B5C1-FDEAC27C8E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51912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概括段落大意，理解文章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反复诵读，概括毛遂形象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感悟毛遂自荐的现实意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190440"/>
            <a:ext cx="883908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111707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111707"/>
                </a:solidFill>
                <a:latin typeface="Arial"/>
                <a:ea typeface="隶书"/>
              </a:rPr>
              <a:t>一读课文</a:t>
            </a:r>
            <a:r>
              <a:rPr b="1" lang="en-US" sz="4800" spc="-1" strike="noStrike">
                <a:solidFill>
                  <a:srgbClr val="111707"/>
                </a:solidFill>
                <a:latin typeface="Arial"/>
                <a:ea typeface="隶书"/>
              </a:rPr>
              <a:t>——</a:t>
            </a:r>
            <a:r>
              <a:rPr b="1" lang="zh-CN" sz="4800" spc="-1" strike="noStrike">
                <a:solidFill>
                  <a:srgbClr val="111707"/>
                </a:solidFill>
                <a:latin typeface="Arial"/>
                <a:ea typeface="隶书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1707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1170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非高声朗诵则不得其雄伟之概，非密咏恬吟则不能探其深远之韵”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en-US" sz="3600" spc="-1" strike="noStrike">
                <a:solidFill>
                  <a:srgbClr val="11170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111707"/>
                </a:solidFill>
                <a:latin typeface="Arial"/>
              </a:rPr>
              <a:t>曾国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1680" y="1483920"/>
            <a:ext cx="8842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第一段 开端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脱颖而出 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第二段 发展、高潮和结局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楚庭约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第三段 尾声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真人难识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66560" y="404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概述：在初读文本的基础上，给每一段起个标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176364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1707"/>
                </a:solidFill>
                <a:latin typeface="Arial"/>
                <a:ea typeface="隶书"/>
              </a:rPr>
              <a:t>二读课文</a:t>
            </a:r>
            <a:r>
              <a:rPr b="1" lang="en-US" sz="4400" spc="-1" strike="noStrike">
                <a:solidFill>
                  <a:srgbClr val="111707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111707"/>
                </a:solidFill>
                <a:latin typeface="Arial"/>
                <a:ea typeface="隶书"/>
              </a:rPr>
              <a:t>探究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4860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仔细阅读毛遂和平原君的这段对话，分析这对矛盾冲突集中表现了毛遂怎样的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1240" y="333360"/>
            <a:ext cx="885492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赵国和楚国关于合纵的矛盾冲突中，毛遂是如何一步步说服楚王合纵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按剑而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十步以内，王不得恃楚国之众也，王之命悬于遂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示之以力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从者为楚，非为赵也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示之以利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当歃血而定从，次者吾君，次者遂。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示之以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91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627280" y="62064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635280" y="76500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楚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轻音乐 - 琵琶 - 古代名曲 塞上曲 副本.mp3" descr="轻音乐 - 琵琶 - 古代名曲 塞上曲 副本"/>
          <p:cNvPicPr/>
          <p:nvPr/>
        </p:nvPicPr>
        <p:blipFill>
          <a:blip r:embed="rId2"/>
          <a:stretch/>
        </p:blipFill>
        <p:spPr>
          <a:xfrm>
            <a:off x="7956720" y="5950080"/>
            <a:ext cx="431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2644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79280" y="2513880"/>
            <a:ext cx="8964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32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0920" y="620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人说毛遂自荐是出风头，你怎么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08000" y="26506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师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遂虽然自刎了，而他的精神却没有自刎，没有他的自荐，没有他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冒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谁又在国家危难之时，挺身而出，解除忧患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今天，仍有不少的人缺乏自荐勇气，每谈及自己，羞羞答答、忸忸怩怩、“犹抱琵琶半遮面”。怕人说狂，怕人说癫，怕人笑话。相较之下，毛遂的出风头是哪样的难能可贵！这是真英雄，真汉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1:59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4:17Z</dcterms:modified>
  <cp:revision>1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