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505-036F-40F9-9E1D-75D373FC37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4C0-BF24-4C92-BA4F-049FE367B9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2AB-9C3E-4493-9E92-894A575E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B40-D97F-4228-934C-CD7992E6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180-23FC-4AAA-B2AE-148C2434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476-1DCE-4281-9E93-C36879D6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C2B-05F6-44FA-BE6F-F7672B9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DAC-6452-4E84-8B9D-F0764EC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AD4-B08D-4D82-9FA6-736B3EA6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41C-8DE4-44BE-B38D-CE89A88F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52D-5622-43D5-80F0-473E89B5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F52-90EE-441A-A70B-16A3F77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6AB-643B-4CA5-BDD3-C90C325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D1C-2305-4B69-85FB-8E8F4A73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B722-3DF4-4A92-9C5E-34BD27F4B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90040" y="8827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想飞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2019240" y="594360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72960" y="16765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正是因为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莱顿夫人，这位深受简妮敬重的老师，适时说出的那一句振奋人心的话语，才重新点燃了简妮心中那希望的火花！也正是因为她，才使简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徘徊在人生十字路口的小女孩，重新有了追求梦想的信念和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8008920" y="281952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flipH="1">
            <a:off x="4266360" y="3776760"/>
            <a:ext cx="3387960" cy="642960"/>
          </a:xfrm>
          <a:prstGeom prst="borderCallout2">
            <a:avLst>
              <a:gd name="adj1" fmla="val 18750"/>
              <a:gd name="adj2" fmla="val -8333"/>
              <a:gd name="adj3" fmla="val 17777"/>
              <a:gd name="adj4" fmla="val -2250"/>
              <a:gd name="adj5" fmla="val -137777"/>
              <a:gd name="adj6" fmla="val -139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徘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在一个地方来回走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39720" y="114300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简妮的理想在遭到嘲笑后，被藏在了心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39720" y="23623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简妮被英语老师斯莱顿夫人鼓励的话振作起来，重新树立了理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9960" y="38098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简妮苦苦奋斗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终于实现了自己的梦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85800" y="50896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：赞美斯莱顿夫人用振奋人心的话语使简妮获得了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80880" y="1406520"/>
            <a:ext cx="83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的父亲是一名喷洒农药的飞机驾驶员。或许是耳濡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目染的缘故吧，她从小就痴迷于飞机和飞行，也想成为一名飞行员。她想驾驶着飞机喷洒农药，她想去体验跳伞的刺激，她想去实施人工降雨，还想驾驶着客机飞行在航线上。然而，每当她谈论起自己的梦想时，人们就会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子是不可能成为飞行员的，以前不会，将来也不会。你真是太异想天开了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，小简妮认输了，不得不把这个美梦藏在心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14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657600" y="2209680"/>
            <a:ext cx="5121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457200" y="2514600"/>
            <a:ext cx="2133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4038480"/>
            <a:ext cx="5426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533520" y="4419720"/>
            <a:ext cx="16761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341880" y="2050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埋    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24880" y="3027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1276200" y="2361960"/>
            <a:ext cx="1908360" cy="990360"/>
          </a:xfrm>
          <a:prstGeom prst="line">
            <a:avLst/>
          </a:prstGeom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113364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几年过去了，小简妮遇到了英语老师斯莱顿夫人。斯莱顿夫人对学生要求非常严格，刚开始的时候，简妮非常害怕她，但是，逐渐地，对斯莱顿夫人的严厉和公正，她由衷地敬佩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天，斯莱顿夫人给全班同学布置了一项作业。她要求同学们认真想想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后的今天自己会做什么？并将它写成作文交给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突然感到，埋藏在内心的、曾经是那么强烈的梦想，此刻仿佛是那沉睡多年的火山，猛地苏醒过来，在她的内心深处涌动。但一铺开作文本，她又不敢落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1066680" y="4114800"/>
            <a:ext cx="7712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33520" y="4495680"/>
            <a:ext cx="82454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533520" y="487692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341880" y="2050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埋    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339360" y="268128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    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4880" y="3027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1276200" y="2361960"/>
            <a:ext cx="1908360" cy="990360"/>
          </a:xfrm>
          <a:prstGeom prst="line">
            <a:avLst/>
          </a:prstGeom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1276200" y="2911320"/>
            <a:ext cx="1908360" cy="441360"/>
          </a:xfrm>
          <a:prstGeom prst="line">
            <a:avLst/>
          </a:prstGeom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0880" y="4572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默默地环视着鸦雀无声的教室，目光掠过每一个同学。她来到简妮身旁，弯腰轻声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不写呢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妮的眼睛噙满泪水，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梦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来怕人家笑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个人都有足够的天分智能，只要你的愿望特别强烈，你就能够拥有足够的力量去实现梦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把手放在简妮肩上，接着说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别人的嘲笑，当成实现自己理想的力量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感到，听着老师这番激励人心的话语，这么些年来的沮丧、气馁和畏惧，正在落荒而逃，代之而来的是鼓舞，是振奋，当然，也有一点点的担心和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下课之后，她来到讲台前，递上一气呵成的作文，并且告诉斯莱顿夫人，她的梦想是成为一名飞行员。斯莱顿夫人微微地挺了挺身子，猛地拍了一下桌子，惊喜地说道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不起！真是个有志气的女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99072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又开始不懈地追求自己的梦想了。但是，梦想的实现，不是一朝一夕的事。简妮为之苦苦奋斗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终于，她成了一名私人飞机的驾驶员，可以驾驶货运飞机甚至民航客机，但是始终只能做一位副驾驶。她的老板毫不隐瞒地表示，之所以没有晋升她的职务，只是因为她是一位女性。甚至她的父亲也曾建议她辞职去干别的工作。简妮却坚信总有一天会出现转机的。她坚持不懈地驾驶着飞机喷洒农药，简妮进行了数百次的跳伞，她驾驶着飞机去实施人工降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妮坚韧的毅力和出色的技术，终于征服了人们，她当上了大型客运飞机的正驾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1066680" y="1371600"/>
            <a:ext cx="51055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886200" y="1752480"/>
            <a:ext cx="3733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6400800" y="3200400"/>
            <a:ext cx="23018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57200" y="3581280"/>
            <a:ext cx="82454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7200" y="3962520"/>
            <a:ext cx="82454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57200" y="4343400"/>
            <a:ext cx="82454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457200" y="464832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341880" y="2050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埋    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339360" y="268128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    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39360" y="336708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追    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572000" y="2133720"/>
            <a:ext cx="304920" cy="2423880"/>
          </a:xfrm>
          <a:custGeom>
            <a:avLst/>
            <a:gdLst>
              <a:gd name="textAreaLeft" fmla="*/ 0 w 304920"/>
              <a:gd name="textAreaRight" fmla="*/ 110160 w 304920"/>
              <a:gd name="textAreaTop" fmla="*/ 63000 h 2423880"/>
              <a:gd name="textAreaBottom" fmla="*/ 2360880 h 24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308"/>
                </a:lnTo>
                <a:cubicBezTo>
                  <a:pt x="10800" y="10207"/>
                  <a:pt x="16200" y="11105"/>
                  <a:pt x="21600" y="11105"/>
                </a:cubicBezTo>
                <a:cubicBezTo>
                  <a:pt x="16200" y="11105"/>
                  <a:pt x="10800" y="12004"/>
                  <a:pt x="10800" y="12902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762520" y="3124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嘲笑当成实现理想的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341880" y="40384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    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24880" y="3027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梦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76200" y="2361960"/>
            <a:ext cx="1908360" cy="990360"/>
          </a:xfrm>
          <a:prstGeom prst="line">
            <a:avLst/>
          </a:prstGeom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1276200" y="2911320"/>
            <a:ext cx="1908360" cy="441360"/>
          </a:xfrm>
          <a:prstGeom prst="line">
            <a:avLst/>
          </a:prstGeom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1276200" y="3352680"/>
            <a:ext cx="1908360" cy="193680"/>
          </a:xfrm>
          <a:prstGeom prst="line">
            <a:avLst/>
          </a:prstGeom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1276200" y="3352680"/>
            <a:ext cx="1908360" cy="914400"/>
          </a:xfrm>
          <a:prstGeom prst="line">
            <a:avLst/>
          </a:prstGeom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72960" y="16765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正是因为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莱顿夫人，这位深受简妮敬重的老师，适时说出的那一句振奋人心的话语，才重新点燃了简妮心中那希望的火花！也正是因为她，才使简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徘徊在人生十字路口的小女孩，重新有了追求梦想的信念和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71800" y="5562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国空军女飞行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"/>
          <p:cNvPicPr/>
          <p:nvPr/>
        </p:nvPicPr>
        <p:blipFill>
          <a:blip r:embed="rId1"/>
          <a:stretch/>
        </p:blipFill>
        <p:spPr>
          <a:xfrm>
            <a:off x="1371600" y="1270080"/>
            <a:ext cx="6400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5"/>
          <p:cNvSpPr/>
          <p:nvPr/>
        </p:nvSpPr>
        <p:spPr>
          <a:xfrm>
            <a:off x="1784160" y="2491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朗读下列描写简妮的句子，体会简妮的情感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791880" y="10652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终于，小简妮认输了，不得不把这个美梦藏在心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41360" y="167472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简妮突然感到，埋藏在内心的、曾经是那么强烈的梦想，此刻仿佛是那沉睡多年的火山，猛地苏醒过来，在她的内心深处涌动。但一铺开作文本，她又不敢落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41360" y="312408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简妮的眼睛噙满泪水，说：“我的梦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写出来怕人家笑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03200" y="3994200"/>
            <a:ext cx="797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简妮感到，听着老师这番激励人心的话语，这么些年来的沮丧、气馁和畏惧，正在落荒而逃，代之而来的是鼓舞，是振奋，当然，也有一点点的担心和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3109320" y="54100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简妮却坚信总有一天会出现转机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18400" y="2491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会描写教师的语言、动作的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641960" y="1219320"/>
            <a:ext cx="56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来到简妮身旁，弯腰轻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不写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41360" y="237636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个人都有足够的天分智能，只要你的愿望特别强烈，你就能够拥有足够的力量去实现梦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把手放在简妮肩上，接着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别人的嘲笑，当成实现自己理想的力量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41360" y="420696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莱顿夫人微微地挺了挺身子，猛地拍了一下桌子，惊喜地说道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不起！真是个有志气的女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952560" y="609480"/>
            <a:ext cx="7238880" cy="3505320"/>
          </a:xfrm>
          <a:prstGeom prst="cloudCallout">
            <a:avLst>
              <a:gd name="adj1" fmla="val -45111"/>
              <a:gd name="adj2" fmla="val 91259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别人的嘲笑，当成实现自己理想的力量吧。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话你是怎样理解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58760" y="6016680"/>
            <a:ext cx="58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9480" y="1219320"/>
            <a:ext cx="79250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悲观的人，先被自己打败，然后才被生活打败；乐观的人，先战胜自己，然后才战胜生活。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汪国真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骐骥一跃，不能十步；驽马十驾，功在不舍；锲而舍之，朽木不折；锲而不舍，金石可镂。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荀况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人生的价值，并不是用时间，而是用深度去衡量的。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托尔斯泰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生命的全部的意义在于无穷地探索尚未知道的东西。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拉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一个人的价值，应该看他贡献什么，而不应当看他取得什么。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67240" y="380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关于人生与理想的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8C70-5746-400B-B41B-E71339C594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2449440" y="304920"/>
            <a:ext cx="4245120" cy="5667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99888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拿大女飞行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615720" y="3733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国空军女飞行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"/>
          <p:cNvPicPr/>
          <p:nvPr/>
        </p:nvPicPr>
        <p:blipFill>
          <a:blip r:embed="rId1"/>
          <a:stretch/>
        </p:blipFill>
        <p:spPr>
          <a:xfrm>
            <a:off x="1181160" y="1133640"/>
            <a:ext cx="6781680" cy="4437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024440" y="5756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国女飞行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3836880" y="3276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295280" y="457200"/>
            <a:ext cx="6553440" cy="3962520"/>
          </a:xfrm>
          <a:prstGeom prst="cloudCallout">
            <a:avLst>
              <a:gd name="adj1" fmla="val -49953"/>
              <a:gd name="adj2" fmla="val 8313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想了解一位小女孩，如何坚持不懈地追求，终于实现了梦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上女飞行员的故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80880" y="1863720"/>
            <a:ext cx="83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的父亲是一名喷洒农药的飞机驾驶员。或许是耳濡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目染的缘故吧，她从小就痴迷于飞机和飞行，也想成为一名飞行员。她想驾驶着飞机喷洒农药，她想去体验跳伞的刺激，她想去实施人工降雨，还想驾驶着客机飞行在航线上。然而，每当她谈论起自己的梦想时，人们就会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孩子是不可能成为飞行员的，以前不会，将来也不会。你真是太异想天开了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，小简妮认输了，不得不把这个美梦藏在心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914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8077320" y="228600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flipH="1">
            <a:off x="3699000" y="439560"/>
            <a:ext cx="4225680" cy="949680"/>
          </a:xfrm>
          <a:prstGeom prst="borderCallout2">
            <a:avLst>
              <a:gd name="adj1" fmla="val 18750"/>
              <a:gd name="adj2" fmla="val -8333"/>
              <a:gd name="adj3" fmla="val 12037"/>
              <a:gd name="adj4" fmla="val -1805"/>
              <a:gd name="adj5" fmla="val 148995"/>
              <a:gd name="adj6" fmla="val -6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耳濡目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形容见得多、听得多了之后，无形之中受到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85800" y="26668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1122480" y="4495680"/>
            <a:ext cx="12398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 flipH="1">
            <a:off x="3124080" y="5089680"/>
            <a:ext cx="4572000" cy="626760"/>
          </a:xfrm>
          <a:prstGeom prst="borderCallout2">
            <a:avLst>
              <a:gd name="adj1" fmla="val 18750"/>
              <a:gd name="adj2" fmla="val -8333"/>
              <a:gd name="adj3" fmla="val 18226"/>
              <a:gd name="adj4" fmla="val 101666"/>
              <a:gd name="adj5" fmla="val -88101"/>
              <a:gd name="adj6" fmla="val 115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异想天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形容想法离奇，不切实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0880" y="75240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几年过去了，小简妮遇到了英语老师斯莱顿夫人。斯莱顿夫人对学生要求非常严格，刚开始的时候，简妮非常害怕她，但是，逐渐地，对斯莱顿夫人的严厉和公正，她由衷地敬佩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天，斯莱顿夫人给全班同学布置了一项作业。她要求同学们认真想想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后的今天自己会做什么？并将它写成作文交给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突然感到，埋藏在内心的、曾经是那么强烈的梦想，此刻仿佛是那沉睡多年的火山，猛地苏醒过来，在她的内心深处涌动。但一铺开作文本，她又不敢落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80880" y="4572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老师默默地环视着鸦雀无声的教室，目光掠过每一个同学。她来到简妮身旁，弯腰轻声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不写呢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妮的眼睛噙满泪水，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梦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来怕人家笑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个人都有足够的天分智能，只要你的愿望特别强烈，你就能够拥有足够的力量去实现梦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把手放在简妮肩上，接着说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别人的嘲笑，当成实现自己理想的力量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感到，听着老师这番激励人心的话语，这么些年来的沮丧、气馁和畏惧，正在落荒而逃，代之而来的是鼓舞，是振奋，当然，也有一点点的担心和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下课之后，她来到讲台前，递上一气呵成的作文，并且告诉斯莱顿夫人，她的梦想是成为一名飞行员。斯莱顿夫人微微地挺了挺身子，猛地拍了一下桌子，惊喜地说道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不起！真是个有志气的女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267080" y="4191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flipH="1">
            <a:off x="41400" y="6022800"/>
            <a:ext cx="4225680" cy="757440"/>
          </a:xfrm>
          <a:prstGeom prst="borderCallout2">
            <a:avLst>
              <a:gd name="adj1" fmla="val 18750"/>
              <a:gd name="adj2" fmla="val -8333"/>
              <a:gd name="adj3" fmla="val 15092"/>
              <a:gd name="adj4" fmla="val -1805"/>
              <a:gd name="adj5" fmla="val -234175"/>
              <a:gd name="adj6" fmla="val -31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落荒而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离开大路，向荒野逃去。多用来形容狼狈逃跑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5486400" y="48769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flipH="1">
            <a:off x="5486400" y="5830920"/>
            <a:ext cx="3657600" cy="949320"/>
          </a:xfrm>
          <a:prstGeom prst="borderCallout2">
            <a:avLst>
              <a:gd name="adj1" fmla="val 18750"/>
              <a:gd name="adj2" fmla="val -8333"/>
              <a:gd name="adj3" fmla="val 12037"/>
              <a:gd name="adj4" fmla="val 102083"/>
              <a:gd name="adj5" fmla="val -100171"/>
              <a:gd name="adj6" fmla="val 10260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一气呵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比喻完成整个工作的过程中不间断、不松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99072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简妮又开始不懈地追求自己的梦想了。但是，梦想的实现，不是一朝一夕的事。简妮为之苦苦奋斗了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终于，她成了一名私人飞机的驾驶员，可以驾驶货运飞机甚至民航客机，但是始终只能做一位副驾驶。她的老板毫不隐瞒地表示，之所以没有晋升她的职务，只是因为她是一位女性。甚至她的父亲也曾建议她辞职去干别的工作。简妮却坚信总有一天会出现转机的。她坚持不懈地驾驶着飞机喷洒农药，简妮进行了数百次的跳伞，她驾驶着飞机去实施人工降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妮坚韧的毅力和出色的技术，终于征服了人们，她当上了大型客运飞机的正驾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17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13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