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FA14-B90B-4110-90BC-904552AF061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90FE-84CB-452D-AD04-353185A6F74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727D-7D2F-44E0-8C25-95487F218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4B15-E218-4705-BB76-EF6D7119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7381-EF90-49CC-B703-1DC3DBFC5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72A1-712B-4489-AE47-104B8D3F3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9359-1060-43FE-9FD6-08D1AA3F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DFD0-9564-42AD-8FA9-9EC670E6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25F3-698C-4110-B301-6B383FD1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BCD4-48E5-4708-A77A-F5690CB0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C668-E6A1-4141-A29D-12A99071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1387-844D-41FB-A0DD-8446A592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9517-1F52-47A5-9D03-F7CC3040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41E8-65FE-4D9D-838A-C8D8D04B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CE98-67D9-4549-BC26-B73EC6708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1619280" y="6093000"/>
            <a:ext cx="57610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1835280" y="1773360"/>
            <a:ext cx="5616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6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泥姑娘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0" name="矩形 9"/>
          <p:cNvSpPr/>
          <p:nvPr/>
        </p:nvSpPr>
        <p:spPr>
          <a:xfrm>
            <a:off x="1899720" y="53737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971640" y="16286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蜜蜂展开翅膀，四处寻找着，它飞到石榴树下，问：“石榴树伯伯，您知道是谁救了我吗？”石榴树说：“昨夜是泥姑娘救了你。”“那她现在在哪？” 石榴树说：“它已经变成一堆稀泥了。”小蜜蜂着急地问：“那怎么办呢？”石榴树说：“只要你让老艺人再捏一个泥姑娘，等到晚上，她就会活过来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蜜蜂找到了老艺人，请求他再捏一个泥姑娘，于是老艺人又捏了个泥姑娘。小蜜蜂等啊盼啊，到了晚上，突然一道星光闪过。泥姑娘活了！它翩翩起舞，舞姿十分优美。小蜜蜂拉着她的手跳起了优美的舞蹈。          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5"/>
          <p:cNvSpPr txBox="1"/>
          <p:nvPr/>
        </p:nvSpPr>
        <p:spPr>
          <a:xfrm>
            <a:off x="2484360" y="981000"/>
            <a:ext cx="3673440" cy="649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《泥姑娘》续写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5"/>
          <p:cNvSpPr txBox="1"/>
          <p:nvPr/>
        </p:nvSpPr>
        <p:spPr>
          <a:xfrm>
            <a:off x="539640" y="476280"/>
            <a:ext cx="230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800080"/>
                </a:solidFill>
                <a:latin typeface="隶书"/>
              </a:rPr>
              <a:t>当堂检测</a:t>
            </a:r>
            <a:endParaRPr b="1" lang="en-US" sz="1800" spc="-1" strike="noStrike">
              <a:ln w="0">
                <a:noFill/>
              </a:ln>
              <a:solidFill>
                <a:srgbClr val="800080"/>
              </a:solidFill>
              <a:latin typeface="隶书"/>
              <a:ea typeface="隶书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755640" y="1413000"/>
            <a:ext cx="7345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照样子写词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软绵绵   （          ） （          ） （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毛毛糙糙  （          ） （          ） （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越来越小  （          ） （          ） （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习了这篇课文，我们从泥姑娘身上学到了（                    ）的高尚品质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4003-9C9E-48A0-9337-FC2894387F1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7"/>
          <p:cNvSpPr/>
          <p:nvPr/>
        </p:nvSpPr>
        <p:spPr>
          <a:xfrm>
            <a:off x="684360" y="1844640"/>
            <a:ext cx="784836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年纪     支持     刮倒     冲击   艰难     苏醒     沾满     挣扎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翩翩起舞   前后摆动   狂风暴雨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越来越弱   毛毛糙糙   四处寻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瞬间      软绵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9"/>
          <p:cNvSpPr txBox="1"/>
          <p:nvPr/>
        </p:nvSpPr>
        <p:spPr>
          <a:xfrm>
            <a:off x="324000" y="404640"/>
            <a:ext cx="3240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83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800080"/>
                </a:solidFill>
                <a:latin typeface="隶书"/>
              </a:rPr>
              <a:t>复习生字</a:t>
            </a:r>
            <a:endParaRPr b="1" lang="en-US" sz="1800" spc="-1" strike="noStrike">
              <a:ln w="0">
                <a:noFill/>
              </a:ln>
              <a:solidFill>
                <a:srgbClr val="80008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5"/>
          <p:cNvSpPr txBox="1"/>
          <p:nvPr/>
        </p:nvSpPr>
        <p:spPr>
          <a:xfrm>
            <a:off x="539640" y="476280"/>
            <a:ext cx="360072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800080"/>
                </a:solidFill>
                <a:latin typeface="隶书"/>
              </a:rPr>
              <a:t>请你回忆</a:t>
            </a:r>
            <a:endParaRPr b="1" lang="en-US" sz="1800" spc="-1" strike="noStrike">
              <a:ln w="0">
                <a:noFill/>
              </a:ln>
              <a:solidFill>
                <a:srgbClr val="800080"/>
              </a:solidFill>
              <a:latin typeface="隶书"/>
              <a:ea typeface="隶书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462480" y="14842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这篇文章讲了一件什么事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79280" y="278136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这篇课文主要讲了泥姑娘在一个风雨交加的夜晚，舍身救小蜜蜂的事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826920" y="2349360"/>
            <a:ext cx="77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自由读课文，泥姑娘给你留下了怎样的印象？画出有关语句，写下你的感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6"/>
          <p:cNvSpPr txBox="1"/>
          <p:nvPr/>
        </p:nvSpPr>
        <p:spPr>
          <a:xfrm>
            <a:off x="684360" y="836640"/>
            <a:ext cx="388764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800080"/>
                </a:solidFill>
                <a:latin typeface="隶书"/>
              </a:rPr>
              <a:t>自学要求（</a:t>
            </a:r>
            <a:r>
              <a:rPr b="1" lang="en-US" sz="1800" spc="-1" strike="noStrike">
                <a:ln w="0">
                  <a:noFill/>
                </a:ln>
                <a:solidFill>
                  <a:srgbClr val="800080"/>
                </a:solidFill>
                <a:latin typeface="隶书"/>
              </a:rPr>
              <a:t>1</a:t>
            </a:r>
            <a:r>
              <a:rPr b="1" lang="zh-CN" sz="1800" spc="-1" strike="noStrike">
                <a:ln w="0">
                  <a:noFill/>
                </a:ln>
                <a:solidFill>
                  <a:srgbClr val="800080"/>
                </a:solidFill>
                <a:latin typeface="隶书"/>
              </a:rPr>
              <a:t>）</a:t>
            </a:r>
            <a:endParaRPr b="1" lang="en-US" sz="1800" spc="-1" strike="noStrike">
              <a:ln w="0">
                <a:noFill/>
              </a:ln>
              <a:solidFill>
                <a:srgbClr val="80008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5"/>
          <p:cNvSpPr/>
          <p:nvPr/>
        </p:nvSpPr>
        <p:spPr>
          <a:xfrm>
            <a:off x="826920" y="249228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在小组之间读读你画的句子，交流自己的体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6"/>
          <p:cNvSpPr txBox="1"/>
          <p:nvPr/>
        </p:nvSpPr>
        <p:spPr>
          <a:xfrm>
            <a:off x="826920" y="907920"/>
            <a:ext cx="3745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800080"/>
                </a:solidFill>
                <a:latin typeface="隶书"/>
              </a:rPr>
              <a:t>自学要求（</a:t>
            </a:r>
            <a:r>
              <a:rPr b="1" lang="en-US" sz="1800" spc="-1" strike="noStrike">
                <a:ln w="0">
                  <a:noFill/>
                </a:ln>
                <a:solidFill>
                  <a:srgbClr val="800080"/>
                </a:solidFill>
                <a:latin typeface="隶书"/>
              </a:rPr>
              <a:t>2</a:t>
            </a:r>
            <a:r>
              <a:rPr b="1" lang="zh-CN" sz="1800" spc="-1" strike="noStrike">
                <a:ln w="0">
                  <a:noFill/>
                </a:ln>
                <a:solidFill>
                  <a:srgbClr val="800080"/>
                </a:solidFill>
                <a:latin typeface="隶书"/>
              </a:rPr>
              <a:t>）</a:t>
            </a:r>
            <a:endParaRPr b="1" lang="en-US" sz="1800" spc="-1" strike="noStrike">
              <a:ln w="0">
                <a:noFill/>
              </a:ln>
              <a:solidFill>
                <a:srgbClr val="80008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7"/>
          <p:cNvSpPr/>
          <p:nvPr/>
        </p:nvSpPr>
        <p:spPr>
          <a:xfrm>
            <a:off x="6576840" y="2421000"/>
            <a:ext cx="733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24000" y="907920"/>
            <a:ext cx="5256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当泥姑娘站在桌上的时候，她好像就要</a:t>
            </a:r>
            <a:r>
              <a:rPr b="1" i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翩翩起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她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眉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在动，她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眼珠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在转；还有，那两条甩着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小辫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，也被窗外吹进的狂风刮得像拨浪鼓似的前后摆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1"/>
          <p:cNvPicPr/>
          <p:nvPr/>
        </p:nvPicPr>
        <p:blipFill>
          <a:blip r:embed="rId1"/>
          <a:stretch/>
        </p:blipFill>
        <p:spPr>
          <a:xfrm>
            <a:off x="5651640" y="692280"/>
            <a:ext cx="33192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6"/>
          <p:cNvSpPr/>
          <p:nvPr/>
        </p:nvSpPr>
        <p:spPr>
          <a:xfrm>
            <a:off x="826920" y="1125360"/>
            <a:ext cx="75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泥姑娘赶快爬出窗口，却被一阵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透冷的雨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扑面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回来。她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了好一阵，觉得浑身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软绵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。这是因为水分渗进了她的身体，是她不再那么硬朗、结实了。不过，她还能支持着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冲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暴风雨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6"/>
          <p:cNvSpPr/>
          <p:nvPr/>
        </p:nvSpPr>
        <p:spPr>
          <a:xfrm>
            <a:off x="900000" y="1197000"/>
            <a:ext cx="691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阵狂风把她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刮倒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了。她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挣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着爬起来，身上沾满了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沉重的泥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猛烈的雨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把泥浆洗去，然后又把她光润的皮肤冲击得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毛毛糙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，而且使她变得越来越小。但是，她还是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爬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石榴树下，把小蜜蜂抱了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1042920" y="184464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泥姑娘的故事非常感人，也让人为她的命运担心。接下来会发生怎样的故事呢？请你来续编一下这个故事吧！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6"/>
          <p:cNvSpPr txBox="1"/>
          <p:nvPr/>
        </p:nvSpPr>
        <p:spPr>
          <a:xfrm>
            <a:off x="755640" y="692280"/>
            <a:ext cx="244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小笔头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7" name="文本框 1"/>
          <p:cNvSpPr/>
          <p:nvPr/>
        </p:nvSpPr>
        <p:spPr>
          <a:xfrm>
            <a:off x="1666800" y="5097600"/>
            <a:ext cx="617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01:57:3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8:38Z</dcterms:modified>
  <cp:revision>8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