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applause.wav" ContentType="audio/x-wav"/>
  <Override PartName="/ppt/media/image6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1.jpeg" ContentType="image/jpeg"/>
  <Override PartName="/ppt/media/image9.jpeg" ContentType="image/jpeg"/>
  <Override PartName="/ppt/media/image21.jpeg" ContentType="image/jpeg"/>
  <Override PartName="/ppt/media/image19.png" ContentType="image/png"/>
  <Override PartName="/ppt/media/image18.jpeg" ContentType="image/jpeg"/>
  <Override PartName="/ppt/media/image15.jpeg" ContentType="image/jpeg"/>
  <Override PartName="/ppt/media/image14.jpeg" ContentType="image/jpeg"/>
  <Override PartName="/ppt/media/image16.jpeg" ContentType="image/jpeg"/>
  <Override PartName="/ppt/media/chimes.wav" ContentType="audio/x-wav"/>
  <Override PartName="/ppt/media/image13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44033-3E77-4AAC-822D-F5A4A32F656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8.xml"/><Relationship Id="rId24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7B9E4-92DB-4C14-A61C-8C26897C05E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3B7B-B6F4-44F4-BA58-66E51354C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0965-DD1F-4679-9CFE-F23596629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C17E-44EE-42D7-85B1-74D137EE4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DBEC-0EEA-4770-A003-DC9665AC8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1BEE-E7EF-4F13-B34C-69BC94258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2D4A-CBD8-4CCE-B89B-12550753C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43ABD-4393-439F-9CB1-87F265956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C4F7-ED19-4871-9A08-1D55EC682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AED2-41F4-4CA6-9680-ACEEC3F9E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0880-A959-48E8-8D66-85D3F32E2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6A9D7-B732-4C3F-A5CF-C7468BFFC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2C55-61A9-425E-9BDB-A425898BC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7A38F-5723-4247-B7D8-23F49A1AAC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9" descr="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矩形 1" descr=""/>
          <p:cNvPicPr/>
          <p:nvPr/>
        </p:nvPicPr>
        <p:blipFill>
          <a:blip r:embed="rId2"/>
          <a:stretch/>
        </p:blipFill>
        <p:spPr>
          <a:xfrm>
            <a:off x="4191120" y="1254240"/>
            <a:ext cx="4495680" cy="1365120"/>
          </a:xfrm>
          <a:prstGeom prst="rect">
            <a:avLst/>
          </a:prstGeom>
          <a:ln w="0">
            <a:noFill/>
          </a:ln>
        </p:spPr>
      </p:pic>
      <p:sp>
        <p:nvSpPr>
          <p:cNvPr id="50" name="矩形 5"/>
          <p:cNvSpPr/>
          <p:nvPr/>
        </p:nvSpPr>
        <p:spPr>
          <a:xfrm>
            <a:off x="3589200" y="5861160"/>
            <a:ext cx="564264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913dd"/>
                </a:solidFill>
                <a:latin typeface="微软雅黑"/>
                <a:ea typeface="微软雅黑"/>
              </a:rPr>
              <a:t> </a:t>
            </a:r>
            <a:r>
              <a:rPr b="1" lang="zh-CN" sz="2400" spc="-1" strike="noStrike">
                <a:solidFill>
                  <a:srgbClr val="0913dd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913dd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8305560" cy="536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课文共有（ 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10 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）个自然段，主要写“我”在路边等车时（  发现）松鼠，并（逮住）松鼠，最后（  放了    ）松鼠的故事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924680" cy="414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为什么要逮住那只松鼠？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是怎样逮住的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Text Box 2"/>
          <p:cNvSpPr/>
          <p:nvPr/>
        </p:nvSpPr>
        <p:spPr>
          <a:xfrm>
            <a:off x="324000" y="1197000"/>
            <a:ext cx="74754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 </a:t>
            </a:r>
            <a:r>
              <a:rPr b="1" lang="zh-CN" sz="36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可是没等我接近，那个圆球就“嗖”地一下蹿上了树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000066"/>
                </a:solidFill>
                <a:latin typeface="楷体_GB2312"/>
                <a:ea typeface="楷体_GB2312"/>
              </a:rPr>
              <a:t>那些小精灵呢，似乎是在故意逗我玩，“嗖嗖嗖”地直朝树梢蹿，然后又从这棵树梢跳到那棵树梢</a:t>
            </a:r>
            <a:r>
              <a:rPr b="1" lang="zh-CN" sz="36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cc"/>
                </a:solidFill>
                <a:latin typeface="楷体_GB2312"/>
                <a:ea typeface="楷体_GB2312"/>
              </a:rPr>
              <a:t>　　待我再去抓时，它们有灵巧地逃之夭夭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228600" y="270000"/>
            <a:ext cx="719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从文中找出松鼠机敏的语句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042920" y="5589720"/>
            <a:ext cx="687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你从这些句子中体会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77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" dur="770" fill="hold"/>
                                        <p:tgtEl>
                                          <p:spTgt spid="7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5" dur="77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1" descr="飞"/>
          <p:cNvPicPr/>
          <p:nvPr/>
        </p:nvPicPr>
        <p:blipFill>
          <a:blip r:embed="rId1"/>
          <a:stretch/>
        </p:blipFill>
        <p:spPr>
          <a:xfrm>
            <a:off x="0" y="-11160"/>
            <a:ext cx="9144000" cy="68803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 txBox="1"/>
          <p:nvPr/>
        </p:nvSpPr>
        <p:spPr>
          <a:xfrm>
            <a:off x="533520" y="18288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哪些语句可看出“我”很艰难才逮到小松鼠？  </a:t>
            </a:r>
            <a:r>
              <a:rPr b="1" lang="zh-CN" sz="3200" spc="-1" strike="noStrike">
                <a:solidFill>
                  <a:srgbClr val="000000"/>
                </a:solidFill>
                <a:latin typeface="方正楷体_GBK"/>
                <a:ea typeface="方正楷体_GBK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5"/>
          <p:cNvSpPr/>
          <p:nvPr/>
        </p:nvSpPr>
        <p:spPr>
          <a:xfrm>
            <a:off x="2971800" y="34290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松鼠非常难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2433960" y="5181480"/>
            <a:ext cx="405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”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</a:rPr>
              <a:t>我”费了九牛二虎之力才逮到小松鼠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2500920" y="2819520"/>
            <a:ext cx="394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东奔西跑”、“跳”、“蹿”、“神不知鬼不觉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8"/>
          <p:cNvSpPr/>
          <p:nvPr/>
        </p:nvSpPr>
        <p:spPr>
          <a:xfrm>
            <a:off x="2612160" y="4343400"/>
            <a:ext cx="303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9999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9999"/>
                </a:solidFill>
                <a:latin typeface="Arial"/>
              </a:rPr>
              <a:t>蹑手蹑脚”、“喘着粗气”、“瘫坐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楷体"/>
              </a:rPr>
              <a:t>待我再去抓时，它们又灵巧地逃之夭夭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华文楷体"/>
              </a:rPr>
              <a:t>‥‥‥</a:t>
            </a:r>
            <a:r>
              <a:rPr b="1" lang="en-US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楷体"/>
              </a:rPr>
              <a:t>体会省略号的作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6840" y="25905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华文楷体"/>
              </a:rPr>
              <a:t>省略号的作用是表明小松鼠多次躲过父亲的追逮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0" y="36576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楷体"/>
              </a:rPr>
              <a:t>想一想：父亲为什么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楷体"/>
              </a:rPr>
              <a:t>心里异常高兴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楷体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380880" y="4572000"/>
            <a:ext cx="8077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女儿想有小松鼠的愿望得以实现，这是他费了九牛二虎之力才逮到的，为后文放松鼠埋下伏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5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543800" cy="3002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这是一只怎样的松鼠？从哪里看出松鼠很可爱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2"/>
          <p:cNvSpPr/>
          <p:nvPr/>
        </p:nvSpPr>
        <p:spPr>
          <a:xfrm>
            <a:off x="1116000" y="1989000"/>
            <a:ext cx="722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父亲费了九牛二虎之力之力终于捉到一只小松鼠，可他却把它放了，这是为什么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5" descr="松鼠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但我突然看到了两道极其古怪的目光：像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绝望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像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抗拒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更像是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乞求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……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1066680" y="408276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绝望是对失去生命、失去自由的极度恐惧；抗议是指责作者的做法不对；乞求是希望作者能放了它，给它一条生路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5" descr="松鼠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 txBox="1"/>
          <p:nvPr/>
        </p:nvSpPr>
        <p:spPr>
          <a:xfrm>
            <a:off x="609480" y="609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我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说不出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为什么要这样做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685800" y="4220280"/>
            <a:ext cx="7696080" cy="581400"/>
          </a:xfrm>
          <a:prstGeom prst="rect">
            <a:avLst/>
          </a:prstGeom>
          <a:solidFill>
            <a:srgbClr val="bbe0e3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913dd"/>
                </a:solidFill>
                <a:latin typeface="宋体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913dd"/>
                </a:solidFill>
                <a:latin typeface="楷体_GB2312"/>
                <a:ea typeface="楷体_GB2312"/>
              </a:rPr>
              <a:t>说不出</a:t>
            </a:r>
            <a:r>
              <a:rPr b="1" lang="zh-CN" sz="3200" spc="-1" strike="noStrike">
                <a:solidFill>
                  <a:srgbClr val="0913dd"/>
                </a:solidFill>
                <a:latin typeface="宋体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913dd"/>
                </a:solidFill>
                <a:latin typeface="楷体_GB2312"/>
                <a:ea typeface="楷体_GB2312"/>
              </a:rPr>
              <a:t>：因为从情理上讲，好不容易捉到的松鼠，又是我非常喜欢的，没有理由放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松鼠"/>
          <p:cNvPicPr/>
          <p:nvPr/>
        </p:nvPicPr>
        <p:blipFill>
          <a:blip r:embed="rId1">
            <a:lum bright="3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304920" y="5335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说不出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为什么要这样做，但我觉得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非这样做不可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838080" y="3168360"/>
            <a:ext cx="7696440" cy="1556280"/>
          </a:xfrm>
          <a:prstGeom prst="rect">
            <a:avLst/>
          </a:prstGeom>
          <a:solidFill>
            <a:srgbClr val="bbe0e3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913dd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913dd"/>
                </a:solidFill>
                <a:latin typeface="宋体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913dd"/>
                </a:solidFill>
                <a:latin typeface="楷体_GB2312"/>
                <a:ea typeface="楷体_GB2312"/>
              </a:rPr>
              <a:t>说不出</a:t>
            </a:r>
            <a:r>
              <a:rPr b="1" lang="zh-CN" sz="3200" spc="-1" strike="noStrike">
                <a:solidFill>
                  <a:srgbClr val="0913dd"/>
                </a:solidFill>
                <a:latin typeface="宋体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913dd"/>
                </a:solidFill>
                <a:latin typeface="楷体_GB2312"/>
                <a:ea typeface="楷体_GB2312"/>
              </a:rPr>
              <a:t>：因为从情理上讲，好不容易捉到的松鼠，又是我非常喜欢的，没有理由放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913dd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913dd"/>
                </a:solidFill>
                <a:latin typeface="宋体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913dd"/>
                </a:solidFill>
                <a:latin typeface="楷体_GB2312"/>
                <a:ea typeface="楷体_GB2312"/>
              </a:rPr>
              <a:t>非这样做不可</a:t>
            </a:r>
            <a:r>
              <a:rPr b="1" lang="zh-CN" sz="3200" spc="-1" strike="noStrike">
                <a:solidFill>
                  <a:srgbClr val="0913dd"/>
                </a:solidFill>
                <a:latin typeface="宋体"/>
                <a:ea typeface="楷体_GB2312"/>
              </a:rPr>
              <a:t>”</a:t>
            </a:r>
            <a:r>
              <a:rPr b="1" lang="zh-CN" sz="3200" spc="-1" strike="noStrike">
                <a:solidFill>
                  <a:srgbClr val="0913dd"/>
                </a:solidFill>
                <a:latin typeface="楷体_GB2312"/>
                <a:ea typeface="楷体_GB2312"/>
              </a:rPr>
              <a:t>：因为我实在不忍心让小松鼠从此孤单、忧郁地生活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09120" y="304920"/>
            <a:ext cx="7696440" cy="399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尾巴像只降落伞，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整天爱往树林窜，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你要捉住把它拴，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再不让它进大山。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           （打一动物）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从文中哪里还可以看出我放了那只松鼠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图片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res05_attpic_brief[1]"/>
          <p:cNvPicPr/>
          <p:nvPr/>
        </p:nvPicPr>
        <p:blipFill>
          <a:blip r:embed="rId2"/>
          <a:stretch/>
        </p:blipFill>
        <p:spPr>
          <a:xfrm>
            <a:off x="6394320" y="3402000"/>
            <a:ext cx="2749680" cy="345600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4"/>
          <p:cNvSpPr/>
          <p:nvPr/>
        </p:nvSpPr>
        <p:spPr>
          <a:xfrm flipH="1">
            <a:off x="684360" y="404640"/>
            <a:ext cx="5472000" cy="2016360"/>
          </a:xfrm>
          <a:prstGeom prst="wedgeRoundRectCallout">
            <a:avLst>
              <a:gd name="adj1" fmla="val -43763"/>
              <a:gd name="adj2" fmla="val 11283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828720" y="404640"/>
            <a:ext cx="52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楷体"/>
              </a:rPr>
              <a:t>       </a:t>
            </a:r>
            <a:r>
              <a:rPr b="0" lang="zh-CN" sz="2400" spc="-1" strike="noStrike">
                <a:solidFill>
                  <a:srgbClr val="ff0000"/>
                </a:solidFill>
                <a:latin typeface="华文行楷"/>
                <a:ea typeface="华文行楷"/>
              </a:rPr>
              <a:t>倒叙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是根据表达的需要，把事件的结局或某个最重要、最突出的片断提到文章的前边，然后再从事件的开头按事情原来的发展顺序进行叙述的方法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6" descr="TN_gif094"/>
          <p:cNvPicPr/>
          <p:nvPr/>
        </p:nvPicPr>
        <p:blipFill>
          <a:blip r:embed="rId3"/>
          <a:stretch/>
        </p:blipFill>
        <p:spPr>
          <a:xfrm>
            <a:off x="8748720" y="6486480"/>
            <a:ext cx="395280" cy="37152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我”放了那只松鼠。心中没有了愧疚，有的只是无法拥有松鼠的遗憾，他还决定回家只字不提，是为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2"/>
          <p:cNvSpPr/>
          <p:nvPr/>
        </p:nvSpPr>
        <p:spPr>
          <a:xfrm>
            <a:off x="1925640" y="1693800"/>
            <a:ext cx="6175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"/>
          <p:cNvSpPr/>
          <p:nvPr/>
        </p:nvSpPr>
        <p:spPr>
          <a:xfrm>
            <a:off x="1042920" y="1989000"/>
            <a:ext cx="7488360" cy="10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当父亲说漏嘴时，他和女儿各有什么样的表现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4029120" y="1892160"/>
            <a:ext cx="30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3"/>
          <p:cNvSpPr/>
          <p:nvPr/>
        </p:nvSpPr>
        <p:spPr>
          <a:xfrm>
            <a:off x="762120" y="1143000"/>
            <a:ext cx="746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从女儿的表现中，你看出她是个什么的孩子呢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696080" cy="490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她是一个有爱心的孩子。 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她是一个善良的孩子。 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楷体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楷体"/>
              </a:rPr>
              <a:t>联系上下文：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楷体"/>
              </a:rPr>
              <a:t>得意忘形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楷体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楷体"/>
              </a:rPr>
              <a:t>饱含深情</a:t>
            </a:r>
            <a:r>
              <a:rPr b="1" lang="zh-CN" sz="3200" spc="-1" strike="noStrike">
                <a:solidFill>
                  <a:srgbClr val="ff0000"/>
                </a:solidFill>
                <a:latin typeface="华文楷体"/>
                <a:ea typeface="华文楷体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华文楷体"/>
              </a:rPr>
              <a:t>的意思？在文中所起的作用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2666520"/>
            <a:ext cx="8229600" cy="358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得意忘形：高兴得控制不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作用：其一假如父亲控制住了自己，女儿就不会知道这件事，但父亲一直会对女儿心存愧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其二，父亲说漏嘴使女儿得知这件事，他感受到了女儿对松鼠命运的关心，心里的石头才落了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饱含深情：充满深厚的感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Arial"/>
                <a:ea typeface="华文楷体"/>
              </a:rPr>
              <a:t>作用：感受到女儿纯洁美好的心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松鼠2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7699320" y="4952880"/>
            <a:ext cx="1444680" cy="1905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99"/>
                </a:solidFill>
                <a:latin typeface="Arial"/>
              </a:rPr>
              <a:t>拓展：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66"/>
                </a:solidFill>
                <a:latin typeface="Arial"/>
                <a:ea typeface="楷体_GB2312"/>
              </a:rPr>
              <a:t>讨论交流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      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课文从作者喜欢松鼠、捉松鼠到放松鼠，可以看出作者怎样的思想品质？在现实生活中，我们应该从中学习到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6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6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6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6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dur="indefinite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6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6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6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6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3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304920" y="228600"/>
            <a:ext cx="88390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</a:rPr>
              <a:t>课堂小结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333399"/>
                </a:solidFill>
                <a:latin typeface="Arial"/>
              </a:rPr>
              <a:t>课文写出了作者因为爱而捉松鼠，因为爱而放松鼠。这两种爱是不同的爱。前者是自私的爱，是为了满足自己的欲望的爱；后者是高尚的爱，伟大无私的爱。是热爱自然，关爱小动物的一种表现。学到这里，我想每个人的心里都有一颗爱的种子在发芽，让我们每个人都做一个有爱心的人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韦唯 - 爱的奉献0.mp3" descr=""/>
          <p:cNvPicPr/>
          <p:nvPr/>
        </p:nvPicPr>
        <p:blipFill>
          <a:blip r:embed="rId2"/>
          <a:stretch/>
        </p:blipFill>
        <p:spPr>
          <a:xfrm>
            <a:off x="8534520" y="62485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9" dur="1" fill="hold"/>
                                        <p:tgtEl>
                                          <p:spTgt spid="1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读了课文，能说一说你读懂了什么吗？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127955372018421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3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61c25dc6-46b3-4878-9ec1-e6385d93f0a3[1]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3399"/>
            </a:solidFill>
            <a:miter/>
          </a:ln>
        </p:spPr>
      </p:pic>
      <p:sp>
        <p:nvSpPr>
          <p:cNvPr id="119" name="AutoShape 3"/>
          <p:cNvSpPr/>
          <p:nvPr/>
        </p:nvSpPr>
        <p:spPr>
          <a:xfrm>
            <a:off x="755640" y="1125360"/>
            <a:ext cx="4464000" cy="2159280"/>
          </a:xfrm>
          <a:prstGeom prst="cloudCallout">
            <a:avLst>
              <a:gd name="adj1" fmla="val -21870"/>
              <a:gd name="adj2" fmla="val 81324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1004760" y="1413000"/>
            <a:ext cx="4248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华文楷体"/>
              </a:rPr>
              <a:t>       </a:t>
            </a:r>
            <a:r>
              <a:rPr b="1" lang="zh-CN" sz="1800" spc="-1" strike="noStrike">
                <a:solidFill>
                  <a:srgbClr val="0033cc"/>
                </a:solidFill>
                <a:latin typeface="Arial"/>
                <a:ea typeface="华文楷体"/>
              </a:rPr>
              <a:t>在那无忧的山林里，你一定在快乐的生活吧？我虽不能拥有你，却依然了无遗憾。因为我在远方想你、念你、为你祝福。希望在我们共同拥有的大自然中，快乐、无忧永伴你左右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WordArt 5" descr=""/>
          <p:cNvPicPr/>
          <p:nvPr/>
        </p:nvPicPr>
        <p:blipFill>
          <a:blip r:embed="rId2"/>
          <a:stretch/>
        </p:blipFill>
        <p:spPr>
          <a:xfrm>
            <a:off x="7446960" y="4432320"/>
            <a:ext cx="923760" cy="18381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AN456"/>
          <p:cNvPicPr/>
          <p:nvPr/>
        </p:nvPicPr>
        <p:blipFill>
          <a:blip r:embed="rId3"/>
          <a:stretch/>
        </p:blipFill>
        <p:spPr>
          <a:xfrm>
            <a:off x="7991640" y="6419880"/>
            <a:ext cx="1152360" cy="438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160" y="914040"/>
            <a:ext cx="693396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拼命逃窜 蹑手蹑脚 活泼伶俐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逃之夭夭 随身携带 俘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抗拒 乞求  惶恐不安  得意忘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饱含深情  高楼大厦 兴奋无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跑东窜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01000" cy="505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股  厦   褐   泼 </a:t>
            </a:r>
            <a:br>
              <a:rPr sz="9600"/>
            </a:b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伶  俐   鬼   夭 </a:t>
            </a:r>
            <a:br>
              <a:rPr sz="9600"/>
            </a:br>
            <a:r>
              <a:rPr b="0" lang="zh-CN" sz="9600" spc="-1" strike="noStrike">
                <a:solidFill>
                  <a:srgbClr val="000000"/>
                </a:solidFill>
                <a:latin typeface="Arial"/>
              </a:rPr>
              <a:t>缩   猜   叹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1"/>
          <p:cNvSpPr/>
          <p:nvPr/>
        </p:nvSpPr>
        <p:spPr>
          <a:xfrm>
            <a:off x="723960" y="4968720"/>
            <a:ext cx="55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rurl4_b=67aabeeea8033bf0521e7fe7fa1ba3b4edb6f3cff4587766f803d955c442d74a1220ae4c53418ea63005064ff69bf61f65db1e7d745b8cd653d67ad4b49bdb9d56dfb9f56eb40f0736cf4704d516732ba2e2e266&amp;a=28&amp;b=24"/>
          <p:cNvPicPr/>
          <p:nvPr/>
        </p:nvPicPr>
        <p:blipFill>
          <a:blip r:embed="rId1"/>
          <a:stretch/>
        </p:blipFill>
        <p:spPr>
          <a:xfrm>
            <a:off x="0" y="-747720"/>
            <a:ext cx="9394920" cy="6972480"/>
          </a:xfrm>
          <a:prstGeom prst="rect">
            <a:avLst/>
          </a:prstGeom>
          <a:ln w="0">
            <a:noFill/>
          </a:ln>
        </p:spPr>
      </p:pic>
      <p:grpSp>
        <p:nvGrpSpPr>
          <p:cNvPr id="127" name="Group 3"/>
          <p:cNvGrpSpPr/>
          <p:nvPr/>
        </p:nvGrpSpPr>
        <p:grpSpPr>
          <a:xfrm>
            <a:off x="250920" y="981000"/>
            <a:ext cx="2268360" cy="2273400"/>
            <a:chOff x="250920" y="981000"/>
            <a:chExt cx="2268360" cy="2273400"/>
          </a:xfrm>
        </p:grpSpPr>
        <p:pic>
          <p:nvPicPr>
            <p:cNvPr id="128" name="Picture 4" descr="图片11"/>
            <p:cNvPicPr/>
            <p:nvPr/>
          </p:nvPicPr>
          <p:blipFill>
            <a:blip r:embed="rId2"/>
            <a:stretch/>
          </p:blipFill>
          <p:spPr>
            <a:xfrm>
              <a:off x="250920" y="1052640"/>
              <a:ext cx="2268360" cy="22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Text Box 5"/>
            <p:cNvSpPr/>
            <p:nvPr/>
          </p:nvSpPr>
          <p:spPr>
            <a:xfrm>
              <a:off x="395280" y="981000"/>
              <a:ext cx="2124000" cy="22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8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200" spc="-1" strike="noStrike">
                  <a:solidFill>
                    <a:srgbClr val="0000cc"/>
                  </a:solidFill>
                  <a:latin typeface="Arial"/>
                  <a:ea typeface="楷体_GB2312"/>
                </a:rPr>
                <a:t>厦</a:t>
              </a:r>
              <a:endParaRPr b="0" lang="en-US" sz="1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Line 6"/>
          <p:cNvSpPr/>
          <p:nvPr/>
        </p:nvSpPr>
        <p:spPr>
          <a:xfrm flipV="1">
            <a:off x="2627280" y="1341000"/>
            <a:ext cx="1224000" cy="7923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7"/>
          <p:cNvSpPr/>
          <p:nvPr/>
        </p:nvSpPr>
        <p:spPr>
          <a:xfrm>
            <a:off x="2627280" y="2133720"/>
            <a:ext cx="1224000" cy="7920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4067280" y="620640"/>
            <a:ext cx="417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Xi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  <a:ea typeface="楷体_GB2312"/>
              </a:rPr>
              <a:t>à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厦门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4048200" y="2714760"/>
            <a:ext cx="2611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3924360" y="2914560"/>
            <a:ext cx="431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宋体"/>
              </a:rPr>
              <a:t>sh</a:t>
            </a:r>
            <a:r>
              <a:rPr b="0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à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楷体"/>
              </a:rPr>
              <a:t>    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"/>
              </a:rPr>
              <a:t>大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2266920" y="2349360"/>
            <a:ext cx="641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000066"/>
                </a:solidFill>
                <a:latin typeface="Arial"/>
                <a:ea typeface="楷体_GB2312"/>
              </a:rPr>
              <a:t>你想对文中的父女俩说些什么？在小组内交流，并写下来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3"/>
          <p:cNvSpPr/>
          <p:nvPr/>
        </p:nvSpPr>
        <p:spPr>
          <a:xfrm>
            <a:off x="77040" y="692280"/>
            <a:ext cx="1399320" cy="51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科学训练   提高能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月总结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精美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课件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企业介绍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商务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市场营销策划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  http://www.eeppt.com/moban/yingxiao/           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素材图片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图表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06346-9B1C-4885-B99B-1B3B0D2B7BD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 txBox="1"/>
          <p:nvPr/>
        </p:nvSpPr>
        <p:spPr>
          <a:xfrm>
            <a:off x="152280" y="1219320"/>
            <a:ext cx="60962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66"/>
                </a:solidFill>
                <a:latin typeface="黑体"/>
                <a:ea typeface="黑体"/>
              </a:rPr>
              <a:t>同学们，现在让我们一起来欣赏几组漂亮的图片吧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1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304920" y="380520"/>
            <a:ext cx="8229600" cy="58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66"/>
                </a:solidFill>
                <a:latin typeface="Arial"/>
                <a:ea typeface="黑体"/>
              </a:rPr>
              <a:t>可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儿歌 - 小松鼠0.mp3" descr=""/>
          <p:cNvPicPr/>
          <p:nvPr/>
        </p:nvPicPr>
        <p:blipFill>
          <a:blip r:embed="rId2"/>
          <a:stretch/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1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66"/>
                </a:solidFill>
                <a:latin typeface="Arial"/>
                <a:ea typeface="黑体"/>
              </a:rPr>
              <a:t>贪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4"/>
          <p:cNvSpPr/>
          <p:nvPr/>
        </p:nvSpPr>
        <p:spPr>
          <a:xfrm>
            <a:off x="533520" y="5410080"/>
            <a:ext cx="2514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Arial"/>
              </a:rPr>
              <a:t>活泼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1584360" y="4952880"/>
            <a:ext cx="62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山丹丹花开红艳艳-广场舞曲-九州麦田[高质量]www.sudupan.com.mp3" descr=""/>
          <p:cNvPicPr/>
          <p:nvPr/>
        </p:nvPicPr>
        <p:blipFill>
          <a:blip r:embed="rId2"/>
          <a:stretch/>
        </p:blipFill>
        <p:spPr>
          <a:xfrm>
            <a:off x="82296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矩形 4"/>
          <p:cNvSpPr/>
          <p:nvPr/>
        </p:nvSpPr>
        <p:spPr>
          <a:xfrm>
            <a:off x="1295280" y="2438280"/>
            <a:ext cx="7351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黑体"/>
              </a:rPr>
              <a:t>有一个人捕捉到了一只可爱的小松鼠，那只松鼠的命运如何？让我们一起来学习课文</a:t>
            </a:r>
            <a:r>
              <a:rPr b="1" lang="en-US" sz="4800" spc="-1" strike="noStrike">
                <a:solidFill>
                  <a:srgbClr val="333399"/>
                </a:solidFill>
                <a:latin typeface="Arial"/>
                <a:ea typeface="黑体"/>
              </a:rPr>
              <a:t>《</a:t>
            </a:r>
            <a:r>
              <a:rPr b="1" lang="zh-CN" sz="4800" spc="-1" strike="noStrike">
                <a:solidFill>
                  <a:srgbClr val="333399"/>
                </a:solidFill>
                <a:latin typeface="Arial"/>
                <a:ea typeface="黑体"/>
              </a:rPr>
              <a:t>那只松鼠</a:t>
            </a:r>
            <a:r>
              <a:rPr b="1" lang="en-US" sz="4800" spc="-1" strike="noStrike">
                <a:solidFill>
                  <a:srgbClr val="333399"/>
                </a:solidFill>
                <a:latin typeface="Arial"/>
                <a:ea typeface="黑体"/>
              </a:rPr>
              <a:t>》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153280" cy="422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自由读课文，思考课文主要写了一件什么事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2T06:01:1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44:47Z</dcterms:modified>
  <cp:revision>6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