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8E9-141D-47D8-A5C7-FFE444456E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FBB-2D89-48D0-A851-4A12A188434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F89-4A58-48AE-8AB0-3377C1BC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098-9FEE-4AE7-941A-7BFA27E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B89-567B-4FA6-95BE-0A543F2F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61D-1D7F-44BA-B9AE-4855A2A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ACF-86A3-4809-B890-64D6FCB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FFD-37DA-46BA-AA4E-E8ACD1EC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7C42-8C55-4A41-8A0F-49999495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1FC-BD71-453B-91B4-1192D0F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DC6-29C8-4593-8D32-24F0E52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C8B-96AD-4800-8494-D52DDCD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1DA9-9AA7-4CFC-BA46-F686278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394-1D6C-4C39-AFBD-E5C533B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87F-AE0A-4498-8A59-7E6307E3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94B-1AFB-48A1-B105-D2F29FA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2C6B-5E2A-49D7-A292-D8E99854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2F7-FCE6-4AC5-ACF3-DD3DD71D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AD9-22B1-4664-B143-09BCA902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898-AF5B-4C38-B0C5-48E2AE6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C72-9A2E-4A7C-8A2B-61106E4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3F6-5542-4BD6-ADD7-AFB2D94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BEE-BD6C-4616-92B1-999EBF4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9D1-DE84-4588-85FD-88B9EDF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456-01D8-4165-9E96-15EF544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32E-8CAE-4B4E-88DE-DCA6C75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B24-364F-419E-B2B5-5B839A58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131-E878-4F79-ABDA-92BA34F2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9874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 巧装蛋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24080" y="60958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8560" y="211788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巧妙　　灵巧　　蛋糕　　糕点　　顾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836720" y="3886200"/>
            <a:ext cx="543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为难　　困难　　检查　　查找　　一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  糕  顾  客  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08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iǎ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1115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79480" y="7621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  检  查  遍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39920" y="35053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082840" y="3505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927840" y="3505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7986240" y="762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ì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ShockwaveFlash6" descr=""/>
          <p:cNvPicPr/>
          <p:nvPr/>
        </p:nvPicPr>
        <p:blipFill>
          <a:blip r:embed="rId7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ShockwaveFlash7" descr=""/>
          <p:cNvPicPr/>
          <p:nvPr/>
        </p:nvPicPr>
        <p:blipFill>
          <a:blip r:embed="rId8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ShockwaveFlash8" descr=""/>
          <p:cNvPicPr/>
          <p:nvPr/>
        </p:nvPicPr>
        <p:blipFill>
          <a:blip r:embed="rId9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ShockwaveFlash9" descr=""/>
          <p:cNvPicPr/>
          <p:nvPr/>
        </p:nvPicPr>
        <p:blipFill>
          <a:blip r:embed="rId10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08071411020790477"/>
          <p:cNvPicPr/>
          <p:nvPr/>
        </p:nvPicPr>
        <p:blipFill>
          <a:blip r:embed="rId1"/>
          <a:stretch/>
        </p:blipFill>
        <p:spPr>
          <a:xfrm>
            <a:off x="304920" y="1371600"/>
            <a:ext cx="297792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429000" y="170640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1868—193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出生于俄国一个木工的家庭。他是在苦难中长大的，只上过五个月小学，十岁开始走向“人间”。他当过学徒、饭店伙计、搬运工、面包师等。在每天十几个小时的繁重劳动中，他总是抓紧时间，贪婪地读书。店老板不准他读书，每晚把蜡烛锁进柜子，没有蜡烛，高尔基就把烛盘上的蜡油收集起来，装在一只罐头瓶里，做成一盏小灯，点了火照着读书。在面包房当工人时，他用小木棒在揉面的台子前架起一个“小书架”，放上一本书，一边揉面团，一边读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3301920" y="3108240"/>
            <a:ext cx="49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E06-CDEF-4536-93E7-AB97B57C30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1300000180919121506380027124"/>
          <p:cNvPicPr/>
          <p:nvPr/>
        </p:nvPicPr>
        <p:blipFill>
          <a:blip r:embed="rId1"/>
          <a:stretch/>
        </p:blipFill>
        <p:spPr>
          <a:xfrm>
            <a:off x="2790720" y="1066680"/>
            <a:ext cx="35625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20732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09480" y="2060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小时候家里很穷，小小年纪就在一家食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i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ō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他一有空就钻到书本里，伙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们都笑他是个书呆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有一天，一个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ù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kè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送来一张奇怪的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ì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货单，上面写着：订做九块蛋糕，要装在四个盒子里，每个盒子最少装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kuài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79440" y="1143000"/>
            <a:ext cx="28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iǎo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蛋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ā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33520" y="2701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伙儿急了，老板也很为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ná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高尔基说：“让我试试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先将九块蛋糕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fē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装在三个盒子里，再把这三个盒子装进一个大盒子里，包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ǔ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那个顾客来了。他仔细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ǎ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h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了一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bi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拎着蛋糕盒满意地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，老板和伙计才松了一口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大家都十分佩服高尔基的智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024440" y="898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装蛋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066680" y="4419720"/>
            <a:ext cx="3276720" cy="1828800"/>
          </a:xfrm>
          <a:prstGeom prst="cloudCallout">
            <a:avLst>
              <a:gd name="adj1" fmla="val -45203"/>
              <a:gd name="adj2" fmla="val 5599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说这是一张奇怪的订货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33520" y="2212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小时候家里很穷，小小年纪就在一家食品店打工。他一有空就钻到书本里，伙计们都笑他是个书呆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有一天，一个顾客送来一张奇怪的订货单，上面写着：订做九块蛋糕，要装在四个盒子里，每个盒子最少装三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4343400" y="373392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71680" y="21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伙儿急了，老板也很为难。高尔基说：“让我试试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先将九块蛋糕分装在三个盒子里，再把这三个盒子装进一个大盒子里，包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5943600" y="3886200"/>
            <a:ext cx="2438280" cy="2438280"/>
            <a:chOff x="5943600" y="3886200"/>
            <a:chExt cx="2438280" cy="2438280"/>
          </a:xfrm>
        </p:grpSpPr>
        <p:sp>
          <p:nvSpPr>
            <p:cNvPr id="105" name="Oval 4"/>
            <p:cNvSpPr/>
            <p:nvPr/>
          </p:nvSpPr>
          <p:spPr>
            <a:xfrm>
              <a:off x="5943600" y="3886200"/>
              <a:ext cx="2438280" cy="243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6477120" y="5181480"/>
              <a:ext cx="990360" cy="990720"/>
            </a:xfrm>
            <a:prstGeom prst="ellipse">
              <a:avLst/>
            </a:prstGeom>
            <a:solidFill>
              <a:srgbClr val="b590d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6629400" y="5334120"/>
              <a:ext cx="347760" cy="3474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"/>
            <p:cNvSpPr/>
            <p:nvPr/>
          </p:nvSpPr>
          <p:spPr>
            <a:xfrm>
              <a:off x="7010280" y="541008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0"/>
            <p:cNvSpPr/>
            <p:nvPr/>
          </p:nvSpPr>
          <p:spPr>
            <a:xfrm>
              <a:off x="6738840" y="567216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6248520" y="4191120"/>
              <a:ext cx="990360" cy="990360"/>
            </a:xfrm>
            <a:prstGeom prst="ellipse">
              <a:avLst/>
            </a:prstGeom>
            <a:solidFill>
              <a:srgbClr val="b590d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2"/>
            <p:cNvSpPr/>
            <p:nvPr/>
          </p:nvSpPr>
          <p:spPr>
            <a:xfrm>
              <a:off x="6400800" y="434340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3"/>
            <p:cNvSpPr/>
            <p:nvPr/>
          </p:nvSpPr>
          <p:spPr>
            <a:xfrm>
              <a:off x="6781680" y="4419720"/>
              <a:ext cx="347760" cy="3474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6510240" y="468144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7238880" y="4495680"/>
              <a:ext cx="990720" cy="990720"/>
            </a:xfrm>
            <a:prstGeom prst="ellipse">
              <a:avLst/>
            </a:prstGeom>
            <a:solidFill>
              <a:srgbClr val="b590d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7391520" y="4648320"/>
              <a:ext cx="347400" cy="3474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7772400" y="472428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8"/>
            <p:cNvSpPr/>
            <p:nvPr/>
          </p:nvSpPr>
          <p:spPr>
            <a:xfrm>
              <a:off x="7500960" y="4986360"/>
              <a:ext cx="347760" cy="3477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20"/>
          <p:cNvSpPr/>
          <p:nvPr/>
        </p:nvSpPr>
        <p:spPr>
          <a:xfrm>
            <a:off x="152280" y="228600"/>
            <a:ext cx="3048120" cy="1752480"/>
          </a:xfrm>
          <a:prstGeom prst="cloudCallout">
            <a:avLst>
              <a:gd name="adj1" fmla="val -42810"/>
              <a:gd name="adj2" fmla="val 70018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是如何解决这个难题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2666880" y="3276720"/>
            <a:ext cx="5791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09480" y="3657600"/>
            <a:ext cx="3124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51400" y="2133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为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477800" y="3444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51400" y="3444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试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157400" y="21556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伙    计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71680" y="1952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久，那个顾客来了。他仔细检查了一遍，拎着蛋糕盒满意地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，老板和伙计才松了一口气，大家都十分佩服高尔基的智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85800" y="3733920"/>
            <a:ext cx="3886200" cy="2133360"/>
          </a:xfrm>
          <a:prstGeom prst="cloudCallout">
            <a:avLst>
              <a:gd name="adj1" fmla="val -52736"/>
              <a:gd name="adj2" fmla="val 5148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觉得这个订货的顾客是一个怎样的顾客？高尔基想出的办法达到他的要求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724280" y="23623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1066680" y="27432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7620120" y="31240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685800" y="345276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57400" y="21556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伙    计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551400" y="2133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为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13360" y="2133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佩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7800" y="3444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551400" y="3444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试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913360" y="3444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智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4952880" y="457200"/>
            <a:ext cx="3353040" cy="1752480"/>
          </a:xfrm>
          <a:prstGeom prst="cloudCallout">
            <a:avLst>
              <a:gd name="adj1" fmla="val 49907"/>
              <a:gd name="adj2" fmla="val 52717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高尔基的智慧是天生就具有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14680" y="4800600"/>
            <a:ext cx="57150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他一有空就钻到书本里，伙计们都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他是个书呆子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57:29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9:32Z</dcterms:modified>
  <cp:revision>1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