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1F99-7F7E-4EAF-8F08-30668188C5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884B-D68B-4DE7-BC3D-F0E62001EC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F50-6D30-4D0B-BD8D-91371B5C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80E-8CDE-4738-9085-82876843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F54-DB82-473F-B399-C1F8E1E2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86A-78A0-448B-9952-DB317323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987-5BE1-48E2-94EA-E17371F2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E4BA-94E5-4137-88BB-C94C7FCD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6049-35D2-4968-858B-071200EA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BA87-CA6F-497C-80F1-DDA850AD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F454-CF2B-45C0-AC12-A0FD7CBD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A048-FA84-4059-A445-DE20C413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3BE-DBC5-4D44-B1B8-D17B4CB5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9C50-F6F0-40C9-A2D4-902C87C5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54DA-3455-41FC-BC0C-DEE2550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42E2-094D-45BC-AAA1-7173492B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424D-4C8F-4D3D-ACC1-7B81A585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38F7-75BB-466E-93E4-7D8BE586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B7CE-F09B-483B-AE2E-61EAF1F8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76A9-FC35-4B53-89AA-3925B47E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BB4-2ED5-485E-A072-DBEC8582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E06-357E-4B18-93AC-853DA30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26E-A2BB-4D75-8E41-6BF9E1C3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C47-D718-4463-ABF5-C9645A0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653-C2F8-4C04-9E61-2DC620D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E66-8831-4A43-8DA1-14E18DDF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C79E-6683-4F7F-807F-8F89107FD1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0B8D-1728-44B7-B98C-1181B171E6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"/>
          <p:cNvSpPr/>
          <p:nvPr/>
        </p:nvSpPr>
        <p:spPr>
          <a:xfrm>
            <a:off x="0" y="2421000"/>
            <a:ext cx="9144000" cy="2232000"/>
          </a:xfrm>
          <a:prstGeom prst="rect">
            <a:avLst/>
          </a:prstGeom>
          <a:solidFill>
            <a:srgbClr val="ffc000">
              <a:alpha val="38000"/>
            </a:srgbClr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QWQ\课件素材\XS_014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709640" y="25336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833920" y="358128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松坊溪的冬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/>
          <p:cNvSpPr/>
          <p:nvPr/>
        </p:nvSpPr>
        <p:spPr>
          <a:xfrm>
            <a:off x="2120400" y="5784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09480" y="1447920"/>
            <a:ext cx="784872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那溪石多么好看，有的像一群小牛在饮水，有的像两只狮睡在岸边，有的像几只熊正准备走上岸来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63560" y="357192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溪中的大溪石上和小溪石上都覆盖着白雪， 好像有一群白色的小牛在溪中饮水；好像有两只白色的狮睡在雪地；好像有几只白色的熊，正准备从溪中冒雪走上溪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609480" y="1066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那鹅卵石多么好看！有玛瑙红的，有松青的，有带着白色条纹、彩色班点的，还有像蓝宝石般发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533520" y="2971800"/>
            <a:ext cx="624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溪水多么清！溪中照着蓝天的影子，又照着桥的影子；照着蓝天上浮游的云絮的影子，又照着山上松树林的影子。秋天里蓝色的雏菊在岸边开放，溪中的流水照亮它们的影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8088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57200" y="29718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990720" y="4800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95280" y="2895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838080" y="19051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像棉絮一般的雪，像芦花一般的雪，像蒲公英的带绒毛的种子一般的雪，在风中飞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90720" y="39625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62120" y="3657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像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棉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雪，像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芦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的雪，像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蒲公英的带绒毛的种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的雪，在风中飞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"/>
          <p:cNvSpPr/>
          <p:nvPr/>
        </p:nvSpPr>
        <p:spPr>
          <a:xfrm>
            <a:off x="990720" y="600228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09480" y="609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714680" y="928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我要从桥上走开时，我看见桥下溪中的白雪世界间，有一群彩色的溪鱼，接着又有一群彩色的溪鱼，穿过桥洞，正在游来游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44792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忽地，我看见那成群游行的彩色溪鱼，一下子都散开了，向溪石的洞隙间游去，都有看不见了。忽地，彩色的溪鱼又都游出来了，又集合起来。我看见一群又一群彩色的溪鱼，穿过一个映照在溪水中间的、明亮的白雪世界，向前游过去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752480" y="52578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D:\QWQ\边框图.jpg"/>
          <p:cNvPicPr/>
          <p:nvPr/>
        </p:nvPicPr>
        <p:blipFill>
          <a:blip r:embed="rId1"/>
          <a:stretch/>
        </p:blipFill>
        <p:spPr>
          <a:xfrm>
            <a:off x="-301680" y="0"/>
            <a:ext cx="9441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1295280" y="1523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我要从桥上走开时，我看见桥下溪中的白雪世界间，有一群彩色的溪鱼，接着又有一群彩色的溪鱼，穿过桥洞，正在游来游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295280" y="3429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忽地，我看见那成群游行的彩色溪鱼，一下子都散开了，向溪石的洞隙间游去，都有看不见了。忽地，彩色的溪鱼又都游出来了，又集合起来。我看见一群又一群彩色的溪鱼，穿过一个映照在溪水中间的、明亮的白雪世界，向前游过去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山水PPT背景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04" name="WordArt 3"/>
          <p:cNvSpPr txBox="1"/>
          <p:nvPr/>
        </p:nvSpPr>
        <p:spPr>
          <a:xfrm>
            <a:off x="2916360" y="2133720"/>
            <a:ext cx="3363840" cy="17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8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4EB8-6BD6-4361-ACE4-5408F18153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:\QWQ\课件素材\XS_007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:\QWQ\课件素材\冬天的山溪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x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6"/>
          <p:cNvSpPr/>
          <p:nvPr/>
        </p:nvSpPr>
        <p:spPr>
          <a:xfrm>
            <a:off x="838080" y="2362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山水PPT背景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837720" y="1219320"/>
            <a:ext cx="8007480" cy="4876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24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千山鸟飞绝，万径人踪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4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千里黄云白日曛，北风吹雁雪纷纷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4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忽如一夜春风来，千树万树梨花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山水PPT背景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Calibri"/>
              </a:rPr>
              <a:t>作者简介</a:t>
            </a:r>
            <a:endParaRPr b="1" lang="en-US" sz="36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2"/>
          <a:stretch/>
        </p:blipFill>
        <p:spPr>
          <a:xfrm>
            <a:off x="765000" y="996840"/>
            <a:ext cx="761400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D:\QWQ\边框图.jpg"/>
          <p:cNvPicPr/>
          <p:nvPr/>
        </p:nvPicPr>
        <p:blipFill>
          <a:blip r:embed="rId1"/>
          <a:stretch/>
        </p:blipFill>
        <p:spPr>
          <a:xfrm>
            <a:off x="-301680" y="0"/>
            <a:ext cx="9441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523520" y="1828440"/>
            <a:ext cx="5791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Calibri"/>
              </a:rPr>
              <a:t>松坊溪  山垄  枫树   </a:t>
            </a: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Calibri"/>
              </a:rPr>
              <a:t>鹅卵石  斑点  柳絮</a:t>
            </a: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Calibri"/>
              </a:rPr>
              <a:t>火焰     草垛   篱笆</a:t>
            </a: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Calibri"/>
              </a:rPr>
              <a:t>洞隙</a:t>
            </a: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0666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11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Calibri"/>
              </a:rPr>
              <a:t>默读课文，思考：课文从哪几方面描写了松坊溪的美景</a:t>
            </a:r>
            <a:r>
              <a:rPr b="0" lang="en-US" sz="4400" spc="-1" strike="noStrike">
                <a:solidFill>
                  <a:srgbClr val="ff9933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D:\QWQ\边框图.jpg"/>
          <p:cNvPicPr/>
          <p:nvPr/>
        </p:nvPicPr>
        <p:blipFill>
          <a:blip r:embed="rId1"/>
          <a:stretch/>
        </p:blipFill>
        <p:spPr>
          <a:xfrm>
            <a:off x="-301680" y="0"/>
            <a:ext cx="9441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zh-CN" sz="5400" spc="-1" strike="noStrike">
                <a:solidFill>
                  <a:srgbClr val="cc0000"/>
                </a:solidFill>
                <a:latin typeface="Calibri"/>
              </a:rPr>
              <a:t>阅读提示：</a:t>
            </a:r>
            <a:endParaRPr b="0" lang="en-US" sz="54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Calibri"/>
              </a:rPr>
              <a:t>    </a:t>
            </a:r>
            <a:r>
              <a:rPr b="1" lang="zh-CN" sz="5400" spc="-1" strike="noStrike">
                <a:solidFill>
                  <a:srgbClr val="663300"/>
                </a:solidFill>
                <a:latin typeface="Calibri"/>
                <a:ea typeface="黑体"/>
              </a:rPr>
              <a:t>你认为什么时候的松坊溪最好看？勾画出相关语句，标注自己的体会。</a:t>
            </a:r>
            <a:endParaRPr b="0" lang="en-US" sz="5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1:12:4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9:07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