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DFAA-09F9-42FD-AEBE-13F0334D37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E6BF-8803-40E9-B16D-C609E1034A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9BE-2FB4-4A80-8735-9253A3B2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BA4-47A2-46F6-BC18-53CB47B4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32D-26EB-4F7F-BDFE-1DD67F9D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1A6-E218-4C52-B3AF-A9597ACD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872D-3555-4E3B-9F4D-D0864A0B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143B-CC4A-4618-B96C-D0594A99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E7CF-60CF-4C79-93A2-F5D6A11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2349-3F3F-4F84-8368-6CD7C5F2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05DC-01E6-4A9D-AE50-76B3DA87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761A-F852-46E1-98D6-055B88C0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87AC-C875-4603-8BB9-B185275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63E-FB1C-4126-903D-69A1A013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A09E-9AA5-4532-A587-47010399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D271-78B6-4117-9394-1A0BB79B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5D98-ECD7-41EE-BEA7-240A55C9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6691-CBE4-4215-93C4-1658A61B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DCF1-1FD1-499A-B49E-2C488ACD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BA5-27E9-4031-BB37-3991B273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589-FA85-4B22-8C80-AF56BA54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B0A-0679-4328-ADE8-FB6F2CE4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594-2BED-4FE2-A97F-AC6A66E2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DC2-9214-4DC5-8ADC-CCCA9403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FF3-D9A6-465B-BD32-CD92E148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43E-745E-4B0F-8162-5B676507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628D-C934-4016-8123-3A270EA08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83F0-8092-4413-B2C1-FA91F9FBE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神话大观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77912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你在什么时候听人讲过神话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你在什么书上（或电视上）看过神话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看谁数出的中外神话故事多？选择几个填写在书中的横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要想把故事讲得吸引人，应做到哪些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故事经过完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故事情节生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语言表达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要想把故事讲得吸引人，应做到哪些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故事经过完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故事情节生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语言表达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1744560" y="5241960"/>
            <a:ext cx="56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6"/>
          <p:cNvSpPr/>
          <p:nvPr/>
        </p:nvSpPr>
        <p:spPr>
          <a:xfrm>
            <a:off x="2195640" y="1800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刚才同学们所讲的故事中，你对那个人物最感兴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试着评价一下这个人物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4000" y="2204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让我们把自己收集到的神话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讲给身边的弟弟妹妹们听吧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4E0A-A7D4-4B79-AF71-A16F2663ED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01:27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6:48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