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564C-047F-4D7F-9ACB-B6D9F25CCA8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91C3-B8F8-4AD7-A7AF-02013E6FA02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5BDD-2AEF-483E-9934-E35746E8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6173-D11A-4440-BB84-F5F4588A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14C45-6C3D-4E71-99B8-0ABD07AF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29D9D-5D27-4A75-B40D-22361BC3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B1D6E-14BB-45D9-9279-A64D5DCC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DE525-1AC5-4BF7-837F-DA30D365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FAA85-5E81-4599-93DD-E0EFEBA9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CF85B-6373-4528-8CD0-020F8A98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95DB5-4759-41E5-896D-65B5DCB3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14B76-7408-416B-8E25-6BC5C9FD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9B117-6433-4AB5-AEB0-5674C13C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448E5-14ED-450E-9A1F-F00D6FC0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FBFB-5E0D-48A0-A22F-DEBA81BA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A18DF-6EBD-4A79-A8F3-4E1A093A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2DDF6-17EE-4C7E-B76A-6B088E54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9C818-BA60-4807-990E-7E85378A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F65E2-A4F5-4A4C-9444-085973BF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36D78-FDF6-480B-9244-B5D705D7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C6513-10FF-449A-A782-4E7B639A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EA877C-C289-429A-8164-BFA6674A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A7DCF-D454-4DC9-8A49-4441566B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414F2-765A-4B53-BF59-86203C8A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34A1A-F937-4D88-93EB-0710DB58D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BA88-31FC-4B00-9F6D-1E05DC8E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DE802-045E-4644-A530-4260FB3DF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5A97C-BEF3-42B7-848E-1D5D0C133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21750-784B-4593-BE1A-930CC0E4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D0ABE-4380-422B-BB7F-0DCDE637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E4CD3-4322-410F-B4BE-8461F95C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F489A-4530-45DA-BD38-F2953D23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67D81-8A0F-47A4-BB44-D9B96B01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3A9E1-2B9D-4176-8622-074CA2B4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90A5F-5814-4988-A358-C89E294F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0665C-24B5-4124-9DCD-7A111BE8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C085-6228-4981-98FD-EE37B2C2D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6791E-DBFD-4C2C-A24D-3FC58F68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C961D-27F3-45F1-96F4-9B77C5D2C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9A917-C22F-4CB8-AD18-48754BBA6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65EB8-01D3-45DA-BAC8-E749F6ED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23D9A6-BA60-4E22-90EF-6A3DF4C6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E465DC-62AB-4D54-A1D8-7B555223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FA3E20-4DBB-4D8A-9121-D814DA37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F1151-2F37-42A9-8747-035B63D0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824F7-F6AE-473A-A2A2-719C6E92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F66E75-2A2E-46EF-B153-3036D152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6667-128F-409A-A736-B40FEDDD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C02604-99BB-4D27-BD65-E0C2BCA3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CFF9B-1972-49A5-B3D8-31AFF91E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E7B0DC-24F6-478C-9231-8BD29883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BD166-4E6F-499B-9CBE-AF241DC5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E2B2E7-6021-4A66-905A-597DD2F9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03EE26-7C2D-4B89-8F86-6E3BAA139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2C08B6-13A4-4E8D-9A4A-7E4AD5E7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636CBA-3411-44BA-85FC-F9AF22EC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78EEDA-E2A9-481A-9382-739B8955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3E90ED-8A2C-4084-AD7D-939FA462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899E-D491-412E-8A71-B68743CC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9542AF-B391-466B-8141-668EC217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B39666-619A-49F5-AD76-22115C95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7635E9-8C3D-4B37-84E9-4D003217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D0663F-55A1-45A7-B0EC-1002FA59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FD5416-ED32-4BFD-AB3C-1282174E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B5FE95-1EED-4655-B033-BF941184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D39A86-833C-46DE-9085-EDE54DBA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23A6-39D3-4238-AF05-186602CD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E2B2-3D49-458C-A6F0-B18F4B84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41C4-AD02-4221-90B3-E02642DE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DF57-9642-45A2-B5F9-59819148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E9DD-1343-4B35-984D-135F68CD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7E11-F97E-4B8A-A87B-4F1A1CC3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07B9-4FC7-4ED6-8C5D-15B3A01E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C296-C924-4BF6-945B-6FEF4D51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78D5-CF3B-4198-ABF5-DB9E11E1B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483D-6E84-450E-A0F9-087210508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B6A2C-4A3C-4563-B6C4-E2094650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23EC1-4898-47E2-8AD6-BD15D388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2BD57-639F-4B99-A828-15F31D14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7EA8F-09DC-4C2E-B905-44AEB684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C8CE3-DBEF-458D-A75D-EC995C75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7275-4EBF-4C40-A417-51D969BA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C78A0-51ED-4408-BADE-7D0E12E1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A7362-8B75-4E51-8AA9-C6CBD21E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2C574-97D5-4222-8BA2-428AEE5B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A06E0-5C37-47E4-A4D5-6D79D8D0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9BE87-622C-4A6E-867A-47596DA2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B64E0-62C1-4426-83BA-91DCE042B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97C6B-B59F-403E-B6C9-9E695EA27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53B2E-A9DB-45A4-BC2E-0FF4404C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DF758-EAA0-4BC9-93FE-AE2072CA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98190-D7A2-4F7C-8080-4DFAD724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6EAC-6310-4D9F-8E9D-162C92A5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67D90-174D-4F4F-9603-0646D87C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51C57-6305-4780-9BA7-3B86F8E7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2C1C7-E651-4CD4-8EA8-C4A07404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69D7D-58E8-4177-BF05-53C711FD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0F723-F693-4933-BC2A-0B39D6BD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AA004-78BF-467F-85F8-A8844475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FD3CC-9EB3-4A71-AE4D-791CC057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0D3C8-2757-4725-A183-92ED0102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1F548-02EA-4803-B7AA-9422D30E1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DE09C-0014-43BD-8FD1-C0973F56F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63B6-5DB2-47BE-A007-B29B2163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63F15-AF14-4F77-ABEA-F16BEBAF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813D1-18EE-4BF1-9E02-41AED501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1100D-2B11-472A-B676-25BBED10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7CA90-0208-4E1B-A8D6-09712E77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ABCD8-7E9E-4923-A4E1-1F871810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AFF41-A8D3-4975-9A1B-2D27A46C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BA38F-844D-4550-9D7F-D4CFA4E0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AABE0-1562-4BF1-8666-1473ABE3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623E0-7235-4B5A-A35F-53021753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19BBE-A689-4A2D-B20D-A7F53B4E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B178-D74F-4E76-9754-C2308953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2ACEC-4B6C-4EC5-8A2A-84B3B5EA3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5EE99-1A6F-406D-93C9-149AF80B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59CA1-7227-4838-A604-14A5967D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DF00A-47F2-4EEA-977E-C3648B11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5C9D0-232B-4926-9594-79E7B2E7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B40C0-0509-4C85-B7A9-5EBAB8B6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A3908-A03C-4D26-897D-B4887413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294CF-FCD7-4B08-B1CF-242EF4C5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2A083-1AC1-4D47-8CE4-E89D5731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CCBFD-405A-4487-BBFB-BCCEACBA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7B24-861D-4617-A26F-0CB6E539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9A04D-3423-4610-B386-0333C88A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FE8F5-48C2-4E82-A223-22AB6182B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BA8E3-13AD-45E8-B04B-E2326F93A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E9D14-DC20-4AB5-A99F-E360E958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B7EF7-3F65-43D0-8F82-4C438579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E39A5-DD80-4F1D-911B-DE79D7AC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A7D9B-976A-49D5-8473-3B857DDB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5EF43-CF46-4CDD-B69E-69511C97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66589-B917-4E04-8A3E-C901A27C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87436-4139-4CD5-999D-8A9C677F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529D-3704-4B1F-894A-100FF079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419BF-51BF-43A1-B4F0-ADEB41B4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47CE1-B009-4CF3-832F-26D8EFEF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4C2CB-8CF8-429C-BAA6-A2997542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9D65B-9A38-423B-9D32-944BC7DF5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B762A-F65A-45FE-BD13-E418980F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68999-D288-4ADA-9391-E7520F25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5FF51-2213-41A0-82C4-379A5B3B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5CC8F-7020-4D82-89B1-3AE9ECDC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B988C-BBC3-4FDD-AA56-94FE45C8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E701C-94B7-4DAE-AE5C-FA15DB62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5C7E-88CF-4CE6-BBFB-BC4AF28F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9D8FB-239A-4963-99C9-43046554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57642-AFFD-463D-8CB0-F12D7C39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4BFF4-E154-4E20-9E20-457387EF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00DAE-9124-4155-BE57-9213D090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43D82-5D44-4B46-AFA3-D1AB3F42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4A522-5875-4AB9-81D9-1F7CD4EF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0DD51-E387-4D76-9263-C65D0D355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8563A-761E-419B-8FAF-31CF1F25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3CE6D-9A05-429F-8E9D-A82BC3B1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2CC8F-FDB1-4820-B1A9-CBACF2D6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8B03-2495-40E1-960D-CC5A45EB86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7377-59E2-424F-9E26-A0472C9F703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CADA-5C39-4B31-B308-F43352087B7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DB98-8B19-4A7F-8B73-9FE08160C28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6DD8-D3D8-4339-AEAF-8486415974F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BC34-AAF2-43CB-A663-6DFB27FE057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BFFC-A603-4D1A-A434-350B8D95C44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9FAE-0740-47C5-8CA3-A843216548B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F7C4-F557-4255-A076-91B2D4F6A7E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D7EB-31DF-472C-94D1-B32D21669DE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AC0E-AED6-48E6-AC6E-1891F742A3F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53C6-834E-42AD-A963-38F46F8084B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C315-FE97-45D2-BF0A-F89EB5C3C53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hyperlink" Target="http://www.1ppt.cn/" TargetMode="External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1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3"/>
          <p:cNvSpPr/>
          <p:nvPr/>
        </p:nvSpPr>
        <p:spPr>
          <a:xfrm>
            <a:off x="7038720" y="-1073520"/>
            <a:ext cx="1643400" cy="84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Times New Roman"/>
                <a:ea typeface="隶书"/>
              </a:rPr>
              <a:t>三借芭蕉扇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5"/>
          <p:cNvSpPr/>
          <p:nvPr/>
        </p:nvSpPr>
        <p:spPr>
          <a:xfrm>
            <a:off x="1899720" y="6192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11"/>
          <p:cNvSpPr/>
          <p:nvPr/>
        </p:nvSpPr>
        <p:spPr>
          <a:xfrm>
            <a:off x="0" y="220500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3300"/>
                </a:solidFill>
                <a:latin typeface="宋体"/>
              </a:rPr>
              <a:t>    </a:t>
            </a:r>
            <a:r>
              <a:rPr b="1" i="1" lang="zh-CN" sz="4000" spc="-1" strike="noStrike">
                <a:solidFill>
                  <a:srgbClr val="0066ff"/>
                </a:solidFill>
                <a:latin typeface="宋体"/>
              </a:rPr>
              <a:t>孙悟空双手叉腰，伸着头说：“任嫂子砍吧，只要肯借我扇子。”铁扇公主朝孙悟空头上乒乒乓乓一连砍了几十下，可是孙悟空连半根毫毛都没掉</a:t>
            </a:r>
            <a:r>
              <a:rPr b="1" i="1" lang="zh-CN" sz="4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-360" y="188640"/>
            <a:ext cx="87850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Arial"/>
                <a:ea typeface="楷体_GB2312"/>
              </a:rPr>
              <a:t>        </a:t>
            </a: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楷体_GB2312"/>
              </a:rPr>
              <a:t>孙悟空变作一只芝麻大的小飞虫，从门缝里钻了进去，落到茶杯里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324000" y="3789360"/>
            <a:ext cx="856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5"/>
          <p:cNvSpPr/>
          <p:nvPr/>
        </p:nvSpPr>
        <p:spPr>
          <a:xfrm>
            <a:off x="539640" y="386064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6"/>
          <p:cNvSpPr/>
          <p:nvPr/>
        </p:nvSpPr>
        <p:spPr>
          <a:xfrm>
            <a:off x="468360" y="328464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4800" spc="-1" strike="noStrike">
                <a:solidFill>
                  <a:srgbClr val="0066ff"/>
                </a:solidFill>
                <a:latin typeface="Times New Roman"/>
              </a:rPr>
              <a:t>孙悟空在铁扇公主的肚子里，双脚往下一蹬，头往上一顶，疼得铁扇公主直打滚，大叫饶命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7"/>
          <p:cNvSpPr/>
          <p:nvPr/>
        </p:nvSpPr>
        <p:spPr>
          <a:xfrm>
            <a:off x="6856560" y="1978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" descr="082658ygkz3hwgw7qnbhiq"/>
          <p:cNvPicPr/>
          <p:nvPr/>
        </p:nvPicPr>
        <p:blipFill>
          <a:blip r:embed="rId2"/>
          <a:stretch/>
        </p:blipFill>
        <p:spPr>
          <a:xfrm>
            <a:off x="-1143000" y="-662040"/>
            <a:ext cx="11430000" cy="818208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4"/>
          <p:cNvSpPr/>
          <p:nvPr/>
        </p:nvSpPr>
        <p:spPr>
          <a:xfrm>
            <a:off x="-757080" y="5229360"/>
            <a:ext cx="10369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他对着火焰举起芭蕉扇使劲儿一扇，可是火苗却熊熊腾起；再一扇，火势增大百倍；又一扇，烈火竟蹿起千长高，把自己的屁股上的毫毛都烧光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5"/>
          <p:cNvSpPr/>
          <p:nvPr/>
        </p:nvSpPr>
        <p:spPr>
          <a:xfrm>
            <a:off x="862200" y="4046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初练复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468360" y="2637000"/>
            <a:ext cx="72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   </a:t>
            </a: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四人小组，像说故事一样来练习复述“一借”过程，要求把过程说清楚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5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6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7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8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5"/>
          <p:cNvSpPr/>
          <p:nvPr/>
        </p:nvSpPr>
        <p:spPr>
          <a:xfrm>
            <a:off x="395280" y="54936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再练复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6"/>
          <p:cNvSpPr/>
          <p:nvPr/>
        </p:nvSpPr>
        <p:spPr>
          <a:xfrm>
            <a:off x="684360" y="2421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四人小组，再练习复述“一借”过程，要求不仅把过程说清楚，还可以加上人物的表情、相关的细节，把内容说得更生动、更精彩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矩形 4"/>
          <p:cNvSpPr/>
          <p:nvPr/>
        </p:nvSpPr>
        <p:spPr>
          <a:xfrm>
            <a:off x="1547640" y="4437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www.1ppt.com/word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excel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www.1ppt.com/ziliao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kejian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www.1ppt.com/fanwen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shiti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jiaoan/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论坛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n</a:t>
            </a:r>
            <a:r>
              <a:rPr b="0" lang="en-US" sz="11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7"/>
          <p:cNvSpPr/>
          <p:nvPr/>
        </p:nvSpPr>
        <p:spPr>
          <a:xfrm>
            <a:off x="0" y="2781360"/>
            <a:ext cx="9144000" cy="15843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图片 9" descr=""/>
          <p:cNvPicPr/>
          <p:nvPr/>
        </p:nvPicPr>
        <p:blipFill>
          <a:blip r:embed="rId17"/>
          <a:stretch/>
        </p:blipFill>
        <p:spPr>
          <a:xfrm>
            <a:off x="1327320" y="981000"/>
            <a:ext cx="6489360" cy="124956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3"/>
          <p:cNvSpPr/>
          <p:nvPr/>
        </p:nvSpPr>
        <p:spPr>
          <a:xfrm>
            <a:off x="468360" y="3097080"/>
            <a:ext cx="41036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4572000" y="309708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10" descr="png-0644"/>
          <p:cNvPicPr/>
          <p:nvPr/>
        </p:nvPicPr>
        <p:blipFill>
          <a:blip r:embed="rId18"/>
          <a:stretch/>
        </p:blipFill>
        <p:spPr>
          <a:xfrm>
            <a:off x="2916360" y="309708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1" descr="png-0652"/>
          <p:cNvPicPr/>
          <p:nvPr/>
        </p:nvPicPr>
        <p:blipFill>
          <a:blip r:embed="rId19"/>
          <a:stretch/>
        </p:blipFill>
        <p:spPr>
          <a:xfrm>
            <a:off x="7234200" y="309708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047A-D682-4F2D-A78D-011D79C05FD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4"/>
          <p:cNvSpPr/>
          <p:nvPr/>
        </p:nvSpPr>
        <p:spPr>
          <a:xfrm>
            <a:off x="684360" y="907920"/>
            <a:ext cx="77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孙悟空  沙和尚  唐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定风丹     腾云驾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寸草不生   乒乒乓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毫毛   吉祥   芝麻   竟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1"/>
          <p:cNvSpPr/>
          <p:nvPr/>
        </p:nvSpPr>
        <p:spPr>
          <a:xfrm>
            <a:off x="909720" y="5695920"/>
            <a:ext cx="73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5"/>
          <p:cNvSpPr/>
          <p:nvPr/>
        </p:nvSpPr>
        <p:spPr>
          <a:xfrm>
            <a:off x="884520" y="11635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66ff"/>
                </a:solidFill>
                <a:latin typeface="Times New Roman"/>
                <a:ea typeface="隶书"/>
              </a:rPr>
              <a:t>自读提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0" y="27082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齐读一、二自然段，划出介绍孙悟空一定要借芭蕉扇原因的句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4"/>
          <p:cNvSpPr/>
          <p:nvPr/>
        </p:nvSpPr>
        <p:spPr>
          <a:xfrm>
            <a:off x="0" y="19162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一打听，原来这里有一座火焰山，方圆好几百里，常年呼呼冒着大火，周围</a:t>
            </a:r>
            <a:r>
              <a:rPr b="1" lang="zh-CN" sz="4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寸草不生</a:t>
            </a:r>
            <a:r>
              <a:rPr b="1" lang="zh-CN" sz="4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。要去西天，非得过火焰山不可。可是，在熊熊的大火里，就是铜脑袋、铁身子，也会融化。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矩形 7"/>
          <p:cNvSpPr/>
          <p:nvPr/>
        </p:nvSpPr>
        <p:spPr>
          <a:xfrm>
            <a:off x="969840" y="21621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4"/>
          <p:cNvSpPr/>
          <p:nvPr/>
        </p:nvSpPr>
        <p:spPr>
          <a:xfrm>
            <a:off x="0" y="27082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5" descr="无标题"/>
          <p:cNvPicPr/>
          <p:nvPr/>
        </p:nvPicPr>
        <p:blipFill>
          <a:blip r:embed="rId2"/>
          <a:stretch/>
        </p:blipFill>
        <p:spPr>
          <a:xfrm>
            <a:off x="-2286000" y="-590400"/>
            <a:ext cx="13716000" cy="80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082658ygkz3hwgw7qnbhiq"/>
          <p:cNvPicPr/>
          <p:nvPr/>
        </p:nvPicPr>
        <p:blipFill>
          <a:blip r:embed="rId2"/>
          <a:stretch/>
        </p:blipFill>
        <p:spPr>
          <a:xfrm>
            <a:off x="-1143000" y="-662040"/>
            <a:ext cx="11430000" cy="818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4" descr="px24_1"/>
          <p:cNvPicPr/>
          <p:nvPr/>
        </p:nvPicPr>
        <p:blipFill>
          <a:blip r:embed="rId2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4"/>
          <p:cNvSpPr/>
          <p:nvPr/>
        </p:nvSpPr>
        <p:spPr>
          <a:xfrm>
            <a:off x="0" y="270828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5" descr="0130000024680312273234874654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6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火焰山位于新疆吐鲁番盆地中部。山上寸草不生，基岩裸露，且常受风化沙层覆盖。盛夏，在灼热阳光照射下，红色山岩热浪滚滚，绛红色烟云蒸腾缭绕，热气流不断上升，红色砂岩熠熠发光，恰似团团烈焰在燃烧，故名火焰山。这里是我国最炎热的区域，夏季气温高达摄氏四十七度，据说山顶气温可达摄氏八十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179280" y="1412640"/>
            <a:ext cx="878544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  </a:t>
            </a:r>
            <a:r>
              <a:rPr b="1" lang="en-US" sz="5400" spc="-1" strike="noStrike">
                <a:solidFill>
                  <a:srgbClr val="0000cc"/>
                </a:solidFill>
                <a:latin typeface="Arial"/>
                <a:ea typeface="楷体_GB2312"/>
              </a:rPr>
              <a:t>1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楷体_GB2312"/>
              </a:rPr>
              <a:t>、自由读文，找出描写孙悟空第一次借芭蕉扇的相关语句读一读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  </a:t>
            </a:r>
            <a:r>
              <a:rPr b="1" lang="en-US" sz="5400" spc="-1" strike="noStrike">
                <a:solidFill>
                  <a:srgbClr val="0000cc"/>
                </a:solidFill>
                <a:latin typeface="Arial"/>
                <a:ea typeface="楷体_GB2312"/>
              </a:rPr>
              <a:t>2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楷体_GB2312"/>
              </a:rPr>
              <a:t>、想想孙悟空第一次是靠什么借扇子的，借到了吗？为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9"/>
          <p:cNvSpPr/>
          <p:nvPr/>
        </p:nvSpPr>
        <p:spPr>
          <a:xfrm>
            <a:off x="250920" y="260280"/>
            <a:ext cx="43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自学提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2T14:23:1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2:35Z</dcterms:modified>
  <cp:revision>4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