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E585-FF99-46AC-AD43-100B93E3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E6B-D24E-4926-92E1-9BDC42C3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ABE-328D-4F63-8D01-F7CA5DBD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E76-3CD5-426E-B610-3355B0E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064-75F1-4DC2-9D54-70374094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89F-53C5-4B86-9C85-634974BC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15A-3FA9-4AFC-985D-AD2218DD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CE8-EDDD-4127-B7B5-C4BEB8C4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3C3-650B-4868-8656-5FF2E08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082-8909-4BDF-8BE8-668D03E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030-91B1-4B7F-81A6-2561F1C0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295-2087-4704-A5AC-92BBBB4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2EF-83D1-4D3D-9825-B06B4D9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BF8-8228-446E-A79C-07E2BA2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E5E0-22C4-46FD-A2ED-A22D11D8D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5FC4-054B-4EF2-8E15-6A82F7760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借芭蕉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3048120" cy="336564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909440" y="6002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991-FF36-4736-9408-679A80F61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640" y="44049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魔王用计从孙悟空身上骗回芭蕉扇，孙悟空勃然大怒，举起金箍棒和牛魔王打了起来。猪八戒也来帮忙，牛魔王招架不住现出原形，原来是一只巨大无比的白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牛魔王2"/>
          <p:cNvPicPr/>
          <p:nvPr/>
        </p:nvPicPr>
        <p:blipFill>
          <a:blip r:embed="rId1"/>
          <a:stretch/>
        </p:blipFill>
        <p:spPr>
          <a:xfrm>
            <a:off x="2411280" y="804960"/>
            <a:ext cx="4754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50E7-DCDE-47F6-BD73-292DE416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76360" y="4652640"/>
            <a:ext cx="59976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托塔李天王等神仙也来赶来助阵，牛魔王只好交出芭蕉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托塔李天王"/>
          <p:cNvPicPr/>
          <p:nvPr/>
        </p:nvPicPr>
        <p:blipFill>
          <a:blip r:embed="rId1"/>
          <a:stretch/>
        </p:blipFill>
        <p:spPr>
          <a:xfrm>
            <a:off x="2843280" y="981000"/>
            <a:ext cx="3198600" cy="3598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1359000" y="5880240"/>
            <a:ext cx="61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9AC-11E8-486D-AFD0-DB29FB6E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414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孙悟空用芭蕉扇扇灭了火焰山上的火，还了扇子，保护唐僧继续向西天取经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唐僧师徒3"/>
          <p:cNvPicPr/>
          <p:nvPr/>
        </p:nvPicPr>
        <p:blipFill>
          <a:blip r:embed="rId1"/>
          <a:stretch/>
        </p:blipFill>
        <p:spPr>
          <a:xfrm>
            <a:off x="2124000" y="189000"/>
            <a:ext cx="4794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B1A9-950D-4281-8F16-840CE1AB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孙悟空1"/>
          <p:cNvPicPr/>
          <p:nvPr/>
        </p:nvPicPr>
        <p:blipFill>
          <a:blip r:embed="rId1"/>
          <a:stretch/>
        </p:blipFill>
        <p:spPr>
          <a:xfrm>
            <a:off x="1332000" y="1263600"/>
            <a:ext cx="1701720" cy="1778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孙悟空借扇"/>
          <p:cNvPicPr/>
          <p:nvPr/>
        </p:nvPicPr>
        <p:blipFill>
          <a:blip r:embed="rId2"/>
          <a:stretch/>
        </p:blipFill>
        <p:spPr>
          <a:xfrm>
            <a:off x="5796000" y="4361040"/>
            <a:ext cx="200484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唐僧1"/>
          <p:cNvPicPr/>
          <p:nvPr/>
        </p:nvPicPr>
        <p:blipFill>
          <a:blip r:embed="rId3"/>
          <a:stretch/>
        </p:blipFill>
        <p:spPr>
          <a:xfrm>
            <a:off x="1476360" y="407196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铁扇公主2"/>
          <p:cNvPicPr/>
          <p:nvPr/>
        </p:nvPicPr>
        <p:blipFill>
          <a:blip r:embed="rId4"/>
          <a:stretch/>
        </p:blipFill>
        <p:spPr>
          <a:xfrm>
            <a:off x="3203640" y="4145040"/>
            <a:ext cx="2368440" cy="177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猪八戒3"/>
          <p:cNvPicPr/>
          <p:nvPr/>
        </p:nvPicPr>
        <p:blipFill>
          <a:blip r:embed="rId5"/>
          <a:stretch/>
        </p:blipFill>
        <p:spPr>
          <a:xfrm>
            <a:off x="3564000" y="1336680"/>
            <a:ext cx="1871640" cy="1778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沙僧4"/>
          <p:cNvPicPr/>
          <p:nvPr/>
        </p:nvPicPr>
        <p:blipFill>
          <a:blip r:embed="rId6"/>
          <a:stretch/>
        </p:blipFill>
        <p:spPr>
          <a:xfrm>
            <a:off x="5940360" y="1407960"/>
            <a:ext cx="16765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F26E-8214-4F2E-BFCD-BF48A6DADD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E82F-E247-4421-9A28-62BCBAD48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4581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广州市黄埔区福利会幼儿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  袁飞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自画像"/>
          <p:cNvPicPr/>
          <p:nvPr/>
        </p:nvPicPr>
        <p:blipFill>
          <a:blip r:embed="rId1"/>
          <a:stretch/>
        </p:blipFill>
        <p:spPr>
          <a:xfrm>
            <a:off x="2195640" y="62064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F92-154E-466D-A0F2-3A8FBA69E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物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98200" y="3858840"/>
            <a:ext cx="187164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牛魔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哪吒"/>
          <p:cNvPicPr/>
          <p:nvPr/>
        </p:nvPicPr>
        <p:blipFill>
          <a:blip r:embed="rId1"/>
          <a:stretch/>
        </p:blipFill>
        <p:spPr>
          <a:xfrm>
            <a:off x="6156360" y="2133720"/>
            <a:ext cx="1490760" cy="126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唐僧师徒2"/>
          <p:cNvPicPr/>
          <p:nvPr/>
        </p:nvPicPr>
        <p:blipFill>
          <a:blip r:embed="rId2"/>
          <a:stretch/>
        </p:blipFill>
        <p:spPr>
          <a:xfrm>
            <a:off x="3203640" y="3284640"/>
            <a:ext cx="263376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托塔李天王"/>
          <p:cNvPicPr/>
          <p:nvPr/>
        </p:nvPicPr>
        <p:blipFill>
          <a:blip r:embed="rId3"/>
          <a:stretch/>
        </p:blipFill>
        <p:spPr>
          <a:xfrm>
            <a:off x="1332000" y="4508640"/>
            <a:ext cx="128088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铁扇公主3"/>
          <p:cNvPicPr/>
          <p:nvPr/>
        </p:nvPicPr>
        <p:blipFill>
          <a:blip r:embed="rId4"/>
          <a:stretch/>
        </p:blipFill>
        <p:spPr>
          <a:xfrm>
            <a:off x="6659640" y="4653000"/>
            <a:ext cx="154440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牛魔王1"/>
          <p:cNvPicPr/>
          <p:nvPr/>
        </p:nvPicPr>
        <p:blipFill>
          <a:blip r:embed="rId5"/>
          <a:stretch/>
        </p:blipFill>
        <p:spPr>
          <a:xfrm>
            <a:off x="1116000" y="2492280"/>
            <a:ext cx="1709640" cy="1258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211640" y="5805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唐僧师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7001280" y="3560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哪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77080" y="6021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铁扇公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332000" y="6165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托塔李天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8D9-60BB-420C-A4DA-5D02DD38F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3840" y="4002120"/>
            <a:ext cx="7932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师徒四人向西天取经，来到火焰山。土地公公告诉孙悟空，要想走出火焰山，就得借铁扇公主的宝扇扇灭火焰山的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火焰山4"/>
          <p:cNvPicPr/>
          <p:nvPr/>
        </p:nvPicPr>
        <p:blipFill>
          <a:blip r:embed="rId1"/>
          <a:stretch/>
        </p:blipFill>
        <p:spPr>
          <a:xfrm>
            <a:off x="1763640" y="115920"/>
            <a:ext cx="53625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316B-9DB6-49A9-BBE5-209CEA7B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40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铁扇公主怀恨孙悟空帮助观音菩萨收服了她儿子，不肯借扇给孙悟空，他们对打起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三借芭蕉扇4"/>
          <p:cNvPicPr/>
          <p:nvPr/>
        </p:nvPicPr>
        <p:blipFill>
          <a:blip r:embed="rId1"/>
          <a:stretch/>
        </p:blipFill>
        <p:spPr>
          <a:xfrm>
            <a:off x="2484360" y="333360"/>
            <a:ext cx="47973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6"/>
          <p:cNvSpPr/>
          <p:nvPr/>
        </p:nvSpPr>
        <p:spPr>
          <a:xfrm>
            <a:off x="3807000" y="3429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B868-5E7E-481E-BB46-7213B4352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479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铁扇公主打不过孙悟空便用宝扇把他扇到小须弥山去了。灵吉菩萨的定风丹帮助孙悟空再也不怕宝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扇出去"/>
          <p:cNvPicPr/>
          <p:nvPr/>
        </p:nvPicPr>
        <p:blipFill>
          <a:blip r:embed="rId1"/>
          <a:stretch/>
        </p:blipFill>
        <p:spPr>
          <a:xfrm>
            <a:off x="2743200" y="836640"/>
            <a:ext cx="359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4F7-D1D0-43F9-B50E-82EDEC0A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孙悟空变成虫子钻进铁扇公主肚子拳打脚踢，铁扇公主借了假的芭蕉扇给孙悟空，不料火越扇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钻进肚子"/>
          <p:cNvPicPr/>
          <p:nvPr/>
        </p:nvPicPr>
        <p:blipFill>
          <a:blip r:embed="rId1"/>
          <a:stretch/>
        </p:blipFill>
        <p:spPr>
          <a:xfrm>
            <a:off x="1979640" y="260280"/>
            <a:ext cx="5570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6BB-99DA-4914-948C-770A2C771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41497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孙悟空又向铁扇公主的老公牛魔王借扇，牛魔王不肯，二话不说与孙悟空对打起来，打得难分难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孙悟空与牛魔王"/>
          <p:cNvPicPr/>
          <p:nvPr/>
        </p:nvPicPr>
        <p:blipFill>
          <a:blip r:embed="rId1"/>
          <a:stretch/>
        </p:blipFill>
        <p:spPr>
          <a:xfrm>
            <a:off x="1692360" y="260280"/>
            <a:ext cx="5462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6087-F449-4663-BC58-8589818C3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4005000"/>
            <a:ext cx="7076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趁牛魔王到碧水潭赴宴，孙悟空变成牛魔王的样子骗走了铁扇公主的芭蕉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三借芭蕉扇2"/>
          <p:cNvPicPr/>
          <p:nvPr/>
        </p:nvPicPr>
        <p:blipFill>
          <a:blip r:embed="rId1"/>
          <a:stretch/>
        </p:blipFill>
        <p:spPr>
          <a:xfrm>
            <a:off x="2700360" y="189000"/>
            <a:ext cx="46213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2:10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20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