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EF48-9AD0-4222-B3F3-2C4BA6A1E1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5534-0B22-4E8A-B033-A6260BF2A5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05E-0933-4A9E-8D02-C9C59902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56C-60B9-407D-825C-56013780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B619-7DC1-40C7-AF8F-C2D973F2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A9E-8FD4-4BB5-BD2E-FB0F47E3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5B4B-EEF9-46E2-856F-A6780B9F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11D0-BCEC-4928-A019-D77748A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DF5-8F1A-486F-A9AE-EEDEA3AB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B99-D333-49CE-943E-A6DEFC54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C1A-1092-42EA-990F-2A0D353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A76-801E-4930-A669-66F9970C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0D97-A554-4CD0-99DA-BE81C5A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C89C-5F42-4F39-BD90-0E9076B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477A-84C0-43CF-8FFF-89ADEC24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c7a89491c30c9b5af150961a9ad0d95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0" y="-184320"/>
            <a:ext cx="739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952560" y="914400"/>
            <a:ext cx="723888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微软雅黑"/>
              </a:rPr>
              <a:t>生命中最美好的时刻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1447920" y="53341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024041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85800" y="30492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用自己的话说说课文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、课文中最后“生命中最美好的时刻指的是什么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孩子依偎在母亲的怀抱里是他生命中最美好的时刻，世间万物都是有生命的，这些生命都在共同演绎着生命中最美好的时刻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024041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8088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我下了床，踮着脚轻轻地走出屋子，随手关上了门，母亲正坐在门廊的石阶上，她抬起头，看见了我，笑了笑，一只手拉我挨着她坐下，另一只手就势把我揽在怀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2666880" y="2286000"/>
            <a:ext cx="3124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温馨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838080" y="3733920"/>
            <a:ext cx="739152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的生命中有没有最美好的时刻值得回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病时妈妈把我抱在怀里；做作业时奶奶轻轻的为我关上房门；生日那天和家人一起吹蜡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3124080" y="33084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024041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304920" y="60948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同学们都能体会到生命中的美好，感受到幸福和爱，但是作者再体会了万籁俱寂的那份宁静的同时，他又看到了树林中的那份不宁静，请同学们从课文中找出相关语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一切有生命的东西都像和大家一样在感受真生命中这份美好，让我们一起来感受生命中的美好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24041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76280" y="4287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那些红的桃花，白的梨花，很快就会飘散零落，留下的将是初结的果实；那些野李子树也会长出滚圆的、像一盏盏灯笼似的野李子，野李子又酸又甜，都是因为太阳烤炙的，风雨吹打的；还有那青青的瓜藤，绽开着南瓜似的花朵，花朵里满是蜜糖，等待着早晨蜜蜂的来临，但是过不了多久，你看见的将是一条条甜瓜，而不再是这些花朵了。啊，在这无边无际的宁静中，生命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这种神秘的东西，它既摸不着，也听不见。只有大自然那无所不能，温柔可爱的手在抚弄着它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正在活动着，它在生长，它在壮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2404100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85800" y="160020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在活动，地球在旋转，江河在奔流。这一切对他来说也许是莫名其妙的事情，也许已经使他模糊地意识到：这就是生命，这就是最美好的时刻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1736640" y="5584680"/>
            <a:ext cx="56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E9B-415E-4043-8172-3B700FEEEF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20:1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50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