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E98A-5619-4A3A-9671-62319E3190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92A5-6D3A-4A73-948A-9403B5EB18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CE3-F29A-41E8-92D5-2A4F606E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209-C811-487F-9154-BB95F868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584-B50B-42DF-A1FE-9C8953F1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860-3638-4C70-A6C7-E3C339E1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31E-560D-464A-A5F2-89DDD526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345-F786-4F09-BFEB-7094F9C1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D4B-A1FC-453E-9B10-C6A63457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8C3-1B9C-4C47-8690-EB733FC0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07C-3EAD-41E5-9A66-FD12F555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387-068C-40B2-9D76-D95C8716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682-1247-4876-ADFD-6E396E99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1F1-C7AA-4AD1-BE26-DAF80F11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764F-684C-47A0-819D-54FFAC4F7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892160" y="2982960"/>
            <a:ext cx="5672160" cy="49860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2986920" y="765000"/>
            <a:ext cx="292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3300"/>
                </a:solidFill>
                <a:latin typeface="隶书"/>
                <a:ea typeface="隶书"/>
              </a:rPr>
              <a:t>山青青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ybk-0017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403280" y="907920"/>
            <a:ext cx="72691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迁移运用，尝试创作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看到这美丽的景色，你想说什么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755640" y="452520"/>
            <a:ext cx="75913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E2ED-73C9-4378-8F24-E8DE8A576C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1"/>
          <p:cNvSpPr/>
          <p:nvPr/>
        </p:nvSpPr>
        <p:spPr>
          <a:xfrm>
            <a:off x="325440" y="285840"/>
            <a:ext cx="58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ybk-0017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541600" y="1274760"/>
            <a:ext cx="4473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初读课文，整体感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这篇课文主要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了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9"/>
          <p:cNvSpPr/>
          <p:nvPr/>
        </p:nvSpPr>
        <p:spPr>
          <a:xfrm>
            <a:off x="3132000" y="58561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ybk-0017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67148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042920" y="404640"/>
            <a:ext cx="8101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深入探究，体会情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文中描写了哪些景物，你最喜欢什么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？（找出相关的语句读一读，然后在小组里面说说自己的感受，最后全班交流。后发言的同学可以补充，但不要重复前面同学的发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未命名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未命名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09:19Z</dcterms:modified>
  <cp:revision>1</cp:revision>
  <dc:subject/>
  <dc:title>幻灯片 1</dc:title>
</cp:coreProperties>
</file>