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3.jpeg" ContentType="image/jpeg"/>
  <Override PartName="/ppt/media/image7.wmf" ContentType="image/x-wmf"/>
  <Override PartName="/ppt/media/image19.png" ContentType="image/png"/>
  <Override PartName="/ppt/media/image20.jpeg" ContentType="image/jpeg"/>
  <Override PartName="/ppt/media/image8.png" ContentType="image/png"/>
  <Override PartName="/ppt/media/image30.gif" ContentType="image/gif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1.png" ContentType="image/png"/>
  <Override PartName="/ppt/media/image6.wmf" ContentType="image/x-wmf"/>
  <Override PartName="/ppt/media/image34.jpeg" ContentType="image/jpeg"/>
  <Override PartName="/ppt/media/image18.png" ContentType="image/png"/>
  <Override PartName="/ppt/media/image28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F434-617C-46F5-B5C3-72FE2F1D9F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8ED0-40E4-46C8-8FAE-63BBE1016C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933-EB05-4CF6-8D23-19B39633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39B-9009-4FAC-947A-5F33B9CB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F57-A0E6-455C-AD91-84AAEF14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A6F-A81A-4F2E-85F3-B783533A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C01-670B-4ED8-B0DB-29118D90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1BD-9C2C-432C-BDEE-47122F96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933-E467-4CA9-804C-D938112B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42F-AE61-488C-A8F5-E83FE062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4C7-8716-4838-80AC-228785D4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8B5-EF25-4A27-9601-3A6BF551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B1C-1AC5-43DE-B0BC-7647D5C7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31A-8312-444C-929C-912DA038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F9CC-659C-4871-8218-32F4C810F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iecool.com/vector/show/161/70444.htm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iecool.com/vector/show/258/141078.htm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iecool.com/vector/show/177/81204.htm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4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488360" cy="1446480"/>
          </a:xfrm>
          <a:prstGeom prst="rect">
            <a:avLst/>
          </a:prstGeom>
          <a:ln w="0">
            <a:noFill/>
          </a:ln>
        </p:spPr>
      </p:pic>
      <p:pic>
        <p:nvPicPr>
          <p:cNvPr id="49" name="矩形 2" descr=""/>
          <p:cNvPicPr/>
          <p:nvPr/>
        </p:nvPicPr>
        <p:blipFill>
          <a:blip r:embed="rId3"/>
          <a:stretch/>
        </p:blipFill>
        <p:spPr>
          <a:xfrm>
            <a:off x="1552680" y="5516640"/>
            <a:ext cx="6402240" cy="5601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68360" y="194328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知是谁说了一句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这城堡里住着一个凶狠的魔王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接着又有人补充说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他抢去了美丽的公主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个小伙伴说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你们快听，公主在城堡里哭呢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就这样，我们编织着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转眼间，我们亲手建造的城堡成了一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魔窟，我们也成了攻打魔窟的勇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0b083a8b1554c83bc8fc7ae3"/>
          <p:cNvPicPr/>
          <p:nvPr/>
        </p:nvPicPr>
        <p:blipFill>
          <a:blip r:embed="rId1"/>
          <a:srcRect l="-80" t="0" r="0" b="0"/>
          <a:stretch/>
        </p:blipFill>
        <p:spPr>
          <a:xfrm>
            <a:off x="0" y="54936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902040" cy="3562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4284720" y="1916280"/>
            <a:ext cx="4176720" cy="3719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684360" y="349884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9072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楷体_GB2312"/>
              </a:rPr>
              <a:t>你有什么好方法能攻下城堡，救出公主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shengyikatong2_05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620640"/>
            <a:ext cx="2342880" cy="2665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116000" y="692280"/>
            <a:ext cx="662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楷体_GB2312"/>
              </a:rPr>
              <a:t>一个伙伴说：“我驾驶飞机去轰炸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有人反驳说：“那时候还没有飞机呢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2008122171612846_1"/>
          <p:cNvPicPr/>
          <p:nvPr/>
        </p:nvPicPr>
        <p:blipFill>
          <a:blip r:embed="rId2"/>
          <a:stretch/>
        </p:blipFill>
        <p:spPr>
          <a:xfrm>
            <a:off x="250920" y="3933720"/>
            <a:ext cx="1600200" cy="201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3affe16108a67e64eaf8f8f7"/>
          <p:cNvPicPr/>
          <p:nvPr/>
        </p:nvPicPr>
        <p:blipFill>
          <a:blip r:embed="rId3"/>
          <a:stretch/>
        </p:blipFill>
        <p:spPr>
          <a:xfrm>
            <a:off x="2195640" y="3573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1116000" y="2826000"/>
            <a:ext cx="712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（　　　）地道，在地下（　　　）上火药，把城堡（　　　）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124000" y="2421000"/>
            <a:ext cx="10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124000" y="3068640"/>
            <a:ext cx="105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268360" y="3789360"/>
            <a:ext cx="79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387880" y="981000"/>
            <a:ext cx="415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填上适当的动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5003640" y="1557360"/>
            <a:ext cx="38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我把手往上一抬，就把城堡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轰塌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haijing2_00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4508640"/>
            <a:ext cx="2735280" cy="2085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547640" y="2005200"/>
            <a:ext cx="541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我们欢呼着胜利，欢呼着炸死了魔王，欢呼着救出了公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ertong2_087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3068640"/>
            <a:ext cx="154476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065da1012e4a52aee850cd2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468360" y="1025640"/>
            <a:ext cx="77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  <a:ea typeface="楷体_GB2312"/>
              </a:rPr>
              <a:t>公主被我们救出来了，救出来了！在这儿，在这儿！”我抱住了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妈妈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95280" y="314172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楷体_GB2312"/>
              </a:rPr>
              <a:t>真的，那时候，连我也忘记了她就是我的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妈妈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楷体_GB2312"/>
              </a:rPr>
              <a:t>呀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971640" y="1052640"/>
            <a:ext cx="756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cc0000"/>
                </a:solidFill>
                <a:latin typeface="宋体"/>
              </a:rPr>
              <a:t>小朋友，猜一猜：沙滩上会有一个怎样的故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826920" y="341784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沙滩上有一个美丽的、自由的童话。</a:t>
            </a: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560" y="3330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课文内容，填上合适的动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沙滩上，我们（       ）起城堡，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起围墙，围墙外还（       ）上了干 树枝，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我们的树。我们（      ）地道，从地下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火药，把城堡（       ）平，（        ）出了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困的公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004"/>
          <p:cNvPicPr/>
          <p:nvPr/>
        </p:nvPicPr>
        <p:blipFill>
          <a:blip r:embed="rId1"/>
          <a:stretch/>
        </p:blipFill>
        <p:spPr>
          <a:xfrm>
            <a:off x="0" y="4191120"/>
            <a:ext cx="8915400" cy="26668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4643280" y="13572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786800" y="13572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995640" y="1916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924360" y="2565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7858080" y="25718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3643200" y="32148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6143760" y="31431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219320" y="28195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有人说，课文中炸城堡会伤害公主，请你展开想象，编一个智救公主的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371600" y="144792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彩云"/>
              </a:rPr>
              <a:t>小组交流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900000" y="692280"/>
            <a:ext cx="748836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比一比，读一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）我们挖着地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）我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从四面八方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挖着地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）我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趴在沙滩上，从四面八方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挖着地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203640" y="263700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从四面八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14800" y="357192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趴在沙滩上，从四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928800" y="41432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八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28400" y="1143000"/>
            <a:ext cx="84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游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（                    ）游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（                    ），（                    ）游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928880" y="2286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在水池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643040" y="342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带着救生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286240" y="342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在水池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4242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zz01588459db18d2e0e52e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"/>
          <p:cNvSpPr/>
          <p:nvPr/>
        </p:nvSpPr>
        <p:spPr>
          <a:xfrm>
            <a:off x="1090440" y="174600"/>
            <a:ext cx="55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619280" y="1700280"/>
            <a:ext cx="56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说说“我们”在沙滩上编织了一个什么样的童话。请你也试着编一个童话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A822-3A11-45F0-81DD-498955C6E4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84360" y="836640"/>
            <a:ext cx="8172360" cy="24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学要求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自己喜欢的方式读课文，读准字音，读通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课文主要讲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11280" y="3933720"/>
            <a:ext cx="8136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课文主要讲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和小伙伴在沙滩上堆城堡时，我们和妈妈一起，想象了一个美丽的童话故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066680" y="21337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挖地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733920" y="4876920"/>
            <a:ext cx="225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插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676520" y="495288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商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143000" y="34290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筑围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038480" y="34290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攻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809880" y="2209680"/>
            <a:ext cx="225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建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943600" y="21337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凶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990720" y="1676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w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3581280" y="4343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ch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1447920" y="441648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sh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Microsoft Sans Serif"/>
              </a:rPr>
              <a:t>ā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91440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z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6629400" y="1601640"/>
            <a:ext cx="11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Times New Roman"/>
              </a:rPr>
              <a:t>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3733920" y="1677960"/>
            <a:ext cx="155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j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Courier New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3886200" y="304488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Microsoft Sans Serif"/>
              </a:rPr>
              <a:t>ɡō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5724360" y="43657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j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6516720" y="4365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sh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6248520" y="342900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轰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1"/>
          <p:cNvSpPr/>
          <p:nvPr/>
        </p:nvSpPr>
        <p:spPr>
          <a:xfrm>
            <a:off x="7093080" y="2952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z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796000" y="5013360"/>
            <a:ext cx="225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驾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6"/>
          <p:cNvSpPr/>
          <p:nvPr/>
        </p:nvSpPr>
        <p:spPr>
          <a:xfrm>
            <a:off x="1289160" y="4124160"/>
            <a:ext cx="7333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2232000" cy="195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3635280" y="4076640"/>
            <a:ext cx="2232000" cy="195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2232000" cy="1959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5"/>
          <a:stretch/>
        </p:blipFill>
        <p:spPr>
          <a:xfrm>
            <a:off x="3562200" y="1628640"/>
            <a:ext cx="2232000" cy="1959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6"/>
          <a:stretch/>
        </p:blipFill>
        <p:spPr>
          <a:xfrm>
            <a:off x="6443640" y="4076640"/>
            <a:ext cx="2232000" cy="1959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7"/>
          <a:stretch/>
        </p:blipFill>
        <p:spPr>
          <a:xfrm>
            <a:off x="6442200" y="1628640"/>
            <a:ext cx="2232000" cy="1959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2"/>
          <p:cNvSpPr/>
          <p:nvPr/>
        </p:nvSpPr>
        <p:spPr>
          <a:xfrm>
            <a:off x="755640" y="1989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楷体_GB2312"/>
              </a:rPr>
              <a:t>相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659640" y="436572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反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6515280" y="198900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Arial"/>
                <a:ea typeface="楷体_GB2312"/>
              </a:rPr>
              <a:t>凶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3851280" y="4292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轰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826920" y="4365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驾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3778200" y="1989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有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8" descr=""/>
          <p:cNvPicPr/>
          <p:nvPr/>
        </p:nvPicPr>
        <p:blipFill>
          <a:blip r:embed="rId8"/>
          <a:stretch/>
        </p:blipFill>
        <p:spPr>
          <a:xfrm>
            <a:off x="0" y="0"/>
            <a:ext cx="1763640" cy="1341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9"/>
          <p:cNvSpPr/>
          <p:nvPr/>
        </p:nvSpPr>
        <p:spPr>
          <a:xfrm>
            <a:off x="2843280" y="260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楷体_GB2312"/>
              </a:rPr>
              <a:t>词语花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324000" y="2152800"/>
            <a:ext cx="853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里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我们快乐的天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天放学以后，我们就偷偷地相约来到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里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把书包一扔，开始了我们有趣的活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250920" y="1158120"/>
            <a:ext cx="66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在沙滩上，我们垒起城堡，筑起围墙，围墙外还插上了干树枝，那是我们的树。</a:t>
            </a:r>
            <a:r>
              <a:rPr b="0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2007821103136307_2"/>
          <p:cNvPicPr/>
          <p:nvPr/>
        </p:nvPicPr>
        <p:blipFill>
          <a:blip r:embed="rId2"/>
          <a:stretch/>
        </p:blipFill>
        <p:spPr>
          <a:xfrm>
            <a:off x="2124000" y="3213000"/>
            <a:ext cx="2521080" cy="24876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8"/>
          <p:cNvSpPr/>
          <p:nvPr/>
        </p:nvSpPr>
        <p:spPr>
          <a:xfrm>
            <a:off x="5146560" y="1125360"/>
            <a:ext cx="144720" cy="142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 flipH="1">
            <a:off x="1546920" y="1700280"/>
            <a:ext cx="142920" cy="14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6227640" y="1700280"/>
            <a:ext cx="142920" cy="14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BJ_048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32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0" y="907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</a:rPr>
              <a:t>在沙滩上，我们垒起了城堡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</a:rPr>
              <a:t>那里是我们快乐的天地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</a:rPr>
              <a:t>在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————————————</a:t>
            </a:r>
            <a:r>
              <a:rPr b="1" lang="zh-CN" sz="50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</a:rPr>
              <a:t>那里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———————————</a:t>
            </a:r>
            <a:r>
              <a:rPr b="1" lang="zh-CN" sz="5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20080917_fujis100zj_10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automm7cd0f2ba263c6336"/>
          <p:cNvPicPr/>
          <p:nvPr/>
        </p:nvPicPr>
        <p:blipFill>
          <a:blip r:embed="rId2"/>
          <a:srcRect l="-627" t="0" r="0" b="0"/>
          <a:stretch/>
        </p:blipFill>
        <p:spPr>
          <a:xfrm>
            <a:off x="0" y="0"/>
            <a:ext cx="4711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2:08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8:18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