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type.wav" ContentType="audio/x-wav"/>
  <Override PartName="/ppt/media/wind.wav" ContentType="audio/x-wav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9FD9-3CCF-4C5B-B40A-8FE1513D784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62BA-1827-4054-A6B5-0AFE4A121F1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613-DA54-453D-A779-3F2C5ED0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2E61-32EC-42F5-AC46-13E42975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6392-46BB-4ECC-B257-72A584C5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384B-2647-4DC4-86C8-68EB2C8E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E88-C761-40F6-9C9C-DCCAC4BF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10C-60E8-421D-9441-D4504188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E92-3D04-44C0-9A3A-4095D0FD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F09-A865-4200-A923-DC2EE0A8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DA3F-D2F7-43A0-BC06-CA062932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A6C-8F03-4456-9EAE-6CBD4A88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45A9-CE2F-46F2-A19F-DCFC5ECD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207-87FE-47A7-95B8-A37EDAF7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A626-A4E7-4799-85B3-7A4A3BF63A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风雨大作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685800" y="1143000"/>
            <a:ext cx="7848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华文中宋"/>
              </a:rPr>
              <a:t>十一月四日风雨大作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50" name="Text Box 6" descr=""/>
          <p:cNvPicPr/>
          <p:nvPr/>
        </p:nvPicPr>
        <p:blipFill>
          <a:blip r:embed="rId2"/>
          <a:stretch/>
        </p:blipFill>
        <p:spPr>
          <a:xfrm>
            <a:off x="4572000" y="3657600"/>
            <a:ext cx="2895480" cy="2057400"/>
          </a:xfrm>
          <a:prstGeom prst="rect">
            <a:avLst/>
          </a:prstGeom>
          <a:ln w="0">
            <a:noFill/>
          </a:ln>
        </p:spPr>
      </p:pic>
      <p:sp>
        <p:nvSpPr>
          <p:cNvPr id="51" name="矩形 4"/>
          <p:cNvSpPr/>
          <p:nvPr/>
        </p:nvSpPr>
        <p:spPr>
          <a:xfrm>
            <a:off x="1827000" y="58672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152280" y="457200"/>
            <a:ext cx="2514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快乐检测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971800" y="5335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十一月四日风雨大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回答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33520" y="20574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解释下列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0" y="3352680"/>
            <a:ext cx="9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夜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铁马冰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57200" y="31240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守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3048120" y="3124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夜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5943600" y="259092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披着铁甲的战马，已经冰封的河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228600" y="4419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首诗的后两句，巧借自然界的风雨，把现实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联系起来，抒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1371600" y="48006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梦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019920" y="48006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报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5"/>
          <p:cNvSpPr txBox="1"/>
          <p:nvPr/>
        </p:nvSpPr>
        <p:spPr>
          <a:xfrm>
            <a:off x="380880" y="228600"/>
            <a:ext cx="2971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畅谈收获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09480" y="17524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主旨感悟：这首诗描述诗人虽年老色衰，但仍心系边关，梦赴疆场的决心，表达了诗人强烈的爱国主义情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609480" y="46483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我以后要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…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97C8-5ADD-461E-8D3C-3E98C8440CB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6"/>
          <p:cNvSpPr/>
          <p:nvPr/>
        </p:nvSpPr>
        <p:spPr>
          <a:xfrm>
            <a:off x="7315200" y="20131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533520" y="685800"/>
            <a:ext cx="2209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关于作者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54" name="Picture 5" descr="陆游"/>
          <p:cNvPicPr/>
          <p:nvPr/>
        </p:nvPicPr>
        <p:blipFill>
          <a:blip r:embed="rId3"/>
          <a:stretch/>
        </p:blipFill>
        <p:spPr>
          <a:xfrm>
            <a:off x="6629400" y="0"/>
            <a:ext cx="2514600" cy="3200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诗人陆游壮志难酬常在梦中惊醒"/>
          <p:cNvPicPr/>
          <p:nvPr/>
        </p:nvPicPr>
        <p:blipFill>
          <a:blip r:embed="rId4"/>
          <a:stretch/>
        </p:blipFill>
        <p:spPr>
          <a:xfrm>
            <a:off x="6629400" y="3200400"/>
            <a:ext cx="2514600" cy="3657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152280" y="213372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陆游，字务观，号放翁，越州山阴（今浙江绍兴）人，南宋著名的诗人和词人，陆游存诗共九千余首，题材很广泛。其诗作反映民间疾苦，批判当时统治集团的屈辱投降，抒发自己的报负，风格豪放雄浑，名作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山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示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，也书写日常生活，清新明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457200" y="609480"/>
            <a:ext cx="2666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写作背景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28600" y="19810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宋光宗绍熙三年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9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农历十一月四日深夜山阴（今浙江绍兴）骤起一场风雨，震响了僵卧孤村的六十八岁诗人的心弦。在此前二年他以“嘲弄风月”的罪名被弹劾罢官，归隐于山阴三山故居，但这场暴雨勾起了这位爱国志士对往昔军旅生涯的追忆，于是作此诗以表达自己为收复失地、统一祖国而献身的强烈愿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3517920" y="609480"/>
            <a:ext cx="2286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04920" y="1420920"/>
            <a:ext cx="85341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背诵诗歌，理会诗的内容，体会诗歌的艺术特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深入感受诗歌蕴含的思想感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了解我国古代灿烂的文化，增强爱国情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3839760" y="5904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3352680" y="609480"/>
            <a:ext cx="2133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52280" y="1171440"/>
            <a:ext cx="88394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理解这首诗诗句的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赏析：夜阑卧听风吹雨，铁马冰河入梦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为什么要在诗的后两句把梦境和现实结合起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这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首诗抒发了诗人什么样的思想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3658680" y="388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问题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4"/>
          <p:cNvSpPr txBox="1"/>
          <p:nvPr/>
        </p:nvSpPr>
        <p:spPr>
          <a:xfrm>
            <a:off x="3352680" y="609480"/>
            <a:ext cx="2133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51000" y="1171440"/>
            <a:ext cx="84582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理解这首诗诗句的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僵卧孤村不自哀，尚思为国戍轮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僵直的躺在偏僻的山村，不为自己的处境哀愁，还想着为国家守卫边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夜阑卧听风吹雨，铁马冰河入梦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深夜睡在床上听着风吹雨打声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梦中又回到铁骑飞跃冰河的战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3658680" y="388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精彩展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6"/>
          <p:cNvSpPr/>
          <p:nvPr/>
        </p:nvSpPr>
        <p:spPr>
          <a:xfrm>
            <a:off x="343080" y="182880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诗人巧借自然界的风雨，把现实和梦境自然地联系起来，使“铁马冰河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的梦境和“为国戍轮台”的壮志有机地融为一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5720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赏析：夜阑卧听风吹雨，铁马冰河入梦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6"/>
          <p:cNvSpPr/>
          <p:nvPr/>
        </p:nvSpPr>
        <p:spPr>
          <a:xfrm>
            <a:off x="343080" y="205740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日有所思，夜有所梦。因为作者“尚思为国戍轮台”，有因为“风吹雨”的声音和战场上的声音有相似之处，所以作者会产生“铁马冰河”的梦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181080" y="533520"/>
            <a:ext cx="872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为什么要在诗的后两句把梦境和现实结合起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6"/>
          <p:cNvSpPr/>
          <p:nvPr/>
        </p:nvSpPr>
        <p:spPr>
          <a:xfrm>
            <a:off x="343080" y="228600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表达诗人为收复失地、统一祖国而献身的强烈愿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152280" y="609480"/>
            <a:ext cx="872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这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首诗抒发了诗人什么样的思想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"/>
          <p:cNvSpPr/>
          <p:nvPr/>
        </p:nvSpPr>
        <p:spPr>
          <a:xfrm>
            <a:off x="1062000" y="5459400"/>
            <a:ext cx="898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9:43:4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4:47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