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whoosh.wav" ContentType="audio/x-wav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FC2-CBB5-41D2-BA2E-965233B241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410-92AE-47B4-9439-CFE3F978F1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19D-DA32-40BE-BA98-BF9179AC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ADE-1811-402D-9CE0-9CC9A6EF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F72-DEA8-4616-86BA-9A05B05E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A5B-3049-4363-B46F-9E2D3139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228-C225-4143-9681-3CD77E1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BE8-3A1C-4FE6-9604-0449DBA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8D1-6F93-4A08-9F57-D95FD5F7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A8D-490B-4FBE-8D93-D457FA9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08A-1111-40BA-801B-F468491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061-0636-4458-8683-80B1AAF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7AC-8C6E-4A4E-BF8F-048C5D7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8C-0710-472D-99E5-99939D8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60C2-3E60-4430-A78F-3EF6367D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slide6.xml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《三字经》节选-02"/>
          <p:cNvPicPr/>
          <p:nvPr/>
        </p:nvPicPr>
        <p:blipFill>
          <a:blip r:embed="rId2"/>
          <a:stretch/>
        </p:blipFill>
        <p:spPr>
          <a:xfrm>
            <a:off x="457200" y="685800"/>
            <a:ext cx="529272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816280" y="152388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字经</a:t>
            </a:r>
            <a:r>
              <a:rPr b="1" lang="en-US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节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3124800" y="5408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蚕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1352520"/>
            <a:ext cx="7238880" cy="49719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5181480" y="228600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吐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>
            <a:hlinkClick r:id="rId4" action="ppaction://hlinksldjump"/>
          </p:cNvPr>
          <p:cNvSpPr/>
          <p:nvPr/>
        </p:nvSpPr>
        <p:spPr>
          <a:xfrm>
            <a:off x="7467480" y="236232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0" y="261951"/>
                </a:moveTo>
                <a:lnTo>
                  <a:pt x="261953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1"/>
                </a:lnTo>
                <a:lnTo>
                  <a:pt x="473873" y="423845"/>
                </a:lnTo>
                <a:lnTo>
                  <a:pt x="554823" y="685798"/>
                </a:lnTo>
                <a:lnTo>
                  <a:pt x="342900" y="523900"/>
                </a:lnTo>
                <a:lnTo>
                  <a:pt x="130976" y="685798"/>
                </a:lnTo>
                <a:lnTo>
                  <a:pt x="211926" y="42384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蜜蜂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1447920"/>
            <a:ext cx="7391520" cy="5100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06880" y="1519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蜂酿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4" action="ppaction://hlinksldjump"/>
          </p:cNvPr>
          <p:cNvSpPr/>
          <p:nvPr/>
        </p:nvSpPr>
        <p:spPr>
          <a:xfrm>
            <a:off x="1523880" y="1752480"/>
            <a:ext cx="685800" cy="609840"/>
          </a:xfrm>
          <a:custGeom>
            <a:avLst/>
            <a:gdLst/>
            <a:ahLst/>
            <a:rect l="l" t="t" r="r" b="b"/>
            <a:pathLst>
              <a:path w="685800" h="609600">
                <a:moveTo>
                  <a:pt x="0" y="232845"/>
                </a:moveTo>
                <a:lnTo>
                  <a:pt x="261953" y="232847"/>
                </a:lnTo>
                <a:lnTo>
                  <a:pt x="342900" y="0"/>
                </a:lnTo>
                <a:lnTo>
                  <a:pt x="423846" y="232847"/>
                </a:lnTo>
                <a:lnTo>
                  <a:pt x="685799" y="232845"/>
                </a:lnTo>
                <a:lnTo>
                  <a:pt x="473873" y="376751"/>
                </a:lnTo>
                <a:lnTo>
                  <a:pt x="554823" y="609598"/>
                </a:lnTo>
                <a:lnTo>
                  <a:pt x="342900" y="465689"/>
                </a:lnTo>
                <a:lnTo>
                  <a:pt x="130976" y="609598"/>
                </a:lnTo>
                <a:lnTo>
                  <a:pt x="211926" y="37675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鸡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16207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1"/>
          <p:cNvPicPr/>
          <p:nvPr/>
        </p:nvPicPr>
        <p:blipFill>
          <a:blip r:embed="rId3"/>
          <a:stretch/>
        </p:blipFill>
        <p:spPr>
          <a:xfrm>
            <a:off x="457200" y="4384800"/>
            <a:ext cx="1828800" cy="1660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蜜蜂01"/>
          <p:cNvPicPr/>
          <p:nvPr/>
        </p:nvPicPr>
        <p:blipFill>
          <a:blip r:embed="rId4"/>
          <a:stretch/>
        </p:blipFill>
        <p:spPr>
          <a:xfrm>
            <a:off x="6324480" y="428616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蚕03"/>
          <p:cNvPicPr/>
          <p:nvPr/>
        </p:nvPicPr>
        <p:blipFill>
          <a:blip r:embed="rId5"/>
          <a:stretch/>
        </p:blipFill>
        <p:spPr>
          <a:xfrm>
            <a:off x="6705720" y="457200"/>
            <a:ext cx="1904760" cy="1308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1828800" y="220968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苟不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曷为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4800600" y="220968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495680" y="1905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rId6" action="ppaction://hlinksldjump"/>
          </p:cNvPr>
          <p:cNvSpPr/>
          <p:nvPr/>
        </p:nvSpPr>
        <p:spPr>
          <a:xfrm>
            <a:off x="8305920" y="6019920"/>
            <a:ext cx="533160" cy="3808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133720" y="175248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犬守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司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苟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曷为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572000" y="1752480"/>
            <a:ext cx="2590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吐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酿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物。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267080" y="184464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1779480" y="5602320"/>
            <a:ext cx="49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蚕03"/>
          <p:cNvPicPr/>
          <p:nvPr/>
        </p:nvPicPr>
        <p:blipFill>
          <a:blip r:embed="rId2"/>
          <a:stretch/>
        </p:blipFill>
        <p:spPr>
          <a:xfrm>
            <a:off x="1143000" y="1295280"/>
            <a:ext cx="7238880" cy="4972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5200200" y="16700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>
            <a:hlinkClick r:id="rId3" action="ppaction://hlinksldjump"/>
          </p:cNvPr>
          <p:cNvSpPr/>
          <p:nvPr/>
        </p:nvSpPr>
        <p:spPr>
          <a:xfrm>
            <a:off x="8001000" y="5943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3897-A5C1-4F67-94AB-DF9CCF04A7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《三字经》节选-02"/>
          <p:cNvPicPr/>
          <p:nvPr/>
        </p:nvPicPr>
        <p:blipFill>
          <a:blip r:embed="rId2"/>
          <a:stretch/>
        </p:blipFill>
        <p:spPr>
          <a:xfrm>
            <a:off x="457200" y="685800"/>
            <a:ext cx="529272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962520" y="175248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守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苟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曷为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400800" y="1752480"/>
            <a:ext cx="2590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蚕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物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6095880" y="184464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81280" y="992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1371600" y="1981080"/>
            <a:ext cx="2590920" cy="1447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ǎ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ǒu y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守 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1371600" y="3809880"/>
            <a:ext cx="2590920" cy="1447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ī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h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648320" y="3733920"/>
            <a:ext cx="2895480" cy="1447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ē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à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4724280" y="2057400"/>
            <a:ext cx="2590920" cy="1447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án    t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s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蚕 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9"/>
          <p:cNvSpPr/>
          <p:nvPr/>
        </p:nvSpPr>
        <p:spPr>
          <a:xfrm>
            <a:off x="4800600" y="3733920"/>
            <a:ext cx="25909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876920" y="1981080"/>
            <a:ext cx="25905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蚕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1371600" y="1981080"/>
            <a:ext cx="259092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守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1371600" y="3733920"/>
            <a:ext cx="25909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>
            <a:hlinkClick r:id="rId2" action="ppaction://hlinksldjump"/>
          </p:cNvPr>
          <p:cNvSpPr/>
          <p:nvPr/>
        </p:nvSpPr>
        <p:spPr>
          <a:xfrm>
            <a:off x="8001000" y="5943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5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4800600" y="3733920"/>
            <a:ext cx="25909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876920" y="1981080"/>
            <a:ext cx="25905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蚕    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371600" y="1981080"/>
            <a:ext cx="259092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371600" y="3733920"/>
            <a:ext cx="25909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《三字经》节选-02"/>
          <p:cNvPicPr/>
          <p:nvPr/>
        </p:nvPicPr>
        <p:blipFill>
          <a:blip r:embed="rId2"/>
          <a:stretch/>
        </p:blipFill>
        <p:spPr>
          <a:xfrm>
            <a:off x="457200" y="685800"/>
            <a:ext cx="529272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657600" y="1965240"/>
            <a:ext cx="2590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犬守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司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苟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曷为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5880" y="1965240"/>
            <a:ext cx="2590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吐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酿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物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79132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705720" y="609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934320" y="5943600"/>
            <a:ext cx="23619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781680" y="685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《三字经》节选-02"/>
          <p:cNvPicPr/>
          <p:nvPr/>
        </p:nvPicPr>
        <p:blipFill>
          <a:blip r:embed="rId2"/>
          <a:stretch/>
        </p:blipFill>
        <p:spPr>
          <a:xfrm>
            <a:off x="457200" y="685800"/>
            <a:ext cx="529272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3962520" y="175248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犬守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鸡司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苟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曷为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400800" y="1752480"/>
            <a:ext cx="2590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吐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酿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不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如物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095880" y="184464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配乐.mp3" descr=""/>
          <p:cNvPicPr/>
          <p:nvPr/>
        </p:nvPicPr>
        <p:blipFill>
          <a:blip r:embed="rId3"/>
          <a:stretch/>
        </p:blipFill>
        <p:spPr>
          <a:xfrm>
            <a:off x="7086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95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781680" y="685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狗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8520" y="3276720"/>
            <a:ext cx="2438280" cy="311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"/>
          <p:cNvPicPr/>
          <p:nvPr/>
        </p:nvPicPr>
        <p:blipFill>
          <a:blip r:embed="rId4"/>
          <a:stretch/>
        </p:blipFill>
        <p:spPr>
          <a:xfrm>
            <a:off x="457200" y="7621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410080" y="1600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犬守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5" action="ppaction://hlinksldjump"/>
          </p:cNvPr>
          <p:cNvSpPr/>
          <p:nvPr/>
        </p:nvSpPr>
        <p:spPr>
          <a:xfrm>
            <a:off x="7543800" y="1828800"/>
            <a:ext cx="380880" cy="457200"/>
          </a:xfrm>
          <a:custGeom>
            <a:avLst/>
            <a:gdLst/>
            <a:ahLst/>
            <a:rect l="l" t="t" r="r" b="b"/>
            <a:pathLst>
              <a:path w="381000" h="457200">
                <a:moveTo>
                  <a:pt x="0" y="174634"/>
                </a:moveTo>
                <a:lnTo>
                  <a:pt x="145529" y="174635"/>
                </a:lnTo>
                <a:lnTo>
                  <a:pt x="190500" y="0"/>
                </a:lnTo>
                <a:lnTo>
                  <a:pt x="235470" y="174635"/>
                </a:lnTo>
                <a:lnTo>
                  <a:pt x="380999" y="174634"/>
                </a:lnTo>
                <a:lnTo>
                  <a:pt x="263263" y="282563"/>
                </a:lnTo>
                <a:lnTo>
                  <a:pt x="308235" y="457198"/>
                </a:lnTo>
                <a:lnTo>
                  <a:pt x="190500" y="349267"/>
                </a:lnTo>
                <a:lnTo>
                  <a:pt x="72764" y="457198"/>
                </a:lnTo>
                <a:lnTo>
                  <a:pt x="117736" y="2825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9343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字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鸡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76920" y="1295280"/>
            <a:ext cx="356544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057400" y="2438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鸡司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>
            <a:hlinkClick r:id="rId4" action="ppaction://hlinksldjump"/>
          </p:cNvPr>
          <p:cNvSpPr/>
          <p:nvPr/>
        </p:nvSpPr>
        <p:spPr>
          <a:xfrm>
            <a:off x="1066680" y="2590920"/>
            <a:ext cx="533520" cy="6094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4:54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3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