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EF3E-08F4-4662-B84E-61A5748D43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E5C1-EC3F-40C7-B86B-016C76E1C55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FF19-0B2B-4196-A538-F3FFCA50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490C-9990-44CC-89EC-5466A188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F544-A683-49B0-8E38-25FF92A4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50E5-D0B7-4C9B-83B5-48F1F232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2FB6-804E-4D94-A2CA-614B74A3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B9BB-C0E4-48FD-B09F-9045CDEB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C734-F7E3-46A7-B65B-1F774B30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1709-23D5-40E2-92F9-D4AC6F58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EA67-9F74-4013-B257-1CE82FDD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595C-C62F-4676-8FBC-B3B92DCE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2CAF-C38B-4CBD-B3DC-62A50750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6A71-8D59-49C3-819B-E172B403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97FA-C8C5-4B9C-9C31-0EAE0F10B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矩形 5" descr=""/>
          <p:cNvPicPr/>
          <p:nvPr/>
        </p:nvPicPr>
        <p:blipFill>
          <a:blip r:embed="rId1"/>
          <a:stretch/>
        </p:blipFill>
        <p:spPr>
          <a:xfrm>
            <a:off x="1671480" y="1778040"/>
            <a:ext cx="5877000" cy="1631880"/>
          </a:xfrm>
          <a:prstGeom prst="rect">
            <a:avLst/>
          </a:prstGeom>
          <a:ln w="0">
            <a:noFill/>
          </a:ln>
        </p:spPr>
      </p:pic>
      <p:sp>
        <p:nvSpPr>
          <p:cNvPr id="49" name="矩形 6"/>
          <p:cNvSpPr/>
          <p:nvPr/>
        </p:nvSpPr>
        <p:spPr>
          <a:xfrm>
            <a:off x="1864800" y="56386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6"/>
          <p:cNvSpPr/>
          <p:nvPr/>
        </p:nvSpPr>
        <p:spPr>
          <a:xfrm>
            <a:off x="533520" y="53352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娃崽偷瓜的反常表现是（                                                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914400" y="11430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以往娃崽偷瓜就啃，气李善才。近来他们偷了瓜，抱着就跑，往村里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457200" y="2590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“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矮脖柳那儿有两间草房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仿宋_GB2312"/>
                <a:ea typeface="仿宋_GB2312"/>
              </a:rPr>
              <a:t>破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仿宋_GB2312"/>
                <a:ea typeface="仿宋_GB2312"/>
              </a:rPr>
              <a:t>孤零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”画线的词语给人一种非常凄凉的感觉，这样的词语请你再写两个（         ）、（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4511520" y="3581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冷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7483320" y="3657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孤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925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1925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" dur="1925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" dur="1925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6"/>
          <p:cNvSpPr/>
          <p:nvPr/>
        </p:nvSpPr>
        <p:spPr>
          <a:xfrm>
            <a:off x="380880" y="60948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孩子们偷瓜给三奶奶吃，读到此处，你觉得这是一去年怎样的孩子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善良、淳朴、厚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457200" y="25909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听完屋内的动静，你能想像一下李善才在想些什么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原来孩子们是在给我的妈妈送瓜，还帮我说好话，我却这样对我的妈妈，我太不孝顺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77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77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6"/>
          <p:cNvSpPr/>
          <p:nvPr/>
        </p:nvSpPr>
        <p:spPr>
          <a:xfrm>
            <a:off x="380880" y="45720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请你说说李善才请孩子们吃西瓜时的心理活动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这是一群调皮但是善良、可爱的孩子。以前的我太不孝顺、太暴躁了，多亏了这些孩子，我才认识到自己的错误。得好好犒劳犒劳他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533520" y="32767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“娃崽们就笑，一小口一小口吃西瓜，脸竟红起来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孩子们吃着李善才的西瓜，开始羞涩起来了，能体现这一变化的是（             ）、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6464520" y="487692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一小口一小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1637640" y="5334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脸竟红起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7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7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77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77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4" dur="77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6" dur="77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4"/>
          <p:cNvSpPr/>
          <p:nvPr/>
        </p:nvSpPr>
        <p:spPr>
          <a:xfrm>
            <a:off x="380880" y="5335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为什么孩子们又来偷瓜时，李善才“躺在窝棚里睡”，你能说说他此时的心理活动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孩子们的天性只是在和我斗智斗勇，就让他们尽情的偷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4"/>
          <p:cNvSpPr/>
          <p:nvPr/>
        </p:nvSpPr>
        <p:spPr>
          <a:xfrm>
            <a:off x="457200" y="6094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你能说说李善才地边的西瓜为什么能侍弄的这么好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一是李善才想报答孩子们，让孩子们吃到好瓜，为孩子们的淘气提供空间；二是从侧面表现孩子们再也不偷瓜了，让他的瓜长的更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533520" y="342900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孝顺，是中华民族的传统美德，你知道那些关于孝顺的故事或名言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故事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黄香温席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名言  不孝的人是世界上最可恶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5"/>
          <p:cNvSpPr/>
          <p:nvPr/>
        </p:nvSpPr>
        <p:spPr>
          <a:xfrm>
            <a:off x="152280" y="1219320"/>
            <a:ext cx="8763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板书设计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　　　　　　　　偷瓜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　　　　机智勇敢　　斗　　性子火暴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　　　　淘气顽劣　　智　　小气吝啬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　娃崽　倔强任性　　斗　　知错就改　李善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　　　　淳朴善良　　勇　　真诚可爱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"/>
          <p:cNvSpPr/>
          <p:nvPr/>
        </p:nvSpPr>
        <p:spPr>
          <a:xfrm>
            <a:off x="993600" y="5751360"/>
            <a:ext cx="56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矩形 4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80060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F6CD-C636-40CA-8CB7-06AD0AD6106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457200" y="685800"/>
            <a:ext cx="838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57200" y="762120"/>
            <a:ext cx="8381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、揭示课题，以疑促读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　　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偷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是什么意思？毛头娃崽是怎样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偷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瓜的呢？请同学们带着问题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304920" y="2819520"/>
            <a:ext cx="807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二、交流读文收获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请同学带着这些问题默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学生默读课文。（边读边做批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学生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快速浏览课文，看看课文讲了一件什么事？是按什么顺序写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4"/>
          <p:cNvSpPr/>
          <p:nvPr/>
        </p:nvSpPr>
        <p:spPr>
          <a:xfrm>
            <a:off x="533520" y="36360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偷瓜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讲述了一些调皮可爱的孩子“偷”瓜田主人李善才的瓜教育李善才的故事，展示了农村孩子的调皮可爱与正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文中的人物给你留下了怎样的印象？从哪里体会到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毛头娃崽的形象：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机智勇敢、倔强任性、淘气顽劣、调皮捣蛋、淳朴、善良和厚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李善才的形象：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吝啬、性子火爆、知错就改、真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7"/>
          <p:cNvSpPr/>
          <p:nvPr/>
        </p:nvSpPr>
        <p:spPr>
          <a:xfrm>
            <a:off x="2286000" y="31258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0" y="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喊、跳、骂、撵、瞪、打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等词语体会到这个人脾气暴躁，又非常小气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 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告诉、头疼、牵狗、不敢打狗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体会李善才对这些孩子无计可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段“那边瓜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跑远了”体会孩子们声东击西，机智勇敢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段“越作践”体会孩子们倔强任性，淘气顽劣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段“娃崽也叫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……”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体会娃崽倔，淘气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段“只是笑”体会娃崽调皮捣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现在我们可以想到，娃崽把“偷瓜”当作了一项冒险且刺激的游戏，他们把这件事当作了和李善才斗智斗勇的战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5"/>
          <p:cNvSpPr/>
          <p:nvPr/>
        </p:nvSpPr>
        <p:spPr>
          <a:xfrm>
            <a:off x="228600" y="0"/>
            <a:ext cx="8610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娃崽和李善才这些人物还有其他性格的点吗？文中有是怎样表现出来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6——12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段体会李善才不孝敬老人，让妈妈住在破屋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6——12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段体会娃崽善良，主动帮助老人，安慰老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李善才在窗外听着娃崽与三奶奶的对话可能想到了什么？接下来会发生什么事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李善才会想到自己不孝敬妈妈的事。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李善才会想到妈妈疼爱自己的事。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接下来老人可能痛哭。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老人会开心的笑了，原谅了儿子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380880" y="12193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380880" y="380880"/>
            <a:ext cx="8382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娃崽对三奶奶说的话是真的吗？如果不是真的，那他们为什么说谎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为了安慰老人，怕老人伤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为李善才说话，再帮他树立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在教育李善才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7"/>
          <p:cNvSpPr/>
          <p:nvPr/>
        </p:nvSpPr>
        <p:spPr>
          <a:xfrm>
            <a:off x="380880" y="60948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从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自然段，你能体会到孩子们怎样的性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东击西偷瓜，表现他们机智勇敢；大人管一管，他们便越践作瓜田，变现他们倔强任性，调皮顽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6"/>
          <p:cNvSpPr/>
          <p:nvPr/>
        </p:nvSpPr>
        <p:spPr>
          <a:xfrm>
            <a:off x="533520" y="762120"/>
            <a:ext cx="8381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这群孩子让李善才非常头疼，你从那些地方可以看出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）孩子们声东击西把瓜“偷”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）他去家长那里告状，孩子们对瓜田下手更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）把狗牵来，狗和孩子们有交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6"/>
          <p:cNvSpPr/>
          <p:nvPr/>
        </p:nvSpPr>
        <p:spPr>
          <a:xfrm>
            <a:off x="380880" y="60948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从第四自然段中可以感受到李善才脾气（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1312560" y="114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暴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533520" y="2209680"/>
            <a:ext cx="8381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“李善才不敢打狗了，只是骂”，你能体会到他此时的心情吗？用一两句话描述一下他此时的心里活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这群孩子真是气死我了，到底怎么做才能收拾他们，不让他们再偷瓜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8T03:13:3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0:57Z</dcterms:modified>
  <cp:revision>2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