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DC2C-4CEF-4A48-9F0E-AEC40350BA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5035-E997-40E8-91D9-84773E0C18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FCC-90CD-4498-9D49-15C88177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E5D-E451-4F00-BDBD-45261BB5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FE7-761F-48D8-AEF1-25CDB699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D29-6279-4B17-8CE5-12152A9E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ACC-DD0B-47AD-A521-63E18EC7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0C4-52A5-4B09-8401-49399F7E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0F9-1DB5-4EB4-98C4-25491529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9D3-B2FD-4007-B6F9-C47B459A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8EC-32B6-46FF-B7BE-55861EA9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637-51BA-47A5-BF78-69DC0E8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F1C-DD92-4A0F-A270-108B6FDE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267-248A-4EA3-B389-C30053FB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C97-A865-417B-8E23-4C5E6D9EB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332000" y="1557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幼圆"/>
                <a:ea typeface="幼圆"/>
              </a:rPr>
              <a:t>第</a:t>
            </a:r>
            <a:r>
              <a:rPr b="1" lang="en-US" sz="7200" spc="-1" strike="noStrike">
                <a:solidFill>
                  <a:srgbClr val="c00000"/>
                </a:solidFill>
                <a:latin typeface="幼圆"/>
                <a:ea typeface="幼圆"/>
              </a:rPr>
              <a:t>5</a:t>
            </a:r>
            <a:r>
              <a:rPr b="1" lang="zh-CN" sz="7200" spc="-1" strike="noStrike">
                <a:solidFill>
                  <a:srgbClr val="c00000"/>
                </a:solidFill>
                <a:latin typeface="幼圆"/>
                <a:ea typeface="幼圆"/>
              </a:rPr>
              <a:t>课  </a:t>
            </a:r>
            <a:r>
              <a:rPr b="1" lang="zh-CN" sz="9600" spc="-1" strike="noStrike">
                <a:solidFill>
                  <a:srgbClr val="c00000"/>
                </a:solidFill>
                <a:latin typeface="幼圆"/>
                <a:ea typeface="幼圆"/>
              </a:rPr>
              <a:t>偷瓜</a:t>
            </a:r>
            <a:r>
              <a:rPr b="1" lang="zh-CN" sz="7200" spc="-1" strike="noStrike">
                <a:solidFill>
                  <a:srgbClr val="c00000"/>
                </a:solidFill>
                <a:latin typeface="幼圆"/>
                <a:ea typeface="幼圆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753920" y="5354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2623320" y="1143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想象情景，改编剧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285920" y="350028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自由结组，分角色，准备台词，演一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单圆角矩形 1"/>
          <p:cNvSpPr/>
          <p:nvPr/>
        </p:nvSpPr>
        <p:spPr>
          <a:xfrm>
            <a:off x="1000080" y="714240"/>
            <a:ext cx="6286680" cy="1928880"/>
          </a:xfrm>
          <a:custGeom>
            <a:avLst/>
            <a:gdLst/>
            <a:ahLst/>
            <a:rect l="l" t="t" r="r" b="b"/>
            <a:pathLst>
              <a:path w="6286500" h="1928812">
                <a:moveTo>
                  <a:pt x="321475" y="0"/>
                </a:moveTo>
                <a:lnTo>
                  <a:pt x="5965024" y="0"/>
                </a:lnTo>
                <a:lnTo>
                  <a:pt x="6286500" y="321475"/>
                </a:lnTo>
                <a:lnTo>
                  <a:pt x="6286500" y="1928812"/>
                </a:lnTo>
                <a:lnTo>
                  <a:pt x="0" y="1928812"/>
                </a:lnTo>
                <a:lnTo>
                  <a:pt x="0" y="321475"/>
                </a:lnTo>
                <a:cubicBezTo>
                  <a:pt x="0" y="143929"/>
                  <a:pt x="143929" y="0"/>
                  <a:pt x="321475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单圆角矩形 2"/>
          <p:cNvSpPr/>
          <p:nvPr/>
        </p:nvSpPr>
        <p:spPr>
          <a:xfrm>
            <a:off x="1152360" y="866880"/>
            <a:ext cx="6286680" cy="1928880"/>
          </a:xfrm>
          <a:custGeom>
            <a:avLst/>
            <a:gdLst/>
            <a:ahLst/>
            <a:rect l="l" t="t" r="r" b="b"/>
            <a:pathLst>
              <a:path w="6286500" h="1928812">
                <a:moveTo>
                  <a:pt x="321475" y="0"/>
                </a:moveTo>
                <a:lnTo>
                  <a:pt x="5965024" y="0"/>
                </a:lnTo>
                <a:lnTo>
                  <a:pt x="6286500" y="321475"/>
                </a:lnTo>
                <a:lnTo>
                  <a:pt x="6286500" y="1928812"/>
                </a:lnTo>
                <a:lnTo>
                  <a:pt x="0" y="1928812"/>
                </a:lnTo>
                <a:lnTo>
                  <a:pt x="0" y="321475"/>
                </a:lnTo>
                <a:cubicBezTo>
                  <a:pt x="0" y="143929"/>
                  <a:pt x="143929" y="0"/>
                  <a:pt x="321475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643040" y="135720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后练笔，延伸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"/>
          <p:cNvSpPr/>
          <p:nvPr/>
        </p:nvSpPr>
        <p:spPr>
          <a:xfrm>
            <a:off x="1152360" y="3656160"/>
            <a:ext cx="7215480" cy="2643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214720" y="428616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你有没有这样的经历，写一写。如果没有，你听说过这样的故事吗？写一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72AB-D12B-4A18-8EDE-FE4A68EE97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074320" y="1484280"/>
            <a:ext cx="5666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华文细黑"/>
                <a:ea typeface="华文细黑"/>
              </a:rPr>
              <a:t>1.“</a:t>
            </a:r>
            <a:r>
              <a:rPr b="0" lang="zh-CN" sz="4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偷”是什么意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华文细黑"/>
                <a:ea typeface="华文细黑"/>
              </a:rPr>
              <a:t>2.</a:t>
            </a:r>
            <a:r>
              <a:rPr b="0" lang="zh-CN" sz="4800" spc="-1" strike="noStrike">
                <a:solidFill>
                  <a:srgbClr val="006600"/>
                </a:solidFill>
                <a:latin typeface="华文细黑"/>
                <a:ea typeface="华文细黑"/>
              </a:rPr>
              <a:t>毛头娃崽是怎样“偷”瓜的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同学们带着问题读课文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02600" y="4557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华文彩云"/>
              </a:rPr>
              <a:t>小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146240" y="5807160"/>
            <a:ext cx="53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偷瓜"/>
          <p:cNvPicPr/>
          <p:nvPr/>
        </p:nvPicPr>
        <p:blipFill>
          <a:blip r:embed="rId1"/>
          <a:stretch/>
        </p:blipFill>
        <p:spPr>
          <a:xfrm>
            <a:off x="2050920" y="1773360"/>
            <a:ext cx="4788000" cy="446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图片1"/>
          <p:cNvPicPr/>
          <p:nvPr/>
        </p:nvPicPr>
        <p:blipFill>
          <a:blip r:embed="rId2"/>
          <a:stretch/>
        </p:blipFill>
        <p:spPr>
          <a:xfrm>
            <a:off x="250920" y="54936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712400" y="70488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说说课文讲了一个怎样的故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900"/>
                            </p:stCondLst>
                            <p:childTnLst>
                              <p:par>
                                <p:cTn id="5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332000" y="7160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文中的娃崽们给你留下了怎样的</a:t>
            </a: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印象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偷瓜"/>
          <p:cNvPicPr/>
          <p:nvPr/>
        </p:nvPicPr>
        <p:blipFill>
          <a:blip r:embed="rId1"/>
          <a:stretch/>
        </p:blipFill>
        <p:spPr>
          <a:xfrm>
            <a:off x="2411280" y="1916280"/>
            <a:ext cx="4788000" cy="446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图片1"/>
          <p:cNvPicPr/>
          <p:nvPr/>
        </p:nvPicPr>
        <p:blipFill>
          <a:blip r:embed="rId2"/>
          <a:stretch/>
        </p:blipFill>
        <p:spPr>
          <a:xfrm>
            <a:off x="250920" y="54936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0"/>
          <p:cNvSpPr/>
          <p:nvPr/>
        </p:nvSpPr>
        <p:spPr>
          <a:xfrm>
            <a:off x="2195640" y="21718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0" y="216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（一）声东击西，机智聪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42960" y="78732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这边早有几个娃崽抱着大西瓜跑远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35936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（二）倔强任性，淘气顽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57160" y="207324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大人管一管，娃崽变越作践瓜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271692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（三）调皮捣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143000" y="35733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娃崽老远啃着瓜，拍手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421704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（四）淳朴、善良、厚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71680" y="5232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Tahoma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ahoma"/>
              </a:rPr>
              <a:t>三奶奶，善财叔让俺们送瓜给您吃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Tahoma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ahoma"/>
              </a:rPr>
              <a:t>三奶奶，善财叔说这几天忙不开，过些天来看您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042920" y="18111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Tahoma"/>
              </a:rPr>
              <a:t>（李善才：性子暴躁无计可施，从那看出来的？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826920" y="1268280"/>
            <a:ext cx="728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Arial"/>
              </a:rPr>
              <a:t>李善才就看瓜，看不住，一愣神</a:t>
            </a:r>
            <a:r>
              <a:rPr b="1" lang="en-US" sz="6000" spc="-1" strike="noStrike">
                <a:solidFill>
                  <a:srgbClr val="0070c0"/>
                </a:solidFill>
                <a:latin typeface="Arial"/>
              </a:rPr>
              <a:t>……</a:t>
            </a:r>
            <a:r>
              <a:rPr b="1" lang="zh-CN" sz="6000" spc="-1" strike="noStrike">
                <a:solidFill>
                  <a:srgbClr val="0070c0"/>
                </a:solidFill>
                <a:latin typeface="Arial"/>
              </a:rPr>
              <a:t>这边早有几个娃崽抱着大西瓜跑远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857160" y="907920"/>
            <a:ext cx="70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李善才不知自己怎样扑进屋子，跪倒在三奶奶跟前。他喊：“娘啊，我混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611280" y="3721320"/>
            <a:ext cx="803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、孩子们后来偷瓜的用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、从李善才的一跪一喊，你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、推想一下三奶奶和李善才之间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57120" y="42876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行路人经过瓜田边，说：“善才你这地边的瓜侍弄得比地中的好。”李善才说：“那敢情是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928800" y="274860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猜想一下为什么李善才地边的瓜侍弄得比地中的好？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8800" y="46465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一是故意侍弄好，为孩子们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ahoma"/>
              </a:rPr>
              <a:t>顽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ahoma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ahoma"/>
              </a:rPr>
              <a:t>提供空间；二是孩子们不再搞破坏，才使地边的瓜长得更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6:41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50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