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A4F0-E6BD-4633-A3D3-88CF384FF85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A8E9-FA28-40DF-9E6A-DB9F40240D7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EEF7-2948-4678-9807-53952CA8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F1C8-9178-495C-90BF-9BA3FE04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D4E1-3BC0-4AA4-A4D9-82C183D0F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8572-BA60-4C2C-B3E6-08A0C4B76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0A91-0E05-4892-8C0C-9B15B058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85EE-8BF9-4D0C-8ED2-F20E9DDD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9A8E-73BD-4118-8C2F-7AE0DE51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4451-9C9E-46D4-A8C9-4283DB22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4032-CEFA-43D3-9D91-2C8F8459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D27B-C16A-4CDD-9491-726B89F9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093C-4332-41F1-8B8D-DEA5D414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6DDD-FAD4-44E3-A589-AB9E1AD5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FAA9-870F-4197-9941-260A494CE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332000" y="1557360"/>
            <a:ext cx="63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00000"/>
                </a:solidFill>
                <a:latin typeface="幼圆"/>
                <a:ea typeface="幼圆"/>
              </a:rPr>
              <a:t>第</a:t>
            </a:r>
            <a:r>
              <a:rPr b="1" lang="en-US" sz="7200" spc="-1" strike="noStrike">
                <a:solidFill>
                  <a:srgbClr val="c00000"/>
                </a:solidFill>
                <a:latin typeface="幼圆"/>
                <a:ea typeface="幼圆"/>
              </a:rPr>
              <a:t>5</a:t>
            </a:r>
            <a:r>
              <a:rPr b="1" lang="zh-CN" sz="7200" spc="-1" strike="noStrike">
                <a:solidFill>
                  <a:srgbClr val="c00000"/>
                </a:solidFill>
                <a:latin typeface="幼圆"/>
                <a:ea typeface="幼圆"/>
              </a:rPr>
              <a:t>课  </a:t>
            </a:r>
            <a:r>
              <a:rPr b="1" lang="zh-CN" sz="9600" spc="-1" strike="noStrike">
                <a:solidFill>
                  <a:srgbClr val="c00000"/>
                </a:solidFill>
                <a:latin typeface="幼圆"/>
                <a:ea typeface="幼圆"/>
              </a:rPr>
              <a:t>偷瓜</a:t>
            </a:r>
            <a:r>
              <a:rPr b="1" lang="zh-CN" sz="7200" spc="-1" strike="noStrike">
                <a:solidFill>
                  <a:srgbClr val="c00000"/>
                </a:solidFill>
                <a:latin typeface="幼圆"/>
                <a:ea typeface="幼圆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3"/>
          <p:cNvSpPr/>
          <p:nvPr/>
        </p:nvSpPr>
        <p:spPr>
          <a:xfrm>
            <a:off x="1753920" y="5354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1"/>
          <p:cNvSpPr/>
          <p:nvPr/>
        </p:nvSpPr>
        <p:spPr>
          <a:xfrm>
            <a:off x="2623320" y="114300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想象情景，改编剧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1285920" y="3500280"/>
            <a:ext cx="678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生自由结组，分角色，准备台词，演一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"/>
          <p:cNvSpPr/>
          <p:nvPr/>
        </p:nvSpPr>
        <p:spPr>
          <a:xfrm>
            <a:off x="1035000" y="5376960"/>
            <a:ext cx="546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单圆角矩形 1"/>
          <p:cNvSpPr/>
          <p:nvPr/>
        </p:nvSpPr>
        <p:spPr>
          <a:xfrm>
            <a:off x="1000080" y="714240"/>
            <a:ext cx="6286680" cy="1928880"/>
          </a:xfrm>
          <a:custGeom>
            <a:avLst/>
            <a:gdLst/>
            <a:ahLst/>
            <a:rect l="l" t="t" r="r" b="b"/>
            <a:pathLst>
              <a:path w="6286500" h="1928812">
                <a:moveTo>
                  <a:pt x="321475" y="0"/>
                </a:moveTo>
                <a:lnTo>
                  <a:pt x="5965024" y="0"/>
                </a:lnTo>
                <a:lnTo>
                  <a:pt x="6286500" y="321475"/>
                </a:lnTo>
                <a:lnTo>
                  <a:pt x="6286500" y="1928812"/>
                </a:lnTo>
                <a:lnTo>
                  <a:pt x="0" y="1928812"/>
                </a:lnTo>
                <a:lnTo>
                  <a:pt x="0" y="321475"/>
                </a:lnTo>
                <a:cubicBezTo>
                  <a:pt x="0" y="143929"/>
                  <a:pt x="143929" y="0"/>
                  <a:pt x="321475" y="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单圆角矩形 2"/>
          <p:cNvSpPr/>
          <p:nvPr/>
        </p:nvSpPr>
        <p:spPr>
          <a:xfrm>
            <a:off x="1152360" y="866880"/>
            <a:ext cx="6286680" cy="1928880"/>
          </a:xfrm>
          <a:custGeom>
            <a:avLst/>
            <a:gdLst/>
            <a:ahLst/>
            <a:rect l="l" t="t" r="r" b="b"/>
            <a:pathLst>
              <a:path w="6286500" h="1928812">
                <a:moveTo>
                  <a:pt x="321475" y="0"/>
                </a:moveTo>
                <a:lnTo>
                  <a:pt x="5965024" y="0"/>
                </a:lnTo>
                <a:lnTo>
                  <a:pt x="6286500" y="321475"/>
                </a:lnTo>
                <a:lnTo>
                  <a:pt x="6286500" y="1928812"/>
                </a:lnTo>
                <a:lnTo>
                  <a:pt x="0" y="1928812"/>
                </a:lnTo>
                <a:lnTo>
                  <a:pt x="0" y="321475"/>
                </a:lnTo>
                <a:cubicBezTo>
                  <a:pt x="0" y="143929"/>
                  <a:pt x="143929" y="0"/>
                  <a:pt x="321475" y="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1643040" y="1357200"/>
            <a:ext cx="53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课后练笔，延伸生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4"/>
          <p:cNvSpPr/>
          <p:nvPr/>
        </p:nvSpPr>
        <p:spPr>
          <a:xfrm>
            <a:off x="1152360" y="3656160"/>
            <a:ext cx="7215480" cy="2643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2214720" y="428616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想一想你有没有这样的经历，写一写。如果没有，你听说过这样的故事吗？写一写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9859-27FF-4797-A8E4-DFF7840EF48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2074320" y="1484280"/>
            <a:ext cx="5666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华文细黑"/>
                <a:ea typeface="华文细黑"/>
              </a:rPr>
              <a:t>1.“</a:t>
            </a:r>
            <a:r>
              <a:rPr b="0" lang="zh-CN" sz="4800" spc="-1" strike="noStrike">
                <a:solidFill>
                  <a:srgbClr val="c00000"/>
                </a:solidFill>
                <a:latin typeface="华文细黑"/>
                <a:ea typeface="华文细黑"/>
              </a:rPr>
              <a:t>偷”是什么意思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华文细黑"/>
                <a:ea typeface="华文细黑"/>
              </a:rPr>
              <a:t>2.</a:t>
            </a:r>
            <a:r>
              <a:rPr b="0" lang="zh-CN" sz="4800" spc="-1" strike="noStrike">
                <a:solidFill>
                  <a:srgbClr val="006600"/>
                </a:solidFill>
                <a:latin typeface="华文细黑"/>
                <a:ea typeface="华文细黑"/>
              </a:rPr>
              <a:t>毛头娃崽是怎样“偷”瓜的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请同学们带着问题读课文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002600" y="4557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  <a:ea typeface="华文彩云"/>
              </a:rPr>
              <a:t>小提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偷瓜"/>
          <p:cNvPicPr/>
          <p:nvPr/>
        </p:nvPicPr>
        <p:blipFill>
          <a:blip r:embed="rId1"/>
          <a:stretch/>
        </p:blipFill>
        <p:spPr>
          <a:xfrm>
            <a:off x="2050920" y="1773360"/>
            <a:ext cx="4788000" cy="4468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图片1"/>
          <p:cNvPicPr/>
          <p:nvPr/>
        </p:nvPicPr>
        <p:blipFill>
          <a:blip r:embed="rId2"/>
          <a:stretch/>
        </p:blipFill>
        <p:spPr>
          <a:xfrm>
            <a:off x="250920" y="54936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4712400" y="704880"/>
            <a:ext cx="82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说说课文讲了一个怎样的故事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900"/>
                            </p:stCondLst>
                            <p:childTnLst>
                              <p:par>
                                <p:cTn id="52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332000" y="71604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文中的娃崽们给你留下了怎样的</a:t>
            </a:r>
            <a:r>
              <a:rPr b="1" lang="zh-CN" sz="3600" spc="-1" strike="noStrike">
                <a:solidFill>
                  <a:srgbClr val="ff3300"/>
                </a:solidFill>
                <a:latin typeface="华文细黑"/>
                <a:ea typeface="华文细黑"/>
              </a:rPr>
              <a:t>印象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呢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偷瓜"/>
          <p:cNvPicPr/>
          <p:nvPr/>
        </p:nvPicPr>
        <p:blipFill>
          <a:blip r:embed="rId1"/>
          <a:stretch/>
        </p:blipFill>
        <p:spPr>
          <a:xfrm>
            <a:off x="2411280" y="1916280"/>
            <a:ext cx="4788000" cy="4468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图片1"/>
          <p:cNvPicPr/>
          <p:nvPr/>
        </p:nvPicPr>
        <p:blipFill>
          <a:blip r:embed="rId2"/>
          <a:stretch/>
        </p:blipFill>
        <p:spPr>
          <a:xfrm>
            <a:off x="250920" y="549360"/>
            <a:ext cx="8571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10"/>
          <p:cNvSpPr/>
          <p:nvPr/>
        </p:nvSpPr>
        <p:spPr>
          <a:xfrm>
            <a:off x="2195640" y="217188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0" y="2160"/>
            <a:ext cx="742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Tahoma"/>
              </a:rPr>
              <a:t>（一）声东击西，机智聪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42960" y="787320"/>
            <a:ext cx="66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Tahoma"/>
              </a:rPr>
              <a:t>这边早有几个娃崽抱着大西瓜跑远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0" y="1359360"/>
            <a:ext cx="82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Tahoma"/>
              </a:rPr>
              <a:t>（二）倔强任性，淘气顽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857160" y="2073240"/>
            <a:ext cx="66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Tahoma"/>
              </a:rPr>
              <a:t>大人管一管，娃崽变越作践瓜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2716920"/>
            <a:ext cx="671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Tahoma"/>
              </a:rPr>
              <a:t>（三）调皮捣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143000" y="3573360"/>
            <a:ext cx="62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Tahoma"/>
              </a:rPr>
              <a:t>娃崽老远啃着瓜，拍手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0" y="4217040"/>
            <a:ext cx="728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Tahoma"/>
              </a:rPr>
              <a:t>（四）淳朴、善良、厚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571680" y="5232960"/>
            <a:ext cx="678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Tahoma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Tahoma"/>
              </a:rPr>
              <a:t>三奶奶，善财叔让俺们送瓜给您吃。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Tahom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Tahoma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Tahoma"/>
              </a:rPr>
              <a:t>三奶奶，善财叔说这几天忙不开，过些天来看您。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Tahom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1042920" y="181116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ahoma"/>
                <a:ea typeface="Tahoma"/>
              </a:rPr>
              <a:t>（李善才：性子暴躁无计可施，从那看出来的？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826920" y="1268280"/>
            <a:ext cx="7286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Arial"/>
              </a:rPr>
              <a:t>李善才就看瓜，看不住，一愣神</a:t>
            </a:r>
            <a:r>
              <a:rPr b="1" lang="en-US" sz="6000" spc="-1" strike="noStrike">
                <a:solidFill>
                  <a:srgbClr val="0070c0"/>
                </a:solidFill>
                <a:latin typeface="Arial"/>
              </a:rPr>
              <a:t>……</a:t>
            </a:r>
            <a:r>
              <a:rPr b="1" lang="zh-CN" sz="6000" spc="-1" strike="noStrike">
                <a:solidFill>
                  <a:srgbClr val="0070c0"/>
                </a:solidFill>
                <a:latin typeface="Arial"/>
              </a:rPr>
              <a:t>这边早有几个娃崽抱着大西瓜跑远了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857160" y="907920"/>
            <a:ext cx="707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李善才不知自己怎样扑进屋子，跪倒在三奶奶跟前。他喊：“娘啊，我混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"/>
          <p:cNvSpPr/>
          <p:nvPr/>
        </p:nvSpPr>
        <p:spPr>
          <a:xfrm>
            <a:off x="611280" y="3721320"/>
            <a:ext cx="803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Tahoma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ahoma"/>
              </a:rPr>
              <a:t>、孩子们后来偷瓜的用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Tahoma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ahoma"/>
              </a:rPr>
              <a:t>、从李善才的一跪一喊，你想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Tahoma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ahoma"/>
              </a:rPr>
              <a:t>、推想一下三奶奶和李善才之间的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357120" y="428760"/>
            <a:ext cx="835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行路人经过瓜田边，说：“善才你这地边的瓜侍弄得比地中的好。”李善才说：“那敢情是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928800" y="2748600"/>
            <a:ext cx="72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Tahoma"/>
              </a:rPr>
              <a:t>猜想一下为什么李善才地边的瓜侍弄得比地中的好？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28800" y="4646520"/>
            <a:ext cx="67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Tahoma"/>
              </a:rPr>
              <a:t>一是故意侍弄好，为孩子们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ahoma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ahoma"/>
              </a:rPr>
              <a:t>顽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ahoma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ahoma"/>
              </a:rPr>
              <a:t>提供空间；二是孩子们不再搞破坏，才使地边的瓜长得更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06:41:1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0:52Z</dcterms:modified>
  <cp:revision>2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