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5F0A-5FF2-416D-A00E-8FCCD1C8D4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EBD8-18E9-4C35-B555-5B8E32BDB0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E8C-27A6-4B2D-9456-E7F35CAB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C46-C37D-48BB-B732-54E1A365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49F-6E9B-4D58-95C0-ADB6B45A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905-19B0-4836-BA1B-F0EBDE61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428-9A61-4B4F-9911-1425600A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CEB-239E-478C-8FD1-A547A89E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FBD-8E26-4BD2-A13D-F6CACA45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376-2F2A-4ADD-A907-C3DCF695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934-0453-400A-93C8-C41CB51A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732-BFAC-4F6C-AD0C-DB90FA3B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B55-370E-49F7-98FA-009B09B1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CD4-33D4-405B-B04A-B791919A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A68B-A9B4-479F-B309-0B590B68E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view/2140.htm" TargetMode="External"/><Relationship Id="rId2" Type="http://schemas.openxmlformats.org/officeDocument/2006/relationships/hyperlink" Target="http://baike.baidu.com/view/6431.htm" TargetMode="External"/><Relationship Id="rId3" Type="http://schemas.openxmlformats.org/officeDocument/2006/relationships/hyperlink" Target="http://baike.baidu.com/view/18081.htm" TargetMode="External"/><Relationship Id="rId4" Type="http://schemas.openxmlformats.org/officeDocument/2006/relationships/hyperlink" Target="http://baike.baidu.com/view/18081.htm" TargetMode="External"/><Relationship Id="rId5" Type="http://schemas.openxmlformats.org/officeDocument/2006/relationships/hyperlink" Target="http://baike.baidu.com/view/27885.htm" TargetMode="External"/><Relationship Id="rId6" Type="http://schemas.openxmlformats.org/officeDocument/2006/relationships/hyperlink" Target="http://baike.baidu.com/view/124782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447920" y="1295280"/>
            <a:ext cx="5860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童年的回忆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553080" y="60958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562720" y="6172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852200" y="5705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720" y="9144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读课文，自学生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读课文，遇到不认识的字可以问老师、问同学、查字典等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安徒生的童年是怎样的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838080" y="838080"/>
            <a:ext cx="7543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再读课文，边读边想，读完课文后，你知道了什么</a:t>
            </a:r>
            <a:r>
              <a:rPr b="1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?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说说安徒生的家给你留下了什么印象？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全班同学一起交流读后的感受、印象或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品读课文，感悟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找一找文中哪些句子的描写给你留下了深刻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360" y="609480"/>
            <a:ext cx="73911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涉及到父亲的：</a:t>
            </a:r>
            <a:br>
              <a:rPr sz="36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好在墙上挂满了画，抽屉里也满是漂亮的玻璃杯和装饰品。门的镶板上是一幅优美的风景画，现在想想，那对我来说犹如一个画廊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抓住“画廊”这个词展开联想，想象那间破旧的小屋的另一番情景，猜想画廊是谁的杰作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858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父亲汉斯非常爱我。每到他的休息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星期天，他都会用整天的时间给我做玩具和画图画。到了晚上，他还常常给我大声朗读拉封丹、霍尔堡的作品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方夜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里的故事。在我的记忆里，只有这时候才能见到父亲的笑容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父亲给安徒生怎样的启蒙？你喜欢安徒生的父亲吗？为什么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14040" y="14479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可怜的父亲，美梦从没成真，可也从未忘记过去。记得有一次，一个文法学校的学生来订做一双新鞋当看到他的课本时，父亲的眼里闪动着泪花。他深情地对我说：“这也是我应该走的路！”那个晚上，父亲再没有说什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（“我可怜的父亲，美梦从未成真，可也从未忘记过去。” 读出对父亲的爱，感受父亲有美好的追求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9144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涉及到母亲的：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与邻居家之间隔着的排水沟有个土箱子，里面种着香葱和西芹。这就是妈妈的花园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围绕“妈妈的花园”谈谈自己的理解，感悟妈妈的心境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1219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总跟我说，我比她小时候幸福多了。它是把我当成贵族的孩子来抚养的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深刻理解这句话的含义，安徒生的父母给了他那些财富？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出对母亲的爱（齐读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  <a:ea typeface="隶书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课后读一读安徒生的自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童话人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47D5-3732-43E0-987D-773770A0E4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6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05704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正确、流利、有感情的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课文的内容，积累文中率真质朴的童话语言，体会安徒生小时候的生活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4"/>
          <p:cNvSpPr/>
          <p:nvPr/>
        </p:nvSpPr>
        <p:spPr>
          <a:xfrm>
            <a:off x="2895480" y="837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安徒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W020050801567309846852"/>
          <p:cNvPicPr/>
          <p:nvPr/>
        </p:nvPicPr>
        <p:blipFill>
          <a:blip r:embed="rId1"/>
          <a:stretch/>
        </p:blipFill>
        <p:spPr>
          <a:xfrm>
            <a:off x="2133720" y="167652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1"/>
          <p:cNvSpPr/>
          <p:nvPr/>
        </p:nvSpPr>
        <p:spPr>
          <a:xfrm>
            <a:off x="1197000" y="6405480"/>
            <a:ext cx="56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徒生的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克里斯蒂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徒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克里斯蒂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徒生，丹麦作家，诗人，他写的童话故事世界闻名。他最著名的童话故事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锡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冰雪女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拇指姑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卖火柴的小女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丑小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安徒生生前曾得到皇家的致敬，并被高度赞扬：给全欧洲的一代孩子带来了欢乐。他的作品已经被译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种语言，成千上万册童话书在全球陆续发行出版。他的童话故事还激发了大量电影，舞台剧，电影动画的制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1004760" y="4800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走向成功的道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安徒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5.4.2~1875.8.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是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丹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纪著名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童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家，也是世界文学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童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代表人物之一。他生于欧登塞城一个贫苦的鞋匠家庭，童年生活贫苦。早年在慈善学校读过书，当过学徒工。受父亲和民间口头文学影响，他自幼酷爱文学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父亲病逝，母亲改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奶奶相依为命。为追求艺术，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只身来到首都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哥本哈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升入哥本哈根大学。毕业后始终无工作，主要靠稿费维持生活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开始写童话，经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奋斗，终于在诗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尔芙索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剧作中展露才华。因此，被皇家艺术剧院送进斯拉格尔塞文法学校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赫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辛欧学校免费就读。历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获得作家奖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家每年拨给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非公职津贴补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14040" y="159984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通过前面的学习，我们都非常喜欢安徒生这位童话大师的作品，你们知道他的童年是怎样的吗？这个家庭会给他留下什么样的童年回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默读一下，然后讨论一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200987487650_000"/>
          <p:cNvPicPr/>
          <p:nvPr/>
        </p:nvPicPr>
        <p:blipFill>
          <a:blip r:embed="rId1"/>
          <a:stretch/>
        </p:blipFill>
        <p:spPr>
          <a:xfrm>
            <a:off x="1752480" y="3200400"/>
            <a:ext cx="4762800" cy="30193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4353480" y="126576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安徒生的童年就住在类似这个窄小破旧的小屋里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安徒生在这种环境下还学习，那你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520" y="198072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妇（妇女）匠（木匠）克（千克）优（优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犹（犹如）皇（皇家）乞（乞丐）迫（紧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（修养）标（标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文中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作者安徒生通过对自己童年经历的回忆，表达了对童年生活的怀念，对父母热爱生活的怀念，对父母的爱的感激，对父母热爱生活和艺术的敬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落大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“我”出生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“我”的住处和妈妈的花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父母教我热爱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2:44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8:42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