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3AB9-6FE8-4AEE-A302-8A92192E85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26BA-2B00-440A-9940-F7A2A4D824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148-1785-4704-9F75-91A0A17D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D98F-53EF-40B4-AFD3-6919FC0B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5840-4264-491C-BA9F-0441650F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44AD-0842-46F5-A82A-43D07188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DA2E-FD2C-41E2-A48C-F0F81CE2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A083-E9AC-4CDA-8BDA-BB39E5A9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D20-5272-4B6E-83BE-6E17D5AA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59A-DEFE-474F-92E3-D93E55E4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22C0-058A-457E-AFAD-3994171C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32F6-6222-49AB-A176-33A098B8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D4C5-9FE3-40D5-8C12-514422F0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D302-B9EF-476B-A5C8-093BCF12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6FAC-69EA-4E25-8156-8536CA5ED1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231920" y="2460600"/>
            <a:ext cx="67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8000"/>
                </a:solidFill>
                <a:latin typeface="华文隶书"/>
                <a:ea typeface="华文隶书"/>
              </a:rPr>
              <a:t>特 殊 的 葬 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387440" y="558972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8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781440" cy="4507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395280" y="26028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楷体_GB2312"/>
              </a:rPr>
              <a:t>跌落声远至</a:t>
            </a:r>
            <a:r>
              <a:rPr b="1" lang="en-US" sz="6000" spc="-1" strike="noStrike">
                <a:solidFill>
                  <a:srgbClr val="ff00ff"/>
                </a:solidFill>
                <a:latin typeface="Arial"/>
                <a:ea typeface="楷体_GB2312"/>
              </a:rPr>
              <a:t>40</a:t>
            </a: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楷体_GB2312"/>
              </a:rPr>
              <a:t>公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六"/>
          <p:cNvPicPr/>
          <p:nvPr/>
        </p:nvPicPr>
        <p:blipFill>
          <a:blip r:embed="rId2"/>
          <a:stretch/>
        </p:blipFill>
        <p:spPr>
          <a:xfrm>
            <a:off x="4427640" y="1197000"/>
            <a:ext cx="4248000" cy="45370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971640" y="5734080"/>
            <a:ext cx="81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世界上已知流量最大的瀑布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55600" y="907920"/>
            <a:ext cx="8610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原来，塞特凯达斯瀑布曾经是世界上流量最大的瀑布，汹涌的河水从悬崖上咆哮而下，滔滔不绝，一泻千里。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每年汛期，塞特凯达斯瀑布气势更是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楷体_GB2312"/>
              </a:rPr>
              <a:t>雄伟壮观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，吸引着世界各地的许多游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、理解“滔滔不绝，一泻千里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说一说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我从（       ）一词中，体会到瀑布的（          ）非常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(           )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916360" cy="4365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2916360" y="0"/>
            <a:ext cx="3095640" cy="4359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bc4304f23062fc70342acc2d"/>
          <p:cNvPicPr/>
          <p:nvPr/>
        </p:nvPicPr>
        <p:blipFill>
          <a:blip r:embed="rId3"/>
          <a:stretch/>
        </p:blipFill>
        <p:spPr>
          <a:xfrm>
            <a:off x="6012000" y="0"/>
            <a:ext cx="3132000" cy="4365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28600" y="480060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咆哮而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200400" y="487692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一泻千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6477120" y="48769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滔滔不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7"/>
          <p:cNvSpPr/>
          <p:nvPr/>
        </p:nvSpPr>
        <p:spPr>
          <a:xfrm>
            <a:off x="4284720" y="21621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227b213121feadb9a8018e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042920" y="112536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雄伟壮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24000" y="3500280"/>
            <a:ext cx="882000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夸一夸昔日的瀑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042920" y="981000"/>
            <a:ext cx="73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一比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１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塞特凯达斯瀑布是世界上流量最大的瀑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２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塞特凯达斯瀑布曾经是世界上流量最大的瀑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55640" y="981000"/>
            <a:ext cx="74898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一比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１塞特凯达斯瀑布是世界上流量最大的瀑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２塞特凯达斯瀑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曾经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是世界上流量最大的瀑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55640" y="4076280"/>
            <a:ext cx="7408800" cy="16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85800" y="32767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几年过去了，塞特凯达斯瀑布逐渐枯竭，再也见不到昔日的壮观气势了。它在群山之中无奈地低下头，像生命垂危的老人，奄奄一息，等待着最后的消亡。许多慕名而来的游客，见到这样的情景，都失望地离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09480" y="0"/>
            <a:ext cx="78454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11280" y="8445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几年过去了，塞特凯达斯瀑布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逐渐枯竭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再也见不到昔日的壮观气势了。它在群山之中无奈地低下头，像生命垂危的老人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奄奄一息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等待着最后的消亡。许多慕名而来的游客，见到这样的情景，都失望地离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4360" y="3789360"/>
            <a:ext cx="80643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找一找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808080"/>
                </a:solidFill>
                <a:latin typeface="Arial"/>
                <a:ea typeface="楷体_GB2312"/>
              </a:rPr>
              <a:t>作者把瀑布比作（         ），从中我体会到这样写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808080"/>
                </a:solidFill>
                <a:latin typeface="Arial"/>
                <a:ea typeface="楷体_GB2312"/>
              </a:rPr>
              <a:t>更让我们感到（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755640" y="981000"/>
            <a:ext cx="777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但是，近几年，瀑布周围的许多工厂毫无节制地用水，浪费了大量的水资源。沿河两岸的森林被乱砍滥伐，造成了水土大量流失。大瀑布的水量因此逐年减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80880" y="1125360"/>
            <a:ext cx="8209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从文中找出大瀑布枯竭的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答一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用上“因为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所以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……”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的句式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说说大瀑布为什么会有这么大的变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   学   目   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知识与技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能正确、流利、有感情地朗读课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理解课文内容，知道塞特凯达斯瀑布为什么会枯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程与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搜集塞特凯达斯瀑布的资料，了解塞特凯达斯瀑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创设民主、和谐的学习氛围，采用小组合作学习的方式，理解课文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情感、态度与价值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让学生感受到河流所面临的危机，激发学生保护自然生态、热爱我们的地球的情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547640" y="1628640"/>
            <a:ext cx="60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68360" y="1052640"/>
            <a:ext cx="784872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练一练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在葬礼上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菲格雷特总统的讲演饱含深情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动人心弦。假如你是菲格雷特总统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想说些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"/>
          <p:cNvSpPr/>
          <p:nvPr/>
        </p:nvSpPr>
        <p:spPr>
          <a:xfrm>
            <a:off x="117360" y="6378480"/>
            <a:ext cx="62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47840" y="841320"/>
            <a:ext cx="8516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在葬礼上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菲格雷特总统用饱含深情的语调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回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了塞特凯达斯瀑布曾经给巴西和世界人民带来的欢乐和骄傲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号召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人们立即行动起来，保护自然生态，爱护我们生存的地球，使大瀑布的悲剧不再重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26920" y="4581360"/>
            <a:ext cx="71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回忆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昔日的塞特凯达斯瀑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号召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热爱大自然的人们！我们应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保护环境、爱护地球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24000" y="981000"/>
            <a:ext cx="86407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女士们、先生们、朋友们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今天，我们怀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心情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举行葬礼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昔日的塞特凯达斯瀑布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如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家应该清醒了，热爱大自然的人们！我们应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塞特凯达斯瀑布，你安息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053ca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250920" y="0"/>
            <a:ext cx="5761080" cy="67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热爱地球妈妈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妈妈的草地，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是温暖的摇篮，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请不要将草地踩坏，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让妈妈心酸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妈妈的天空，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是慈祥的笑脸，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请不要向天空吐烟，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让妈妈难堪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284720" y="981000"/>
            <a:ext cx="4859280" cy="52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妈妈的河流， </a:t>
            </a:r>
            <a:br>
              <a:rPr sz="3600"/>
            </a:b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是爱的源泉， </a:t>
            </a:r>
            <a:br>
              <a:rPr sz="3600"/>
            </a:b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请不要往里面排放脏水， </a:t>
            </a:r>
            <a:br>
              <a:rPr sz="3600"/>
            </a:b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让妈妈心灵污染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地球是我们的妈妈， </a:t>
            </a:r>
            <a:br>
              <a:rPr sz="3600"/>
            </a:b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我们都是地球的孩子， </a:t>
            </a:r>
            <a:br>
              <a:rPr sz="3600"/>
            </a:b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热爱妈妈吧， </a:t>
            </a:r>
            <a:br>
              <a:rPr sz="3600"/>
            </a:b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请不要给妈妈增添麻烦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611280" y="333360"/>
            <a:ext cx="8063640" cy="6264360"/>
            <a:chOff x="611280" y="333360"/>
            <a:chExt cx="8063640" cy="6264360"/>
          </a:xfrm>
        </p:grpSpPr>
        <p:pic>
          <p:nvPicPr>
            <p:cNvPr id="103" name="Picture 3" descr="009"/>
            <p:cNvPicPr/>
            <p:nvPr/>
          </p:nvPicPr>
          <p:blipFill>
            <a:blip r:embed="rId1"/>
            <a:stretch/>
          </p:blipFill>
          <p:spPr>
            <a:xfrm>
              <a:off x="2412720" y="333360"/>
              <a:ext cx="4176360" cy="626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WordArt 4"/>
            <p:cNvSpPr txBox="1"/>
            <p:nvPr/>
          </p:nvSpPr>
          <p:spPr>
            <a:xfrm rot="5400000">
              <a:off x="-1440000" y="2665800"/>
              <a:ext cx="5688000" cy="15854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ln w="0">
                    <a:noFill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effectLst>
                    <a:outerShdw dist="99192" dir="7781944" blurRad="0" rotWithShape="0">
                      <a:srgbClr val="000080">
                        <a:alpha val="79000"/>
                      </a:srgbClr>
                    </a:outerShdw>
                  </a:effectLst>
                  <a:latin typeface="宋体"/>
                </a:rPr>
                <a:t>保护环境</a:t>
              </a:r>
              <a:endParaRPr b="1" lang="en-US" sz="60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79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05" name="WordArt 5"/>
            <p:cNvSpPr txBox="1"/>
            <p:nvPr/>
          </p:nvSpPr>
          <p:spPr>
            <a:xfrm rot="5400000">
              <a:off x="4930200" y="2630520"/>
              <a:ext cx="5760720" cy="17283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ln w="0">
                    <a:noFill/>
                  </a:ln>
                  <a:gradFill rotWithShape="0">
                    <a:gsLst>
                      <a:gs pos="0">
                        <a:srgbClr val="00ff00"/>
                      </a:gs>
                      <a:gs pos="100000">
                        <a:srgbClr val="00ccff"/>
                      </a:gs>
                    </a:gsLst>
                    <a:lin ang="5400000"/>
                  </a:gradFill>
                  <a:effectLst>
                    <a:outerShdw dist="99192" dir="7781944" blurRad="0" rotWithShape="0">
                      <a:srgbClr val="000080">
                        <a:alpha val="79000"/>
                      </a:srgbClr>
                    </a:outerShdw>
                  </a:effectLst>
                  <a:latin typeface="宋体"/>
                </a:rPr>
                <a:t>爱护地球</a:t>
              </a:r>
              <a:endParaRPr b="1" lang="en-US" sz="60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79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590920" y="68580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幼圆"/>
                <a:ea typeface="幼圆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月</a:t>
            </a:r>
            <a:r>
              <a:rPr b="1" lang="en-US" sz="3600" spc="-1" strike="noStrike">
                <a:solidFill>
                  <a:srgbClr val="ff3300"/>
                </a:solidFill>
                <a:latin typeface="幼圆"/>
                <a:ea typeface="幼圆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日：世界湿地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590920" y="25146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幼圆"/>
                <a:ea typeface="幼圆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月</a:t>
            </a:r>
            <a:r>
              <a:rPr b="1" lang="en-US" sz="3600" spc="-1" strike="noStrike">
                <a:solidFill>
                  <a:srgbClr val="ff3300"/>
                </a:solidFill>
                <a:latin typeface="幼圆"/>
                <a:ea typeface="幼圆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日至</a:t>
            </a:r>
            <a:r>
              <a:rPr b="1" lang="en-US" sz="3600" spc="-1" strike="noStrike">
                <a:solidFill>
                  <a:srgbClr val="ff3300"/>
                </a:solidFill>
                <a:latin typeface="幼圆"/>
                <a:ea typeface="幼圆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月</a:t>
            </a:r>
            <a:r>
              <a:rPr b="1" lang="en-US" sz="3600" spc="-1" strike="noStrike">
                <a:solidFill>
                  <a:srgbClr val="ff3300"/>
                </a:solidFill>
                <a:latin typeface="幼圆"/>
                <a:ea typeface="幼圆"/>
              </a:rPr>
              <a:t>7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日：爱鸟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590920" y="44197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幼圆"/>
                <a:ea typeface="幼圆"/>
              </a:rPr>
              <a:t>6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月</a:t>
            </a:r>
            <a:r>
              <a:rPr b="1" lang="en-US" sz="3600" spc="-1" strike="noStrike">
                <a:solidFill>
                  <a:srgbClr val="ff3300"/>
                </a:solidFill>
                <a:latin typeface="幼圆"/>
                <a:ea typeface="幼圆"/>
              </a:rPr>
              <a:t>5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日：世界环境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590920" y="16002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幼圆"/>
                <a:ea typeface="幼圆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月</a:t>
            </a:r>
            <a:r>
              <a:rPr b="1" lang="en-US" sz="3600" spc="-1" strike="noStrike">
                <a:solidFill>
                  <a:srgbClr val="ff3300"/>
                </a:solidFill>
                <a:latin typeface="幼圆"/>
                <a:ea typeface="幼圆"/>
              </a:rPr>
              <a:t>22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日：世界水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590920" y="3505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幼圆"/>
                <a:ea typeface="幼圆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月</a:t>
            </a:r>
            <a:r>
              <a:rPr b="1" lang="en-US" sz="3600" spc="-1" strike="noStrike">
                <a:solidFill>
                  <a:srgbClr val="ff3300"/>
                </a:solidFill>
                <a:latin typeface="幼圆"/>
                <a:ea typeface="幼圆"/>
              </a:rPr>
              <a:t>22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日：地球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590920" y="53341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幼圆"/>
                <a:ea typeface="幼圆"/>
              </a:rPr>
              <a:t>9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月</a:t>
            </a:r>
            <a:r>
              <a:rPr b="1" lang="en-US" sz="3600" spc="-1" strike="noStrike">
                <a:solidFill>
                  <a:srgbClr val="ff3300"/>
                </a:solidFill>
                <a:latin typeface="幼圆"/>
                <a:ea typeface="幼圆"/>
              </a:rPr>
              <a:t>16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日：国际保护臭氧层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8"/>
          <p:cNvSpPr txBox="1"/>
          <p:nvPr/>
        </p:nvSpPr>
        <p:spPr>
          <a:xfrm rot="5400000">
            <a:off x="-909720" y="2913120"/>
            <a:ext cx="4572000" cy="952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彩云"/>
              </a:rPr>
              <a:t>你知道吗？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da55372527fd820bd507422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395280" y="112536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保护环境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爱护地球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49AE-CBBE-4164-8049-AE902F512F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教    学   重    难   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2060280"/>
            <a:ext cx="80755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点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道为什么说这是一场特殊的葬             礼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塞特凯达斯瀑布的今天和过去，了解该瀑布枯竭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难点：领悟保护环境、保护地球、维持生    态平衡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116000" y="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塞特凯达斯大瀑布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68360" y="5373720"/>
            <a:ext cx="77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位于巴西与阿根廷的交界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58920" y="1230480"/>
            <a:ext cx="6615000" cy="41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95280" y="333360"/>
            <a:ext cx="813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Arial"/>
                <a:ea typeface="楷体_GB2312"/>
              </a:rPr>
              <a:t>整个瀑布群幅宽</a:t>
            </a:r>
            <a:r>
              <a:rPr b="1" lang="en-US" sz="6000" spc="-1" strike="noStrike">
                <a:solidFill>
                  <a:srgbClr val="003366"/>
                </a:solidFill>
                <a:latin typeface="Arial"/>
                <a:ea typeface="楷体_GB2312"/>
              </a:rPr>
              <a:t>3200</a:t>
            </a:r>
            <a:r>
              <a:rPr b="1" lang="zh-CN" sz="6000" spc="-1" strike="noStrike">
                <a:solidFill>
                  <a:srgbClr val="003366"/>
                </a:solidFill>
                <a:latin typeface="Arial"/>
                <a:ea typeface="楷体_GB2312"/>
              </a:rPr>
              <a:t>米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673440" cy="417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4356000" y="1341360"/>
            <a:ext cx="4032360" cy="4176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539640" y="5516640"/>
            <a:ext cx="813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被岩石分割成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18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股飞流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200341323571849947"/>
          <p:cNvPicPr/>
          <p:nvPr/>
        </p:nvPicPr>
        <p:blipFill>
          <a:blip r:embed="rId1"/>
          <a:stretch/>
        </p:blipFill>
        <p:spPr>
          <a:xfrm>
            <a:off x="1187280" y="260280"/>
            <a:ext cx="7236000" cy="5427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1835280" y="3933720"/>
            <a:ext cx="63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年平均流量达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13300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立方米每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258920" y="692280"/>
            <a:ext cx="6913440" cy="48020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3132000" y="3068640"/>
            <a:ext cx="511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汛期水量可达平时的四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4d538713be19d6eec2fd782d"/>
          <p:cNvPicPr/>
          <p:nvPr/>
        </p:nvPicPr>
        <p:blipFill>
          <a:blip r:embed="rId1"/>
          <a:stretch/>
        </p:blipFill>
        <p:spPr>
          <a:xfrm>
            <a:off x="611280" y="333360"/>
            <a:ext cx="7956360" cy="5967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2124000" y="4581360"/>
            <a:ext cx="58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水量极为丰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三"/>
          <p:cNvPicPr/>
          <p:nvPr/>
        </p:nvPicPr>
        <p:blipFill>
          <a:blip r:embed="rId1"/>
          <a:stretch/>
        </p:blipFill>
        <p:spPr>
          <a:xfrm>
            <a:off x="1258920" y="476280"/>
            <a:ext cx="6588000" cy="4941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908000" y="5589720"/>
            <a:ext cx="57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总落差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114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1:59:0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5:21Z</dcterms:modified>
  <cp:revision>2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