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66E-7158-4AB1-8BD4-A3F1CCD4D2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AC8-FDEC-49A6-9424-18C729DC6D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8EA-1998-4045-8809-4B55004E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7B8-3234-4DFC-88C2-EA07F099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771-D170-4CB8-B9BA-DD5673DB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189-5F95-415A-8A5E-57F9614E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65E-700A-4772-BDCD-3038A695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300-38D6-4F1F-B868-183F1E5D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7A2-6F8F-40C4-8A5D-6654643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D0C-2E57-4EA7-98A3-673B5E7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907-3BD7-4CF6-B18A-A47C2E4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2A3-962E-49D7-89E2-F04C5AC5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ACF-0B26-495C-90F0-DB828C2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96A-47ED-4711-9C8E-835B3E6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A0A-02D5-429A-A788-EEE56F5A5C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27040" y="3429000"/>
            <a:ext cx="8028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太阳的香气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179676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333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太 阳 的 香 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闻到了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晒过的被子，晚上一打开，就有一股浓浓的太阳的香气。妈妈洗干净的衣服，早晨一穿上，就有一股浓浓的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告诉我：太阳的香气到处藏着。它藏在甜甜地果子里，藏在香喷喷的稻米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啊，太阳的香气到处都有，就连迎着夕阳回到家的妈妈，身上也有太阳的香气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-106200" y="2852640"/>
            <a:ext cx="349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太阳的香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3789360"/>
            <a:ext cx="34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藏在哪里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48000" y="476280"/>
            <a:ext cx="358920" cy="576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49760 h 5761080"/>
              <a:gd name="textAreaBottom" fmla="*/ 561132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95640" y="47628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晒过的被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920" y="1916280"/>
            <a:ext cx="345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一股浓浓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95640" y="184464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洗干净的衣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924360" y="307980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甜甜的果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924360" y="423072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香喷喷的稻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924360" y="545472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妈妈身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1"/>
          <p:cNvSpPr txBox="1"/>
          <p:nvPr/>
        </p:nvSpPr>
        <p:spPr>
          <a:xfrm rot="5400000">
            <a:off x="5866200" y="2850120"/>
            <a:ext cx="518472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到处藏着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1341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香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晒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晚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  一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股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干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净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衣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服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的         告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到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藏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 迎着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夕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         甜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甜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  香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喷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喷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稻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19280" y="2421000"/>
            <a:ext cx="25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248000" y="2421000"/>
            <a:ext cx="42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719280" y="3429000"/>
            <a:ext cx="6553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719280" y="5300640"/>
            <a:ext cx="5113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719280" y="4365720"/>
            <a:ext cx="406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5796000" y="4365720"/>
            <a:ext cx="1800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1339920" y="5975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42920" y="549360"/>
            <a:ext cx="734544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早——草       用——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子——仔       气——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马——妈       青——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净——静       闻——问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眼——很       海——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别——到       朗——浪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2B2-5FDA-4C0A-9696-6EDAF98F73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50:30Z</dcterms:modified>
  <cp:revision>1</cp:revision>
  <dc:subject/>
  <dc:title>幻灯片 1</dc:title>
</cp:coreProperties>
</file>