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D57-DBA4-46CC-AFA9-BB1ECB9912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18E3-718D-463E-82B2-0433FCD034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818-9F68-4DD0-BDA7-B12ED1E9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2B4-1265-44D3-995D-773068F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DFA-4B47-486F-B1C8-27B7A80C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16A-C23C-4D51-B2AB-BEA04E42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1D4-E9DD-48AE-8DDD-1CD83B4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7A3-8CC6-4067-BB89-94243752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056-52F0-4714-8775-900CD8E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C79-E838-4F93-975A-637466D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59C-5139-4C38-B1B5-66DE02D3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ECB-52C7-4F63-84FB-5C2F96F9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E9C-D06A-498D-ABA5-8E90291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12C-A733-4586-A648-E53C1FD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B9C-0BE4-4E80-A2C9-F55CE93E2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" Target="slide8.xm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yjx,4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523880" y="1523880"/>
            <a:ext cx="63248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田园诗情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728720" y="563256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09480" y="990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极目远眺，碧绿如丝般的草原上，是一头头黑白两色的奶牛。有的牛背上盖着防潮的毛毡，正在低头吃草；有的站立不动，仿佛正在思考什么。牛犊跑前跑后，活像顽皮的孩子；老牛仪态端庄，好似牛群的家长。绿意盎然的村野乡间，是大片大片鲜艳的郁金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1"/>
          <p:cNvPicPr/>
          <p:nvPr/>
        </p:nvPicPr>
        <p:blipFill>
          <a:blip r:embed="rId2"/>
          <a:stretch/>
        </p:blipFill>
        <p:spPr>
          <a:xfrm>
            <a:off x="966960" y="1371600"/>
            <a:ext cx="2842920" cy="2465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65120" y="4724280"/>
            <a:ext cx="342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的站立不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284720" y="234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的低头吃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{48ECBE9D-A08A-46A8-93BF-E9EDD6B1592B}"/>
          <p:cNvPicPr/>
          <p:nvPr/>
        </p:nvPicPr>
        <p:blipFill>
          <a:blip r:embed="rId3"/>
          <a:stretch/>
        </p:blipFill>
        <p:spPr>
          <a:xfrm>
            <a:off x="4191120" y="2011320"/>
            <a:ext cx="3673440" cy="303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4264200" y="12193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的低头吃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奶牛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previousslide"/>
          </p:cNvPr>
          <p:cNvSpPr/>
          <p:nvPr/>
        </p:nvSpPr>
        <p:spPr>
          <a:xfrm>
            <a:off x="7885080" y="5877000"/>
            <a:ext cx="216000" cy="28872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8720"/>
              <a:gd name="textAreaBottom" fmla="*/ 275040 h 288720"/>
            </a:gdLst>
            <a:ahLst/>
            <a:rect l="textAreaLeft" t="textAreaTop" r="textAreaRight" b="textAreaBottom"/>
            <a:pathLst>
              <a:path w="21600" h="28860">
                <a:moveTo>
                  <a:pt x="0" y="0"/>
                </a:moveTo>
                <a:lnTo>
                  <a:pt x="21600" y="0"/>
                </a:lnTo>
                <a:lnTo>
                  <a:pt x="21600" y="28860"/>
                </a:lnTo>
                <a:lnTo>
                  <a:pt x="0" y="28860"/>
                </a:lnTo>
                <a:close/>
              </a:path>
              <a:path fill="lightenLess" w="21600" h="288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60">
                <a:moveTo>
                  <a:pt x="21600" y="0"/>
                </a:moveTo>
                <a:lnTo>
                  <a:pt x="21600" y="28860"/>
                </a:lnTo>
                <a:lnTo>
                  <a:pt x="20200" y="27460"/>
                </a:lnTo>
                <a:lnTo>
                  <a:pt x="20200" y="1400"/>
                </a:lnTo>
                <a:close/>
              </a:path>
              <a:path fill="darkenLess" w="21600" h="28860">
                <a:moveTo>
                  <a:pt x="21600" y="28860"/>
                </a:moveTo>
                <a:lnTo>
                  <a:pt x="0" y="28860"/>
                </a:lnTo>
                <a:lnTo>
                  <a:pt x="1400" y="27460"/>
                </a:lnTo>
                <a:lnTo>
                  <a:pt x="20200" y="27460"/>
                </a:lnTo>
                <a:close/>
              </a:path>
              <a:path fill="lighten" w="21600" h="28860">
                <a:moveTo>
                  <a:pt x="0" y="288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60"/>
                </a:lnTo>
                <a:close/>
              </a:path>
              <a:path fill="darken" w="21600" h="28860">
                <a:moveTo>
                  <a:pt x="3794" y="14430"/>
                </a:moveTo>
                <a:lnTo>
                  <a:pt x="17806" y="7423"/>
                </a:lnTo>
                <a:lnTo>
                  <a:pt x="17806" y="214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官方logo"/>
          <p:cNvPicPr/>
          <p:nvPr/>
        </p:nvPicPr>
        <p:blipFill>
          <a:blip r:embed="rId2"/>
          <a:stretch/>
        </p:blipFill>
        <p:spPr>
          <a:xfrm>
            <a:off x="0" y="6153120"/>
            <a:ext cx="1467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85800" y="34290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牛背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，正在（      ）；有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），仿佛（       ）。牛犊（      ），活像（      ）；老牛（      ），好似（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t?name=T13GWUB5Ls1RCvBVdK"/>
          <p:cNvPicPr/>
          <p:nvPr/>
        </p:nvPicPr>
        <p:blipFill>
          <a:blip r:embed="rId2"/>
          <a:stretch/>
        </p:blipFill>
        <p:spPr>
          <a:xfrm>
            <a:off x="609480" y="228600"/>
            <a:ext cx="7848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5800" y="609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绿意盎然的村野乡间，是大片大片鲜艳的郁金香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get?name=T1GNJQBXCg1RCvBVdK"/>
          <p:cNvPicPr/>
          <p:nvPr/>
        </p:nvPicPr>
        <p:blipFill>
          <a:blip r:embed="rId2"/>
          <a:stretch/>
        </p:blipFill>
        <p:spPr>
          <a:xfrm>
            <a:off x="609480" y="2514600"/>
            <a:ext cx="792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荷兰郁2"/>
          <p:cNvPicPr/>
          <p:nvPr/>
        </p:nvPicPr>
        <p:blipFill>
          <a:blip r:embed="rId2"/>
          <a:srcRect l="0" t="0" r="0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yjx,49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奶牛和郁金香"/>
          <p:cNvPicPr/>
          <p:nvPr/>
        </p:nvPicPr>
        <p:blipFill>
          <a:blip r:embed="rId2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09480" y="914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碧绿色的低地镶嵌在一条条运河之间。成群的骏马骠悍强壮，腿粗如桩，鬃毛随风飞扬。除了深深的野草遮掩着的运河，没有什么能够阻挡它们自由驰骋。辽阔无垠的原野似乎归它们所有，它们是这个自由王国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镶嵌：把一物体嵌入另一物体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象生动地描绘了荷兰的低地和运河相互交错的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838080" y="9144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到田园，你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到诗情，你又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62120" y="533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群的骏马骠悍强壮，腿粗如桩，鬃毛随风飞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风飞扬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现出作者对强壮的原始生命力以及自由的向往和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0948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了深深的野草遮掩着的运河，没有什么能够阻挡它们自由驰骋。辽阔无垠的原野似乎归它们所有，它们是这个自由王国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get?name=T18uZ0ByDT1RCvBVdK"/>
          <p:cNvPicPr/>
          <p:nvPr/>
        </p:nvPicPr>
        <p:blipFill>
          <a:blip r:embed="rId2"/>
          <a:stretch/>
        </p:blipFill>
        <p:spPr>
          <a:xfrm>
            <a:off x="685800" y="289548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09480" y="12207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天堂般的绿色草原上，白色的绵羊悠然自得。黑色的猪群不停地呼噜着。成千上万的小鸡、成群结对的长毛山羊，安闲地欣赏着这属于它们自己的王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黑猪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长毛羊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绵羊3"/>
          <p:cNvPicPr/>
          <p:nvPr/>
        </p:nvPicPr>
        <p:blipFill>
          <a:blip r:embed="rId2"/>
          <a:stretch/>
        </p:blipFill>
        <p:spPr>
          <a:xfrm>
            <a:off x="685800" y="380880"/>
            <a:ext cx="7620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143000" y="19051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节，夜晚的荷兰给你留下了什么样的印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143000" y="19051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Arial"/>
              </a:rPr>
              <a:t>这就是真正的荷兰</a:t>
            </a:r>
            <a:r>
              <a:rPr b="1" lang="zh-CN" sz="5400" spc="-1" strike="noStrike">
                <a:solidFill>
                  <a:srgbClr val="33cc33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荷兰运河4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395280" y="26028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荷兰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,_______________!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203560" y="26028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诗情画意3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36576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今天我们将走出国门，来到欧洲西部的花之国、水之国、牧场之国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荷兰，去看一看那里的田园风光，感受那里的田园诗情，一睹那独具特色的域外风情！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85800" y="5335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正的荷兰是怎样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480" y="2209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真正的荷兰不仅仅体现在那花之国水之国，更是那骏马的自由王国，是那天堂般的动物世界，是那宁静安谧的夜晚，是那悠然的家园、独具特色的域外风情，还是那作者内心深处溢发的对荷兰田园风光的赞美和向往之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D441-CC89-4FC9-A4DD-4E4B864B82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易错音形提个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piào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悍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满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载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à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驰骋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ěng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哞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mō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牲畜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呼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噜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闪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牛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犊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绿意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然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鬃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毛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4205160" y="487692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38080" y="91440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</a:rPr>
              <a:t>说一说荷兰给你留下了怎样的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本文总起句是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荷兰，是水之国，花之国，也是牧场之国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3629160" y="5200560"/>
            <a:ext cx="2009520" cy="150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0071229143757630_2"/>
          <p:cNvPicPr/>
          <p:nvPr/>
        </p:nvPicPr>
        <p:blipFill>
          <a:blip r:embed="rId2"/>
          <a:stretch/>
        </p:blipFill>
        <p:spPr>
          <a:xfrm>
            <a:off x="685800" y="515628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707401_213551439269_2"/>
          <p:cNvPicPr/>
          <p:nvPr/>
        </p:nvPicPr>
        <p:blipFill>
          <a:blip r:embed="rId3"/>
          <a:stretch/>
        </p:blipFill>
        <p:spPr>
          <a:xfrm>
            <a:off x="6248520" y="5224320"/>
            <a:ext cx="2133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295280" y="83808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Arial"/>
              </a:rPr>
              <a:t>这就是真正的荷兰</a:t>
            </a:r>
            <a:r>
              <a:rPr b="1" lang="zh-CN" sz="5400" spc="-1" strike="noStrike">
                <a:solidFill>
                  <a:srgbClr val="33cc33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143000" y="29718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正的荷兰是什么样子的呢？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，看你的脑海里能呈现什么画面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905120" y="1066680"/>
            <a:ext cx="37335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奶牛流动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骏马驰骋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畜休闲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傍晚挤奶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夜幕静寂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我喜欢荷兰牧场中的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，因为</a:t>
            </a:r>
            <a:r>
              <a:rPr b="1" lang="zh-CN" sz="7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奶牛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3733920"/>
            <a:ext cx="1928520" cy="289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骏马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192888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绵羊"/>
          <p:cNvPicPr/>
          <p:nvPr/>
        </p:nvPicPr>
        <p:blipFill>
          <a:blip r:embed="rId5"/>
          <a:stretch/>
        </p:blipFill>
        <p:spPr>
          <a:xfrm>
            <a:off x="4495680" y="3738600"/>
            <a:ext cx="2211480" cy="289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小猪"/>
          <p:cNvPicPr/>
          <p:nvPr/>
        </p:nvPicPr>
        <p:blipFill>
          <a:blip r:embed="rId6"/>
          <a:stretch/>
        </p:blipFill>
        <p:spPr>
          <a:xfrm>
            <a:off x="6934320" y="3809880"/>
            <a:ext cx="2160360" cy="28242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>
            <a:hlinkClick r:id="rId7" action="ppaction://hlinksldjump"/>
          </p:cNvPr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3:56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1:19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